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F7AF-0103-4B64-B8C8-2E750B6C6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768B-F6CD-47C8-9DA1-BC762D51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88D1-C737-4A49-B277-5B3D0F511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015E-8625-439D-9CD7-41DFE4096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DDAB-CD8E-4807-9B64-3DDAEE73F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92D4-91E7-4414-805C-069E88E2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FCEE-B6EA-4682-81F0-6BBD3F98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373F-CAA2-45CD-BD09-7AA7933D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AE4B-9446-4BE5-835E-0FE41DDE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468F-A6A7-42E7-ABEB-27A6AD48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7C35-5CC2-41B9-9F20-A5E3ED6C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C9BE-8D05-4E9C-9F34-496BBCCA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53DA-0DC3-4F6E-979C-26C5208B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42CA-9878-49C8-85F5-3462E1B2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2084-5F3C-48E7-B8C3-FD3A0A53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EFBC5-E92A-4DC7-8BCD-03265A0C5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7E37-CB13-44D1-BA48-61A59B247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B5B9-1DFB-4C32-AAB2-BBA0776F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CD42-6A22-4C24-ABC8-EAA2FE70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B30E-ABFC-4674-BE62-EFA1064F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5CD6-E79C-4929-8A6A-AFFBF025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36A8-4014-4581-BB1E-71306A58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B7BB-038B-4FA9-8565-4A2FE7E7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56ED-34A7-4260-A76E-7EB2B91E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50000">
                  <a:srgbClr val="000066"/>
                </a:gs>
                <a:gs pos="100000">
                  <a:srgbClr val="000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2e9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0f8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0f8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0f8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2e9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rint MT Shad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rint MT Shad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C91B-484E-4D68-B39A-B88C1389442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50000">
                  <a:srgbClr val="000066"/>
                </a:gs>
                <a:gs pos="100000">
                  <a:srgbClr val="000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2e9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0f8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0f8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0f8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2e9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rint MT Shad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rint MT Shad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F202-97F7-4589-800B-D6FA831823D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4545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ecff"/>
                </a:solidFill>
                <a:latin typeface="Bookman Old Style"/>
              </a:rPr>
              <a:t>ПРОЕКТ</a:t>
            </a:r>
            <a:br>
              <a:rPr sz="2400"/>
            </a:br>
            <a:r>
              <a:rPr b="0" i="1" lang="ru-RU" sz="2400" spc="-1" strike="noStrike">
                <a:solidFill>
                  <a:srgbClr val="ccecff"/>
                </a:solidFill>
                <a:latin typeface="Bookman Old Style"/>
              </a:rPr>
              <a:t>УЧАЩИХСЯ 7-9 КЛАССОВ</a:t>
            </a:r>
            <a:br>
              <a:rPr sz="4800"/>
            </a:br>
            <a:br>
              <a:rPr sz="4800"/>
            </a:br>
            <a:r>
              <a:rPr b="0" i="1" lang="ru-RU" sz="4800" spc="-1" strike="noStrike">
                <a:solidFill>
                  <a:srgbClr val="ccecff"/>
                </a:solidFill>
                <a:latin typeface="Imprint MT Shadow"/>
              </a:rPr>
              <a:t>ВСЁ О ПИЩЕ </a:t>
            </a:r>
            <a:br>
              <a:rPr sz="4800"/>
            </a:br>
            <a:r>
              <a:rPr b="0" i="1" lang="ru-RU" sz="4800" spc="-1" strike="noStrike">
                <a:solidFill>
                  <a:srgbClr val="ccecff"/>
                </a:solidFill>
                <a:latin typeface="Imprint MT Shadow"/>
              </a:rPr>
              <a:t>С ТОЧКИ ЗРЕНИЯ ФИЗИКА, ХИМИКА, БИОЛОГА</a:t>
            </a:r>
            <a:endParaRPr b="1" lang="en-US" sz="4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403280" y="537372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уководители проекта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рязнова В.Ю.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ПбМШ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Imprint MT Shadow"/>
              </a:rPr>
              <a:t>Постановка проблемы</a:t>
            </a:r>
            <a:br>
              <a:rPr sz="3200"/>
            </a:br>
            <a:r>
              <a:rPr b="1" i="1" lang="ru-RU" sz="3200" spc="-1" strike="noStrike">
                <a:solidFill>
                  <a:srgbClr val="ccecff"/>
                </a:solidFill>
                <a:latin typeface="Imprint MT Shadow"/>
              </a:rPr>
              <a:t>Целеполагание</a:t>
            </a:r>
            <a:br>
              <a:rPr sz="3200"/>
            </a:br>
            <a:r>
              <a:rPr b="1" i="1" lang="ru-RU" sz="3200" spc="-1" strike="noStrike">
                <a:solidFill>
                  <a:srgbClr val="ccecff"/>
                </a:solidFill>
                <a:latin typeface="Imprint MT Shadow"/>
              </a:rPr>
              <a:t>Планирование этапов деятельности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1773360"/>
          <a:ext cx="8218440" cy="4680000"/>
        </p:xfrm>
        <a:graphic>
          <a:graphicData uri="http://schemas.openxmlformats.org/drawingml/2006/table">
            <a:tbl>
              <a:tblPr/>
              <a:tblGrid>
                <a:gridCol w="4110120"/>
                <a:gridCol w="4108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ecff"/>
                          </a:solidFill>
                          <a:latin typeface="Imprint MT Shadow"/>
                        </a:rPr>
                        <a:t>Деятельность учител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ecff"/>
                          </a:solidFill>
                          <a:latin typeface="Imprint MT Shadow"/>
                        </a:rPr>
                        <a:t>Деятельность учащихс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6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Imprint MT Shadow"/>
                        </a:rPr>
                        <a:t>Создаёт проблемную ситуаци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Imprint MT Shadow"/>
                        </a:rPr>
                        <a:t>Объясняет цел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Imprint MT Shadow"/>
                        </a:rPr>
                        <a:t>Даёт инструк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Imprint MT Shadow"/>
                        </a:rPr>
                        <a:t>Сообщает критерии оцено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Imprint MT Shadow"/>
                        </a:rPr>
                        <a:t>Мотивируютс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Imprint MT Shadow"/>
                        </a:rPr>
                        <a:t>Формируют задач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Imprint MT Shadow"/>
                        </a:rPr>
                        <a:t>Планируют этапы деятель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Imprint MT Shadow"/>
                        </a:rPr>
                        <a:t>Разбиваются по группа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Imprint MT Shadow"/>
                        </a:rPr>
                        <a:t>Выбирают темы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684360" y="0"/>
            <a:ext cx="77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Imprint MT Shadow"/>
              </a:rPr>
              <a:t>Прогноз результатов</a:t>
            </a:r>
            <a:endParaRPr b="0" lang="en-US" sz="3200" spc="-1" strike="noStrike">
              <a:solidFill>
                <a:srgbClr val="ffffff"/>
              </a:solidFill>
              <a:latin typeface="Imprint MT Shad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Imprint MT Shadow"/>
              </a:rPr>
              <a:t>Поиск информации</a:t>
            </a:r>
            <a:endParaRPr b="0" lang="en-US" sz="3200" spc="-1" strike="noStrike">
              <a:solidFill>
                <a:srgbClr val="ffffff"/>
              </a:solidFill>
              <a:latin typeface="Imprint MT Shad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Imprint MT Shadow"/>
              </a:rPr>
              <a:t>Обработка информации</a:t>
            </a:r>
            <a:endParaRPr b="0" lang="en-US" sz="3200" spc="-1" strike="noStrike">
              <a:solidFill>
                <a:srgbClr val="ffffff"/>
              </a:solidFill>
              <a:latin typeface="Imprint MT Shadow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50920" y="1700280"/>
          <a:ext cx="8713800" cy="5213160"/>
        </p:xfrm>
        <a:graphic>
          <a:graphicData uri="http://schemas.openxmlformats.org/drawingml/2006/table">
            <a:tbl>
              <a:tblPr/>
              <a:tblGrid>
                <a:gridCol w="4527360"/>
                <a:gridCol w="4186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Imprint MT Shadow"/>
                        </a:rPr>
                        <a:t>Деятельность учител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Imprint MT Shadow"/>
                        </a:rPr>
                        <a:t>Деятельность учащихс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ecff"/>
                          </a:solidFill>
                          <a:latin typeface="Imprint MT Shadow"/>
                        </a:rPr>
                        <a:t>Оценивает реальность прогноз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ecff"/>
                          </a:solidFill>
                          <a:latin typeface="Imprint MT Shadow"/>
                        </a:rPr>
                        <a:t>Консультирует по направлению поиска информ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ecff"/>
                          </a:solidFill>
                          <a:latin typeface="Imprint MT Shadow"/>
                        </a:rPr>
                        <a:t>Помогает в анализе и синтезе материалов (по необходимости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ecff"/>
                          </a:solidFill>
                          <a:latin typeface="Imprint MT Shadow"/>
                        </a:rPr>
                        <a:t>Предполагают результаты деятель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ecff"/>
                          </a:solidFill>
                          <a:latin typeface="Imprint MT Shadow"/>
                        </a:rPr>
                        <a:t>Работают с различными источниками информ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ecff"/>
                          </a:solidFill>
                          <a:latin typeface="Imprint MT Shadow"/>
                        </a:rPr>
                        <a:t>Выбирают, анализируют, систематизируют и обобщают найденные материал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971640" y="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Imprint MT Shadow"/>
              </a:rPr>
              <a:t>Анализ результатов</a:t>
            </a:r>
            <a:endParaRPr b="0" lang="en-US" sz="3200" spc="-1" strike="noStrike">
              <a:solidFill>
                <a:srgbClr val="ffffff"/>
              </a:solidFill>
              <a:latin typeface="Imprint MT Shad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Imprint MT Shadow"/>
              </a:rPr>
              <a:t>Внесение корректив</a:t>
            </a:r>
            <a:endParaRPr b="0" lang="en-US" sz="3200" spc="-1" strike="noStrike">
              <a:solidFill>
                <a:srgbClr val="ffffff"/>
              </a:solidFill>
              <a:latin typeface="Imprint MT Shadow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30200" y="1644480"/>
          <a:ext cx="8605800" cy="4349880"/>
        </p:xfrm>
        <a:graphic>
          <a:graphicData uri="http://schemas.openxmlformats.org/drawingml/2006/table">
            <a:tbl>
              <a:tblPr/>
              <a:tblGrid>
                <a:gridCol w="4527720"/>
                <a:gridCol w="4078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Imprint MT Shadow"/>
                        </a:rPr>
                        <a:t>Деятельность учител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Imprint MT Shadow"/>
                        </a:rPr>
                        <a:t>Деятельность учащихс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0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ecff"/>
                          </a:solidFill>
                          <a:latin typeface="Imprint MT Shadow"/>
                        </a:rPr>
                        <a:t>Оценивает адекватность представленных результато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ecff"/>
                          </a:solidFill>
                          <a:latin typeface="Imprint MT Shadow"/>
                        </a:rPr>
                        <a:t>Консультирует по виду и способам представлени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ecff"/>
                          </a:solidFill>
                          <a:latin typeface="Imprint MT Shadow"/>
                        </a:rPr>
                        <a:t>Обосновывают результа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ecff"/>
                          </a:solidFill>
                          <a:latin typeface="Imprint MT Shadow"/>
                        </a:rPr>
                        <a:t>Корректируют  вид и способы представления (по необходимости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115920" y="333360"/>
            <a:ext cx="891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Imprint MT Shadow"/>
              </a:rPr>
              <a:t>Представление результатов – </a:t>
            </a:r>
            <a:endParaRPr b="0" lang="en-US" sz="3200" spc="-1" strike="noStrike">
              <a:solidFill>
                <a:srgbClr val="ffffff"/>
              </a:solidFill>
              <a:latin typeface="Imprint MT Shad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Imprint MT Shadow"/>
              </a:rPr>
              <a:t>защита проекта</a:t>
            </a:r>
            <a:endParaRPr b="0" lang="en-US" sz="3200" spc="-1" strike="noStrike">
              <a:solidFill>
                <a:srgbClr val="ffffff"/>
              </a:solidFill>
              <a:latin typeface="Imprint MT Shadow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50920" y="1700280"/>
          <a:ext cx="8713800" cy="5213160"/>
        </p:xfrm>
        <a:graphic>
          <a:graphicData uri="http://schemas.openxmlformats.org/drawingml/2006/table">
            <a:tbl>
              <a:tblPr/>
              <a:tblGrid>
                <a:gridCol w="4527360"/>
                <a:gridCol w="4186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Imprint MT Shadow"/>
                        </a:rPr>
                        <a:t>Деятельность учител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Imprint MT Shadow"/>
                        </a:rPr>
                        <a:t>Деятельность учащихс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ecff"/>
                          </a:solidFill>
                          <a:latin typeface="Imprint MT Shadow"/>
                        </a:rPr>
                        <a:t>Организует коллективную презентацию проек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ecff"/>
                          </a:solidFill>
                          <a:latin typeface="Imprint MT Shadow"/>
                        </a:rPr>
                        <a:t>Курирует оценку результа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ecff"/>
                          </a:solidFill>
                          <a:latin typeface="Imprint MT Shadow"/>
                        </a:rPr>
                        <a:t>Подводит итоги общей презент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ecff"/>
                          </a:solidFill>
                          <a:latin typeface="Imprint MT Shadow"/>
                        </a:rPr>
                        <a:t>Представляют и обосновывают полученные результа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ecff"/>
                          </a:solidFill>
                          <a:latin typeface="Imprint MT Shadow"/>
                        </a:rPr>
                        <a:t>Анализируют представленные на коллективной презентации проек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Imprint MT Shadow"/>
              </a:rPr>
              <a:t>РЕСУРСЫ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2960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Imprint MT Shadow"/>
              </a:rPr>
              <a:t>Компьютер для каждой группы для работы над презентаци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Imprint MT Shadow"/>
              </a:rPr>
              <a:t>Компьютер + проектор для защиты презентац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Imprint MT Shadow"/>
              </a:rPr>
              <a:t>Доступ в Интерне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Imprint MT Shadow"/>
              </a:rPr>
              <a:t>Научная и научно-популярная литерату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Imprint MT Shadow"/>
              </a:rPr>
              <a:t>Фотоаппара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ccecff"/>
                </a:solidFill>
                <a:latin typeface="Imprint MT Shadow"/>
              </a:rPr>
              <a:t>РИСКИ</a:t>
            </a:r>
            <a:br>
              <a:rPr sz="3200"/>
            </a:br>
            <a:r>
              <a:rPr b="1" lang="ru-RU" sz="4000" spc="-1" strike="noStrike">
                <a:solidFill>
                  <a:srgbClr val="ccec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Imprint MT Shadow"/>
              </a:rPr>
              <a:t>Недостаточная материально-техническая база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2421000"/>
            <a:ext cx="8064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Imprint MT Shad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rint MT Shadow"/>
              </a:rPr>
              <a:t>Скурихин, Нечаев. Всё о пище с точки зрения химик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Imprint MT Shad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rint MT Shadow"/>
              </a:rPr>
              <a:t>Цвелюх И.П., Дроздова И.А., Лаврентьева И.В. Профессиональная инициатива педагога: от замысла до реализации Красноярск 2005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Imprint MT Shad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rint MT Shadow"/>
              </a:rPr>
              <a:t>Угринович Н. Информатика и информационные технологии» 10-11 класс. М. «Бином», 2005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Imprint MT Shad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rint MT Shado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Imprint MT Shadow"/>
              </a:rPr>
              <a:t>Microsoft Power Point</a:t>
            </a:r>
            <a:r>
              <a:rPr b="0" lang="ru-RU" sz="2400" spc="-1" strike="noStrike">
                <a:solidFill>
                  <a:srgbClr val="ffffff"/>
                </a:solidFill>
                <a:latin typeface="Imprint MT Shadow"/>
              </a:rPr>
              <a:t>. Шаг за шагом. М. ЭКОМ, 2004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987640" y="1125360"/>
            <a:ext cx="345600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rint MT Shadow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Imprint MT Shadow"/>
              </a:rPr>
              <a:t>ЛИТЕРАТУРА</a:t>
            </a:r>
            <a:endParaRPr b="0" lang="en-US" sz="3200" spc="-1" strike="noStrike">
              <a:solidFill>
                <a:srgbClr val="ffffff"/>
              </a:solidFill>
              <a:latin typeface="Imprint MT Shad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971640" y="691920"/>
            <a:ext cx="7092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Imprint MT Shadow"/>
              </a:rPr>
              <a:t>В приложении Вы найдёт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Imprint MT Shadow"/>
              </a:rPr>
              <a:t>инструкцию для учащихся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Imprint MT Shadow"/>
              </a:rPr>
              <a:t>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Imprint MT Shadow"/>
              </a:rPr>
              <a:t>примеры презентаций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Imprint MT Shadow"/>
              </a:rPr>
              <a:t>их проектов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Imprint MT Shadow"/>
              </a:rPr>
              <a:t>СПАСИБО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496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Imprint MT Shadow"/>
              </a:rPr>
              <a:t>ОБРАЗОВАТЕЛЬНАЯ ОБЛАСТЬ</a:t>
            </a:r>
            <a:r>
              <a:rPr b="0" lang="ru-RU" sz="4400" spc="-1" strike="noStrike">
                <a:solidFill>
                  <a:srgbClr val="ccecff"/>
                </a:solidFill>
                <a:latin typeface="Imprint MT Shadow"/>
              </a:rPr>
              <a:t> –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Imprint MT Shadow"/>
              </a:rPr>
              <a:t>  </a:t>
            </a:r>
            <a:r>
              <a:rPr b="0" i="1" lang="ru-RU" sz="4400" spc="-1" strike="noStrike">
                <a:solidFill>
                  <a:srgbClr val="ccecff"/>
                </a:solidFill>
                <a:latin typeface="Imprint MT Shadow"/>
              </a:rPr>
              <a:t>ЕСТЕСТВОЗНАНИЕ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Imprint MT Shadow"/>
              </a:rPr>
              <a:t>ВИД ПРОЕКТА –</a:t>
            </a:r>
            <a:r>
              <a:rPr b="0" lang="ru-RU" sz="4400" spc="-1" strike="noStrike">
                <a:solidFill>
                  <a:srgbClr val="ccecff"/>
                </a:solidFill>
                <a:latin typeface="Imprint MT Shadow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Imprint MT Shadow"/>
              </a:rPr>
              <a:t>  </a:t>
            </a:r>
            <a:r>
              <a:rPr b="0" i="1" lang="ru-RU" sz="4400" spc="-1" strike="noStrike">
                <a:solidFill>
                  <a:srgbClr val="ccecff"/>
                </a:solidFill>
                <a:latin typeface="Imprint MT Shadow"/>
              </a:rPr>
              <a:t>НАУЧНО-ПОПУЛЯРНОЕ ИССЛЕДОВАНИЕ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ecff"/>
                </a:solidFill>
                <a:latin typeface="Imprint MT Shadow"/>
              </a:rPr>
              <a:t>АКТУАЛЬНОСТЬ</a:t>
            </a: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70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1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Imprint MT Shadow"/>
              </a:rPr>
              <a:t>Основой коммуникативного обучения является  </a:t>
            </a:r>
            <a:r>
              <a:rPr b="0" i="1" lang="ru-RU" sz="2800" spc="-1" strike="noStrike">
                <a:solidFill>
                  <a:srgbClr val="ccecff"/>
                </a:solidFill>
                <a:latin typeface="Imprint MT Shadow"/>
              </a:rPr>
              <a:t>развитие коммуникативной компетентности как совокупности умений </a:t>
            </a:r>
            <a:r>
              <a:rPr b="0" lang="ru-RU" sz="2800" spc="-1" strike="noStrike">
                <a:solidFill>
                  <a:srgbClr val="ccecff"/>
                </a:solidFill>
                <a:latin typeface="Imprint MT Shadow"/>
              </a:rPr>
              <a:t>решать задачи социального и межкультурного взаимодействия в разных жизненных ситуациях на основе использования специальных компетенций.</a:t>
            </a:r>
            <a:r>
              <a:rPr b="0" lang="ru-RU" sz="2800" spc="-1" strike="noStrike">
                <a:solidFill>
                  <a:srgbClr val="ccec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ccecff"/>
                </a:solidFill>
                <a:latin typeface="Imprint MT Shadow"/>
              </a:rPr>
              <a:t>Поэтому в учебный процесс активно вводятся интегрированные уроки, в которых обучение проходит путём свободного общения, вовлечения в деятельность. В связи с этим, одним из преобладающих методов обучения является </a:t>
            </a:r>
            <a:r>
              <a:rPr b="0" i="1" lang="ru-RU" sz="2800" spc="-1" strike="noStrike">
                <a:solidFill>
                  <a:srgbClr val="ccecff"/>
                </a:solidFill>
                <a:latin typeface="Imprint MT Shadow"/>
              </a:rPr>
              <a:t>метод проектов</a:t>
            </a:r>
            <a:r>
              <a:rPr b="0" lang="ru-RU" sz="2800" spc="-1" strike="noStrike">
                <a:solidFill>
                  <a:srgbClr val="ccecff"/>
                </a:solidFill>
                <a:latin typeface="Imprint MT Shadow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9280" y="764640"/>
            <a:ext cx="79930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85000"/>
              </a:lnSpc>
              <a:spcBef>
                <a:spcPts val="700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Imprint MT Shadow"/>
              </a:rPr>
              <a:t>Метод проектов</a:t>
            </a:r>
            <a:r>
              <a:rPr b="0" lang="ru-RU" sz="2800" spc="-1" strike="noStrike">
                <a:solidFill>
                  <a:srgbClr val="ccecff"/>
                </a:solidFill>
                <a:latin typeface="Imprint MT Shadow"/>
              </a:rPr>
              <a:t> в обучении </a:t>
            </a:r>
            <a:r>
              <a:rPr b="0" lang="ru-RU" sz="2800" spc="-1" strike="noStrike">
                <a:solidFill>
                  <a:srgbClr val="ffffff"/>
                </a:solidFill>
                <a:latin typeface="Imprint MT Shadow"/>
              </a:rPr>
              <a:t>ориентирован</a:t>
            </a:r>
            <a:r>
              <a:rPr b="1" lang="ru-RU" sz="2800" spc="-1" strike="noStrike">
                <a:solidFill>
                  <a:srgbClr val="ffffff"/>
                </a:solidFill>
                <a:latin typeface="Imprint MT Shad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 algn="just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ecff"/>
                </a:solidFill>
                <a:latin typeface="Imprint MT Shadow"/>
              </a:rPr>
              <a:t>    </a:t>
            </a:r>
            <a:r>
              <a:rPr b="0" i="1" lang="ru-RU" sz="2800" spc="-1" strike="noStrike">
                <a:solidFill>
                  <a:srgbClr val="ccecff"/>
                </a:solidFill>
                <a:latin typeface="Imprint MT Shadow"/>
              </a:rPr>
              <a:t>на самостоятельную деятельность учащихся</a:t>
            </a:r>
            <a:r>
              <a:rPr b="0" lang="ru-RU" sz="2800" spc="-1" strike="noStrike">
                <a:solidFill>
                  <a:srgbClr val="ccecff"/>
                </a:solidFill>
                <a:latin typeface="Imprint MT Shadow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5000"/>
              </a:lnSpc>
              <a:spcBef>
                <a:spcPts val="700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Imprint MT Shadow"/>
              </a:rPr>
              <a:t>В основе метода проектов</a:t>
            </a:r>
            <a:r>
              <a:rPr b="0" lang="ru-RU" sz="2800" spc="-1" strike="noStrike">
                <a:solidFill>
                  <a:srgbClr val="ccecff"/>
                </a:solidFill>
                <a:latin typeface="Imprint MT Shadow"/>
              </a:rPr>
              <a:t> -  </a:t>
            </a:r>
            <a:r>
              <a:rPr b="0" i="1" lang="ru-RU" sz="2800" spc="-1" strike="noStrike">
                <a:solidFill>
                  <a:srgbClr val="ccecff"/>
                </a:solidFill>
                <a:latin typeface="Imprint MT Shadow"/>
              </a:rPr>
              <a:t>развитие</a:t>
            </a:r>
            <a:r>
              <a:rPr b="0" lang="ru-RU" sz="2800" spc="-1" strike="noStrike">
                <a:solidFill>
                  <a:srgbClr val="ccecff"/>
                </a:solidFill>
                <a:latin typeface="Imprint MT Shadow"/>
              </a:rPr>
              <a:t> познавательных, творческих навыков учащихся</a:t>
            </a:r>
            <a:r>
              <a:rPr b="0" lang="en-US" sz="2800" spc="-1" strike="noStrike">
                <a:solidFill>
                  <a:srgbClr val="ccecff"/>
                </a:solidFill>
                <a:latin typeface="Imprint MT Shadow"/>
              </a:rPr>
              <a:t>; </a:t>
            </a:r>
            <a:r>
              <a:rPr b="0" i="1" lang="ru-RU" sz="2800" spc="-1" strike="noStrike">
                <a:solidFill>
                  <a:srgbClr val="ccecff"/>
                </a:solidFill>
                <a:latin typeface="Imprint MT Shadow"/>
              </a:rPr>
              <a:t>развитие</a:t>
            </a:r>
            <a:r>
              <a:rPr b="0" lang="ru-RU" sz="2800" spc="-1" strike="noStrike">
                <a:solidFill>
                  <a:srgbClr val="ccecff"/>
                </a:solidFill>
                <a:latin typeface="Imprint MT Shadow"/>
              </a:rPr>
              <a:t> умений ориентироваться в информационном пространстве  и самостоятельно конструировать свои знания</a:t>
            </a:r>
            <a:r>
              <a:rPr b="0" lang="en-US" sz="2800" spc="-1" strike="noStrike">
                <a:solidFill>
                  <a:srgbClr val="ccecff"/>
                </a:solidFill>
                <a:latin typeface="Imprint MT Shadow"/>
              </a:rPr>
              <a:t>; </a:t>
            </a:r>
            <a:r>
              <a:rPr b="0" i="1" lang="ru-RU" sz="2800" spc="-1" strike="noStrike">
                <a:solidFill>
                  <a:srgbClr val="ccecff"/>
                </a:solidFill>
                <a:latin typeface="Imprint MT Shadow"/>
              </a:rPr>
              <a:t>развитие</a:t>
            </a:r>
            <a:r>
              <a:rPr b="0" lang="ru-RU" sz="2800" spc="-1" strike="noStrike">
                <a:solidFill>
                  <a:srgbClr val="ccecff"/>
                </a:solidFill>
                <a:latin typeface="Imprint MT Shadow"/>
              </a:rPr>
              <a:t> критического мышл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 algn="just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5000"/>
              </a:lnSpc>
              <a:spcBef>
                <a:spcPts val="700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Imprint MT Shadow"/>
              </a:rPr>
              <a:t>Метод проектов характеризуется</a:t>
            </a:r>
            <a:r>
              <a:rPr b="0" lang="ru-RU" sz="2800" spc="-1" strike="noStrike">
                <a:solidFill>
                  <a:srgbClr val="ccecff"/>
                </a:solidFill>
                <a:latin typeface="Imprint MT Shadow"/>
              </a:rPr>
              <a:t> целенаправленностью, сочетанием практической и познавательной мотивации. Проект дает наглядные результаты для всех субъектов образовательного процесс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93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ccecff"/>
                </a:solidFill>
                <a:latin typeface="Imprint MT Shadow"/>
              </a:rPr>
              <a:t>ЦЕЛИ ПРОЕКТА</a:t>
            </a:r>
            <a:br>
              <a:rPr sz="3200"/>
            </a:b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74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cecff"/>
                </a:solidFill>
                <a:latin typeface="Imprint MT Shadow"/>
              </a:rPr>
              <a:t>Формирование и развитие навыков работы с разнообразными источниками информации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74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cecff"/>
                </a:solidFill>
                <a:latin typeface="Imprint MT Shadow"/>
              </a:rPr>
              <a:t>Развитие коммуникативных умений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74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cecff"/>
                </a:solidFill>
                <a:latin typeface="Imprint MT Shadow"/>
              </a:rPr>
              <a:t>Интеграция понятий учебных дисциплин (физика, химия, биология, информатика)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74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cecff"/>
                </a:solidFill>
                <a:latin typeface="Imprint MT Shadow"/>
              </a:rPr>
              <a:t>Развитие исследовательских навыков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Imprint MT Shadow"/>
              </a:rPr>
              <a:t>ЗАДАЧИ ПРОЕКТА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4216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Imprint MT Shadow"/>
              </a:rPr>
              <a:t>Развитие умений и навыков отбора и систематизации адекватной научно-популярной информа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Imprint MT Shadow"/>
              </a:rPr>
              <a:t>Совершенствование  навыков обработки и представления информации: планирование, выделение главного, подборка иллюстраций и носителей информации, логика построения, выводы и умозаключ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Imprint MT Shadow"/>
              </a:rPr>
              <a:t>Формирование навыков публичных выступлений в разных аудитория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Imprint MT Shadow"/>
              </a:rPr>
              <a:t>Повышение  мотивации в изучении естественных наук и информатик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Imprint MT Shadow"/>
              </a:rPr>
              <a:t>Создание пакета учебных презентаций по теме: «Всё о пище с точки зрения…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Imprint MT Shadow"/>
              </a:rPr>
              <a:t>ПРОБЛЕМА,</a:t>
            </a:r>
            <a:r>
              <a:rPr b="1" i="1" lang="ru-RU" sz="3000" spc="-1" strike="noStrike">
                <a:solidFill>
                  <a:srgbClr val="ccecff"/>
                </a:solidFill>
                <a:latin typeface="Imprint MT Shadow"/>
              </a:rPr>
              <a:t> </a:t>
            </a:r>
            <a:br>
              <a:rPr sz="3000"/>
            </a:br>
            <a:r>
              <a:rPr b="1" i="1" lang="ru-RU" sz="2400" spc="-1" strike="noStrike">
                <a:solidFill>
                  <a:srgbClr val="ccecff"/>
                </a:solidFill>
                <a:latin typeface="Imprint MT Shadow"/>
              </a:rPr>
              <a:t>РЕШАЕМАЯ В ХОДЕ ПРОЕКТА</a:t>
            </a:r>
            <a:endParaRPr b="1" lang="en-US" sz="2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Imprint MT Shadow"/>
              </a:rPr>
              <a:t>КАЧЕСТВО ПРОДУКТОВ ПИТАНИЯ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Imprint MT Shadow"/>
              </a:rPr>
              <a:t>ПОТРЕБЛЯЕМЫХ ШКОЛЬНИКАМИ И ИХ РОДИТЕЛЯМ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Imprint MT Shadow"/>
              </a:rPr>
              <a:t>Продукты питания в большой степени определяют здоровье человек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Imprint MT Shadow"/>
              </a:rPr>
              <a:t>Качество продуктов питания зависит от следующих составляющих: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Imprint MT Shadow"/>
              </a:rPr>
              <a:t>условия окружающей среды (воздух, почва, вода)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Imprint MT Shadow"/>
              </a:rPr>
              <a:t>условия выращивания (использование пленочных покрытий, химических удобрений и средств борьбы с сорняками и вредителями)</a:t>
            </a:r>
            <a:r>
              <a:rPr b="0" lang="en-US" sz="2000" spc="-1" strike="noStrike">
                <a:solidFill>
                  <a:srgbClr val="ccecff"/>
                </a:solidFill>
                <a:latin typeface="Imprint MT Shado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Imprint MT Shadow"/>
              </a:rPr>
              <a:t>пищевая ценность продуктов (наличие витаминов, микроэлементов и сложных питательных веществ)</a:t>
            </a:r>
            <a:r>
              <a:rPr b="0" lang="en-US" sz="2000" spc="-1" strike="noStrike">
                <a:solidFill>
                  <a:srgbClr val="ccecff"/>
                </a:solidFill>
                <a:latin typeface="Imprint MT Shado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Imprint MT Shadow"/>
              </a:rPr>
              <a:t>добавки (химические) к пище для придания вкуса, запаха и цвета, для увеличения сроков хранения</a:t>
            </a:r>
            <a:r>
              <a:rPr b="0" lang="en-US" sz="2000" spc="-1" strike="noStrike">
                <a:solidFill>
                  <a:srgbClr val="ccecff"/>
                </a:solidFill>
                <a:latin typeface="Imprint MT Shado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Imprint MT Shadow"/>
              </a:rPr>
              <a:t>процессы приготовления пищи, способы  и условия хранения пищевых продуктов</a:t>
            </a:r>
            <a:r>
              <a:rPr b="0" lang="en-US" sz="2000" spc="-1" strike="noStrike">
                <a:solidFill>
                  <a:srgbClr val="ccecff"/>
                </a:solidFill>
                <a:latin typeface="Imprint MT Shadow"/>
              </a:rPr>
              <a:t>.</a:t>
            </a:r>
            <a:r>
              <a:rPr b="0" lang="ru-RU" sz="2000" spc="-1" strike="noStrike">
                <a:solidFill>
                  <a:srgbClr val="ccecff"/>
                </a:solidFill>
                <a:latin typeface="Imprint MT Shado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Imprint MT Shadow"/>
              </a:rPr>
              <a:t>ПРОГНОЗИРУЕМЫЕ РЕЗУЛЬТАТЫ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74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cecff"/>
                </a:solidFill>
                <a:latin typeface="Imprint MT Shadow"/>
              </a:rPr>
              <a:t>Развитие способности публичных представлений и обоснований результатов своей деятельности. 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74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cecff"/>
                </a:solidFill>
                <a:latin typeface="Imprint MT Shadow"/>
              </a:rPr>
              <a:t>Формирование коммуникативных умений при работе в паре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74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cecff"/>
                </a:solidFill>
                <a:latin typeface="Imprint MT Shadow"/>
              </a:rPr>
              <a:t>Понимание и осознание важности здорового питания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74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cecff"/>
                </a:solidFill>
                <a:latin typeface="Imprint MT Shadow"/>
              </a:rPr>
              <a:t>Определение личной стратегии в данном аспекте жизнедеятельности на основе анализа рассмотренных альтернатив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74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cecff"/>
                </a:solidFill>
                <a:latin typeface="Imprint MT Shadow"/>
              </a:rPr>
              <a:t>Пакет учебных презентаций по теме: «Всё о пище с точки зрения…»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Imprint MT Shadow"/>
              </a:rPr>
              <a:t>ЭТАПЫ ПРЕКТА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ecff"/>
                </a:solidFill>
                <a:latin typeface="Imprint MT Shadow"/>
              </a:rPr>
              <a:t>Постановка проблемы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ecff"/>
                </a:solidFill>
                <a:latin typeface="Imprint MT Shadow"/>
              </a:rPr>
              <a:t>Целеполагание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ecff"/>
                </a:solidFill>
                <a:latin typeface="Imprint MT Shadow"/>
              </a:rPr>
              <a:t>Планирование этапов деятельности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ecff"/>
                </a:solidFill>
                <a:latin typeface="Imprint MT Shadow"/>
              </a:rPr>
              <a:t>Прогноз результатов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ecff"/>
                </a:solidFill>
                <a:latin typeface="Imprint MT Shadow"/>
              </a:rPr>
              <a:t>Поиск информации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ecff"/>
                </a:solidFill>
                <a:latin typeface="Imprint MT Shadow"/>
              </a:rPr>
              <a:t>Обработка информации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ecff"/>
                </a:solidFill>
                <a:latin typeface="Imprint MT Shadow"/>
              </a:rPr>
              <a:t>Анализ результатов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ecff"/>
                </a:solidFill>
                <a:latin typeface="Imprint MT Shadow"/>
              </a:rPr>
              <a:t>Внесение корректив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ecff"/>
                </a:solidFill>
                <a:latin typeface="Imprint MT Shadow"/>
              </a:rPr>
              <a:t>Представление результатов – защита проекта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8:54:12Z</dcterms:created>
  <dc:creator>Teacher</dc:creator>
  <dc:description/>
  <dc:language>en-US</dc:language>
  <cp:lastModifiedBy>Вика</cp:lastModifiedBy>
  <dcterms:modified xsi:type="dcterms:W3CDTF">2013-03-10T15:17:12Z</dcterms:modified>
  <cp:revision>9</cp:revision>
  <dc:subject/>
  <dc:title>УЧЕБНЫЙ ПРОЕКТ МАГНИТНОЕ ВЗАИМОДЕЙСТВИЕ</dc:title>
</cp:coreProperties>
</file>