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FE3-C50D-423D-B8FE-C8588473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51B-F5EC-47A2-A37B-C6266131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3F8-900A-4327-8CBE-52FFED16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4CF-9370-49DB-B0B7-E76B0E57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3747-088C-4D15-BD98-A9ACE967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056A-BCE7-4410-A02D-8D771088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841B-FBA5-4171-8693-B423533B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80FB-E107-4844-B734-AC1B156D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911A-3E47-44F2-92B1-1E794A7C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A604-E68E-45BD-B7A8-0117C389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FB13-1527-4ED4-BC7A-C5BEB81E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BF3-59E2-4011-AF70-DC65E7DC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6B32-F931-40D9-B100-7F468682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B241-550C-4C23-9079-80EDA23C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6B11-01AC-441B-BA88-A6D3E164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37A0-E30E-473C-9B72-80D58FD4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7111-4EE0-4D74-8FEC-6215C22F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0C3-3EE6-440A-B512-EB60F5F1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F83-27F3-46FA-BB9F-6954475C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81E-ACDC-4223-881E-AC1AB504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61F-8D98-4EFA-BF31-306702B5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ED6-01F2-4481-A790-14CE2BB2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F26-E0F8-4C00-B750-4926C76F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807-7CE0-46A3-A0F3-E95DEB0B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BB0E-E8AD-42BC-88E5-593322D8321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Imprint MT Shadow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83E9-AD73-4C60-A717-2A3037E0BC4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454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ecff"/>
                </a:solidFill>
                <a:latin typeface="Bookman Old Style"/>
              </a:rPr>
              <a:t>ПРОЕКТ</a:t>
            </a:r>
            <a:br>
              <a:rPr sz="2400"/>
            </a:br>
            <a:r>
              <a:rPr b="0" i="1" lang="ru-RU" sz="2400" spc="-1" strike="noStrike">
                <a:solidFill>
                  <a:srgbClr val="ccecff"/>
                </a:solidFill>
                <a:latin typeface="Bookman Old Style"/>
              </a:rPr>
              <a:t>УЧАЩИХСЯ 7-9 КЛАССОВ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Imprint MT Shadow"/>
              </a:rPr>
              <a:t>ВСЁ О ПИЩЕ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Imprint MT Shadow"/>
              </a:rPr>
              <a:t>С ТОЧКИ ЗРЕНИЯ ФИЗИКА, ХИМИКА, БИОЛОГА</a:t>
            </a:r>
            <a:endParaRPr b="1" lang="en-US" sz="4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537372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уководители проект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рязнова В.Ю.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ПбМШ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остановка проблемы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Целеполагание</a:t>
            </a: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ланирование этапов деятельности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73360"/>
          <a:ext cx="8218440" cy="468000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Деятельность учител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Деятельность учащихс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Создаёт проблемную ситуаци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Объясняет ц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аёт инструк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Сообщает критерии оцен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Мотивируют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Формируют зада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Планируют этапы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Разбиваются по групп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Выбирают те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684360" y="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рогноз результатов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Обработка информации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700280"/>
          <a:ext cx="8713800" cy="5213160"/>
        </p:xfrm>
        <a:graphic>
          <a:graphicData uri="http://schemas.openxmlformats.org/drawingml/2006/table">
            <a:tbl>
              <a:tblPr/>
              <a:tblGrid>
                <a:gridCol w="4527360"/>
                <a:gridCol w="4186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ител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ащихс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Оценивает реальность прогноз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Консультирует по направлению поиска информ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Помогает в анализе и синтезе материалов (по необходимост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Предполагают результаты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Работают с различными источниками информ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Выбирают, анализируют, систематизируют и обобщают найденные материа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971640" y="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Анализ результатов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Внесение корректив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0200" y="1644480"/>
          <a:ext cx="8605800" cy="4349880"/>
        </p:xfrm>
        <a:graphic>
          <a:graphicData uri="http://schemas.openxmlformats.org/drawingml/2006/table">
            <a:tbl>
              <a:tblPr/>
              <a:tblGrid>
                <a:gridCol w="4527720"/>
                <a:gridCol w="4078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ител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ащихс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Оценивает адекватность представленных результат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Консультирует по виду и способам представле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Обосновывают результ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Корректируют  вид и способы представления (по необходимост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115920" y="333360"/>
            <a:ext cx="891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редставление результатов – 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защита проекта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700280"/>
          <a:ext cx="8713800" cy="5213160"/>
        </p:xfrm>
        <a:graphic>
          <a:graphicData uri="http://schemas.openxmlformats.org/drawingml/2006/table">
            <a:tbl>
              <a:tblPr/>
              <a:tblGrid>
                <a:gridCol w="4527360"/>
                <a:gridCol w="4186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ител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Imprint MT Shadow"/>
                        </a:rPr>
                        <a:t>Деятельность учащихс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Организует коллективную презентацию проек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Курирует оценку результа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Подводит итоги общей презен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Представляют и обосновывают полученные результ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ecff"/>
                          </a:solidFill>
                          <a:latin typeface="Imprint MT Shadow"/>
                        </a:rPr>
                        <a:t>Анализируют представленные на коллективной презентации проек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Imprint MT Shadow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РЕСУРСЫ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Imprint MT Shadow"/>
              </a:rPr>
              <a:t>Компьютер для каждой группы для работы над презентаци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Imprint MT Shadow"/>
              </a:rPr>
              <a:t>Компьютер + проектор для защиты презентац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Imprint MT Shadow"/>
              </a:rPr>
              <a:t>Доступ в Интерне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Imprint MT Shadow"/>
              </a:rPr>
              <a:t>Научная и научно-популярная литерату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Imprint MT Shadow"/>
              </a:rPr>
              <a:t>Фотоаппар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РИСКИ</a:t>
            </a:r>
            <a:br>
              <a:rPr sz="3200"/>
            </a:b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Imprint MT Shadow"/>
              </a:rPr>
              <a:t>Недостаточная материально-техническая база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Imprint MT Shad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rint MT Shadow"/>
              </a:rPr>
              <a:t>Скурихин, Нечаев. Всё о пище с точки зрения хим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Imprint MT Shad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rint MT Shadow"/>
              </a:rPr>
              <a:t>Цвелюх И.П., Дроздова И.А., Лаврентьева И.В. Профессиональная инициатива педагога: от замысла до реализации Красноярск 200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Imprint MT Shad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rint MT Shadow"/>
              </a:rPr>
              <a:t>Угринович Н. Информатика и информационные технологии» 10-11 класс. М. «Бином», 200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Imprint MT Shad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rint MT Shad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Microsoft Power Point</a:t>
            </a:r>
            <a:r>
              <a:rPr b="0" lang="ru-RU" sz="2400" spc="-1" strike="noStrike">
                <a:solidFill>
                  <a:srgbClr val="ffffff"/>
                </a:solidFill>
                <a:latin typeface="Imprint MT Shadow"/>
              </a:rPr>
              <a:t>. Шаг за шагом. М. ЭКОМ, 200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87640" y="1125360"/>
            <a:ext cx="345600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640" y="691920"/>
            <a:ext cx="7092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В приложении Вы найдёт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инструкцию для учащихс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примеры презентаци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их проектов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rint MT Shadow"/>
              </a:rPr>
              <a:t>СПАСИБО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Imprint MT Shadow"/>
              </a:rPr>
              <a:t>ОБРАЗОВАТЕЛЬНАЯ ОБЛАСТЬ</a:t>
            </a:r>
            <a:r>
              <a:rPr b="0" lang="ru-RU" sz="4400" spc="-1" strike="noStrike">
                <a:solidFill>
                  <a:srgbClr val="ccecff"/>
                </a:solidFill>
                <a:latin typeface="Imprint MT Shadow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Imprint MT Shadow"/>
              </a:rPr>
              <a:t>  </a:t>
            </a:r>
            <a:r>
              <a:rPr b="0" i="1" lang="ru-RU" sz="4400" spc="-1" strike="noStrike">
                <a:solidFill>
                  <a:srgbClr val="ccecff"/>
                </a:solidFill>
                <a:latin typeface="Imprint MT Shadow"/>
              </a:rPr>
              <a:t>ЕСТЕСТВОЗНА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Imprint MT Shadow"/>
              </a:rPr>
              <a:t>ВИД ПРОЕКТА –</a:t>
            </a:r>
            <a:r>
              <a:rPr b="0" lang="ru-RU" sz="4400" spc="-1" strike="noStrike">
                <a:solidFill>
                  <a:srgbClr val="ccecff"/>
                </a:solidFill>
                <a:latin typeface="Imprint MT Shadow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Imprint MT Shadow"/>
              </a:rPr>
              <a:t>  </a:t>
            </a:r>
            <a:r>
              <a:rPr b="0" i="1" lang="ru-RU" sz="4400" spc="-1" strike="noStrike">
                <a:solidFill>
                  <a:srgbClr val="ccecff"/>
                </a:solidFill>
                <a:latin typeface="Imprint MT Shadow"/>
              </a:rPr>
              <a:t>НАУЧНО-ПОПУЛЯРНОЕ ИССЛЕДОВА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Imprint MT Shadow"/>
              </a:rPr>
              <a:t>АКТУАЛЬНОСТЬ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0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Основой коммуникативного обучения является 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развитие коммуникативной компетентности как совокупности умений 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решать задачи социального и межкультурного взаимодействия в разных жизненных ситуациях на основе использования специальных компетенций.</a:t>
            </a:r>
            <a:r>
              <a:rPr b="0" lang="ru-RU" sz="2800" spc="-1" strike="noStrike">
                <a:solidFill>
                  <a:srgbClr val="ccec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Поэтому в учебный процесс активно вводятся интегрированные уроки, в которых обучение проходит путём свободного общения, вовлечения в деятельность. В связи с этим, одним из преобладающих методов обучения является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метод проектов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7993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5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rint MT Shadow"/>
              </a:rPr>
              <a:t>Метод проектов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в обучении </a:t>
            </a:r>
            <a:r>
              <a:rPr b="0" lang="ru-RU" sz="2800" spc="-1" strike="noStrike">
                <a:solidFill>
                  <a:srgbClr val="ffffff"/>
                </a:solidFill>
                <a:latin typeface="Imprint MT Shadow"/>
              </a:rPr>
              <a:t>ориентирован</a:t>
            </a:r>
            <a:r>
              <a:rPr b="1" lang="ru-RU" sz="2800" spc="-1" strike="noStrike">
                <a:solidFill>
                  <a:srgbClr val="ffffff"/>
                </a:solidFill>
                <a:latin typeface="Imprint MT Shad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   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на самостоятельную деятельность учащихся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rint MT Shadow"/>
              </a:rPr>
              <a:t>В основе метода проектов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- 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развитие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познавательных, творческих навыков учащихся</a:t>
            </a: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;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развитие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умений ориентироваться в информационном пространстве  и самостоятельно конструировать свои знания</a:t>
            </a:r>
            <a:r>
              <a:rPr b="0" lang="en-US" sz="2800" spc="-1" strike="noStrike">
                <a:solidFill>
                  <a:srgbClr val="ccecff"/>
                </a:solidFill>
                <a:latin typeface="Imprint MT Shadow"/>
              </a:rPr>
              <a:t>; </a:t>
            </a:r>
            <a:r>
              <a:rPr b="0" i="1" lang="ru-RU" sz="2800" spc="-1" strike="noStrike">
                <a:solidFill>
                  <a:srgbClr val="ccecff"/>
                </a:solidFill>
                <a:latin typeface="Imprint MT Shadow"/>
              </a:rPr>
              <a:t>развитие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критического мышл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rint MT Shadow"/>
              </a:rPr>
              <a:t>Метод проектов характеризуется</a:t>
            </a: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 целенаправленностью, сочетанием практической и познавательной мотивации. Проект дает наглядные результаты для всех субъектов образовательного процесс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ЦЕЛИ ПРОЕКТА</a:t>
            </a:r>
            <a:br>
              <a:rPr sz="3200"/>
            </a:b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Формирование и развитие навыков работы с разнообразными источниками информации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Развитие коммуникативных умений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Интеграция понятий учебных дисциплин (физика, химия, биология, информатика)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Развитие исследовательских навыков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ЗАДАЧИ ПРОЕКТА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Развитие умений и навыков отбора и систематизации адекватной научно-популярной информ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Совершенствование  навыков обработки и представления информации: планирование, выделение главного, подборка иллюстраций и носителей информации, логика построения, выводы и умозаключ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Формирование навыков публичных выступлений в разных аудитор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Повышение  мотивации в изучении естественных наук и информа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Imprint MT Shadow"/>
              </a:rPr>
              <a:t>Создание пакета учебных презентаций по теме: «Всё о пище с точки зрения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РОБЛЕМА,</a:t>
            </a:r>
            <a:r>
              <a:rPr b="1" i="1" lang="ru-RU" sz="3000" spc="-1" strike="noStrike">
                <a:solidFill>
                  <a:srgbClr val="ccecff"/>
                </a:solidFill>
                <a:latin typeface="Imprint MT Shadow"/>
              </a:rPr>
              <a:t> </a:t>
            </a:r>
            <a:br>
              <a:rPr sz="3000"/>
            </a:br>
            <a:r>
              <a:rPr b="1" i="1" lang="ru-RU" sz="2400" spc="-1" strike="noStrike">
                <a:solidFill>
                  <a:srgbClr val="ccecff"/>
                </a:solidFill>
                <a:latin typeface="Imprint MT Shadow"/>
              </a:rPr>
              <a:t>РЕШАЕМАЯ В ХОДЕ ПРОЕКТА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Imprint MT Shadow"/>
              </a:rPr>
              <a:t>КАЧЕСТВО ПРОДУКТОВ ПИТАНИЯ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Imprint MT Shadow"/>
              </a:rPr>
              <a:t>ПОТРЕБЛЯЕМЫХ ШКОЛЬНИКАМИ И ИХ РОДИТЕЛЯМ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Продукты питания в большой степени определяют здоровье челове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Качество продуктов питания зависит от следующих составляющих: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условия окружающей среды (воздух, почва, вода)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условия выращивания (использование пленочных покрытий, химических удобрений и средств борьбы с сорняками и вредителями)</a:t>
            </a:r>
            <a:r>
              <a:rPr b="0" lang="en-US" sz="2000" spc="-1" strike="noStrike">
                <a:solidFill>
                  <a:srgbClr val="ccecff"/>
                </a:solidFill>
                <a:latin typeface="Imprint MT Shad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пищевая ценность продуктов (наличие витаминов, микроэлементов и сложных питательных веществ)</a:t>
            </a:r>
            <a:r>
              <a:rPr b="0" lang="en-US" sz="2000" spc="-1" strike="noStrike">
                <a:solidFill>
                  <a:srgbClr val="ccecff"/>
                </a:solidFill>
                <a:latin typeface="Imprint MT Shad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добавки (химические) к пище для придания вкуса, запаха и цвета, для увеличения сроков хранения</a:t>
            </a:r>
            <a:r>
              <a:rPr b="0" lang="en-US" sz="2000" spc="-1" strike="noStrike">
                <a:solidFill>
                  <a:srgbClr val="ccecff"/>
                </a:solidFill>
                <a:latin typeface="Imprint MT Shad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процессы приготовления пищи, способы  и условия хранения пищевых продуктов</a:t>
            </a:r>
            <a:r>
              <a:rPr b="0" lang="en-US" sz="2000" spc="-1" strike="noStrike">
                <a:solidFill>
                  <a:srgbClr val="ccecff"/>
                </a:solidFill>
                <a:latin typeface="Imprint MT Shadow"/>
              </a:rPr>
              <a:t>.</a:t>
            </a:r>
            <a:r>
              <a:rPr b="0" lang="ru-RU" sz="2000" spc="-1" strike="noStrike">
                <a:solidFill>
                  <a:srgbClr val="ccecff"/>
                </a:solidFill>
                <a:latin typeface="Imprint MT Shad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ПРОГНОЗИРУЕМЫЕ РЕЗУЛЬТАТЫ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Развитие способности публичных представлений и обоснований результатов своей деятельности. 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Формирование коммуникативных умений при работе в паре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Понимание и осознание важности здорового питания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Определение личной стратегии в данном аспекте жизнедеятельности на основе анализа рассмотренных альтернатив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Imprint MT Shadow"/>
              </a:rPr>
              <a:t>Пакет учебных презентаций по теме: «Всё о пище с точки зрения…»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Imprint MT Shadow"/>
              </a:rPr>
              <a:t>ЭТАПЫ ПРЕКТА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Постановка проблемы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Целеполагание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Планирование этапов деятельност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Прогноз результато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Поиск информаци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Обработка информаци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Анализ результато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Внесение корректи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ffcc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ecff"/>
                </a:solidFill>
                <a:latin typeface="Imprint MT Shadow"/>
              </a:rPr>
              <a:t>Представление результатов – защита проект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8:54:12Z</dcterms:created>
  <dc:creator>Teacher</dc:creator>
  <dc:description/>
  <dc:language>en-US</dc:language>
  <cp:lastModifiedBy>Вика</cp:lastModifiedBy>
  <dcterms:modified xsi:type="dcterms:W3CDTF">2013-03-10T15:17:12Z</dcterms:modified>
  <cp:revision>9</cp:revision>
  <dc:subject/>
  <dc:title>УЧЕБНЫЙ ПРОЕКТ МАГНИТНОЕ ВЗАИМОДЕЙСТВИЕ</dc:title>
</cp:coreProperties>
</file>