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9.gif" ContentType="image/gif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38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864C-F0D9-40B2-AB1E-3DCDBBCE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1E87-D96F-48D7-A587-1A96F4D2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EB6A-5733-4590-9D50-747D2AD9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1867-F390-4567-9AD3-CC81D4BB8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20AF-E4C6-4A59-A863-F46EB722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7FED-0297-49F8-95F6-7C2EA178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6FCD-EA21-4CF8-A961-7F17D583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6313-25D6-4F37-800B-419846AB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23A8-69E4-41D2-8680-0F50AC40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38A8-FAB5-46CA-88B6-B4CB6D7E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A3C9-288D-41DD-A337-DA1E8868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45E4-00DF-46BB-A294-10B376F5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E456-19B7-4044-B347-96B00DC1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6B57-D778-41FF-92ED-1514E913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1137-52B9-4EB3-B584-CCCE7F37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3A5B-0179-4374-8CF3-478E6834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966E-1ED0-46FF-8C48-B1F9B391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4385-7F7E-44FF-8D8F-62699230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5FC6-F625-4F4A-BF9D-330517BA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C6F3-E93F-499B-B47B-D9CF42CC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D911-A92B-4499-9423-935A1E11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DF4E-1FF1-4ED6-A5ED-86436CB3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DE59-7667-4EFB-8F01-B474D58E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5D51-0AD4-455B-985D-3330F452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7A90-BE78-41E6-8069-BAE4836D8E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0632-C449-441E-B819-A35D83FBC7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СЛЕДОВАТЕЛЬСКИЙ ПРОЕКТ</a:t>
            </a:r>
            <a:br>
              <a:rPr sz="2400"/>
            </a:b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«Такие удивительные часы»</a:t>
            </a:r>
            <a:br>
              <a:rPr sz="40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Выполнили ученики 3 класса 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МБОУ гимназии №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асильева Алис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Шевелев Александ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кофьев Матв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елоногов Ники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дорова Софь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доров Святосла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узаев Кирил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льмаскулова Валер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етисов Пав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драшина Александ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йцева Кс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еда Але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лярнко Елизаве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тников Ива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аткина Дарь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улакова Диан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Руководител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Кравец Татьяна Никола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870440" y="1600200"/>
            <a:ext cx="3594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асы с кукушк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971640" y="836640"/>
            <a:ext cx="72072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763640" y="333360"/>
            <a:ext cx="48960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вые башенные часы в Росс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1403280" y="1484280"/>
            <a:ext cx="706608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27040" y="1628640"/>
            <a:ext cx="3921120" cy="45309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643280" y="1800360"/>
            <a:ext cx="403884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осторженные слова в Троицкой летопис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На всякий же час ударяют молотом в колокол, размеряя и считая часы нощные и дневные; не бо человек ударяше, но человековидно, самозвонно и самодвижно, страннолепно некако сотворено есть человеческой хитростью, преизмечтано и преухищрено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рманные час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8323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удильник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547640" y="1268280"/>
            <a:ext cx="5761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6696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7561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806436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ампад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041480" y="646200"/>
            <a:ext cx="706104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340000" y="189000"/>
            <a:ext cx="4896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еханические часы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258920" y="1268280"/>
            <a:ext cx="6553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асы для слепых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484360" y="1268280"/>
            <a:ext cx="49672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асы для подводного плаван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116000" y="1341360"/>
            <a:ext cx="6769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асы для экстремал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258920" y="1268280"/>
            <a:ext cx="6553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8642160" cy="58705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cc00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4000" y="1413000"/>
            <a:ext cx="85690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cc00"/>
                  </a:solidFill>
                  <a:miter/>
                </a:ln>
                <a:solidFill>
                  <a:srgbClr val="7b46d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амые, самые...</a:t>
            </a:r>
            <a:endParaRPr b="0" lang="en-US" sz="2400" spc="1" strike="noStrike">
              <a:ln w="38160">
                <a:solidFill>
                  <a:srgbClr val="ffcc00"/>
                </a:solidFill>
                <a:miter/>
              </a:ln>
              <a:solidFill>
                <a:srgbClr val="7b46d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амые красивые в мире уличные час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1071720" y="1112760"/>
            <a:ext cx="699912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амые дорогие часы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755640" y="1652760"/>
            <a:ext cx="792468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амые большие песочные ча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2195640" y="1197000"/>
            <a:ext cx="4968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10920" y="259920"/>
            <a:ext cx="81579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ые старые часы Парижа, находятся на здании замка Консьерже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87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411280" y="1405080"/>
            <a:ext cx="468972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8036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Impact"/>
              </a:rPr>
              <a:t>История создания часов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57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лово </a:t>
            </a:r>
            <a:r>
              <a:rPr b="0" lang="ru-RU" sz="6000" spc="-1" strike="noStrike">
                <a:solidFill>
                  <a:srgbClr val="ffff00"/>
                </a:solidFill>
                <a:latin typeface="Impact"/>
              </a:rPr>
              <a:t>«часы»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произошло от французского слова </a:t>
            </a: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«стеклянный колпак для защиты растений»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, это слово означало </a:t>
            </a: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«звонок»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амые высокие башенные часы в мир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2120760" y="835200"/>
            <a:ext cx="490248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Фасад Театра кукол имени Образцова, Москва, Росс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642920" y="1628640"/>
            <a:ext cx="4038840" cy="45309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1835280" y="1484280"/>
            <a:ext cx="547524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476280"/>
            <a:ext cx="8229600" cy="56116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26920" y="1773360"/>
            <a:ext cx="770580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ff0066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градные часы</a:t>
            </a:r>
            <a:endParaRPr b="0" lang="en-US" sz="2400" spc="1" strike="noStrike">
              <a:ln w="28440">
                <a:solidFill>
                  <a:srgbClr val="ff0066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асы - меда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500720" y="15570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2987640" y="836640"/>
            <a:ext cx="3313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градные часы в Российской Арми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2268360" y="1628640"/>
            <a:ext cx="364356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четному гражданину Росс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9120" y="5608800"/>
            <a:ext cx="40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57200" y="2139840"/>
            <a:ext cx="4038480" cy="3449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718160" y="2021040"/>
            <a:ext cx="38894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. Орл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Часы 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ворят: часы стоят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ворят: часы спешат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ворят: часы идут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о немножко отстают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ы смотрели с Мишкой вместе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о часы висят на месте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 руке, и на стене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 на башне в вышин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Ходят, ходят ровным ходом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т восхода до восход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твет: Час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лнечные час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7201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одяные часы.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род Мурсия, Исп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00000" y="1628640"/>
            <a:ext cx="6912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есочные час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050920" y="836640"/>
            <a:ext cx="50421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гненные час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403280" y="1268280"/>
            <a:ext cx="6553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еревянные часы Бронниковы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5832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7848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03T06:03:20Z</dcterms:modified>
  <cp:revision>76</cp:revision>
  <dc:subject/>
  <dc:title>PowerPoint Presentation</dc:title>
</cp:coreProperties>
</file>