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9.gif" ContentType="image/gif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38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272-B682-4BC4-B38A-08A18093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100-C227-4874-A539-6E5598BC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F37-8955-41CD-BA70-B592BD03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9CE-4898-47AD-B2D9-BBFA41AF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A59B-3A70-4E4E-AFED-DC52A5FE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F4CD-8709-474F-A2E1-012E0399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B462-548A-4961-BC1D-9C831E59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3EA4-8B5D-44A4-99E3-9BF781F1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B4EC-0AB6-4303-8C60-E036D9D7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2F6C-D69E-4996-8552-88912D90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A09A-3FF7-4BF9-93E5-003F2948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2D8-515D-4D20-8F1D-F9B8D449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6B95-3AF6-4C8A-AD11-D254829C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BB01-9CA1-47F6-AE78-F66D1C11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F149-0F93-494B-B56A-A14F7799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0DF0-EF88-4388-A26F-F18BD4D1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8E10-1B6C-473D-89EF-E5A43490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D52-516D-46DA-8F6D-7DE9B879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629-62F1-4DD2-AEB0-8656DC9A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A52-7C39-4DC9-9D3D-79D4F1ED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FFC-1737-4515-A1F4-E5C5793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1C3-C96E-46A2-B1ED-0055C390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70F-B5FB-40D5-8EA0-799D495F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D08-991A-42FB-99F3-E00D7C77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D4C0-3819-431A-B1BF-CA7398A81A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6A28-7FE1-44D8-B467-70E6BE5C0D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</a:t>
            </a:r>
            <a:br>
              <a:rPr sz="2400"/>
            </a:b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«Такие удивительные часы»</a:t>
            </a: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Выполнили ученики 3 класса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МБОУ гимназии №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асильева Али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Шевелев Александ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кофьев Матв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лоногов Ники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дорова Соф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доров Святосла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узаев Кирил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льмаскулова Валер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тисов Пав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драшина Александ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йцева Кс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еда Але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лярнко Елиза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тников Ив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аткина Дар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лакова Диан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Руководит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Кравец Татья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70440" y="1600200"/>
            <a:ext cx="3594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ы с кукушк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971640" y="836640"/>
            <a:ext cx="7207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489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ые башенные часы в Росс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403280" y="1484280"/>
            <a:ext cx="706608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7040" y="1628640"/>
            <a:ext cx="3921120" cy="4530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3280" y="1800360"/>
            <a:ext cx="40388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сторженные слова в Троицкой летопис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На всякий же час ударяют молотом в колокол, размеряя и считая часы нощные и дневные; не бо человек ударяше, но человековидно, самозвонно и самодвижно, страннолепно некако сотворено есть человеческой хитростью, преизмечтано и преухищрено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рманные час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832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дильни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5761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6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561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8064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амп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41480" y="646200"/>
            <a:ext cx="706104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340000" y="189000"/>
            <a:ext cx="4896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ханические час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55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сы для слепых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4967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ы для подводного плава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6769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ы для экстремал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553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42160" cy="58705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00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413000"/>
            <a:ext cx="8569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7b46d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ые, самые...</a:t>
            </a:r>
            <a:endParaRPr b="0" lang="en-US" sz="2400" spc="1" strike="noStrike">
              <a:ln w="38160">
                <a:solidFill>
                  <a:srgbClr val="ffcc00"/>
                </a:solidFill>
                <a:miter/>
              </a:ln>
              <a:solidFill>
                <a:srgbClr val="7b46d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ые красивые в мире уличные час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071720" y="1112760"/>
            <a:ext cx="69991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мые дорогие час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55640" y="1652760"/>
            <a:ext cx="79246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ые большие песочные ч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195640" y="1197000"/>
            <a:ext cx="496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81579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е старые часы Парижа, находятся на здании замка Консьерже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7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411280" y="1405080"/>
            <a:ext cx="46897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Impact"/>
              </a:rPr>
              <a:t>История создания часов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0" lang="ru-RU" sz="6000" spc="-1" strike="noStrike">
                <a:solidFill>
                  <a:srgbClr val="ffff00"/>
                </a:solidFill>
                <a:latin typeface="Impact"/>
              </a:rPr>
              <a:t>«часы»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произошло от французского слова </a:t>
            </a: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«стеклянный колпак для защиты растений»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, это слово означало </a:t>
            </a: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«звонок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ые высокие башенные часы в мир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120760" y="835200"/>
            <a:ext cx="490248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асад Театра кукол имени Образцова, Москва, Росс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47524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1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920" y="1773360"/>
            <a:ext cx="77058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ные часы</a:t>
            </a:r>
            <a:endParaRPr b="0" lang="en-US" sz="2400" spc="1" strike="noStrike">
              <a:ln w="28440">
                <a:solidFill>
                  <a:srgbClr val="ff00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ы - меда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00720" y="15570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987640" y="836640"/>
            <a:ext cx="3313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градные часы в Российской Арм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268360" y="1628640"/>
            <a:ext cx="36435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тному гражданину Росс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9120" y="5608800"/>
            <a:ext cx="40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139840"/>
            <a:ext cx="4038480" cy="344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718160" y="2021040"/>
            <a:ext cx="38894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. Ор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асы 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ворят: часы стоят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ворят: часы спешат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ворят: часы идут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 немножко отстают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ы смотрели с Мишкой вместе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 часы висят на мест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руке, и на стене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на башне в вышин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одят, ходят ровным ходом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 восхода до восход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вет: Час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лнечные ча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20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дяные часы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од Мурсия, Исп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6912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сочные ча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050920" y="836640"/>
            <a:ext cx="5042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гненные ча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6553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ревянные часы Бронников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832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848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03T06:03:20Z</dcterms:modified>
  <cp:revision>76</cp:revision>
  <dc:subject/>
  <dc:title>PowerPoint Presentation</dc:title>
</cp:coreProperties>
</file>