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5BF-1F76-4A0C-A85B-630DD378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82C-3379-4A84-BFEA-92E8336F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505-FB7C-4230-AE56-DFEB939C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B1F-F575-4E49-8DF6-B077B37E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D8A-CD56-49E1-A352-93A376A2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42E-48F2-4963-8629-E79D3245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4A1-CD93-46D7-80E0-2B25FF28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AA5-701F-4EC6-B17E-4AE28E04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4B7-4EDB-4157-9ACD-D94D3459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455-8AA3-43E4-B9D3-33EB9428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854-28B0-4A0A-90A5-3D0E0B3A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9F0-B9C0-4D1C-910E-73D1C54A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2C49-77FF-42AA-82F9-77300D2A5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7360" y="595440"/>
          <a:ext cx="7829280" cy="56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595440"/>
                    <a:ext cx="7829280" cy="56671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68880" y="2697120"/>
            <a:ext cx="608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ли занят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крепление правильного произношения звука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из и синтез звуковых сочетаний: ИА, АИ, УИ, И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витие фонематических проце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деление звука И в начал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92360" y="1197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ирование фонематического анализа и синтеза по теме «Звук 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829640" cy="5667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3800" y="27075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з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829640" cy="566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65800" y="270756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29280" cy="566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9440" y="25646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829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292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82964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292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8292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292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292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57360" y="595440"/>
          <a:ext cx="7829280" cy="56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595440"/>
                    <a:ext cx="782928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92360" y="1484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44320" y="835920"/>
            <a:ext cx="45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ртикуляционная гимнастика для гу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829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29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29280" cy="5667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004720" y="119628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хочет сказать клоун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29640" cy="5667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0000" y="83664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хочет сказать осл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657360" y="595440"/>
          <a:ext cx="7829280" cy="56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595440"/>
                    <a:ext cx="782928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692360" y="692280"/>
          <a:ext cx="5244840" cy="53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692280"/>
                    <a:ext cx="52448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62728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829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29640" cy="5667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61440" y="61992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ИИ – плачет девочк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29640" cy="5667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32000" y="83592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ИИ – свистит чай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29280" cy="566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25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829640" cy="566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87640" y="620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1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11280" y="476280"/>
          <a:ext cx="7829280" cy="56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29280" cy="56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766520" y="1196280"/>
            <a:ext cx="56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ение  в словах первого гласного зву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019240" y="2063880"/>
          <a:ext cx="5105520" cy="27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19240" y="2063880"/>
                    <a:ext cx="510552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29280" cy="5667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18320" y="32457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ИИр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21440" y="28519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р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21:09:12Z</dcterms:created>
  <dc:creator>Марина</dc:creator>
  <dc:description/>
  <dc:language>en-US</dc:language>
  <cp:lastModifiedBy>Марина</cp:lastModifiedBy>
  <dcterms:modified xsi:type="dcterms:W3CDTF">2013-03-10T14:45:37Z</dcterms:modified>
  <cp:revision>13</cp:revision>
  <dc:subject/>
  <dc:title>Слайд 1</dc:title>
</cp:coreProperties>
</file>