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023-1F60-4BC0-B164-4854A784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846-2914-40E5-B449-CB7748DF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FE5-FC2E-4388-9038-18D55781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F1D-FD38-4DD3-BDE3-516953D6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62C-8BB0-411A-BEC1-CF0075B7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BFA-B005-4BC2-A551-1B7A4B49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D2B-9DE7-4611-AC98-36645B8E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68E-0E4E-4550-A21F-5D8136BB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AAA-7585-476E-8FC5-71BEC74C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BFE-3525-4609-9F4B-D3DE1F0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47D-74B3-443D-9780-A9C3573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882-5669-49D4-88D4-6B1F8C6A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C73-69B4-4D0E-BD76-F5CAC629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7360" y="595440"/>
          <a:ext cx="782928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595440"/>
                    <a:ext cx="7829280" cy="56671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68880" y="2697120"/>
            <a:ext cx="608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ли занят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репление правильного произношения звука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 и синтез звуковых сочетаний: ИА, АИ, УИ, И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тие фонематических проце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деление звука И в начал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фонематического анализа и синтеза по теме «Звук 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829640" cy="5667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3800" y="27075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з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29640" cy="566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65800" y="270756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29280" cy="566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9440" y="2564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8296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57360" y="595440"/>
          <a:ext cx="782928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595440"/>
                    <a:ext cx="782928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4320" y="83592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тикуляционная гимнастика для гу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29280" cy="5667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04720" y="119628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хочет сказать клоу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29640" cy="5667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0000" y="8366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хочет сказать осл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657360" y="595440"/>
          <a:ext cx="782928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595440"/>
                    <a:ext cx="782928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692360" y="692280"/>
          <a:ext cx="5244840" cy="53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692280"/>
                    <a:ext cx="52448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62728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29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29640" cy="5667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61440" y="61992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ИИ – плачет девочк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29640" cy="566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32000" y="83592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ИИ – свистит чай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29280" cy="566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5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29640" cy="566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7640" y="620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1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11280" y="476280"/>
          <a:ext cx="7829280" cy="56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292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766520" y="1196280"/>
            <a:ext cx="56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ение  в словах первого гласного зв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19240" y="2063880"/>
          <a:ext cx="5105520" cy="27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19240" y="2063880"/>
                    <a:ext cx="510552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29280" cy="566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18320" y="32457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ИИр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21440" y="28519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р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09:12Z</dcterms:created>
  <dc:creator>Марина</dc:creator>
  <dc:description/>
  <dc:language>en-US</dc:language>
  <cp:lastModifiedBy>Марина</cp:lastModifiedBy>
  <dcterms:modified xsi:type="dcterms:W3CDTF">2013-03-10T14:45:37Z</dcterms:modified>
  <cp:revision>13</cp:revision>
  <dc:subject/>
  <dc:title>Слайд 1</dc:title>
</cp:coreProperties>
</file>