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AA2-EADD-41AF-B948-6AD1457D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361-FB21-481E-847F-9115363F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394-A9D9-4DA5-A4DA-9D6461CF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19C-3124-4D82-973C-C8601C9B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B40-C5CE-498C-B28F-C45B0193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E27-A978-4162-BB86-C7687D1B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15B-E5EF-453C-B358-773D54D1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AF0-43BE-4BFB-A961-3314CA47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316-F52F-4DF3-BC82-D4BAB50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62B-65BB-4C13-A36C-562B788E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CB8-02F6-427D-B751-21602203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5CA-3BBD-491F-897C-4BA2B927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3B71-78BF-461F-9FCD-61535354F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Scan0091"/>
          <p:cNvPicPr/>
          <p:nvPr/>
        </p:nvPicPr>
        <p:blipFill>
          <a:blip r:embed="rId2"/>
          <a:stretch/>
        </p:blipFill>
        <p:spPr>
          <a:xfrm>
            <a:off x="990720" y="1371600"/>
            <a:ext cx="760068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971640" y="476280"/>
            <a:ext cx="7632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и м в о л ы         м о е й      Р о д и н 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7" descr="1-79"/>
          <p:cNvPicPr/>
          <p:nvPr/>
        </p:nvPicPr>
        <p:blipFill>
          <a:blip r:embed="rId5"/>
          <a:stretch/>
        </p:blipFill>
        <p:spPr>
          <a:xfrm>
            <a:off x="304920" y="5105520"/>
            <a:ext cx="19810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0005-003-Gerb[1]"/>
          <p:cNvPicPr/>
          <p:nvPr/>
        </p:nvPicPr>
        <p:blipFill>
          <a:blip r:embed="rId2"/>
          <a:stretch/>
        </p:blipFill>
        <p:spPr>
          <a:xfrm>
            <a:off x="826920" y="1052640"/>
            <a:ext cx="4176720" cy="5256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5580000" y="500040"/>
            <a:ext cx="237672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р б 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 о с с и 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8"/>
          <a:stretch/>
        </p:blipFill>
        <p:spPr>
          <a:xfrm>
            <a:off x="5778360" y="3071880"/>
            <a:ext cx="294480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lagrf[1]"/>
          <p:cNvPicPr/>
          <p:nvPr/>
        </p:nvPicPr>
        <p:blipFill>
          <a:blip r:embed="rId2"/>
          <a:stretch/>
        </p:blipFill>
        <p:spPr>
          <a:xfrm>
            <a:off x="500040" y="2786040"/>
            <a:ext cx="5040360" cy="3422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8"/>
          <p:cNvSpPr txBox="1"/>
          <p:nvPr/>
        </p:nvSpPr>
        <p:spPr>
          <a:xfrm>
            <a:off x="1619280" y="907920"/>
            <a:ext cx="5761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 л а г    Р о с с и 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Прямоугольник 8" descr=""/>
          <p:cNvPicPr/>
          <p:nvPr/>
        </p:nvPicPr>
        <p:blipFill>
          <a:blip r:embed="rId5"/>
          <a:stretch/>
        </p:blipFill>
        <p:spPr>
          <a:xfrm>
            <a:off x="5851440" y="2932200"/>
            <a:ext cx="3024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1619280" y="404640"/>
            <a:ext cx="60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и м н     Р о с с и 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800280" y="2786040"/>
            <a:ext cx="70848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ссия -священная наша держава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ссия - любимая наша стран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гучая воля, великая слава 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вое достоянье на все времен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500040" y="4857840"/>
            <a:ext cx="8163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авься, отечество, наше свободно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ратских народов союз веков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ками данная мудрость народна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авься, страна! Мы гордимся тобо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3" name="Гимн России.mp3" descr=""/>
          <p:cNvPicPr/>
          <p:nvPr/>
        </p:nvPicPr>
        <p:blipFill>
          <a:blip r:embed="rId4"/>
          <a:stretch/>
        </p:blipFill>
        <p:spPr>
          <a:xfrm>
            <a:off x="8532720" y="603900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4" name="WordArt 11"/>
          <p:cNvSpPr txBox="1"/>
          <p:nvPr/>
        </p:nvSpPr>
        <p:spPr>
          <a:xfrm>
            <a:off x="250920" y="1413000"/>
            <a:ext cx="856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з. А.Александрова   сл.  С.Михалк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5" name="Прямоугольник 11" descr=""/>
          <p:cNvPicPr/>
          <p:nvPr/>
        </p:nvPicPr>
        <p:blipFill>
          <a:blip r:embed="rId5"/>
          <a:stretch/>
        </p:blipFill>
        <p:spPr>
          <a:xfrm>
            <a:off x="2279520" y="1895400"/>
            <a:ext cx="458496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46:13Z</dcterms:created>
  <dc:creator>1</dc:creator>
  <dc:description/>
  <dc:language>en-US</dc:language>
  <cp:lastModifiedBy>м</cp:lastModifiedBy>
  <dcterms:modified xsi:type="dcterms:W3CDTF">2013-01-30T15:43:10Z</dcterms:modified>
  <cp:revision>16</cp:revision>
  <dc:subject/>
  <dc:title>Слайд 1</dc:title>
</cp:coreProperties>
</file>