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412-12AB-4668-81E6-603ABCB2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7F9-C862-49C7-A905-DC422BC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64E-CDEA-4547-B584-5D9CF132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43-A94D-4EE7-9B34-271C6A02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F5E-B3C2-4A7E-92F3-BABA77C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69B-48C2-4983-92C8-ED07EE98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BDB-DEC5-4DC6-AF67-19E97A7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123-EF02-4732-BB58-C653E27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4FC-937A-43B5-92D1-A616E97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7B3-A26C-4363-A214-B061232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A73-008C-4B90-B6DC-AD6C59A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795-71E2-486C-8CD0-47E8DD9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575-BB19-4383-AAC9-495D73B4A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-79"/>
          <p:cNvPicPr/>
          <p:nvPr/>
        </p:nvPicPr>
        <p:blipFill>
          <a:blip r:embed="rId2"/>
          <a:stretch/>
        </p:blipFill>
        <p:spPr>
          <a:xfrm>
            <a:off x="304920" y="5105520"/>
            <a:ext cx="1981080" cy="141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28d1f59b86f3"/>
          <p:cNvPicPr/>
          <p:nvPr/>
        </p:nvPicPr>
        <p:blipFill>
          <a:blip r:embed="rId3"/>
          <a:stretch/>
        </p:blipFill>
        <p:spPr>
          <a:xfrm>
            <a:off x="2428920" y="2357280"/>
            <a:ext cx="4643280" cy="40719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428760" y="1429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ит Алена - платок зеленый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нкий стан, зеленый сарафан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0005-003-Gerb[1]"/>
          <p:cNvPicPr/>
          <p:nvPr/>
        </p:nvPicPr>
        <p:blipFill>
          <a:blip r:embed="rId1"/>
          <a:stretch/>
        </p:blipFill>
        <p:spPr>
          <a:xfrm>
            <a:off x="826920" y="105264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5580000" y="500040"/>
            <a:ext cx="23767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р б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7"/>
          <a:stretch/>
        </p:blipFill>
        <p:spPr>
          <a:xfrm>
            <a:off x="5778360" y="3071880"/>
            <a:ext cx="2944800" cy="68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Рисунок1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77cfdff87837089f94c051866a9f560a"/>
          <p:cNvPicPr/>
          <p:nvPr/>
        </p:nvPicPr>
        <p:blipFill>
          <a:blip r:embed="rId9"/>
          <a:stretch/>
        </p:blipFill>
        <p:spPr>
          <a:xfrm>
            <a:off x="142920" y="2428920"/>
            <a:ext cx="5143320" cy="428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214200" y="1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в поле кудряш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ая рубаш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дечко золот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3189927"/>
          <p:cNvPicPr/>
          <p:nvPr/>
        </p:nvPicPr>
        <p:blipFill>
          <a:blip r:embed="rId2"/>
          <a:stretch/>
        </p:blipFill>
        <p:spPr>
          <a:xfrm>
            <a:off x="142920" y="2928960"/>
            <a:ext cx="5072040" cy="3786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214200" y="399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ом разные подруж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хожи друг на друж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ни сидят друг в друж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 всего одна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5c1a6c3b16f5df68c534f3767240abcb"/>
          <p:cNvPicPr/>
          <p:nvPr/>
        </p:nvPicPr>
        <p:blipFill>
          <a:blip r:embed="rId2"/>
          <a:stretch/>
        </p:blipFill>
        <p:spPr>
          <a:xfrm>
            <a:off x="142920" y="2643120"/>
            <a:ext cx="5000760" cy="4079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14200" y="214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ова об шапку – бом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на всю округу – гр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46:13Z</dcterms:created>
  <dc:creator>1</dc:creator>
  <dc:description/>
  <dc:language>en-US</dc:language>
  <cp:lastModifiedBy>м</cp:lastModifiedBy>
  <dcterms:modified xsi:type="dcterms:W3CDTF">2013-02-02T06:12:57Z</dcterms:modified>
  <cp:revision>21</cp:revision>
  <dc:subject/>
  <dc:title>Слайд 1</dc:title>
</cp:coreProperties>
</file>