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B87-3BC3-4FB9-A6A1-486F0A82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E93-7B6B-48C8-B608-66641CF5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95C-4950-4EBC-A9B2-E58E8E61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01F-0F2F-4496-BF43-D9E76CF7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8F2-8668-409C-A4C7-66955CB8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404-E055-4BB7-9083-95B9CFCA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D6B-D7C2-4863-8EE9-14612499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782-DF63-4FB1-ACB4-2D27C02E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C4F-F47C-40F3-9C7B-FF490C7A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648-6B0D-4A40-B288-B8D4C58F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3CD-FE4C-4456-87A4-697E85C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4F3-B12F-4AA8-9FF0-389B9A5D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4032-6AFE-4D48-BB02-AE7205193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-79"/>
          <p:cNvPicPr/>
          <p:nvPr/>
        </p:nvPicPr>
        <p:blipFill>
          <a:blip r:embed="rId2"/>
          <a:stretch/>
        </p:blipFill>
        <p:spPr>
          <a:xfrm>
            <a:off x="304920" y="5105520"/>
            <a:ext cx="1981080" cy="141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28d1f59b86f3"/>
          <p:cNvPicPr/>
          <p:nvPr/>
        </p:nvPicPr>
        <p:blipFill>
          <a:blip r:embed="rId3"/>
          <a:stretch/>
        </p:blipFill>
        <p:spPr>
          <a:xfrm>
            <a:off x="2428920" y="2357280"/>
            <a:ext cx="4643280" cy="40719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428760" y="14292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ит Алена - платок зеленый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нкий стан, зеленый сарафан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0005-003-Gerb[1]"/>
          <p:cNvPicPr/>
          <p:nvPr/>
        </p:nvPicPr>
        <p:blipFill>
          <a:blip r:embed="rId1"/>
          <a:stretch/>
        </p:blipFill>
        <p:spPr>
          <a:xfrm>
            <a:off x="826920" y="1052640"/>
            <a:ext cx="4176720" cy="5256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5580000" y="500040"/>
            <a:ext cx="237672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р б 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 о с с и 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7"/>
          <a:stretch/>
        </p:blipFill>
        <p:spPr>
          <a:xfrm>
            <a:off x="5778360" y="3071880"/>
            <a:ext cx="2944800" cy="68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Рисунок1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77cfdff87837089f94c051866a9f560a"/>
          <p:cNvPicPr/>
          <p:nvPr/>
        </p:nvPicPr>
        <p:blipFill>
          <a:blip r:embed="rId9"/>
          <a:stretch/>
        </p:blipFill>
        <p:spPr>
          <a:xfrm>
            <a:off x="142920" y="2428920"/>
            <a:ext cx="5143320" cy="4286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214200" y="1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в поле кудряшк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ая рубаш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дечко золот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3189927"/>
          <p:cNvPicPr/>
          <p:nvPr/>
        </p:nvPicPr>
        <p:blipFill>
          <a:blip r:embed="rId2"/>
          <a:stretch/>
        </p:blipFill>
        <p:spPr>
          <a:xfrm>
            <a:off x="142920" y="2928960"/>
            <a:ext cx="5072040" cy="37861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214200" y="399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ом разные подруж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охожи друг на друж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ни сидят друг в друж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 всего одна игр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5c1a6c3b16f5df68c534f3767240abcb"/>
          <p:cNvPicPr/>
          <p:nvPr/>
        </p:nvPicPr>
        <p:blipFill>
          <a:blip r:embed="rId2"/>
          <a:stretch/>
        </p:blipFill>
        <p:spPr>
          <a:xfrm>
            <a:off x="142920" y="2643120"/>
            <a:ext cx="5000760" cy="40798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214200" y="2142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ова об шапку – бом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на всю округу – гр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46:13Z</dcterms:created>
  <dc:creator>1</dc:creator>
  <dc:description/>
  <dc:language>en-US</dc:language>
  <cp:lastModifiedBy>м</cp:lastModifiedBy>
  <dcterms:modified xsi:type="dcterms:W3CDTF">2013-02-02T06:12:57Z</dcterms:modified>
  <cp:revision>21</cp:revision>
  <dc:subject/>
  <dc:title>Слайд 1</dc:title>
</cp:coreProperties>
</file>