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10FF-B7B1-473F-9236-3AFCEEA6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BF7A-C646-4B81-A965-24C1A85B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8713-C524-4A1F-9D99-7E6D63FB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87FF-E315-4D03-B06A-E36A1448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4D78-9F36-4AC1-820E-0D444DC6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DD1B-67C8-46DE-B460-1F234C6C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617A-5845-4537-A677-E5A091FE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F704-3B3D-4C85-B7CF-8B3CC0A9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0C96-DB75-4B45-A388-EEBAC839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3614-7D13-4E2A-9669-550870F3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A76B-848E-4B7F-BA22-A3BB8F8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35BB-2D25-4E90-9B2E-E66DCE71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ADA6-E1EE-4A39-B3AE-AA1CF821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EC05-A386-40BC-939A-328AA6D5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7D2A-875F-42D2-B40E-3107435D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6D3D-7B2E-4554-94CF-5FCF9E9E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76A7-7750-49DC-8C95-6464BA98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EDC8-AB1A-49EF-9A34-EA664B0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3BB7-A9D8-47EC-827F-5B805485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1C71-2BB2-467E-AA29-E98BE50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2304-04FD-494A-9C38-DE441557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749A-E8AC-4FA3-8DE1-0D01D1A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1670-9CDC-4BE8-BB84-E3DCF2A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1E29-7B05-4957-86B4-F63F8C9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51A2-A722-4916-964F-D0683E875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6AE6-72EB-4E1C-BD74-C54105E341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Нравственный смысл повести В.Г.Распутина «Живи и помни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собенности композиции пове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Отсутствие строгой хронологической последовательности повеств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Использование ретроспекции (РЕТРОСПЕКЦИЯ – экскурс в прошлое героя), позволяющей высветить в прошлом мотивы, истоки поведения героев, психологически убедительно выстроить финал пов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равственный выб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7620120" cy="358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54217" t="-1984" r="0" b="0"/>
          <a:stretch/>
        </p:blipFill>
        <p:spPr>
          <a:xfrm>
            <a:off x="152280" y="990720"/>
            <a:ext cx="3314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о как, как ты насмелился? Это непросто. Как у тебя духу хватил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Дышать нечем было – до того захотелось вас увидеть. Оттуда, с фронта, конечно, не побежал бы… Тут показалось вроде рядом.  А где ж рядом? Ехал, ехал… до части скорей доехать. Я ж не с целью побежал. Потом вижу: куда ж ворочаться? На смерть. Лучше здесь помереть. Что теперь говорить! Свинья грязи найд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2859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ушевное омертвление Гусько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205160" cy="31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-1361" t="0" r="0" b="12331"/>
          <a:stretch/>
        </p:blipFill>
        <p:spPr>
          <a:xfrm>
            <a:off x="6324480" y="3606840"/>
            <a:ext cx="2819520" cy="3251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rcRect l="27533" t="0" r="0" b="0"/>
          <a:stretch/>
        </p:blipFill>
        <p:spPr>
          <a:xfrm>
            <a:off x="3124080" y="2590920"/>
            <a:ext cx="42195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 муж ли? Не оборотень ли это с ней бы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228600" y="152280"/>
            <a:ext cx="7391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я судьба известная, нечего теперь о ней хлопотать. Я шел и думал: приду, погляжу на Настену, попрошу прощенья, что сломал ей жизнь, что гнул без нужды да изгалялся, когда можно было жить…Придет пора, я сгину. Но потерп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79132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аз ты там виноват, то и я с тобой виноватая. Вместе будем отвеч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48320" y="-36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сте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5071" t="0" r="21921" b="0"/>
          <a:stretch/>
        </p:blipFill>
        <p:spPr>
          <a:xfrm>
            <a:off x="0" y="0"/>
            <a:ext cx="4632480" cy="4876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2451240"/>
            <a:ext cx="58672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мест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754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следний срок Насте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следний срок Насте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чности в литератур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14600" y="1371240"/>
            <a:ext cx="6400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ередине семидесятых годов в нашей стране произошел тихий переворот – группа писателей стала работать так, будто никакого соцреализма не существовало. Их стали называть деревенщиками, а правильнее было бы – нравственниками. Первый из них – Валентин Распути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.И.Солженицы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следний срок Насте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И грех родительский достанется ему, суровый, истошный грех, - куда с ним деваться?! И не простит, проклянет он их – поделом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0668" t="-3198" r="16801" b="11603"/>
          <a:stretch/>
        </p:blipFill>
        <p:spPr>
          <a:xfrm>
            <a:off x="1295280" y="1533600"/>
            <a:ext cx="632484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ыдно…почему так истошно стыдно и перед Андреем, и перед людьми, и перед собой! Где набрала она вины для такого стыда?... сладко жить, страшно жить, стыдно жи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2485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864" b="25799"/>
          <a:stretch/>
        </p:blipFill>
        <p:spPr>
          <a:xfrm>
            <a:off x="4800600" y="1981080"/>
            <a:ext cx="4343400" cy="4876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Живи и пом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7332" r="0" b="47339"/>
          <a:stretch/>
        </p:blipFill>
        <p:spPr>
          <a:xfrm>
            <a:off x="533520" y="914400"/>
            <a:ext cx="8153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рнист путь человека, противопоставившего себя людям, вставшего на путь предатель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дьба человека неотделима от общенародной судьб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ответственен за свои поступки, за свой выб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049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ЖИВИ И ПОМ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 презентации – Малолеева Татьяна Алексеевна, учитель МОУ Дивеевская средняя общеобразовательная 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ши цен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7760" y="106668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ервое богатство и состояние человека – в этом ларце, который им самим и строится , и наполняется. Только владея им, и одушевляемся мы, он затепляет нас и озаряет, дает свет видеть дальше глаз. Присмотритесь внимательнее  вокруг – и вы отличите «озаренных» от тусклоликих и близоруких, ничем, кроме физических желаний, не помеченных. А отличив, увидев, и вы тем самым начнете строительство некоего храма, или ларца, как угодно его назовите, который поможет вам в век распродажи быть созидате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.Распутин. «Спустя сроки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1734" t="-5806" r="0" b="0"/>
          <a:stretch/>
        </p:blipFill>
        <p:spPr>
          <a:xfrm>
            <a:off x="304920" y="1295280"/>
            <a:ext cx="28828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з жизни нашего современника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791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37 г. - в селе Усть-Уда Иркутской области родился Валентин Григорьевич Распут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59 г. – окончание историко-филологического факультета Иркутского универс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64 г. – работа внештатным корреспондентом в областной молодежной газете, затем на телевиден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61 г. – первые публикации рассказ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ворче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Костровые новых городов»(196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Край возле самого неба»(196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Деньги для Марии»(196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Последний срок»(197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Уроки французского»(197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Прощание с Матерой»(197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Живи и помни»(197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Прощание с Матерой»(197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Век живи – век люби»(198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Пожар»(198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3807" b="39399"/>
          <a:stretch/>
        </p:blipFill>
        <p:spPr>
          <a:xfrm>
            <a:off x="5486400" y="2057400"/>
            <a:ext cx="33526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гра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38862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0 год – В.Распутин награжден премией А.И.Солженицына «За пронзительность выражения поэзии и трагедии русской жизни в сращенности с русской природой и речью, душевность и целомудрие в воскрешении добрых начал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2921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29444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тика повести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«Живи и помни»(1977 год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Проблема нравственного выб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Проблема ответственности за свои поступ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Проблема ответственности за судьбу близкого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Проблема долга, соотношения личного и общественн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Проблема нравственных ценносте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. Проблема памя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сновной конфликт пове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сость                                Дол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Жестокость                           Сове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дивидуализм                     Нравств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ательство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8750" t="-3779" r="0" b="0"/>
          <a:stretch/>
        </p:blipFill>
        <p:spPr>
          <a:xfrm>
            <a:off x="304920" y="4191120"/>
            <a:ext cx="3504960" cy="2468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19200" t="0" r="0" b="0"/>
          <a:stretch/>
        </p:blipFill>
        <p:spPr>
          <a:xfrm>
            <a:off x="4952880" y="3352680"/>
            <a:ext cx="3848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4-28T19:04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