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530A-65C2-4C2D-9186-C2E5CE3E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F272-1FB1-427D-8379-CBFA2786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F5C8-9275-4BAB-8118-7E9FC173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FDBD-9657-414F-B636-E15BDE79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CEDA-F93B-4263-82CC-B9350203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336-C347-4A86-AD29-1B71556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343A-BC41-47FE-9A6B-29529496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2494-93A0-4CD3-9E74-34A90E5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3AF-9E10-4262-816D-7AF6D291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1657-A757-499B-9004-C1D0536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9816-8A84-409B-A36A-A344DDB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8015-CE06-411A-859B-6B54F8F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2257-7339-440E-A981-83A0443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CB0D-C112-410B-A9DA-4C8247B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718-A00B-40AC-8953-A13DBD5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6B8B-6CAF-4DDA-A099-A5847B96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F04E-27BF-428B-8426-08E2732C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6AC9-9E2F-4CA3-ABA6-5CAA920E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BA75-1AF4-429B-82B3-06BEA5D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B01E-2A22-42C0-8947-41F89F6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911D-3CAE-49BD-8E7D-92966216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EAA5-7857-4B63-A3B9-06399DE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0D9C-4FCE-4069-8144-9F36E78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539B-175F-4FA0-A494-65CFAF5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0AF-8C58-4FBF-9334-E417E6B3BC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246-68D0-4BA8-B4A9-9712D6F0A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Нравственный смысл повести В.Г.Распутина «Живи и помни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собенности композиции пове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Отсутствие строгой хронологической последовательности повеств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Использование ретроспекции (РЕТРОСПЕКЦИЯ – экскурс в прошлое героя), позволяющей высветить в прошлом мотивы, истоки поведения героев, психологически убедительно выстроить финал пов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равственный выб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54217" t="-1984" r="0" b="0"/>
          <a:stretch/>
        </p:blipFill>
        <p:spPr>
          <a:xfrm>
            <a:off x="152280" y="990720"/>
            <a:ext cx="3314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о как, как ты насмелился? Это непросто. Как у тебя духу хватил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Дышать нечем было – до того захотелось вас увидеть. Оттуда, с фронта, конечно, не побежал бы… Тут показалось вроде рядом.  А где ж рядом? Ехал, ехал… до части скорей доехать. Я ж не с целью побежал. Потом вижу: куда ж ворочаться? На смерть. Лучше здесь помереть. Что теперь говорить! Свинья грязи найд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2859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ушевное омертвление Гусько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5160" cy="31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-1361" t="0" r="0" b="12331"/>
          <a:stretch/>
        </p:blipFill>
        <p:spPr>
          <a:xfrm>
            <a:off x="6324480" y="3606840"/>
            <a:ext cx="2819520" cy="3251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27533" t="0" r="0" b="0"/>
          <a:stretch/>
        </p:blipFill>
        <p:spPr>
          <a:xfrm>
            <a:off x="3124080" y="2590920"/>
            <a:ext cx="4219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 муж ли? Не оборотень ли это с ней бы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228600" y="1522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я судьба известная, нечего теперь о ней хлопотать. Я шел и думал: приду, погляжу на Настену, попрошу прощенья, что сломал ей жизнь, что гнул без нужды да изгалялся, когда можно было жить…Придет пора, я сгину. Но потерп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79132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з ты там виноват, то и я с тобой виноватая. Вместе будем отвеч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ст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5071" t="0" r="21921" b="0"/>
          <a:stretch/>
        </p:blipFill>
        <p:spPr>
          <a:xfrm>
            <a:off x="0" y="0"/>
            <a:ext cx="4632480" cy="487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451240"/>
            <a:ext cx="58672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мест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754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ичности в литератур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1371240"/>
            <a:ext cx="6400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редине семидесятых годов в нашей стране произошел тихий переворот – группа писателей стала работать так, будто никакого соцреализма не существовало. Их стали называть деревенщиками, а правильнее было бы – нравственниками. Первый из них – Валентин Распути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И.Солженицы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следний срок Наст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И грех родительский достанется ему, суровый, истошный грех, - куда с ним деваться?! И не простит, проклянет он их – поделом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0668" t="-3198" r="16801" b="11603"/>
          <a:stretch/>
        </p:blipFill>
        <p:spPr>
          <a:xfrm>
            <a:off x="1295280" y="1533600"/>
            <a:ext cx="63248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ыдно…почему так истошно стыдно и перед Андреем, и перед людьми, и перед собой! Где набрала она вины для такого стыда?... сладко жить, страшно жить, стыдно жи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248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864" b="25799"/>
          <a:stretch/>
        </p:blipFill>
        <p:spPr>
          <a:xfrm>
            <a:off x="4800600" y="1981080"/>
            <a:ext cx="4343400" cy="4876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Живи и пом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7332" r="0" b="47339"/>
          <a:stretch/>
        </p:blipFill>
        <p:spPr>
          <a:xfrm>
            <a:off x="533520" y="914400"/>
            <a:ext cx="8153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рнист путь человека, противопоставившего себя людям, вставшего на путь предатель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дьба человека неотделима от общенародной судьб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ответственен за свои поступки, за свой выб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ЖИВИ И ПОМ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 презентации – Малолеева Татьяна Алексеевна, учитель МОУ Дивеевская средняя общеобразовательная шк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ши ц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7760" y="10666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рвое богатство и состояние человека – в этом ларце, который им самим и строится , и наполняется. Только владея им, и одушевляемся мы, он затепляет нас и озаряет, дает свет видеть дальше глаз. Присмотритесь внимательнее  вокруг – и вы отличите «озаренных» от тусклоликих и близоруких, ничем, кроме физических желаний, не помеченных. А отличив, увидев, и вы тем самым начнете строительство некоего храма, или ларца, как угодно его назовите, который поможет вам в век распродажи быть созидате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Распутин. «Спустя сроки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1734" t="-5806" r="0" b="0"/>
          <a:stretch/>
        </p:blipFill>
        <p:spPr>
          <a:xfrm>
            <a:off x="304920" y="1295280"/>
            <a:ext cx="28828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з жизни нашего современника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791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37 г. - в селе Усть-Уда Иркутской области родился Валентин Григорьевич Распут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59 г. – окончание историко-филологического факультета Иркутского университ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64 г. – работа внештатным корреспондентом в областной молодежной газете, затем на телевиде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61 г. – первые публикации рассказ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ворче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Костровые новых городов»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Край возле самого неба»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Деньги для Марии»(196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оследний срок»(197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Уроки французского»(197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рощание с Матерой»(19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Живи и помни»(197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рощание с Матерой»(197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Век живи – век люби»(198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Пожар»(198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3807" b="39399"/>
          <a:stretch/>
        </p:blipFill>
        <p:spPr>
          <a:xfrm>
            <a:off x="5486400" y="2057400"/>
            <a:ext cx="33526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гра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8862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0 год – В.Распутин награжден премией А.И.Солженицына «За пронзительность выражения поэзии и трагедии русской жизни в сращенности с русской природой и речью, душевность и целомудрие в воскрешении добрых начал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2921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9444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блематика повест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«Живи и помни»(1977 год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Проблема нравственного выб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Проблема ответственности за свои поступ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Проблема ответственности за судьбу близкого чело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Проблема долга, соотношения личного и общественн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Проблема нравственных ценност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. Проблема памя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ой конфликт пове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сость                                Дол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естокость                           Сове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дивидуализм                     Нравств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ательство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750" t="-3779" r="0" b="0"/>
          <a:stretch/>
        </p:blipFill>
        <p:spPr>
          <a:xfrm>
            <a:off x="304920" y="4191120"/>
            <a:ext cx="3504960" cy="246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9200" t="0" r="0" b="0"/>
          <a:stretch/>
        </p:blipFill>
        <p:spPr>
          <a:xfrm>
            <a:off x="4952880" y="3352680"/>
            <a:ext cx="3848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28T19:04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