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4231-9757-4D07-8352-76003B1F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1A44-EE29-4527-A669-6CF9005A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D88-649E-4654-B96A-D2A1414F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4A1F-6C01-4CB2-9466-4D0E6896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A653-8151-4C4A-ABA6-7383C248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CBE7-F390-43B4-813A-744F1E69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76EE-1524-4394-9C75-3E3535A2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F9FD-65D7-469D-85E8-46D37748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6033-BF5B-4280-9558-1C332CD9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870A-D856-4FB4-9D77-6F2A356C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3137-21F5-4594-A0EF-172C00C6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5F9-3D3F-4543-89E1-036F9B5B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1243-B5DB-450B-83BF-B015509F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F8F6-B1CD-4ED3-9B2A-2972D56E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4CA2-0413-4168-B064-6F6E7BA9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07AC-9606-4390-BEA1-F2536038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D44A-7E68-4FDE-B118-36B5AB95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0153-C395-42C9-9845-4A38818C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64BA-268F-4A10-B2ED-ED493164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F550-C470-469B-9012-1C7F02F7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54D3-8518-4812-8844-930E8160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D20-D0C3-48FB-B0C5-F49A7668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B034-A61C-491A-BA56-94030779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573D-BD2C-4EA6-A7F7-C1298EE8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A48D-9823-49B8-905B-D008A7DD62A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571B-BCBB-4E43-BFD5-F8FDFE3170E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1197000"/>
            <a:ext cx="67644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Arial Black"/>
              </a:rPr>
              <a:t>РАЗМИНКА В БАСКЕТБОЛ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771640" y="2997360"/>
            <a:ext cx="4135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 Black"/>
              </a:rPr>
              <a:t>Групповые упражнения в движ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0" y="189000"/>
            <a:ext cx="4969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"/>
              </a:rPr>
              <a:t>              </a:t>
            </a:r>
            <a:r>
              <a:rPr b="1" i="1" lang="en-US" sz="1200" spc="-1" strike="noStrike">
                <a:solidFill>
                  <a:srgbClr val="0000ff"/>
                </a:solidFill>
                <a:latin typeface="Arial Black"/>
              </a:rPr>
              <a:t>Муниципальное образовательное учрежд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Arial Black"/>
              </a:rPr>
              <a:t>Средняя общеобразовательная школа </a:t>
            </a:r>
            <a:r>
              <a:rPr b="1" i="1" lang="en-US" sz="1400" spc="-1" strike="noStrike">
                <a:solidFill>
                  <a:srgbClr val="0000ff"/>
                </a:solidFill>
                <a:latin typeface="Arial Black"/>
              </a:rPr>
              <a:t>№</a:t>
            </a:r>
            <a:r>
              <a:rPr b="1" i="1" lang="en-US" sz="1800" spc="-1" strike="noStrike">
                <a:solidFill>
                  <a:srgbClr val="0000ff"/>
                </a:solidFill>
                <a:latin typeface="Arial Black"/>
              </a:rPr>
              <a:t>3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Arial Black"/>
              </a:rPr>
              <a:t>город Перм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92720" y="5157720"/>
            <a:ext cx="295128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 Black"/>
              </a:rPr>
              <a:t>Учитель физической культур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 Black"/>
              </a:rPr>
              <a:t>Якупов Наиль Гамирови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Групповые упражнения разминки в движении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Любая разминка начинается с упражнений на разогревани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Обычно игроки моих команд выстраиваются за капитаном и следуя за ним, выполняют беговую разминку с использованием беговых  и прыжковых упражнений, с изменением направления и скорости, двигаются в защитной позиции с изменением направления и с остановк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Далее они выполняют индивидуальную разминку с использованием упражнений статического растягивания и упражнений для разогревания пальцев, кистей рук, локтевых и плечевых сустав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Далее (если есть возможность) следуют индивидуальные разминочные  упражнения с баскетбольным мяч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Продолжается разминка групповыми упражнениями в движен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В этом блоке мы остановимся  на упражнениях, которые используют мои команды перед играми и тренировк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Рассмотрим некоторые из них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Упражнение «Перекрёсток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244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гроки располагаются в четыре колонны по углам своей половины площадки. Мячи находятся у первых игроков двух противоположных колон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пражнение одновременно начинают первые игроки колонн, не владеющих мячом. Они, двигаясь навстречу друг к другу, расходятся левыми плечами. Получая мяч с правой стороны, игроки передают его в колонну напротив по ходу движения. После передачи двигаются в конец колонны напроти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ак только передача выполнена, по обоюдной команде начинают движение игроки из колонн изначально владевших мяч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пражнение выполняется непрерывно, используются разные типы переда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 сигналу игроки меняют сторону приёма первой передачи (расходятся правыми плечам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716360" y="1486080"/>
            <a:ext cx="2035440" cy="2035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877080" y="2781360"/>
            <a:ext cx="2044800" cy="20271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716360" y="4076640"/>
            <a:ext cx="207324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Упражнение «Ручеёк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7960" y="1196640"/>
            <a:ext cx="4244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гроки располагаются в две колонн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первая с мячами у центральной лини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вторая у боковой линии штрафной площад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гроки первой колонны поочерёдно выполняют ведение с последующей атакой кольца. При этом броски могут выполняться с использованием обманных движений и разворотов, как с прохода, так с останов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гроки второй колонны поочерёдно, одновременно с атакующими игроками заходят в штрафную площадку для подбора мяча с последующей передачей свободному игроку первой колонны. При этом передачи могут быть прямыми, навесными, скрытыми, как выходящему навстречу игроку, так и находящемуся в статическом положен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 дальнейшем игроки занимают позиции в другой колон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221200" cy="2185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556000" y="2781360"/>
            <a:ext cx="2187360" cy="2187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250920" y="4221000"/>
            <a:ext cx="2217600" cy="22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Упражнение </a:t>
            </a:r>
            <a:br>
              <a:rPr sz="4000"/>
            </a:b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«Две колонны - через пас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464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гроки располагаются в дух колоннах у центральной линии. Мячи находятся в одной из колон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 сигналу игрока, владеющего мячом, игрок противоположной колонны начинает движение в сторону кольца. Получив пас, выполняет обратную передачу выходящему к кольцу партнёру. После этого двигается на подбор, добивает мяч, если он не забит, выводит его в угол площадки и отдаёт передачу в колонну на стороне мяча. После этого движется зигзагом спиной вперёд в позиции защитни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грок, начавший упражнение, после выполнения атаки кольца выбегает в противоположный угол, где также движется зигзагом спиной вперёд в позиции защитника в другую колонн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сле ряда повторов сторона мяча меняе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2160360" cy="2186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156360" y="3933720"/>
            <a:ext cx="2160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Упражнение «Два угла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787640" y="1412640"/>
            <a:ext cx="38163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гроки располагаются в двух колоннах в углах у лицевой линии. В каждой из колонн по мячу. В одной колонне мяч у первого игрока, в другой в второг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пражнение начинает игрок без мяча. Выбегая с внешней стороны трёхочковой линии, подаёт сигнал игроку, владеющему мячом из противоположной колонны (поднятая рука, названное имя). Получает передачу и атакует кольцо. Сам выполняет подбор, отдаёт пас в колонну, откуда получил передачу и движется вслед за мяч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грок, начавший задание с передачи выполняет те же действия, что и игрок, начавший упражне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028600" cy="20131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411280" y="2781360"/>
            <a:ext cx="2040120" cy="2008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50920" y="4437000"/>
            <a:ext cx="200160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Упражнение </a:t>
            </a:r>
            <a:br>
              <a:rPr sz="4000"/>
            </a:b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«Восьмёрка из двух углов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75272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пражнение выполняется в тройках. Два игрока (первый из них с мячом) располагаются одном углу у лицевой линии. Третий игрок в углу напроти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пражнение начинают игроки одновременно с двух сторон. Игрок №1, выполнив ведение с внешней стороны трёхочковой линии, отдаёт передачу игроку напротив (№3), продолжает движение по дуге и забегает в штрафную зон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грок №3, получив мяч, отдаёт его игроку №2, который следует на определённом расстоянии за игроком №1. Далее он продолжает движение по дуге, забегает в штрафную зону и занимает позицию в «треугольнике» подбо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грок №2, получив мяч от игрока №3, передаёт его игроку №1, который атакует кольцо. Сам игрок №2 занимает вершину «треугольника» подбо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Если мяч не забит с первого «предъявления», игроки, заняв вершины «треугольника» подбора, выполняют добивани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2203200" cy="2186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2222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Упражнение </a:t>
            </a:r>
            <a:br>
              <a:rPr sz="3200"/>
            </a:b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«Восьмёрка из двух углов» (2+1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211280" y="1557360"/>
            <a:ext cx="439884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Является вариантом предыдущего упражн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пражнение выполняется в тройках. Два игрока (первый из них с мячом) располагаются одном углу у лицевой линии. Третий игрок в углу напроти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пражнение начинают игроки одновременно с двух сторон. Игрок №1, выполнив ведение с внешней стороны трёхочковой линии, отдаёт передачу игроку напротив (№3), продолжает движение по дуге и забегает в штрафную зон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грок №3, получив мяч, отдаёт его игроку №2, который следует на определённом расстоянии за игроком №1. Далее он, двигаясь в штрафную зону, занимает позицию защитни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гроки №1 и №2 разыгрывают мяч до результативной атаки или до перехвата, или потери мяч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2220840" cy="2185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403280" y="3933720"/>
            <a:ext cx="22161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Arial"/>
              </a:rPr>
              <a:t>Упражнение </a:t>
            </a:r>
            <a:br>
              <a:rPr sz="3600"/>
            </a:br>
            <a:r>
              <a:rPr b="1" i="1" lang="en-US" sz="3600" spc="-1" strike="noStrike">
                <a:solidFill>
                  <a:srgbClr val="ccecff"/>
                </a:solidFill>
                <a:latin typeface="Arial"/>
              </a:rPr>
              <a:t>«Восьмёрка из двух углов» (3+2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Является вариантом упражнения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«Восьмёрка из двух углов»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с изначальной постановкой двух защитник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дин защитник смещается в сторону ближайшего игрока нападения, владеющего мячом, второй защитник смещается к центру, нацелившись на перехват. При передачах мяча игроки защиты могут меняться позиция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пражнение выполняется до результативной атаки или до потери мяча атакующи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051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4:07:00Z</dcterms:created>
  <dc:creator>Якупов</dc:creator>
  <dc:description/>
  <dc:language>en-US</dc:language>
  <cp:lastModifiedBy>Якупов</cp:lastModifiedBy>
  <dcterms:modified xsi:type="dcterms:W3CDTF">2013-03-10T13:12:58Z</dcterms:modified>
  <cp:revision>10</cp:revision>
  <dc:subject/>
  <dc:title>РАЗМИНКА В БАСКЕТБОЛЕ</dc:title>
</cp:coreProperties>
</file>