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B91-8994-475E-ACC9-BC811098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007-0C9F-473B-A51B-B545BEE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5C6-103C-475C-9D4D-1F3A6982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F27-960D-499D-B8AB-4629999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88A8-B79E-4B46-95E7-644A8236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AF1-6795-45D2-8186-0F04CED0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FC8-D87E-4958-BA4E-1225FEF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B0C-F6AC-444B-B899-2A09C5B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5B5-8EB0-4D5C-ADE1-84F87F3B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44D0-7CD0-4DAB-BC2F-75810BB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4CA-301A-4411-BCBA-08A14AA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D75-DB14-4469-ACB4-28EA342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2EA1-9E78-4CC7-B590-9F40AADA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C58-AA6F-4F71-A075-A438E3C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9DF-1159-4465-B65B-3E1C80E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503-9F05-435E-ABC9-5BDCA9A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654E-F77B-4733-8E34-1F4AF52E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7AA-2C14-4842-B948-E3ECC50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0DE-E448-4D8B-A27A-5610B064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7F4-4774-4BA7-9B77-6D761AD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2E5-BD57-46E4-A8A1-52ED89C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8ED-BF03-444B-A8B2-5BDC2BA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78C-9626-4C29-96B2-1E76624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AB8-9980-4A9D-B662-51A8E05C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A4A-38AF-49F6-B94D-3F59B3A2CD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6511-4FD1-48B4-AC3C-117D77B7E0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6764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 Black"/>
              </a:rPr>
              <a:t>РАЗМИНКА В БАСКЕТБО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71640" y="2997360"/>
            <a:ext cx="413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Групповые упражнения в дви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189000"/>
            <a:ext cx="496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"/>
              </a:rPr>
              <a:t>              </a:t>
            </a: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Средняя общеобразовательная школа </a:t>
            </a:r>
            <a:r>
              <a:rPr b="1" i="1" lang="en-US" sz="1400" spc="-1" strike="noStrike">
                <a:solidFill>
                  <a:srgbClr val="0000ff"/>
                </a:solidFill>
                <a:latin typeface="Arial Black"/>
              </a:rPr>
              <a:t>№</a:t>
            </a:r>
            <a:r>
              <a:rPr b="1" i="1" lang="en-US" sz="1800" spc="-1" strike="noStrike">
                <a:solidFill>
                  <a:srgbClr val="0000ff"/>
                </a:solidFill>
                <a:latin typeface="Arial Black"/>
              </a:rPr>
              <a:t>3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город Перм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92720" y="5157720"/>
            <a:ext cx="29512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 Black"/>
              </a:rPr>
              <a:t>Учитель физическ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 Black"/>
              </a:rPr>
              <a:t>Якупов Наиль Гами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Групповые упражнения разминки в движени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Любая разминка начинается с упражнений на разогрев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бычно игроки моих команд выстраиваются за капитаном и следуя за ним, выполняют беговую разминку с использованием беговых  и прыжковых упражнений, с изменением направления и скорости, двигаются в защитной позиции с изменением направления и с останов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Далее они выполняют индивидуальную разминку с использованием упражнений статического растягивания и упражнений для разогревания пальцев, кистей рук, локтевых и плечевых сустав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Далее (если есть возможность) следуют индивидуальные разминочные  упражнения с баскетбольным мяч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родолжается разминка групповыми упражнениями в движ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 этом блоке мы остановимся  на упражнениях, которые используют мои команды перед играми и трениров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Рассмотрим некоторые из ни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Упражнение «Перекрёсто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четыре колонны по углам своей половины площадки. Мячи находятся у первых игроков двух противоположных колон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одновременно начинают первые игроки колонн, не владеющих мячом. Они, двигаясь навстречу друг к другу, расходятся левыми плечами. Получая мяч с правой стороны, игроки передают его в колонну напротив по ходу движения. После передачи двигаются в конец колонны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только передача выполнена, по обоюдной команде начинают движение игроки из колонн изначально владевших мяч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непрерывно, используются разные типы переда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сигналу игроки меняют сторону приёма первой передачи (расходятся правыми плечам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16360" y="1486080"/>
            <a:ext cx="2035440" cy="2035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2044800" cy="2027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20732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Упражнение «Ручеё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119664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ве колонн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первая с мячами у центральной лини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вторая у боковой линии штрафной площад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первой колонны поочерёдно выполняют ведение с последующей атакой кольца. При этом броски могут выполняться с использованием обманных движений и разворотов, как с прохода, так с останов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второй колонны поочерёдно, одновременно с атакующими игроками заходят в штрафную площадку для подбора мяча с последующей передачей свободному игроку первой колонны. При этом передачи могут быть прямыми, навесными, скрытыми, как выходящему навстречу игроку, так и находящемуся в статическом полож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дальнейшем игроки занимают позиции в другой кол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221200" cy="218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0920" y="4221000"/>
            <a:ext cx="22176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«Две колонны - через пас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ух колоннах у центральной линии. Мячи находятся в одной из колон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сигналу игрока, владеющего мячом, игрок противоположной колонны начинает движение в сторону кольца. Получив пас, выполняет обратную передачу выходящему к кольцу партнёру. После этого двигается на подбор, добивает мяч, если он не забит, выводит его в угол площадки и отдаёт передачу в колонну на стороне мяча. После этого движется зигзагом спиной вперёд в позиции защит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, начавший упражнение, после выполнения атаки кольца выбегает в противоположный угол, где также движется зигзагом спиной вперёд в позиции защитника в другую колон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сле ряда повторов сторона мяча меня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160360" cy="2186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160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«Два угл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87640" y="1412640"/>
            <a:ext cx="381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вух колоннах в углах у лицевой линии. В каждой из колонн по мячу. В одной колонне мяч у первого игрока, в другой в второ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ет игрок без мяча. Выбегая с внешней стороны трёхочковой линии, подаёт сигнал игроку, владеющему мячом из противоположной колонны (поднятая рука, названное имя). Получает передачу и атакует кольцо. Сам выполняет подбор, отдаёт пас в колонну, откуда получил передачу и движется вслед за мяч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, начавший задание с передачи выполняет те же действия, что и игрок, начавший упраж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028600" cy="201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2040120" cy="200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50920" y="4437000"/>
            <a:ext cx="2001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«Восьмёрка из двух углов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7527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в тройках. Два игрока (первый из них с мячом) располагаются одном углу у лицевой линии. Третий игрок в углу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ют игроки одновременно с двух сторон. Игрок №1, выполнив ведение с внешней стороны трёхочковой линии, отдаёт передачу игроку напротив (№3), продолжает движение по дуге и забегает в штрафную з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3, получив мяч, отдаёт его игроку №2, который следует на определённом расстоянии за игроком №1. Далее он продолжает движение по дуге, забегает в штрафную зону и занимает позицию в «треугольнике» подб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2, получив мяч от игрока №3, передаёт его игроку №1, который атакует кольцо. Сам игрок №2 занимает вершину «треугольника» подб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мяч не забит с первого «предъявления», игроки, заняв вершины «треугольника» подбора, выполняют доби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203200" cy="2186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222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3200"/>
            </a:b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«Восьмёрка из двух углов» (2+1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3988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вляется вариантом предыдущего упраж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в тройках. Два игрока (первый из них с мячом) располагаются одном углу у лицевой линии. Третий игрок в углу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ют игроки одновременно с двух сторон. Игрок №1, выполнив ведение с внешней стороны трёхочковой линии, отдаёт передачу игроку напротив (№3), продолжает движение по дуге и забегает в штрафную з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3, получив мяч, отдаёт его игроку №2, который следует на определённом расстоянии за игроком №1. Далее он, двигаясь в штрафную зону, занимает позицию защит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№1 и №2 разыгрывают мяч до результативной атаки или до перехвата, или потери мя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22084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216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«Восьмёрка из двух углов» (3+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вляется вариантом упражнени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Восьмёрка из двух углов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с изначальной постановкой двух защит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дин защитник смещается в сторону ближайшего игрока нападения, владеющего мячом, второй защитник смещается к центру, нацелившись на перехват. При передачах мяча игроки защиты могут меняться позици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до результативной атаки или до потери мяча атакующи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4:07:00Z</dcterms:created>
  <dc:creator>Якупов</dc:creator>
  <dc:description/>
  <dc:language>en-US</dc:language>
  <cp:lastModifiedBy>Якупов</cp:lastModifiedBy>
  <dcterms:modified xsi:type="dcterms:W3CDTF">2013-03-10T13:12:58Z</dcterms:modified>
  <cp:revision>10</cp:revision>
  <dc:subject/>
  <dc:title>РАЗМИНКА В БАСКЕТБОЛЕ</dc:title>
</cp:coreProperties>
</file>