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7578-5B33-46C2-9A30-37ED6152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3A01-95AF-443A-B407-76440EF9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24676-AA86-41FD-82B9-69DE95F2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139F-7A75-4077-B618-972023D3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0BE0-03D4-44A1-9AA1-C090E53B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187C-21F6-4ADC-B80A-442D971C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9CFD-769F-41F9-9FE1-54802F10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4E84-0AFF-44DC-AFD0-A6347ADC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48F0-589C-4CFC-B5CE-2A2EBDB2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1614-27C2-46F1-BEFE-F67C7EBA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DF75-AEEE-4222-8F0A-A6279525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2707-8F22-4FE8-B8F2-EFE3282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2458-CCC8-46DE-852B-3F366B18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BA6E-97B4-4B39-82D5-15E26672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2D05-56CB-4B51-BB97-725B9027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F958-ACCE-4E12-911F-2A97CD64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98C1-C74F-45D7-8E9A-434EB379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3235-E7A7-4765-A79E-6C741101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C3C0-4C54-4CD0-B64C-1AF5918C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FD15-D306-4F7D-BAF0-76BC02A4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8B13-C83F-4A9B-A715-4FCAC06A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738B-9748-4021-8522-7BEE2C44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B406-405B-4695-876A-0C08076F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9324-4617-4451-9DC7-41067B1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0386-9834-4112-81DF-F4E72B553D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AAED-2472-420F-A8B9-36C8E4AE33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Реки Росс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россворд «Реки Росс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539640" y="1989000"/>
            <a:ext cx="8446680" cy="4314600"/>
            <a:chOff x="539640" y="1989000"/>
            <a:chExt cx="8446680" cy="4314600"/>
          </a:xfrm>
        </p:grpSpPr>
        <p:grpSp>
          <p:nvGrpSpPr>
            <p:cNvPr id="209" name="Group 6"/>
            <p:cNvGrpSpPr/>
            <p:nvPr/>
          </p:nvGrpSpPr>
          <p:grpSpPr>
            <a:xfrm>
              <a:off x="539640" y="1989000"/>
              <a:ext cx="8446680" cy="4314600"/>
              <a:chOff x="539640" y="1989000"/>
              <a:chExt cx="8446680" cy="4314600"/>
            </a:xfrm>
          </p:grpSpPr>
          <p:sp>
            <p:nvSpPr>
              <p:cNvPr id="210" name="Rectangle 7"/>
              <p:cNvSpPr/>
              <p:nvPr/>
            </p:nvSpPr>
            <p:spPr>
              <a:xfrm>
                <a:off x="3918960" y="5440320"/>
                <a:ext cx="84348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8"/>
              <p:cNvSpPr/>
              <p:nvPr/>
            </p:nvSpPr>
            <p:spPr>
              <a:xfrm>
                <a:off x="1384200" y="2851920"/>
                <a:ext cx="844560" cy="86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"/>
              <p:cNvSpPr/>
              <p:nvPr/>
            </p:nvSpPr>
            <p:spPr>
              <a:xfrm>
                <a:off x="3918960" y="4578480"/>
                <a:ext cx="843480" cy="86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0"/>
              <p:cNvSpPr/>
              <p:nvPr/>
            </p:nvSpPr>
            <p:spPr>
              <a:xfrm>
                <a:off x="2195640" y="1989000"/>
                <a:ext cx="84456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1"/>
              <p:cNvSpPr/>
              <p:nvPr/>
            </p:nvSpPr>
            <p:spPr>
              <a:xfrm>
                <a:off x="3040560" y="1989000"/>
                <a:ext cx="844920" cy="86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3885480" y="1989000"/>
                <a:ext cx="84312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3"/>
              <p:cNvSpPr/>
              <p:nvPr/>
            </p:nvSpPr>
            <p:spPr>
              <a:xfrm>
                <a:off x="4728960" y="1989000"/>
                <a:ext cx="879480" cy="4314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4"/>
              <p:cNvSpPr/>
              <p:nvPr/>
            </p:nvSpPr>
            <p:spPr>
              <a:xfrm>
                <a:off x="3885480" y="2851920"/>
                <a:ext cx="8431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5"/>
              <p:cNvSpPr/>
              <p:nvPr/>
            </p:nvSpPr>
            <p:spPr>
              <a:xfrm>
                <a:off x="3040560" y="2851920"/>
                <a:ext cx="8449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6"/>
              <p:cNvSpPr/>
              <p:nvPr/>
            </p:nvSpPr>
            <p:spPr>
              <a:xfrm>
                <a:off x="2195640" y="2851920"/>
                <a:ext cx="84456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7"/>
              <p:cNvSpPr/>
              <p:nvPr/>
            </p:nvSpPr>
            <p:spPr>
              <a:xfrm>
                <a:off x="539640" y="2851920"/>
                <a:ext cx="84456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8"/>
              <p:cNvSpPr/>
              <p:nvPr/>
            </p:nvSpPr>
            <p:spPr>
              <a:xfrm>
                <a:off x="5608440" y="3715200"/>
                <a:ext cx="8431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9"/>
              <p:cNvSpPr/>
              <p:nvPr/>
            </p:nvSpPr>
            <p:spPr>
              <a:xfrm>
                <a:off x="6451920" y="3715200"/>
                <a:ext cx="8449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20"/>
              <p:cNvSpPr/>
              <p:nvPr/>
            </p:nvSpPr>
            <p:spPr>
              <a:xfrm>
                <a:off x="7297200" y="3715200"/>
                <a:ext cx="84456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21"/>
              <p:cNvSpPr/>
              <p:nvPr/>
            </p:nvSpPr>
            <p:spPr>
              <a:xfrm>
                <a:off x="8141760" y="3715200"/>
                <a:ext cx="84456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22"/>
              <p:cNvSpPr/>
              <p:nvPr/>
            </p:nvSpPr>
            <p:spPr>
              <a:xfrm>
                <a:off x="3074040" y="4578480"/>
                <a:ext cx="84348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23"/>
              <p:cNvSpPr/>
              <p:nvPr/>
            </p:nvSpPr>
            <p:spPr>
              <a:xfrm>
                <a:off x="2229120" y="4578480"/>
                <a:ext cx="843480" cy="86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24"/>
              <p:cNvSpPr/>
              <p:nvPr/>
            </p:nvSpPr>
            <p:spPr>
              <a:xfrm>
                <a:off x="1384200" y="4578480"/>
                <a:ext cx="843480" cy="86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25"/>
              <p:cNvSpPr/>
              <p:nvPr/>
            </p:nvSpPr>
            <p:spPr>
              <a:xfrm>
                <a:off x="3074040" y="5440320"/>
                <a:ext cx="84348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26"/>
              <p:cNvSpPr/>
              <p:nvPr/>
            </p:nvSpPr>
            <p:spPr>
              <a:xfrm>
                <a:off x="2229120" y="5440320"/>
                <a:ext cx="84348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/>
            <p:cNvSpPr/>
            <p:nvPr/>
          </p:nvSpPr>
          <p:spPr>
            <a:xfrm>
              <a:off x="4693320" y="3565440"/>
              <a:ext cx="1037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2270520" y="1989000"/>
            <a:ext cx="69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3205440" y="1989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1"/>
          <p:cNvSpPr/>
          <p:nvPr/>
        </p:nvSpPr>
        <p:spPr>
          <a:xfrm>
            <a:off x="3926520" y="1989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2"/>
          <p:cNvSpPr/>
          <p:nvPr/>
        </p:nvSpPr>
        <p:spPr>
          <a:xfrm>
            <a:off x="613080" y="2852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1478520" y="2852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4"/>
          <p:cNvSpPr/>
          <p:nvPr/>
        </p:nvSpPr>
        <p:spPr>
          <a:xfrm>
            <a:off x="2342160" y="2852640"/>
            <a:ext cx="62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5"/>
          <p:cNvSpPr/>
          <p:nvPr/>
        </p:nvSpPr>
        <p:spPr>
          <a:xfrm>
            <a:off x="3134160" y="2852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4069080" y="28526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5653800" y="3716280"/>
            <a:ext cx="69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6445080" y="3716280"/>
            <a:ext cx="70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9"/>
          <p:cNvSpPr/>
          <p:nvPr/>
        </p:nvSpPr>
        <p:spPr>
          <a:xfrm>
            <a:off x="7310880" y="37162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0"/>
          <p:cNvSpPr/>
          <p:nvPr/>
        </p:nvSpPr>
        <p:spPr>
          <a:xfrm>
            <a:off x="8174520" y="37162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1405080" y="458136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2"/>
          <p:cNvSpPr/>
          <p:nvPr/>
        </p:nvSpPr>
        <p:spPr>
          <a:xfrm>
            <a:off x="2270520" y="458136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3134160" y="4581360"/>
            <a:ext cx="69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4"/>
          <p:cNvSpPr/>
          <p:nvPr/>
        </p:nvSpPr>
        <p:spPr>
          <a:xfrm>
            <a:off x="3997800" y="4581360"/>
            <a:ext cx="62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5"/>
          <p:cNvSpPr/>
          <p:nvPr/>
        </p:nvSpPr>
        <p:spPr>
          <a:xfrm>
            <a:off x="2270160" y="5445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6"/>
          <p:cNvSpPr/>
          <p:nvPr/>
        </p:nvSpPr>
        <p:spPr>
          <a:xfrm>
            <a:off x="3134160" y="54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7"/>
          <p:cNvSpPr/>
          <p:nvPr/>
        </p:nvSpPr>
        <p:spPr>
          <a:xfrm>
            <a:off x="3925800" y="544500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и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0014-002-Rabota-s-atlasom-i-kartoj"/>
          <p:cNvPicPr/>
          <p:nvPr/>
        </p:nvPicPr>
        <p:blipFill>
          <a:blip r:embed="rId1"/>
          <a:stretch/>
        </p:blipFill>
        <p:spPr>
          <a:xfrm>
            <a:off x="395280" y="1268280"/>
            <a:ext cx="83883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"/>
          <p:cNvGrpSpPr/>
          <p:nvPr/>
        </p:nvGrpSpPr>
        <p:grpSpPr>
          <a:xfrm>
            <a:off x="1619280" y="1773360"/>
            <a:ext cx="5933520" cy="4281480"/>
            <a:chOff x="1619280" y="1773360"/>
            <a:chExt cx="5933520" cy="4281480"/>
          </a:xfrm>
        </p:grpSpPr>
        <p:sp>
          <p:nvSpPr>
            <p:cNvPr id="109" name="Freeform 5"/>
            <p:cNvSpPr/>
            <p:nvPr/>
          </p:nvSpPr>
          <p:spPr>
            <a:xfrm>
              <a:off x="2415960" y="2202120"/>
              <a:ext cx="4296960" cy="2546280"/>
            </a:xfrm>
            <a:custGeom>
              <a:avLst/>
              <a:gdLst>
                <a:gd name="textAreaLeft" fmla="*/ 0 w 4296960"/>
                <a:gd name="textAreaRight" fmla="*/ 4297320 w 4296960"/>
                <a:gd name="textAreaTop" fmla="*/ 0 h 2546280"/>
                <a:gd name="textAreaBottom" fmla="*/ 2546640 h 2546280"/>
              </a:gdLst>
              <a:ahLst/>
              <a:rect l="textAreaLeft" t="textAreaTop" r="textAreaRight" b="textAreaBottom"/>
              <a:pathLst>
                <a:path w="2707" h="1604">
                  <a:moveTo>
                    <a:pt x="2707" y="0"/>
                  </a:moveTo>
                  <a:cubicBezTo>
                    <a:pt x="2687" y="59"/>
                    <a:pt x="2603" y="149"/>
                    <a:pt x="2551" y="181"/>
                  </a:cubicBezTo>
                  <a:cubicBezTo>
                    <a:pt x="2490" y="218"/>
                    <a:pt x="2564" y="154"/>
                    <a:pt x="2501" y="205"/>
                  </a:cubicBezTo>
                  <a:cubicBezTo>
                    <a:pt x="2440" y="254"/>
                    <a:pt x="2379" y="313"/>
                    <a:pt x="2304" y="337"/>
                  </a:cubicBezTo>
                  <a:cubicBezTo>
                    <a:pt x="2251" y="373"/>
                    <a:pt x="2169" y="391"/>
                    <a:pt x="2106" y="403"/>
                  </a:cubicBezTo>
                  <a:cubicBezTo>
                    <a:pt x="2022" y="445"/>
                    <a:pt x="1926" y="457"/>
                    <a:pt x="1835" y="477"/>
                  </a:cubicBezTo>
                  <a:cubicBezTo>
                    <a:pt x="1730" y="500"/>
                    <a:pt x="1632" y="540"/>
                    <a:pt x="1530" y="568"/>
                  </a:cubicBezTo>
                  <a:cubicBezTo>
                    <a:pt x="1522" y="573"/>
                    <a:pt x="1515" y="580"/>
                    <a:pt x="1506" y="584"/>
                  </a:cubicBezTo>
                  <a:cubicBezTo>
                    <a:pt x="1490" y="591"/>
                    <a:pt x="1456" y="600"/>
                    <a:pt x="1456" y="600"/>
                  </a:cubicBezTo>
                  <a:cubicBezTo>
                    <a:pt x="1429" y="619"/>
                    <a:pt x="1403" y="626"/>
                    <a:pt x="1374" y="642"/>
                  </a:cubicBezTo>
                  <a:cubicBezTo>
                    <a:pt x="1345" y="659"/>
                    <a:pt x="1325" y="681"/>
                    <a:pt x="1292" y="691"/>
                  </a:cubicBezTo>
                  <a:cubicBezTo>
                    <a:pt x="1266" y="717"/>
                    <a:pt x="1236" y="746"/>
                    <a:pt x="1201" y="757"/>
                  </a:cubicBezTo>
                  <a:cubicBezTo>
                    <a:pt x="1167" y="808"/>
                    <a:pt x="1206" y="760"/>
                    <a:pt x="1160" y="790"/>
                  </a:cubicBezTo>
                  <a:cubicBezTo>
                    <a:pt x="1134" y="807"/>
                    <a:pt x="1120" y="839"/>
                    <a:pt x="1094" y="856"/>
                  </a:cubicBezTo>
                  <a:cubicBezTo>
                    <a:pt x="1059" y="879"/>
                    <a:pt x="1027" y="910"/>
                    <a:pt x="996" y="938"/>
                  </a:cubicBezTo>
                  <a:cubicBezTo>
                    <a:pt x="896" y="1026"/>
                    <a:pt x="812" y="1137"/>
                    <a:pt x="699" y="1209"/>
                  </a:cubicBezTo>
                  <a:cubicBezTo>
                    <a:pt x="672" y="1252"/>
                    <a:pt x="618" y="1299"/>
                    <a:pt x="568" y="1316"/>
                  </a:cubicBezTo>
                  <a:cubicBezTo>
                    <a:pt x="530" y="1354"/>
                    <a:pt x="574" y="1315"/>
                    <a:pt x="527" y="1341"/>
                  </a:cubicBezTo>
                  <a:cubicBezTo>
                    <a:pt x="510" y="1351"/>
                    <a:pt x="495" y="1365"/>
                    <a:pt x="477" y="1374"/>
                  </a:cubicBezTo>
                  <a:cubicBezTo>
                    <a:pt x="466" y="1379"/>
                    <a:pt x="455" y="1385"/>
                    <a:pt x="444" y="1390"/>
                  </a:cubicBezTo>
                  <a:cubicBezTo>
                    <a:pt x="407" y="1429"/>
                    <a:pt x="454" y="1385"/>
                    <a:pt x="395" y="1415"/>
                  </a:cubicBezTo>
                  <a:cubicBezTo>
                    <a:pt x="370" y="1428"/>
                    <a:pt x="364" y="1445"/>
                    <a:pt x="329" y="1456"/>
                  </a:cubicBezTo>
                  <a:cubicBezTo>
                    <a:pt x="299" y="1488"/>
                    <a:pt x="329" y="1461"/>
                    <a:pt x="288" y="1481"/>
                  </a:cubicBezTo>
                  <a:cubicBezTo>
                    <a:pt x="270" y="1490"/>
                    <a:pt x="257" y="1506"/>
                    <a:pt x="239" y="1514"/>
                  </a:cubicBezTo>
                  <a:cubicBezTo>
                    <a:pt x="161" y="1549"/>
                    <a:pt x="76" y="1566"/>
                    <a:pt x="0" y="16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4924080" y="1901880"/>
              <a:ext cx="599760" cy="118764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187640"/>
                <a:gd name="textAreaBottom" fmla="*/ 1188000 h 1187640"/>
              </a:gdLst>
              <a:ahLst/>
              <a:rect l="textAreaLeft" t="textAreaTop" r="textAreaRight" b="textAreaBottom"/>
              <a:pathLst>
                <a:path w="378" h="748">
                  <a:moveTo>
                    <a:pt x="378" y="0"/>
                  </a:moveTo>
                  <a:cubicBezTo>
                    <a:pt x="349" y="88"/>
                    <a:pt x="336" y="179"/>
                    <a:pt x="296" y="263"/>
                  </a:cubicBezTo>
                  <a:cubicBezTo>
                    <a:pt x="279" y="298"/>
                    <a:pt x="248" y="316"/>
                    <a:pt x="230" y="353"/>
                  </a:cubicBezTo>
                  <a:cubicBezTo>
                    <a:pt x="212" y="390"/>
                    <a:pt x="194" y="424"/>
                    <a:pt x="164" y="452"/>
                  </a:cubicBezTo>
                  <a:cubicBezTo>
                    <a:pt x="150" y="497"/>
                    <a:pt x="166" y="459"/>
                    <a:pt x="131" y="501"/>
                  </a:cubicBezTo>
                  <a:cubicBezTo>
                    <a:pt x="112" y="524"/>
                    <a:pt x="112" y="546"/>
                    <a:pt x="90" y="567"/>
                  </a:cubicBezTo>
                  <a:cubicBezTo>
                    <a:pt x="81" y="595"/>
                    <a:pt x="71" y="613"/>
                    <a:pt x="49" y="633"/>
                  </a:cubicBezTo>
                  <a:cubicBezTo>
                    <a:pt x="31" y="690"/>
                    <a:pt x="45" y="670"/>
                    <a:pt x="16" y="699"/>
                  </a:cubicBezTo>
                  <a:cubicBezTo>
                    <a:pt x="11" y="715"/>
                    <a:pt x="0" y="748"/>
                    <a:pt x="0" y="7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3335040" y="2462400"/>
              <a:ext cx="309240" cy="18162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195" h="1144">
                  <a:moveTo>
                    <a:pt x="153" y="0"/>
                  </a:moveTo>
                  <a:cubicBezTo>
                    <a:pt x="150" y="145"/>
                    <a:pt x="195" y="390"/>
                    <a:pt x="112" y="552"/>
                  </a:cubicBezTo>
                  <a:cubicBezTo>
                    <a:pt x="90" y="644"/>
                    <a:pt x="121" y="533"/>
                    <a:pt x="87" y="609"/>
                  </a:cubicBezTo>
                  <a:cubicBezTo>
                    <a:pt x="49" y="694"/>
                    <a:pt x="25" y="806"/>
                    <a:pt x="13" y="897"/>
                  </a:cubicBezTo>
                  <a:cubicBezTo>
                    <a:pt x="0" y="1000"/>
                    <a:pt x="5" y="1020"/>
                    <a:pt x="5" y="1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4140000" y="3586320"/>
              <a:ext cx="2010960" cy="284040"/>
            </a:xfrm>
            <a:custGeom>
              <a:avLst/>
              <a:gdLst>
                <a:gd name="textAreaLeft" fmla="*/ 0 w 2010960"/>
                <a:gd name="textAreaRight" fmla="*/ 2011320 w 20109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267" h="179">
                  <a:moveTo>
                    <a:pt x="1267" y="49"/>
                  </a:moveTo>
                  <a:cubicBezTo>
                    <a:pt x="1237" y="70"/>
                    <a:pt x="1211" y="92"/>
                    <a:pt x="1177" y="107"/>
                  </a:cubicBezTo>
                  <a:cubicBezTo>
                    <a:pt x="1153" y="117"/>
                    <a:pt x="1126" y="120"/>
                    <a:pt x="1103" y="132"/>
                  </a:cubicBezTo>
                  <a:cubicBezTo>
                    <a:pt x="1094" y="136"/>
                    <a:pt x="1088" y="146"/>
                    <a:pt x="1078" y="148"/>
                  </a:cubicBezTo>
                  <a:cubicBezTo>
                    <a:pt x="1019" y="162"/>
                    <a:pt x="957" y="160"/>
                    <a:pt x="897" y="165"/>
                  </a:cubicBezTo>
                  <a:cubicBezTo>
                    <a:pt x="805" y="162"/>
                    <a:pt x="672" y="179"/>
                    <a:pt x="568" y="148"/>
                  </a:cubicBezTo>
                  <a:cubicBezTo>
                    <a:pt x="420" y="105"/>
                    <a:pt x="296" y="48"/>
                    <a:pt x="140" y="25"/>
                  </a:cubicBezTo>
                  <a:cubicBezTo>
                    <a:pt x="93" y="18"/>
                    <a:pt x="48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1619280" y="4583160"/>
              <a:ext cx="1515600" cy="1471680"/>
            </a:xfrm>
            <a:custGeom>
              <a:avLst/>
              <a:gdLst>
                <a:gd name="textAreaLeft" fmla="*/ 0 w 1515600"/>
                <a:gd name="textAreaRight" fmla="*/ 1515960 w 1515600"/>
                <a:gd name="textAreaTop" fmla="*/ 0 h 1471680"/>
                <a:gd name="textAreaBottom" fmla="*/ 1471680 h 1471680"/>
              </a:gdLst>
              <a:ahLst/>
              <a:rect l="textAreaLeft" t="textAreaTop" r="textAreaRight" b="textAreaBottom"/>
              <a:pathLst>
                <a:path w="955" h="927">
                  <a:moveTo>
                    <a:pt x="0" y="71"/>
                  </a:moveTo>
                  <a:cubicBezTo>
                    <a:pt x="16" y="66"/>
                    <a:pt x="35" y="64"/>
                    <a:pt x="49" y="55"/>
                  </a:cubicBezTo>
                  <a:cubicBezTo>
                    <a:pt x="57" y="50"/>
                    <a:pt x="65" y="43"/>
                    <a:pt x="74" y="39"/>
                  </a:cubicBezTo>
                  <a:cubicBezTo>
                    <a:pt x="98" y="30"/>
                    <a:pt x="162" y="24"/>
                    <a:pt x="181" y="22"/>
                  </a:cubicBezTo>
                  <a:cubicBezTo>
                    <a:pt x="248" y="0"/>
                    <a:pt x="353" y="5"/>
                    <a:pt x="420" y="39"/>
                  </a:cubicBezTo>
                  <a:cubicBezTo>
                    <a:pt x="445" y="52"/>
                    <a:pt x="461" y="74"/>
                    <a:pt x="485" y="88"/>
                  </a:cubicBezTo>
                  <a:cubicBezTo>
                    <a:pt x="487" y="89"/>
                    <a:pt x="560" y="122"/>
                    <a:pt x="576" y="137"/>
                  </a:cubicBezTo>
                  <a:cubicBezTo>
                    <a:pt x="626" y="181"/>
                    <a:pt x="663" y="230"/>
                    <a:pt x="699" y="285"/>
                  </a:cubicBezTo>
                  <a:cubicBezTo>
                    <a:pt x="705" y="294"/>
                    <a:pt x="711" y="326"/>
                    <a:pt x="716" y="335"/>
                  </a:cubicBezTo>
                  <a:cubicBezTo>
                    <a:pt x="732" y="367"/>
                    <a:pt x="745" y="403"/>
                    <a:pt x="765" y="433"/>
                  </a:cubicBezTo>
                  <a:cubicBezTo>
                    <a:pt x="781" y="483"/>
                    <a:pt x="799" y="535"/>
                    <a:pt x="823" y="582"/>
                  </a:cubicBezTo>
                  <a:cubicBezTo>
                    <a:pt x="835" y="633"/>
                    <a:pt x="856" y="684"/>
                    <a:pt x="880" y="730"/>
                  </a:cubicBezTo>
                  <a:cubicBezTo>
                    <a:pt x="893" y="755"/>
                    <a:pt x="893" y="775"/>
                    <a:pt x="913" y="796"/>
                  </a:cubicBezTo>
                  <a:cubicBezTo>
                    <a:pt x="926" y="829"/>
                    <a:pt x="955" y="891"/>
                    <a:pt x="955" y="9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846080" y="5177160"/>
              <a:ext cx="79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р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6418080" y="1810080"/>
              <a:ext cx="1134720" cy="457200"/>
            </a:xfrm>
            <a:custGeom>
              <a:avLst/>
              <a:gdLst>
                <a:gd name="textAreaLeft" fmla="*/ 0 w 1134720"/>
                <a:gd name="textAreaRight" fmla="*/ 1135080 w 11347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15" h="288">
                  <a:moveTo>
                    <a:pt x="178" y="255"/>
                  </a:moveTo>
                  <a:cubicBezTo>
                    <a:pt x="114" y="243"/>
                    <a:pt x="67" y="229"/>
                    <a:pt x="30" y="173"/>
                  </a:cubicBezTo>
                  <a:cubicBezTo>
                    <a:pt x="0" y="80"/>
                    <a:pt x="79" y="57"/>
                    <a:pt x="145" y="25"/>
                  </a:cubicBezTo>
                  <a:cubicBezTo>
                    <a:pt x="169" y="0"/>
                    <a:pt x="162" y="0"/>
                    <a:pt x="211" y="0"/>
                  </a:cubicBezTo>
                  <a:cubicBezTo>
                    <a:pt x="329" y="0"/>
                    <a:pt x="447" y="5"/>
                    <a:pt x="565" y="8"/>
                  </a:cubicBezTo>
                  <a:cubicBezTo>
                    <a:pt x="625" y="22"/>
                    <a:pt x="645" y="40"/>
                    <a:pt x="680" y="90"/>
                  </a:cubicBezTo>
                  <a:cubicBezTo>
                    <a:pt x="699" y="151"/>
                    <a:pt x="691" y="123"/>
                    <a:pt x="705" y="173"/>
                  </a:cubicBezTo>
                  <a:cubicBezTo>
                    <a:pt x="697" y="254"/>
                    <a:pt x="715" y="271"/>
                    <a:pt x="647" y="288"/>
                  </a:cubicBezTo>
                  <a:cubicBezTo>
                    <a:pt x="542" y="281"/>
                    <a:pt x="457" y="265"/>
                    <a:pt x="359" y="230"/>
                  </a:cubicBezTo>
                  <a:cubicBezTo>
                    <a:pt x="306" y="238"/>
                    <a:pt x="230" y="272"/>
                    <a:pt x="178" y="255"/>
                  </a:cubicBez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6597360" y="17733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зе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6651360" y="2225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2259000" y="4313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713200" y="2781360"/>
              <a:ext cx="310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4128840" y="3089520"/>
              <a:ext cx="183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3049200" y="43135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5138640" y="200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285720" y="28735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5067360" y="381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ре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упнейшая река Северо-Восточной Сиби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20660" t="0" r="7433" b="10106"/>
          <a:stretch/>
        </p:blipFill>
        <p:spPr>
          <a:xfrm>
            <a:off x="900000" y="1557360"/>
            <a:ext cx="7272360" cy="5126040"/>
          </a:xfrm>
          <a:prstGeom prst="rect">
            <a:avLst/>
          </a:prstGeom>
          <a:ln w="0">
            <a:noFill/>
          </a:ln>
        </p:spPr>
      </p:pic>
      <p:sp>
        <p:nvSpPr>
          <p:cNvPr id="128" name="Freeform 6"/>
          <p:cNvSpPr/>
          <p:nvPr/>
        </p:nvSpPr>
        <p:spPr>
          <a:xfrm>
            <a:off x="1619280" y="1773360"/>
            <a:ext cx="5240160" cy="4601880"/>
          </a:xfrm>
          <a:custGeom>
            <a:avLst/>
            <a:gdLst>
              <a:gd name="textAreaLeft" fmla="*/ 0 w 5240160"/>
              <a:gd name="textAreaRight" fmla="*/ 5240520 w 5240160"/>
              <a:gd name="textAreaTop" fmla="*/ 0 h 4601880"/>
              <a:gd name="textAreaBottom" fmla="*/ 4601880 h 4601880"/>
            </a:gdLst>
            <a:ahLst/>
            <a:rect l="textAreaLeft" t="textAreaTop" r="textAreaRight" b="textAreaBottom"/>
            <a:pathLst>
              <a:path w="3301" h="2899">
                <a:moveTo>
                  <a:pt x="1611" y="0"/>
                </a:moveTo>
                <a:cubicBezTo>
                  <a:pt x="1649" y="24"/>
                  <a:pt x="1669" y="34"/>
                  <a:pt x="1699" y="78"/>
                </a:cubicBezTo>
                <a:cubicBezTo>
                  <a:pt x="1712" y="97"/>
                  <a:pt x="1738" y="136"/>
                  <a:pt x="1738" y="136"/>
                </a:cubicBezTo>
                <a:cubicBezTo>
                  <a:pt x="1731" y="265"/>
                  <a:pt x="1730" y="327"/>
                  <a:pt x="1660" y="429"/>
                </a:cubicBezTo>
                <a:cubicBezTo>
                  <a:pt x="1635" y="503"/>
                  <a:pt x="1588" y="569"/>
                  <a:pt x="1543" y="634"/>
                </a:cubicBezTo>
                <a:cubicBezTo>
                  <a:pt x="1505" y="689"/>
                  <a:pt x="1436" y="671"/>
                  <a:pt x="1387" y="703"/>
                </a:cubicBezTo>
                <a:cubicBezTo>
                  <a:pt x="1318" y="748"/>
                  <a:pt x="1348" y="729"/>
                  <a:pt x="1299" y="761"/>
                </a:cubicBezTo>
                <a:cubicBezTo>
                  <a:pt x="1236" y="802"/>
                  <a:pt x="1149" y="768"/>
                  <a:pt x="1074" y="771"/>
                </a:cubicBezTo>
                <a:cubicBezTo>
                  <a:pt x="996" y="798"/>
                  <a:pt x="937" y="861"/>
                  <a:pt x="860" y="888"/>
                </a:cubicBezTo>
                <a:cubicBezTo>
                  <a:pt x="779" y="884"/>
                  <a:pt x="680" y="920"/>
                  <a:pt x="616" y="869"/>
                </a:cubicBezTo>
                <a:cubicBezTo>
                  <a:pt x="583" y="842"/>
                  <a:pt x="571" y="802"/>
                  <a:pt x="528" y="781"/>
                </a:cubicBezTo>
                <a:cubicBezTo>
                  <a:pt x="509" y="772"/>
                  <a:pt x="469" y="761"/>
                  <a:pt x="469" y="761"/>
                </a:cubicBezTo>
                <a:cubicBezTo>
                  <a:pt x="342" y="770"/>
                  <a:pt x="324" y="737"/>
                  <a:pt x="293" y="830"/>
                </a:cubicBezTo>
                <a:cubicBezTo>
                  <a:pt x="312" y="1017"/>
                  <a:pt x="282" y="872"/>
                  <a:pt x="323" y="956"/>
                </a:cubicBezTo>
                <a:cubicBezTo>
                  <a:pt x="328" y="965"/>
                  <a:pt x="325" y="979"/>
                  <a:pt x="332" y="986"/>
                </a:cubicBezTo>
                <a:cubicBezTo>
                  <a:pt x="380" y="1034"/>
                  <a:pt x="453" y="1068"/>
                  <a:pt x="518" y="1083"/>
                </a:cubicBezTo>
                <a:cubicBezTo>
                  <a:pt x="613" y="1149"/>
                  <a:pt x="636" y="1267"/>
                  <a:pt x="655" y="1376"/>
                </a:cubicBezTo>
                <a:cubicBezTo>
                  <a:pt x="652" y="1428"/>
                  <a:pt x="656" y="1481"/>
                  <a:pt x="645" y="1532"/>
                </a:cubicBezTo>
                <a:cubicBezTo>
                  <a:pt x="642" y="1543"/>
                  <a:pt x="624" y="1543"/>
                  <a:pt x="616" y="1552"/>
                </a:cubicBezTo>
                <a:cubicBezTo>
                  <a:pt x="601" y="1570"/>
                  <a:pt x="577" y="1611"/>
                  <a:pt x="577" y="1611"/>
                </a:cubicBezTo>
                <a:cubicBezTo>
                  <a:pt x="574" y="1624"/>
                  <a:pt x="572" y="1638"/>
                  <a:pt x="567" y="1650"/>
                </a:cubicBezTo>
                <a:cubicBezTo>
                  <a:pt x="562" y="1661"/>
                  <a:pt x="548" y="1667"/>
                  <a:pt x="547" y="1679"/>
                </a:cubicBezTo>
                <a:cubicBezTo>
                  <a:pt x="535" y="1779"/>
                  <a:pt x="558" y="1885"/>
                  <a:pt x="528" y="1982"/>
                </a:cubicBezTo>
                <a:cubicBezTo>
                  <a:pt x="506" y="2051"/>
                  <a:pt x="460" y="2051"/>
                  <a:pt x="401" y="2069"/>
                </a:cubicBezTo>
                <a:cubicBezTo>
                  <a:pt x="365" y="2080"/>
                  <a:pt x="337" y="2105"/>
                  <a:pt x="303" y="2118"/>
                </a:cubicBezTo>
                <a:cubicBezTo>
                  <a:pt x="224" y="2147"/>
                  <a:pt x="199" y="2136"/>
                  <a:pt x="137" y="2196"/>
                </a:cubicBezTo>
                <a:cubicBezTo>
                  <a:pt x="122" y="2240"/>
                  <a:pt x="83" y="2271"/>
                  <a:pt x="69" y="2313"/>
                </a:cubicBezTo>
                <a:cubicBezTo>
                  <a:pt x="62" y="2333"/>
                  <a:pt x="49" y="2372"/>
                  <a:pt x="49" y="2372"/>
                </a:cubicBezTo>
                <a:cubicBezTo>
                  <a:pt x="42" y="2461"/>
                  <a:pt x="0" y="2599"/>
                  <a:pt x="108" y="2636"/>
                </a:cubicBezTo>
                <a:cubicBezTo>
                  <a:pt x="118" y="2646"/>
                  <a:pt x="125" y="2658"/>
                  <a:pt x="137" y="2665"/>
                </a:cubicBezTo>
                <a:cubicBezTo>
                  <a:pt x="155" y="2675"/>
                  <a:pt x="196" y="2684"/>
                  <a:pt x="196" y="2684"/>
                </a:cubicBezTo>
                <a:cubicBezTo>
                  <a:pt x="212" y="2681"/>
                  <a:pt x="229" y="2681"/>
                  <a:pt x="245" y="2675"/>
                </a:cubicBezTo>
                <a:cubicBezTo>
                  <a:pt x="310" y="2651"/>
                  <a:pt x="239" y="2657"/>
                  <a:pt x="303" y="2645"/>
                </a:cubicBezTo>
                <a:cubicBezTo>
                  <a:pt x="326" y="2641"/>
                  <a:pt x="349" y="2639"/>
                  <a:pt x="372" y="2636"/>
                </a:cubicBezTo>
                <a:cubicBezTo>
                  <a:pt x="394" y="2602"/>
                  <a:pt x="426" y="2530"/>
                  <a:pt x="440" y="2489"/>
                </a:cubicBezTo>
                <a:cubicBezTo>
                  <a:pt x="446" y="2410"/>
                  <a:pt x="423" y="2349"/>
                  <a:pt x="498" y="2323"/>
                </a:cubicBezTo>
                <a:cubicBezTo>
                  <a:pt x="544" y="2326"/>
                  <a:pt x="591" y="2321"/>
                  <a:pt x="635" y="2333"/>
                </a:cubicBezTo>
                <a:cubicBezTo>
                  <a:pt x="645" y="2336"/>
                  <a:pt x="645" y="2352"/>
                  <a:pt x="645" y="2362"/>
                </a:cubicBezTo>
                <a:cubicBezTo>
                  <a:pt x="645" y="2443"/>
                  <a:pt x="644" y="2525"/>
                  <a:pt x="635" y="2606"/>
                </a:cubicBezTo>
                <a:cubicBezTo>
                  <a:pt x="634" y="2618"/>
                  <a:pt x="622" y="2626"/>
                  <a:pt x="616" y="2636"/>
                </a:cubicBezTo>
                <a:cubicBezTo>
                  <a:pt x="604" y="2681"/>
                  <a:pt x="586" y="2772"/>
                  <a:pt x="586" y="2772"/>
                </a:cubicBezTo>
                <a:cubicBezTo>
                  <a:pt x="596" y="2868"/>
                  <a:pt x="579" y="2874"/>
                  <a:pt x="655" y="2899"/>
                </a:cubicBezTo>
                <a:cubicBezTo>
                  <a:pt x="704" y="2896"/>
                  <a:pt x="753" y="2896"/>
                  <a:pt x="801" y="2889"/>
                </a:cubicBezTo>
                <a:cubicBezTo>
                  <a:pt x="851" y="2882"/>
                  <a:pt x="898" y="2845"/>
                  <a:pt x="948" y="2841"/>
                </a:cubicBezTo>
                <a:cubicBezTo>
                  <a:pt x="1013" y="2836"/>
                  <a:pt x="1078" y="2834"/>
                  <a:pt x="1143" y="2831"/>
                </a:cubicBezTo>
                <a:cubicBezTo>
                  <a:pt x="1222" y="2811"/>
                  <a:pt x="1298" y="2783"/>
                  <a:pt x="1377" y="2763"/>
                </a:cubicBezTo>
                <a:cubicBezTo>
                  <a:pt x="1392" y="2759"/>
                  <a:pt x="1429" y="2751"/>
                  <a:pt x="1445" y="2743"/>
                </a:cubicBezTo>
                <a:cubicBezTo>
                  <a:pt x="1481" y="2725"/>
                  <a:pt x="1522" y="2690"/>
                  <a:pt x="1563" y="2684"/>
                </a:cubicBezTo>
                <a:cubicBezTo>
                  <a:pt x="1598" y="2679"/>
                  <a:pt x="1634" y="2678"/>
                  <a:pt x="1670" y="2675"/>
                </a:cubicBezTo>
                <a:cubicBezTo>
                  <a:pt x="1696" y="2668"/>
                  <a:pt x="1722" y="2662"/>
                  <a:pt x="1748" y="2655"/>
                </a:cubicBezTo>
                <a:cubicBezTo>
                  <a:pt x="1769" y="2650"/>
                  <a:pt x="1786" y="2633"/>
                  <a:pt x="1807" y="2626"/>
                </a:cubicBezTo>
                <a:cubicBezTo>
                  <a:pt x="1845" y="2588"/>
                  <a:pt x="1869" y="2549"/>
                  <a:pt x="1914" y="2518"/>
                </a:cubicBezTo>
                <a:cubicBezTo>
                  <a:pt x="1946" y="2472"/>
                  <a:pt x="1930" y="2501"/>
                  <a:pt x="1953" y="2431"/>
                </a:cubicBezTo>
                <a:cubicBezTo>
                  <a:pt x="1956" y="2421"/>
                  <a:pt x="1963" y="2401"/>
                  <a:pt x="1963" y="2401"/>
                </a:cubicBezTo>
                <a:cubicBezTo>
                  <a:pt x="1964" y="2393"/>
                  <a:pt x="1973" y="2306"/>
                  <a:pt x="1982" y="2284"/>
                </a:cubicBezTo>
                <a:cubicBezTo>
                  <a:pt x="1995" y="2254"/>
                  <a:pt x="2017" y="2225"/>
                  <a:pt x="2031" y="2196"/>
                </a:cubicBezTo>
                <a:cubicBezTo>
                  <a:pt x="2036" y="2187"/>
                  <a:pt x="2034" y="2174"/>
                  <a:pt x="2041" y="2167"/>
                </a:cubicBezTo>
                <a:cubicBezTo>
                  <a:pt x="2063" y="2145"/>
                  <a:pt x="2202" y="2130"/>
                  <a:pt x="2217" y="2128"/>
                </a:cubicBezTo>
                <a:cubicBezTo>
                  <a:pt x="2322" y="2135"/>
                  <a:pt x="2343" y="2133"/>
                  <a:pt x="2422" y="2157"/>
                </a:cubicBezTo>
                <a:cubicBezTo>
                  <a:pt x="2460" y="2183"/>
                  <a:pt x="2505" y="2192"/>
                  <a:pt x="2539" y="2226"/>
                </a:cubicBezTo>
                <a:cubicBezTo>
                  <a:pt x="2599" y="2286"/>
                  <a:pt x="2606" y="2334"/>
                  <a:pt x="2695" y="2362"/>
                </a:cubicBezTo>
                <a:cubicBezTo>
                  <a:pt x="2783" y="2359"/>
                  <a:pt x="2872" y="2365"/>
                  <a:pt x="2959" y="2353"/>
                </a:cubicBezTo>
                <a:cubicBezTo>
                  <a:pt x="2983" y="2350"/>
                  <a:pt x="2992" y="2311"/>
                  <a:pt x="2998" y="2294"/>
                </a:cubicBezTo>
                <a:cubicBezTo>
                  <a:pt x="3004" y="2274"/>
                  <a:pt x="3017" y="2235"/>
                  <a:pt x="3017" y="2235"/>
                </a:cubicBezTo>
                <a:cubicBezTo>
                  <a:pt x="3020" y="2183"/>
                  <a:pt x="3021" y="2131"/>
                  <a:pt x="3027" y="2079"/>
                </a:cubicBezTo>
                <a:cubicBezTo>
                  <a:pt x="3033" y="2024"/>
                  <a:pt x="3088" y="1993"/>
                  <a:pt x="3125" y="1962"/>
                </a:cubicBezTo>
                <a:cubicBezTo>
                  <a:pt x="3156" y="1936"/>
                  <a:pt x="3174" y="1902"/>
                  <a:pt x="3203" y="1874"/>
                </a:cubicBezTo>
                <a:cubicBezTo>
                  <a:pt x="3217" y="1828"/>
                  <a:pt x="3239" y="1798"/>
                  <a:pt x="3252" y="1747"/>
                </a:cubicBezTo>
                <a:cubicBezTo>
                  <a:pt x="3248" y="1656"/>
                  <a:pt x="3301" y="1501"/>
                  <a:pt x="3193" y="1464"/>
                </a:cubicBezTo>
                <a:cubicBezTo>
                  <a:pt x="3146" y="1417"/>
                  <a:pt x="3136" y="1425"/>
                  <a:pt x="3066" y="1435"/>
                </a:cubicBezTo>
                <a:cubicBezTo>
                  <a:pt x="3053" y="1454"/>
                  <a:pt x="3046" y="1480"/>
                  <a:pt x="3027" y="1493"/>
                </a:cubicBezTo>
                <a:cubicBezTo>
                  <a:pt x="3007" y="1506"/>
                  <a:pt x="2968" y="1532"/>
                  <a:pt x="2968" y="1532"/>
                </a:cubicBezTo>
                <a:cubicBezTo>
                  <a:pt x="2942" y="1526"/>
                  <a:pt x="2901" y="1537"/>
                  <a:pt x="2890" y="1513"/>
                </a:cubicBezTo>
                <a:cubicBezTo>
                  <a:pt x="2859" y="1446"/>
                  <a:pt x="2902" y="1289"/>
                  <a:pt x="2832" y="1220"/>
                </a:cubicBezTo>
                <a:cubicBezTo>
                  <a:pt x="2787" y="1176"/>
                  <a:pt x="2654" y="1185"/>
                  <a:pt x="2607" y="1181"/>
                </a:cubicBezTo>
                <a:cubicBezTo>
                  <a:pt x="2543" y="1159"/>
                  <a:pt x="2490" y="1151"/>
                  <a:pt x="2422" y="1142"/>
                </a:cubicBezTo>
                <a:cubicBezTo>
                  <a:pt x="2387" y="1130"/>
                  <a:pt x="2339" y="1120"/>
                  <a:pt x="2305" y="1103"/>
                </a:cubicBezTo>
                <a:cubicBezTo>
                  <a:pt x="2236" y="1068"/>
                  <a:pt x="2312" y="1095"/>
                  <a:pt x="2246" y="1074"/>
                </a:cubicBezTo>
                <a:cubicBezTo>
                  <a:pt x="2224" y="1057"/>
                  <a:pt x="2198" y="1045"/>
                  <a:pt x="2178" y="1025"/>
                </a:cubicBezTo>
                <a:cubicBezTo>
                  <a:pt x="2129" y="977"/>
                  <a:pt x="2190" y="1012"/>
                  <a:pt x="2129" y="976"/>
                </a:cubicBezTo>
                <a:cubicBezTo>
                  <a:pt x="2116" y="969"/>
                  <a:pt x="2103" y="964"/>
                  <a:pt x="2090" y="956"/>
                </a:cubicBezTo>
                <a:cubicBezTo>
                  <a:pt x="2070" y="944"/>
                  <a:pt x="2031" y="917"/>
                  <a:pt x="2031" y="917"/>
                </a:cubicBezTo>
                <a:cubicBezTo>
                  <a:pt x="1979" y="839"/>
                  <a:pt x="1986" y="822"/>
                  <a:pt x="1963" y="732"/>
                </a:cubicBezTo>
                <a:cubicBezTo>
                  <a:pt x="1954" y="611"/>
                  <a:pt x="1896" y="273"/>
                  <a:pt x="1982" y="214"/>
                </a:cubicBezTo>
                <a:cubicBezTo>
                  <a:pt x="1993" y="182"/>
                  <a:pt x="1982" y="185"/>
                  <a:pt x="2002" y="185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1312200" y="2779920"/>
            <a:ext cx="5034240" cy="3844800"/>
            <a:chOff x="1312200" y="2779920"/>
            <a:chExt cx="5034240" cy="3844800"/>
          </a:xfrm>
        </p:grpSpPr>
        <p:grpSp>
          <p:nvGrpSpPr>
            <p:cNvPr id="130" name="Group 8"/>
            <p:cNvGrpSpPr/>
            <p:nvPr/>
          </p:nvGrpSpPr>
          <p:grpSpPr>
            <a:xfrm>
              <a:off x="2484000" y="2779920"/>
              <a:ext cx="3862440" cy="2896200"/>
              <a:chOff x="2484000" y="2779920"/>
              <a:chExt cx="3862440" cy="2896200"/>
            </a:xfrm>
          </p:grpSpPr>
          <p:sp>
            <p:nvSpPr>
              <p:cNvPr id="131" name="Text Box 9"/>
              <p:cNvSpPr/>
              <p:nvPr/>
            </p:nvSpPr>
            <p:spPr>
              <a:xfrm rot="4047600">
                <a:off x="3948480" y="2998440"/>
                <a:ext cx="69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Ле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0"/>
              <p:cNvSpPr/>
              <p:nvPr/>
            </p:nvSpPr>
            <p:spPr>
              <a:xfrm>
                <a:off x="4955040" y="3498840"/>
                <a:ext cx="70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Алд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11"/>
              <p:cNvSpPr/>
              <p:nvPr/>
            </p:nvSpPr>
            <p:spPr>
              <a:xfrm>
                <a:off x="3588120" y="385920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Вилю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12"/>
              <p:cNvSpPr/>
              <p:nvPr/>
            </p:nvSpPr>
            <p:spPr>
              <a:xfrm rot="18624600">
                <a:off x="4827960" y="4201920"/>
                <a:ext cx="679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Амг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3"/>
              <p:cNvSpPr/>
              <p:nvPr/>
            </p:nvSpPr>
            <p:spPr>
              <a:xfrm rot="2463600">
                <a:off x="2483280" y="507960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Вити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14"/>
              <p:cNvSpPr/>
              <p:nvPr/>
            </p:nvSpPr>
            <p:spPr>
              <a:xfrm rot="18099600">
                <a:off x="5764320" y="4448160"/>
                <a:ext cx="592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М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5"/>
              <p:cNvSpPr/>
              <p:nvPr/>
            </p:nvSpPr>
            <p:spPr>
              <a:xfrm rot="4698000">
                <a:off x="3405240" y="5023440"/>
                <a:ext cx="95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Олекм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6"/>
              <p:cNvSpPr/>
              <p:nvPr/>
            </p:nvSpPr>
            <p:spPr>
              <a:xfrm rot="1904400">
                <a:off x="5242320" y="4803480"/>
                <a:ext cx="65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Учу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7"/>
              <p:cNvSpPr/>
              <p:nvPr/>
            </p:nvSpPr>
            <p:spPr>
              <a:xfrm rot="3802200">
                <a:off x="2802600" y="3387960"/>
                <a:ext cx="83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Марх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8"/>
              <p:cNvSpPr/>
              <p:nvPr/>
            </p:nvSpPr>
            <p:spPr>
              <a:xfrm rot="3888600">
                <a:off x="3315600" y="3263760"/>
                <a:ext cx="68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Тюн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19"/>
            <p:cNvSpPr/>
            <p:nvPr/>
          </p:nvSpPr>
          <p:spPr>
            <a:xfrm>
              <a:off x="1312200" y="62564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з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айк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4859280" y="2127240"/>
            <a:ext cx="2094120" cy="1157400"/>
            <a:chOff x="4859280" y="2127240"/>
            <a:chExt cx="2094120" cy="1157400"/>
          </a:xfrm>
        </p:grpSpPr>
        <p:sp>
          <p:nvSpPr>
            <p:cNvPr id="143" name="Line 21"/>
            <p:cNvSpPr/>
            <p:nvPr/>
          </p:nvSpPr>
          <p:spPr>
            <a:xfrm flipH="1">
              <a:off x="4859280" y="2565360"/>
              <a:ext cx="1728720" cy="71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6"/>
            <p:cNvSpPr/>
            <p:nvPr/>
          </p:nvSpPr>
          <p:spPr>
            <a:xfrm>
              <a:off x="6568560" y="2127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1764720" y="1989000"/>
            <a:ext cx="3383640" cy="2016360"/>
            <a:chOff x="1764720" y="1989000"/>
            <a:chExt cx="3383640" cy="2016360"/>
          </a:xfrm>
        </p:grpSpPr>
        <p:sp>
          <p:nvSpPr>
            <p:cNvPr id="146" name="Line 23"/>
            <p:cNvSpPr/>
            <p:nvPr/>
          </p:nvSpPr>
          <p:spPr>
            <a:xfrm>
              <a:off x="2195640" y="2276640"/>
              <a:ext cx="223200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>
              <a:off x="2195640" y="2276640"/>
              <a:ext cx="1800000" cy="172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>
              <a:off x="2195640" y="2276640"/>
              <a:ext cx="2952720" cy="15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7"/>
            <p:cNvSpPr/>
            <p:nvPr/>
          </p:nvSpPr>
          <p:spPr>
            <a:xfrm>
              <a:off x="1764720" y="1989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перечный профиль долины равнинной р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2195640" y="2133720"/>
            <a:ext cx="4247640" cy="4390560"/>
            <a:chOff x="2195640" y="2133720"/>
            <a:chExt cx="4247640" cy="4390560"/>
          </a:xfrm>
        </p:grpSpPr>
        <p:sp>
          <p:nvSpPr>
            <p:cNvPr id="152" name="Rectangle 6"/>
            <p:cNvSpPr/>
            <p:nvPr/>
          </p:nvSpPr>
          <p:spPr>
            <a:xfrm>
              <a:off x="2195640" y="2133720"/>
              <a:ext cx="4200840" cy="43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2228040" y="3539520"/>
              <a:ext cx="4215240" cy="2030760"/>
            </a:xfrm>
            <a:custGeom>
              <a:avLst/>
              <a:gdLst>
                <a:gd name="textAreaLeft" fmla="*/ 0 w 4215240"/>
                <a:gd name="textAreaRight" fmla="*/ 4215600 w 4215240"/>
                <a:gd name="textAreaTop" fmla="*/ 0 h 2030760"/>
                <a:gd name="textAreaBottom" fmla="*/ 2031120 h 2030760"/>
              </a:gdLst>
              <a:ahLst/>
              <a:rect l="textAreaLeft" t="textAreaTop" r="textAreaRight" b="textAreaBottom"/>
              <a:pathLst>
                <a:path w="2321" h="1161">
                  <a:moveTo>
                    <a:pt x="0" y="0"/>
                  </a:moveTo>
                  <a:cubicBezTo>
                    <a:pt x="41" y="27"/>
                    <a:pt x="81" y="28"/>
                    <a:pt x="129" y="35"/>
                  </a:cubicBezTo>
                  <a:cubicBezTo>
                    <a:pt x="192" y="66"/>
                    <a:pt x="179" y="44"/>
                    <a:pt x="223" y="112"/>
                  </a:cubicBezTo>
                  <a:cubicBezTo>
                    <a:pt x="229" y="121"/>
                    <a:pt x="234" y="129"/>
                    <a:pt x="240" y="138"/>
                  </a:cubicBezTo>
                  <a:cubicBezTo>
                    <a:pt x="246" y="146"/>
                    <a:pt x="258" y="163"/>
                    <a:pt x="258" y="163"/>
                  </a:cubicBezTo>
                  <a:cubicBezTo>
                    <a:pt x="269" y="200"/>
                    <a:pt x="291" y="231"/>
                    <a:pt x="301" y="267"/>
                  </a:cubicBezTo>
                  <a:cubicBezTo>
                    <a:pt x="328" y="362"/>
                    <a:pt x="328" y="499"/>
                    <a:pt x="438" y="533"/>
                  </a:cubicBezTo>
                  <a:cubicBezTo>
                    <a:pt x="458" y="564"/>
                    <a:pt x="495" y="592"/>
                    <a:pt x="507" y="628"/>
                  </a:cubicBezTo>
                  <a:cubicBezTo>
                    <a:pt x="527" y="689"/>
                    <a:pt x="514" y="664"/>
                    <a:pt x="541" y="705"/>
                  </a:cubicBezTo>
                  <a:cubicBezTo>
                    <a:pt x="553" y="764"/>
                    <a:pt x="576" y="819"/>
                    <a:pt x="593" y="877"/>
                  </a:cubicBezTo>
                  <a:cubicBezTo>
                    <a:pt x="605" y="917"/>
                    <a:pt x="612" y="980"/>
                    <a:pt x="636" y="1015"/>
                  </a:cubicBezTo>
                  <a:cubicBezTo>
                    <a:pt x="673" y="1069"/>
                    <a:pt x="801" y="1140"/>
                    <a:pt x="868" y="1144"/>
                  </a:cubicBezTo>
                  <a:cubicBezTo>
                    <a:pt x="945" y="1149"/>
                    <a:pt x="1023" y="1149"/>
                    <a:pt x="1100" y="1152"/>
                  </a:cubicBezTo>
                  <a:cubicBezTo>
                    <a:pt x="1163" y="1155"/>
                    <a:pt x="1226" y="1158"/>
                    <a:pt x="1289" y="1161"/>
                  </a:cubicBezTo>
                  <a:cubicBezTo>
                    <a:pt x="1344" y="1158"/>
                    <a:pt x="1399" y="1159"/>
                    <a:pt x="1453" y="1152"/>
                  </a:cubicBezTo>
                  <a:cubicBezTo>
                    <a:pt x="1460" y="1151"/>
                    <a:pt x="1515" y="1122"/>
                    <a:pt x="1530" y="1118"/>
                  </a:cubicBezTo>
                  <a:cubicBezTo>
                    <a:pt x="1563" y="1096"/>
                    <a:pt x="1596" y="1086"/>
                    <a:pt x="1625" y="1058"/>
                  </a:cubicBezTo>
                  <a:cubicBezTo>
                    <a:pt x="1635" y="1027"/>
                    <a:pt x="1644" y="1003"/>
                    <a:pt x="1668" y="980"/>
                  </a:cubicBezTo>
                  <a:cubicBezTo>
                    <a:pt x="1682" y="934"/>
                    <a:pt x="1666" y="972"/>
                    <a:pt x="1702" y="929"/>
                  </a:cubicBezTo>
                  <a:cubicBezTo>
                    <a:pt x="1722" y="906"/>
                    <a:pt x="1728" y="876"/>
                    <a:pt x="1745" y="851"/>
                  </a:cubicBezTo>
                  <a:cubicBezTo>
                    <a:pt x="1760" y="795"/>
                    <a:pt x="1772" y="684"/>
                    <a:pt x="1814" y="645"/>
                  </a:cubicBezTo>
                  <a:cubicBezTo>
                    <a:pt x="1830" y="594"/>
                    <a:pt x="1809" y="641"/>
                    <a:pt x="1848" y="602"/>
                  </a:cubicBezTo>
                  <a:cubicBezTo>
                    <a:pt x="1887" y="563"/>
                    <a:pt x="1840" y="584"/>
                    <a:pt x="1891" y="568"/>
                  </a:cubicBezTo>
                  <a:cubicBezTo>
                    <a:pt x="1927" y="530"/>
                    <a:pt x="1966" y="501"/>
                    <a:pt x="2003" y="464"/>
                  </a:cubicBezTo>
                  <a:cubicBezTo>
                    <a:pt x="2033" y="375"/>
                    <a:pt x="2031" y="233"/>
                    <a:pt x="2140" y="198"/>
                  </a:cubicBezTo>
                  <a:cubicBezTo>
                    <a:pt x="2180" y="160"/>
                    <a:pt x="2225" y="129"/>
                    <a:pt x="2269" y="95"/>
                  </a:cubicBezTo>
                  <a:cubicBezTo>
                    <a:pt x="2275" y="90"/>
                    <a:pt x="2299" y="66"/>
                    <a:pt x="2304" y="60"/>
                  </a:cubicBezTo>
                  <a:cubicBezTo>
                    <a:pt x="2310" y="52"/>
                    <a:pt x="2321" y="35"/>
                    <a:pt x="232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>
              <a:off x="3267000" y="5029200"/>
              <a:ext cx="20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4008240" y="5029200"/>
              <a:ext cx="693360" cy="251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382" h="138">
                  <a:moveTo>
                    <a:pt x="0" y="0"/>
                  </a:moveTo>
                  <a:cubicBezTo>
                    <a:pt x="24" y="35"/>
                    <a:pt x="40" y="104"/>
                    <a:pt x="86" y="120"/>
                  </a:cubicBezTo>
                  <a:cubicBezTo>
                    <a:pt x="103" y="126"/>
                    <a:pt x="138" y="138"/>
                    <a:pt x="138" y="138"/>
                  </a:cubicBezTo>
                  <a:cubicBezTo>
                    <a:pt x="175" y="135"/>
                    <a:pt x="213" y="134"/>
                    <a:pt x="250" y="129"/>
                  </a:cubicBezTo>
                  <a:cubicBezTo>
                    <a:pt x="295" y="123"/>
                    <a:pt x="324" y="68"/>
                    <a:pt x="361" y="43"/>
                  </a:cubicBezTo>
                  <a:cubicBezTo>
                    <a:pt x="382" y="12"/>
                    <a:pt x="379" y="28"/>
                    <a:pt x="3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2228040" y="3125520"/>
              <a:ext cx="420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3267000" y="2299320"/>
              <a:ext cx="230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ечная до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>
              <a:off x="3432240" y="5193360"/>
              <a:ext cx="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"/>
            <p:cNvSpPr/>
            <p:nvPr/>
          </p:nvSpPr>
          <p:spPr>
            <a:xfrm>
              <a:off x="3843000" y="5359320"/>
              <a:ext cx="8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4"/>
            <p:cNvSpPr/>
            <p:nvPr/>
          </p:nvSpPr>
          <p:spPr>
            <a:xfrm>
              <a:off x="4585320" y="5441040"/>
              <a:ext cx="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>
              <a:off x="4832640" y="5193360"/>
              <a:ext cx="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4173120" y="5441040"/>
              <a:ext cx="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3875400" y="4367160"/>
              <a:ext cx="9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ус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4338360" y="46972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3794040" y="397512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й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V="1">
              <a:off x="3299760" y="3457080"/>
              <a:ext cx="1800" cy="15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V="1">
              <a:off x="5359320" y="3457080"/>
              <a:ext cx="1440" cy="15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3299760" y="4367160"/>
              <a:ext cx="20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2195640" y="353952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5359320" y="3623400"/>
              <a:ext cx="106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>
              <a:off x="2207880" y="306504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л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6"/>
            <p:cNvSpPr/>
            <p:nvPr/>
          </p:nvSpPr>
          <p:spPr>
            <a:xfrm>
              <a:off x="5254920" y="306504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ли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47037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4049280" y="62564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Ен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а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32720" cy="46688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3423240" y="630864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Северная Д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481800" cy="4643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4050000" y="625644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Ам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а рек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1413000"/>
          <a:ext cx="8785440" cy="5027400"/>
        </p:xfrm>
        <a:graphic>
          <a:graphicData uri="http://schemas.openxmlformats.org/drawingml/2006/table">
            <a:tbl>
              <a:tblPr/>
              <a:tblGrid>
                <a:gridCol w="2081160"/>
                <a:gridCol w="1832040"/>
                <a:gridCol w="2681280"/>
                <a:gridCol w="21909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е чер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а рек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268280"/>
          <a:ext cx="9144000" cy="5356440"/>
        </p:xfrm>
        <a:graphic>
          <a:graphicData uri="http://schemas.openxmlformats.org/drawingml/2006/table">
            <a:tbl>
              <a:tblPr/>
              <a:tblGrid>
                <a:gridCol w="2098800"/>
                <a:gridCol w="1974600"/>
                <a:gridCol w="2522520"/>
                <a:gridCol w="2548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е чер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58"/>
          <p:cNvSpPr/>
          <p:nvPr/>
        </p:nvSpPr>
        <p:spPr>
          <a:xfrm>
            <a:off x="0" y="2492280"/>
            <a:ext cx="20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Географическое положение (часть страны, бассейн океа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5"/>
          <p:cNvSpPr/>
          <p:nvPr/>
        </p:nvSpPr>
        <p:spPr>
          <a:xfrm>
            <a:off x="0" y="3716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6"/>
          <p:cNvSpPr/>
          <p:nvPr/>
        </p:nvSpPr>
        <p:spPr>
          <a:xfrm>
            <a:off x="0" y="4292640"/>
            <a:ext cx="13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Уст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8"/>
          <p:cNvSpPr/>
          <p:nvPr/>
        </p:nvSpPr>
        <p:spPr>
          <a:xfrm>
            <a:off x="0" y="4869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ит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9"/>
          <p:cNvSpPr/>
          <p:nvPr/>
        </p:nvSpPr>
        <p:spPr>
          <a:xfrm>
            <a:off x="0" y="55897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Режим ре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0"/>
          <p:cNvSpPr/>
          <p:nvPr/>
        </p:nvSpPr>
        <p:spPr>
          <a:xfrm>
            <a:off x="2124000" y="2492280"/>
            <a:ext cx="19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вропейская часть страны, относи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бассейну внутреннего сто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4"/>
          <p:cNvSpPr/>
          <p:nvPr/>
        </p:nvSpPr>
        <p:spPr>
          <a:xfrm>
            <a:off x="4067280" y="2492280"/>
            <a:ext cx="27572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зиатская часть страны, относится к бассейну Северного Ледовитого оке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5"/>
          <p:cNvSpPr/>
          <p:nvPr/>
        </p:nvSpPr>
        <p:spPr>
          <a:xfrm>
            <a:off x="6622920" y="2492280"/>
            <a:ext cx="252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зиатская часть страны, относится к бассейну Северного Ледовитого океа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7"/>
          <p:cNvSpPr/>
          <p:nvPr/>
        </p:nvSpPr>
        <p:spPr>
          <a:xfrm>
            <a:off x="692784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8"/>
          <p:cNvSpPr/>
          <p:nvPr/>
        </p:nvSpPr>
        <p:spPr>
          <a:xfrm>
            <a:off x="2124000" y="364500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дайская возвышен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9"/>
          <p:cNvSpPr/>
          <p:nvPr/>
        </p:nvSpPr>
        <p:spPr>
          <a:xfrm>
            <a:off x="4067280" y="3645000"/>
            <a:ext cx="23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йкальский хреб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0"/>
          <p:cNvSpPr/>
          <p:nvPr/>
        </p:nvSpPr>
        <p:spPr>
          <a:xfrm>
            <a:off x="6622920" y="3645000"/>
            <a:ext cx="252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ияние двух рек Бия и Кату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1"/>
          <p:cNvSpPr/>
          <p:nvPr/>
        </p:nvSpPr>
        <p:spPr>
          <a:xfrm>
            <a:off x="2124000" y="429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спийское мо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2"/>
          <p:cNvSpPr/>
          <p:nvPr/>
        </p:nvSpPr>
        <p:spPr>
          <a:xfrm>
            <a:off x="4067280" y="4221000"/>
            <a:ext cx="273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верный Ледовит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е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3"/>
          <p:cNvSpPr/>
          <p:nvPr/>
        </p:nvSpPr>
        <p:spPr>
          <a:xfrm>
            <a:off x="6622920" y="422100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верный Ледовитый оке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7"/>
          <p:cNvSpPr/>
          <p:nvPr/>
        </p:nvSpPr>
        <p:spPr>
          <a:xfrm>
            <a:off x="2124000" y="4797360"/>
            <a:ext cx="203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овое, грунтовые и дождевые в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7"/>
          <p:cNvSpPr/>
          <p:nvPr/>
        </p:nvSpPr>
        <p:spPr>
          <a:xfrm>
            <a:off x="4067280" y="4797360"/>
            <a:ext cx="261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лые снеговые и дождевые в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8"/>
          <p:cNvSpPr/>
          <p:nvPr/>
        </p:nvSpPr>
        <p:spPr>
          <a:xfrm>
            <a:off x="6588000" y="479736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о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9"/>
          <p:cNvSpPr/>
          <p:nvPr/>
        </p:nvSpPr>
        <p:spPr>
          <a:xfrm>
            <a:off x="2124000" y="5516640"/>
            <a:ext cx="22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ннее половодье, летняя и зимняя межень, осенние дождевые павод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4067280" y="5516640"/>
            <a:ext cx="252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ннее половодье, довольно высокие паводки летом и низкая осенне-зимняя меж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4"/>
          <p:cNvSpPr/>
          <p:nvPr/>
        </p:nvSpPr>
        <p:spPr>
          <a:xfrm>
            <a:off x="6588000" y="558972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ннее - летнего половод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9:30:03Z</dcterms:created>
  <dc:creator>Admin</dc:creator>
  <dc:description/>
  <dc:language>en-US</dc:language>
  <cp:lastModifiedBy>Надежда</cp:lastModifiedBy>
  <dcterms:modified xsi:type="dcterms:W3CDTF">2013-03-10T14:08:27Z</dcterms:modified>
  <cp:revision>5</cp:revision>
  <dc:subject/>
  <dc:title>Реки России</dc:title>
</cp:coreProperties>
</file>