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C57-0E70-4034-88C6-5B640E89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7EF-CF71-4F45-A96C-6222E432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550-0BC7-4FA6-AC67-6ADF0C00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92A-D45F-42FF-93F4-57440EDE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78FD5-6DB6-4FBC-9A38-2127E313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D3AD1-F14F-4671-A37C-FC7D3751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EE43F-9CED-4D3B-A8E8-E5BA14BF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C834E-0E7E-4343-84D3-8DA149D9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90558-2FFF-438B-B0AF-649BA22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FD46E-9F4E-4A6A-84EE-14D5FCCB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66377-95A3-4CD1-9CF0-2BCE22D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8DD-7D1B-4EC7-98B5-78760E6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860F-375D-4587-967E-490B192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56889-1271-4687-888B-5918BE85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C36ED-2CCE-47F5-B099-E74BFF7D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8604-C639-4F71-AB31-A9604C0E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25138-B763-40DC-A244-DB10AF00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E2478-7468-4571-9214-0812BBEB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8E956-FDFD-41A3-9EDA-3DAB405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7655F-839C-4D04-B319-DF50ECBD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94966-8B2B-465D-8EE4-38BA30A4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FAE36-F7AE-4473-B080-CFF47CC0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78B-1896-4A87-BCDB-702966DF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439FF-4DEB-47A8-9D01-850DF2D2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8C63A-1CCD-4149-B864-BCEE656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27CF8-AE7C-4730-8B44-DE96E06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A1379-4F6E-4425-B8D8-C6F338FC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5EC40-B44F-4F3B-9A72-C08AB59B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F4BD1-2FFF-41E5-8AD2-07CD9515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050F7-2360-4D49-A21A-52B82166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17A3-60D1-423E-9879-487CB822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81A84-322D-440F-BCB7-88AD6A5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6A13-1803-4338-B39C-D82D2DE9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0C8-7E40-4B91-92C7-99F96C79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D62B-9F8A-4165-9458-CF80460A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EACA6-DDF2-40E7-A1D2-AAFC96CE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69EB-8D8C-411F-B0CD-F407223F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0232-2733-4E3B-BE7F-617F144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B009-ECA5-4E74-8191-96CA8E9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DEEC-2C18-4AFA-9BFB-1AC8039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9DFB-F0F8-4627-9857-85B3970C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5A1F-7CFE-4D73-B98F-83691DC4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9AB4-3656-4E38-A835-ABCC3895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5782-F172-4C0A-AC11-5D92816C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B15-9835-45F0-A262-8D163333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3428-0880-45FC-951C-7C7206BF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03671-DF4A-4EB3-8F5B-C8070E7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ECF2C-CE8A-455B-911D-213810F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7514-96C5-419D-816B-2CBE385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DF9C7-A3A3-4735-8A0D-68F7934C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65746-0C57-4118-B812-9B23A22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52EE8-8076-447A-9A5A-68B2B16D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7CBDC-4E4A-4280-B23B-D357B426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ECE44-381E-43E3-A707-A0211330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5570-DC1F-482F-9362-67D44AA2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E46-2597-4ACB-9CEF-E3D665D8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DC72A-09EA-46CF-975E-F039C0F3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681B7-559D-45C1-9A24-45A82066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0C79-2CC2-4C49-810B-66F92C0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8AF20-D554-4670-A1D5-AD73502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EA007-9D94-445A-BD67-70B5ABED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54222-EB70-43F6-85DA-6CBCCE9D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BE68A-76FE-472F-A737-4917088F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21A0-B132-48E2-A297-768A87C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E305E-783D-402A-93A8-ECD5868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B2C7F-53A1-4525-AEC3-1283A4C5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B07-25E7-4E39-8568-EEA1F86A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E6BF9-B274-4EF4-B1A1-1A829F7F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AD70-E552-4E1E-84B1-3EDF4062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21C4D-962E-41E0-996D-394D6E25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CC6FC-5784-4E16-8FF1-88641976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6F1D1-C588-4782-9C15-F4E4BF22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D5CE-70BD-4450-BE2F-F444EE1F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FA57D-7A9F-4E24-8E39-4F0C8605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44371-630B-4A86-BD2F-B35EC169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55BEC-2E9F-4086-8420-5A42158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4AD55-96A6-4468-B5AE-3D44B56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83F-B2EA-4C64-B4E8-911FEEC4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3AC77-0B5D-4C64-8AC4-D507736F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A4DA1-D7A9-4753-8053-81E2D801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F4C9E-1246-489C-85B9-0B3FC6E9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373E4-A8F6-43D4-9441-BD947D3A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F2BED-B0A2-4F30-8A20-608D9461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2BC-B209-4E00-95E6-F734C8EF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CAB9-CB00-46EC-9DFD-8C414E9996D0}" type="slidenum"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D63E-4047-417E-8D25-7EE991DAD652}" type="slidenum"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56B-551D-4EC9-A2E6-EBE19F16742D}" type="slidenum"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3C2F-795E-4EE7-BE91-5DDD3A6D0225}" type="slidenum"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2E0E-2171-400F-B10C-1DC0F3030D3D}" type="slidenum"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E7DE-D8A7-4CD5-9314-5FB52EC6CC40}" type="slidenum"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19A7-67B1-43B3-A6F9-763217F8FD4F}" type="slidenum"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РЕЛЬЕФ РОССИ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8408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1 строка – одно слово, обычно существительное, отражающее  главную идею;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2 строка – два слова, прилагательные, описывающие основную мысль;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3 строка – три слова, глаголы, описывающие действия в  рамках темы;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4 строка - фраза из нескольких слов, выражающая отношение к теме;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5 строка – одно слово (ассоциация, синоним к теме, обычно существительное, допускается описательный оборот, эмоциональное отношение к теме)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СИНКВЕЙН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880" y="1719360"/>
            <a:ext cx="84391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1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. В рельефе России преобладают _________________ 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2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По особенностям рельефа Россию можно разделить на ________ части: западную и восточную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3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западной части преобладают ___________, а в восточной _______ и _______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4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оры располагаются в основном на _______ и ___________ России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5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Рельеф России повышается с _______ на _______ и с запада на _______ 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6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Самая высокая точка России – гора __________. Она располагается на __________. Её высота _____ . Самая низкая точка располагается на ______________ низменности. Её высота _______ метров ниже уровня моря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ОСНОВНЫЕ ЧЕРТЫ РЕЛЬЕФ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5003640" y="1700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ин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846000" y="234936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4859280" y="27496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ин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490680" y="30924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TextBox 8"/>
          <p:cNvSpPr/>
          <p:nvPr/>
        </p:nvSpPr>
        <p:spPr>
          <a:xfrm>
            <a:off x="1835280" y="30542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бт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5364000" y="34257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к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6732720" y="34257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го-восток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4563720" y="407664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а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6253920" y="40766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г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4" name="TextBox 13"/>
          <p:cNvSpPr/>
          <p:nvPr/>
        </p:nvSpPr>
        <p:spPr>
          <a:xfrm>
            <a:off x="850680" y="43704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к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TextBox 14"/>
          <p:cNvSpPr/>
          <p:nvPr/>
        </p:nvSpPr>
        <p:spPr>
          <a:xfrm>
            <a:off x="5462280" y="4770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ьбрус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6" name="TextBox 15"/>
          <p:cNvSpPr/>
          <p:nvPr/>
        </p:nvSpPr>
        <p:spPr>
          <a:xfrm>
            <a:off x="2814480" y="50418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TextBox 16"/>
          <p:cNvSpPr/>
          <p:nvPr/>
        </p:nvSpPr>
        <p:spPr>
          <a:xfrm>
            <a:off x="5614920" y="5046840"/>
            <a:ext cx="11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42 м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TextBox 17"/>
          <p:cNvSpPr/>
          <p:nvPr/>
        </p:nvSpPr>
        <p:spPr>
          <a:xfrm>
            <a:off x="3419640" y="542124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спийской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490680" y="56214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8 м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7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7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7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7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РЕЛЬЕФ РОССИ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684360" y="1844640"/>
            <a:ext cx="1584000" cy="79236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2700360" y="1844640"/>
            <a:ext cx="1511280" cy="79236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внины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1530360" cy="811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6783480" y="1844640"/>
            <a:ext cx="1530360" cy="8110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8"/>
          <p:cNvSpPr/>
          <p:nvPr/>
        </p:nvSpPr>
        <p:spPr>
          <a:xfrm>
            <a:off x="4716360" y="19191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Горы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 высо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Прямоугольник 9"/>
          <p:cNvSpPr/>
          <p:nvPr/>
        </p:nvSpPr>
        <p:spPr>
          <a:xfrm>
            <a:off x="6783480" y="191772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внины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 высо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Прямоугольник 11"/>
          <p:cNvSpPr/>
          <p:nvPr/>
        </p:nvSpPr>
        <p:spPr>
          <a:xfrm>
            <a:off x="1908000" y="3357720"/>
            <a:ext cx="5256360" cy="86328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оссия расположена на Евразийской пли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8" name="Прямоугольник 12"/>
          <p:cNvSpPr/>
          <p:nvPr/>
        </p:nvSpPr>
        <p:spPr>
          <a:xfrm>
            <a:off x="1908000" y="4545000"/>
            <a:ext cx="5256360" cy="79200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чему рельеф России так разнообразен?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329" name="Прямая со стрелкой 17"/>
          <p:cNvCxnSpPr>
            <a:stCxn id="322" idx="2"/>
          </p:cNvCxnSpPr>
          <p:nvPr/>
        </p:nvCxnSpPr>
        <p:spPr>
          <a:xfrm>
            <a:off x="3455640" y="2637000"/>
            <a:ext cx="1080" cy="19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0" name="Прямая со стрелкой 19"/>
          <p:cNvCxnSpPr/>
          <p:nvPr/>
        </p:nvCxnSpPr>
        <p:spPr>
          <a:xfrm flipH="1">
            <a:off x="5471280" y="2655720"/>
            <a:ext cx="10440" cy="189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1" name="Прямая со стрелкой 21"/>
          <p:cNvCxnSpPr/>
          <p:nvPr/>
        </p:nvCxnSpPr>
        <p:spPr>
          <a:xfrm>
            <a:off x="1763640" y="2655720"/>
            <a:ext cx="505440" cy="189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2" name="Прямая со стрелкой 23"/>
          <p:cNvCxnSpPr/>
          <p:nvPr/>
        </p:nvCxnSpPr>
        <p:spPr>
          <a:xfrm flipH="1">
            <a:off x="6589800" y="2690640"/>
            <a:ext cx="576360" cy="18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3" name="Прямая со стрелкой 25"/>
          <p:cNvCxnSpPr>
            <a:stCxn id="327" idx="2"/>
            <a:endCxn id="328" idx="0"/>
          </p:cNvCxnSpPr>
          <p:nvPr/>
        </p:nvCxnSpPr>
        <p:spPr>
          <a:xfrm>
            <a:off x="4535280" y="4220640"/>
            <a:ext cx="1080" cy="36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4379760" y="5337000"/>
            <a:ext cx="384480" cy="554040"/>
          </a:xfrm>
          <a:prstGeom prst="rect">
            <a:avLst/>
          </a:prstGeom>
          <a:ln w="0">
            <a:noFill/>
          </a:ln>
        </p:spPr>
      </p:pic>
      <p:sp>
        <p:nvSpPr>
          <p:cNvPr id="335" name="Управляющая кнопка: справка 27"/>
          <p:cNvSpPr/>
          <p:nvPr/>
        </p:nvSpPr>
        <p:spPr>
          <a:xfrm>
            <a:off x="4032360" y="5732640"/>
            <a:ext cx="1008000" cy="86508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5167" h="21600">
                <a:moveTo>
                  <a:pt x="0" y="0"/>
                </a:moveTo>
                <a:lnTo>
                  <a:pt x="25167" y="0"/>
                </a:lnTo>
                <a:lnTo>
                  <a:pt x="25167" y="21600"/>
                </a:lnTo>
                <a:lnTo>
                  <a:pt x="0" y="21600"/>
                </a:lnTo>
                <a:close/>
              </a:path>
              <a:path fill="lightenLess" w="25167" h="21600">
                <a:moveTo>
                  <a:pt x="0" y="0"/>
                </a:moveTo>
                <a:lnTo>
                  <a:pt x="25167" y="0"/>
                </a:lnTo>
                <a:lnTo>
                  <a:pt x="23767" y="1400"/>
                </a:lnTo>
                <a:lnTo>
                  <a:pt x="1400" y="1400"/>
                </a:lnTo>
                <a:close/>
              </a:path>
              <a:path fill="darken" w="25167" h="21600">
                <a:moveTo>
                  <a:pt x="25167" y="0"/>
                </a:moveTo>
                <a:lnTo>
                  <a:pt x="25167" y="21600"/>
                </a:lnTo>
                <a:lnTo>
                  <a:pt x="23767" y="20200"/>
                </a:lnTo>
                <a:lnTo>
                  <a:pt x="23767" y="1400"/>
                </a:lnTo>
                <a:close/>
              </a:path>
              <a:path fill="darkenLess" w="25167" h="21600">
                <a:moveTo>
                  <a:pt x="2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7" y="20200"/>
                </a:lnTo>
                <a:close/>
              </a:path>
              <a:path fill="lighten" w="2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7" h="21600">
                <a:moveTo>
                  <a:pt x="1258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7" h="21600">
                <a:moveTo>
                  <a:pt x="13689" y="14281"/>
                </a:moveTo>
                <a:lnTo>
                  <a:pt x="13689" y="12323"/>
                </a:lnTo>
                <a:cubicBezTo>
                  <a:pt x="13689" y="11496"/>
                  <a:pt x="14020" y="10800"/>
                  <a:pt x="14620" y="10800"/>
                </a:cubicBezTo>
                <a:cubicBezTo>
                  <a:pt x="15752" y="10800"/>
                  <a:pt x="16648" y="9434"/>
                  <a:pt x="16648" y="7849"/>
                </a:cubicBezTo>
                <a:cubicBezTo>
                  <a:pt x="16648" y="5534"/>
                  <a:pt x="14794" y="3794"/>
                  <a:pt x="12584" y="3794"/>
                </a:cubicBezTo>
                <a:cubicBezTo>
                  <a:pt x="10373" y="3794"/>
                  <a:pt x="8702" y="5534"/>
                  <a:pt x="8702" y="7849"/>
                </a:cubicBezTo>
                <a:lnTo>
                  <a:pt x="10556" y="7849"/>
                </a:lnTo>
                <a:cubicBezTo>
                  <a:pt x="10556" y="6709"/>
                  <a:pt x="11478" y="5821"/>
                  <a:pt x="12584" y="5821"/>
                </a:cubicBezTo>
                <a:cubicBezTo>
                  <a:pt x="13689" y="5821"/>
                  <a:pt x="14620" y="6709"/>
                  <a:pt x="14620" y="7849"/>
                </a:cubicBezTo>
                <a:cubicBezTo>
                  <a:pt x="14620" y="8589"/>
                  <a:pt x="14150" y="9320"/>
                  <a:pt x="13689" y="9320"/>
                </a:cubicBezTo>
                <a:cubicBezTo>
                  <a:pt x="12584" y="9320"/>
                  <a:pt x="11478" y="10800"/>
                  <a:pt x="11478" y="12323"/>
                </a:cubicBezTo>
                <a:lnTo>
                  <a:pt x="11478" y="14281"/>
                </a:lnTo>
                <a:close/>
              </a:path>
            </a:pathLst>
          </a:cu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ПОЧЕМУ РЕЛЬЕФ РФ РАЗНООБРАЗЕН?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258920" y="1708200"/>
            <a:ext cx="6769080" cy="4835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ая выноска 3"/>
          <p:cNvSpPr/>
          <p:nvPr/>
        </p:nvSpPr>
        <p:spPr>
          <a:xfrm>
            <a:off x="250920" y="4632480"/>
            <a:ext cx="1477800" cy="792000"/>
          </a:xfrm>
          <a:prstGeom prst="wedgeRectCallout">
            <a:avLst>
              <a:gd name="adj1" fmla="val 107550"/>
              <a:gd name="adj2" fmla="val -103666"/>
            </a:avLst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латформа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Прямоугольная выноска 4"/>
          <p:cNvSpPr/>
          <p:nvPr/>
        </p:nvSpPr>
        <p:spPr>
          <a:xfrm>
            <a:off x="6156360" y="4545000"/>
            <a:ext cx="2663640" cy="647640"/>
          </a:xfrm>
          <a:prstGeom prst="wedgeRectCallout">
            <a:avLst>
              <a:gd name="adj1" fmla="val -102509"/>
              <a:gd name="adj2" fmla="val 113805"/>
            </a:avLst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Складчатые обла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Прямоугольная выноска 5"/>
          <p:cNvSpPr/>
          <p:nvPr/>
        </p:nvSpPr>
        <p:spPr>
          <a:xfrm>
            <a:off x="250920" y="2403360"/>
            <a:ext cx="779400" cy="612720"/>
          </a:xfrm>
          <a:prstGeom prst="wedgeRectCallout">
            <a:avLst>
              <a:gd name="adj1" fmla="val 320120"/>
              <a:gd name="adj2" fmla="val 98685"/>
            </a:avLst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Щит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79280" y="1628640"/>
          <a:ext cx="8785440" cy="504036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Форма рельеф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тоническая 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осточно-Европейская рав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Западно-Сибирская рав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реднесибирское плоскогор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авказские г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Уральские г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Ал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ихотэ-Али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ерхоянский хре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ая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355680"/>
            <a:ext cx="87854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ПРАКТИЧЕСКАЯ РАБОТА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ВЫЯВЛЕНИЕ ВЗАИМОСВЯЗИ МЕЖДУ РЕЛЬЕФОМ И ТЕКТОНИЧЕСКИМИ СТРУКТУРАМИ НА ТЕРРИТОРИИ РОССИИ</a:t>
            </a: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4618080" y="225252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Русская платформа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4554720" y="27795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Западно-Сибирская плита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4595400" y="320184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Сибирская платформа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4502880" y="367200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кайнозой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4509000" y="422604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герцин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4484160" y="46800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герцинской и каледонской скл.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TextBox 4"/>
          <p:cNvSpPr/>
          <p:nvPr/>
        </p:nvSpPr>
        <p:spPr>
          <a:xfrm>
            <a:off x="4518720" y="527832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мезозой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4518720" y="571176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мезозой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4508640" y="621180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каледон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7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7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7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7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7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7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7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7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79280" y="1628280"/>
            <a:ext cx="878544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1. Преобладание равнинного рельефа в России связано с ______________строением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2. Крупным равнинам в тектоническом строении соответствуют ____________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3. В рельефе складчатым областям соответствуют _______ и ________ 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4. В областях новой складчатости сформировались _________горы. Они относятся по высоте _________ горам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5. В областях древней складчатости располагаются___________ и _________ горы по высоте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6. Разнообразие рельефа России связано с _________________ тектонического строения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95280" y="197172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тоническим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438480" y="257328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6733440" y="301464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340560" y="33228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орья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6877080" y="368316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3570840" y="392112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ысоким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TextBox 9"/>
          <p:cNvSpPr/>
          <p:nvPr/>
        </p:nvSpPr>
        <p:spPr>
          <a:xfrm>
            <a:off x="6962760" y="43228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2" name="TextBox 10"/>
          <p:cNvSpPr/>
          <p:nvPr/>
        </p:nvSpPr>
        <p:spPr>
          <a:xfrm>
            <a:off x="443520" y="466884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5853600" y="492588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ями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7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7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7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7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7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7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80880" y="1719000"/>
            <a:ext cx="8407440" cy="44067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2308320" y="166680"/>
            <a:ext cx="485604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РЕЛЬЕФ РОССИ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84360" y="1844640"/>
            <a:ext cx="1584000" cy="79236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2700360" y="1844640"/>
            <a:ext cx="1511280" cy="79236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внины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1530360" cy="811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783480" y="1844640"/>
            <a:ext cx="1530360" cy="8110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4716360" y="19191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Горы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 высо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Прямоугольник 9"/>
          <p:cNvSpPr/>
          <p:nvPr/>
        </p:nvSpPr>
        <p:spPr>
          <a:xfrm>
            <a:off x="6783480" y="191772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внины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 высо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Прямоугольник 11"/>
          <p:cNvSpPr/>
          <p:nvPr/>
        </p:nvSpPr>
        <p:spPr>
          <a:xfrm>
            <a:off x="1908000" y="3357720"/>
            <a:ext cx="5256360" cy="86328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оссия расположена на Евразийской пли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Прямоугольник 12"/>
          <p:cNvSpPr/>
          <p:nvPr/>
        </p:nvSpPr>
        <p:spPr>
          <a:xfrm>
            <a:off x="1908000" y="4545000"/>
            <a:ext cx="5256360" cy="79200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чему рельеф России так разнообразен?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376" name="Прямая со стрелкой 17"/>
          <p:cNvCxnSpPr>
            <a:stCxn id="369" idx="2"/>
          </p:cNvCxnSpPr>
          <p:nvPr/>
        </p:nvCxnSpPr>
        <p:spPr>
          <a:xfrm>
            <a:off x="3455640" y="2637000"/>
            <a:ext cx="1080" cy="19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7" name="Прямая со стрелкой 19"/>
          <p:cNvCxnSpPr/>
          <p:nvPr/>
        </p:nvCxnSpPr>
        <p:spPr>
          <a:xfrm flipH="1">
            <a:off x="5471280" y="2655720"/>
            <a:ext cx="10440" cy="189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8" name="Прямая со стрелкой 21"/>
          <p:cNvCxnSpPr/>
          <p:nvPr/>
        </p:nvCxnSpPr>
        <p:spPr>
          <a:xfrm>
            <a:off x="1763640" y="2655720"/>
            <a:ext cx="505440" cy="189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9" name="Прямая со стрелкой 23"/>
          <p:cNvCxnSpPr/>
          <p:nvPr/>
        </p:nvCxnSpPr>
        <p:spPr>
          <a:xfrm flipH="1">
            <a:off x="6589800" y="2690640"/>
            <a:ext cx="576360" cy="18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0" name="Прямая со стрелкой 25"/>
          <p:cNvCxnSpPr>
            <a:stCxn id="374" idx="2"/>
            <a:endCxn id="375" idx="0"/>
          </p:cNvCxnSpPr>
          <p:nvPr/>
        </p:nvCxnSpPr>
        <p:spPr>
          <a:xfrm>
            <a:off x="4535280" y="4220640"/>
            <a:ext cx="1080" cy="36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81" name="Picture 4" descr=""/>
          <p:cNvPicPr/>
          <p:nvPr/>
        </p:nvPicPr>
        <p:blipFill>
          <a:blip r:embed="rId3"/>
          <a:stretch/>
        </p:blipFill>
        <p:spPr>
          <a:xfrm>
            <a:off x="4379760" y="5337000"/>
            <a:ext cx="384480" cy="5540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1908000" y="5732640"/>
            <a:ext cx="5256360" cy="72072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знообразно тектоническое строени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7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п. 11, в. 1-3(у.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501480" indent="-457200"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Номенклатура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8:36:06Z</dcterms:created>
  <dc:creator>Надежда</dc:creator>
  <dc:description/>
  <dc:language>en-US</dc:language>
  <cp:lastModifiedBy>Надежда</cp:lastModifiedBy>
  <dcterms:modified xsi:type="dcterms:W3CDTF">2013-03-10T14:30:20Z</dcterms:modified>
  <cp:revision>28</cp:revision>
  <dc:subject/>
  <dc:title>Рельеф России</dc:title>
</cp:coreProperties>
</file>