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B23-B16A-4853-B822-6A5A92A1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E2-7D58-4D73-AADD-E67190C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F4A-D668-421F-993A-8DB91654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361-9AE7-41F9-B60D-253F21FE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28A0-D58D-4AA8-9AEA-71052450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BFCE6-FBED-48EC-BFF8-EAD237B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7B37-4C40-43B8-ABD2-18389037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B5A3C-0887-4B6F-B7DF-FECD4F0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0E85B-265A-4EC1-924D-DB01EA2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90B4-145F-41F5-803F-0EF79BA0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A1B4-F3D1-42D8-BD66-A7C3F66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E08-5F33-4A75-888E-418BE9C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49AAD-1FD9-4267-AB88-AC0DA1CE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81DF-4EF7-41D5-A99E-CD1CCF4F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D113D-FE0E-4190-BF2E-B097FA4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7F9A-9F7B-4CF0-AF37-B4078BB5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6A44-917E-4310-BD82-AD790EDA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401C2-962A-48C6-9B32-4943D415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75DA9-62B8-4696-B13C-A4524678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E8B96-A836-4C89-AE02-89197D46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7330D-FEB4-4757-B6EC-9945CD33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24A85-1FD5-4FEA-A4C5-50A77F6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94B-8CDC-4FFD-84F6-FE9F647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F3016-7499-49AA-BD96-3A95E07E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0DF2A-706D-44F9-81B3-F5BAD67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E53AC-18F3-403F-B516-A000D43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94AF9-1A92-481D-A6C8-B24BDD8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B6791-4043-4798-B1B3-613617BC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EF922-E37B-4B03-A201-3BCB01B7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2D66C-77B7-431F-89BA-8B753E9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C7D5-6493-45AA-939F-0C62375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8804-9635-4FCF-AA5F-4D19892E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6E84-BED6-4BAF-AF6C-50CA237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5F7-AC1F-4E5C-B656-22C32EF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21AF-08BE-4D72-8F5B-363ABD6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12D4-978F-480C-80FE-E6032C6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1ECF-6D00-4F9A-A16D-0AF6E620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B7DC-3408-41E9-B84E-2D35C5B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E3C4-0A98-4FF1-B2BC-7BAC801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621F-B78C-4BDD-A678-FA446D7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FA09-9DDF-4C6A-9A27-0D1934F1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85CF-BE18-4196-864C-108F82F2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C8A1-BB37-4211-8695-1C0E6700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C9FC-5C62-426F-BB46-5C55F583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3AB-AC86-4262-91F4-F45B5902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B870-CC55-4B2B-8DA7-66D926B8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4AAF-C3E4-42C3-A599-40A144F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5CF0-80B0-49C7-9B5E-B275CF13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88AE5-2548-45B9-B477-F9A56E5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902C-81D4-4763-B61C-BCB01058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56AF-659D-442C-8588-00439AD9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3C26-2BD7-4A07-B72B-48B8CD9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CECD-884F-4749-9EEA-3FD68AA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CD37-B906-45E1-9421-3ABBD798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9152-CEF0-4256-8FA2-081C5445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780-4E5A-4175-8B31-973FEDC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52B6-B8AB-4F43-BFCF-2B5C1F65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E146-6500-41FD-9F02-FA0D0BF2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BD0D-656B-42BB-B495-7551695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B427-BBBF-4ABF-B74C-8C7EA6B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9AD9-D2C1-412B-ADF7-5A79E83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6714-47AD-4F7C-AC78-675A114F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1A79-0A1F-43C2-B58B-08E3D1ED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7507-3FB2-486C-AEC5-7581043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3DBF-9A87-4794-B626-A7BA560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E17B-A7D2-48BF-BB4F-A4BE146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7AB-8E77-4A9D-93C9-1C9C61F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38CB-EF48-4C9E-9F47-DB4B807E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4E13B-AF21-4737-88B3-93BAA515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1FEA5-A34A-409B-9806-4F16009B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6994-34E7-44F5-AA10-30C3033B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67B35-3A9D-4F37-9A7A-5E0C991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1A70-7A63-42EB-AD59-C4F637F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4E52-CD58-4FD8-9480-6D6C01D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6E21-324E-4EE2-8C7B-A6D99AC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F73A-93DB-44B0-9BD5-48089A3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6D54-8599-47A4-AC07-DBAB5A68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3D3-189D-4526-91AB-DA724F8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273F-F56B-4334-9316-1B3FDAE0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6355D-7658-4002-8696-CD6FED5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BAC6-D850-44EE-9A34-4487ECE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5C31-FB7A-444D-B35F-2696C6B8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6040-6F0F-4AD3-906C-461E7B81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C82-95AE-42B9-9C86-DB52324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52AF-0ACB-4F22-92F3-151AE491B329}" type="slidenum"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C587-0D35-4641-824E-3AF343F13E2C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8EA0-4675-4464-AD3C-46760A780DA4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A47-AC42-434B-AD3C-392AF5416BF2}" type="slidenum"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A03-1769-4C27-8839-11424561EE4F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F369-B791-41B3-A03B-D9DB9675B5BF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Franklin Gothic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B9DB-817B-451E-A60D-97AE49DB03B7}" type="slidenum">
              <a:rPr b="0" lang="ru-RU" sz="1100" spc="-1" strike="noStrike">
                <a:solidFill>
                  <a:srgbClr val="ccd1b9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40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1 строка – одно слово, обычно существительное, отражающее  главную идею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2 строка – два слова, прилагательные, описывающие основную мысль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3 строка – три слова, глаголы, описывающие действия в  рамках темы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4 строка - фраза из нескольких слов, выражающая отношение к теме;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34949"/>
                </a:solidFill>
                <a:latin typeface="Franklin Gothic Medium"/>
              </a:rPr>
              <a:t>5 строка – одно слово (ассоциация, синоним к теме, обычно существительное, допускается описательный оборот, эмоциональное отношение к теме)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СИНКВЕЙН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880" y="1719360"/>
            <a:ext cx="84391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1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 В рельефе России преобладают _________________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2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о особенностям рельефа Россию можно разделить на ________ части: западную и восточную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3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западной части преобладают ___________, а в восточной _______ и _______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4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оры располагаются в основном на _______ и ___________ России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5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Рельеф России повышается с _______ на _______ и с запада на _______ 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6. 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Самая высокая точка России – гора __________. Она располагается на __________. Её высота _____ . Самая низкая точка располагается на ______________ низменности. Её высота _______ метров ниже уровня моря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ОСНОВНЫЕ ЧЕРТЫ РЕЛЬЕФ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5003640" y="1700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ин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846000" y="234936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4859280" y="27496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ин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490680" y="30924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1835280" y="30542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бт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5364000" y="34257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к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6732720" y="34257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о-восток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4563720" y="40766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а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6253920" y="40766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850680" y="43704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к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5462280" y="4770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ьбрус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TextBox 15"/>
          <p:cNvSpPr/>
          <p:nvPr/>
        </p:nvSpPr>
        <p:spPr>
          <a:xfrm>
            <a:off x="2814480" y="50418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TextBox 16"/>
          <p:cNvSpPr/>
          <p:nvPr/>
        </p:nvSpPr>
        <p:spPr>
          <a:xfrm>
            <a:off x="5614920" y="5046840"/>
            <a:ext cx="11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42 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3419640" y="542124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спийской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490680" y="56214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8 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684360" y="1844640"/>
            <a:ext cx="158400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2700360" y="1844640"/>
            <a:ext cx="151128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530360" cy="811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6783480" y="1844640"/>
            <a:ext cx="1530360" cy="8110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8"/>
          <p:cNvSpPr/>
          <p:nvPr/>
        </p:nvSpPr>
        <p:spPr>
          <a:xfrm>
            <a:off x="4716360" y="1919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Прямоугольник 9"/>
          <p:cNvSpPr/>
          <p:nvPr/>
        </p:nvSpPr>
        <p:spPr>
          <a:xfrm>
            <a:off x="6783480" y="1917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Прямоугольник 11"/>
          <p:cNvSpPr/>
          <p:nvPr/>
        </p:nvSpPr>
        <p:spPr>
          <a:xfrm>
            <a:off x="1908000" y="3357720"/>
            <a:ext cx="5256360" cy="86328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оссия расположена на Евразийской пли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Прямоугольник 12"/>
          <p:cNvSpPr/>
          <p:nvPr/>
        </p:nvSpPr>
        <p:spPr>
          <a:xfrm>
            <a:off x="1908000" y="4545000"/>
            <a:ext cx="5256360" cy="79200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чему рельеф России так разнообразен?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29" name="Прямая со стрелкой 17"/>
          <p:cNvCxnSpPr>
            <a:stCxn id="322" idx="2"/>
          </p:cNvCxnSpPr>
          <p:nvPr/>
        </p:nvCxnSpPr>
        <p:spPr>
          <a:xfrm>
            <a:off x="3455640" y="2637000"/>
            <a:ext cx="1080" cy="19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0" name="Прямая со стрелкой 19"/>
          <p:cNvCxnSpPr/>
          <p:nvPr/>
        </p:nvCxnSpPr>
        <p:spPr>
          <a:xfrm flipH="1">
            <a:off x="5471280" y="2655720"/>
            <a:ext cx="10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1" name="Прямая со стрелкой 21"/>
          <p:cNvCxnSpPr/>
          <p:nvPr/>
        </p:nvCxnSpPr>
        <p:spPr>
          <a:xfrm>
            <a:off x="1763640" y="2655720"/>
            <a:ext cx="505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Прямая со стрелкой 23"/>
          <p:cNvCxnSpPr/>
          <p:nvPr/>
        </p:nvCxnSpPr>
        <p:spPr>
          <a:xfrm flipH="1">
            <a:off x="6589800" y="2690640"/>
            <a:ext cx="576360" cy="18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3" name="Прямая со стрелкой 25"/>
          <p:cNvCxnSpPr>
            <a:stCxn id="327" idx="2"/>
            <a:endCxn id="328" idx="0"/>
          </p:cNvCxnSpPr>
          <p:nvPr/>
        </p:nvCxnSpPr>
        <p:spPr>
          <a:xfrm>
            <a:off x="4535280" y="4220640"/>
            <a:ext cx="1080" cy="36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4379760" y="5337000"/>
            <a:ext cx="384480" cy="554040"/>
          </a:xfrm>
          <a:prstGeom prst="rect">
            <a:avLst/>
          </a:prstGeom>
          <a:ln w="0">
            <a:noFill/>
          </a:ln>
        </p:spPr>
      </p:pic>
      <p:sp>
        <p:nvSpPr>
          <p:cNvPr id="335" name="Управляющая кнопка: справка 27"/>
          <p:cNvSpPr/>
          <p:nvPr/>
        </p:nvSpPr>
        <p:spPr>
          <a:xfrm>
            <a:off x="4032360" y="5732640"/>
            <a:ext cx="1008000" cy="86508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258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67" h="21600">
                <a:moveTo>
                  <a:pt x="13689" y="14281"/>
                </a:moveTo>
                <a:lnTo>
                  <a:pt x="13689" y="12323"/>
                </a:lnTo>
                <a:cubicBezTo>
                  <a:pt x="13689" y="11496"/>
                  <a:pt x="14020" y="10800"/>
                  <a:pt x="14620" y="10800"/>
                </a:cubicBezTo>
                <a:cubicBezTo>
                  <a:pt x="15752" y="10800"/>
                  <a:pt x="16648" y="9434"/>
                  <a:pt x="16648" y="7849"/>
                </a:cubicBezTo>
                <a:cubicBezTo>
                  <a:pt x="16648" y="5534"/>
                  <a:pt x="14794" y="3794"/>
                  <a:pt x="12584" y="3794"/>
                </a:cubicBezTo>
                <a:cubicBezTo>
                  <a:pt x="10373" y="3794"/>
                  <a:pt x="8702" y="5534"/>
                  <a:pt x="8702" y="7849"/>
                </a:cubicBezTo>
                <a:lnTo>
                  <a:pt x="10556" y="7849"/>
                </a:lnTo>
                <a:cubicBezTo>
                  <a:pt x="10556" y="6709"/>
                  <a:pt x="11478" y="5821"/>
                  <a:pt x="12584" y="5821"/>
                </a:cubicBezTo>
                <a:cubicBezTo>
                  <a:pt x="13689" y="5821"/>
                  <a:pt x="14620" y="6709"/>
                  <a:pt x="14620" y="7849"/>
                </a:cubicBezTo>
                <a:cubicBezTo>
                  <a:pt x="14620" y="8589"/>
                  <a:pt x="14150" y="9320"/>
                  <a:pt x="13689" y="9320"/>
                </a:cubicBezTo>
                <a:cubicBezTo>
                  <a:pt x="12584" y="9320"/>
                  <a:pt x="11478" y="10800"/>
                  <a:pt x="11478" y="12323"/>
                </a:cubicBezTo>
                <a:lnTo>
                  <a:pt x="11478" y="14281"/>
                </a:lnTo>
                <a:close/>
              </a:path>
            </a:pathLst>
          </a:cu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ОЧЕМУ РЕЛЬЕФ РФ РАЗНООБРАЗЕН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9080" cy="4835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ая выноска 3"/>
          <p:cNvSpPr/>
          <p:nvPr/>
        </p:nvSpPr>
        <p:spPr>
          <a:xfrm>
            <a:off x="250920" y="4632480"/>
            <a:ext cx="1477800" cy="792000"/>
          </a:xfrm>
          <a:prstGeom prst="wedgeRectCallout">
            <a:avLst>
              <a:gd name="adj1" fmla="val 107550"/>
              <a:gd name="adj2" fmla="val -103666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латформа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Прямоугольная выноска 4"/>
          <p:cNvSpPr/>
          <p:nvPr/>
        </p:nvSpPr>
        <p:spPr>
          <a:xfrm>
            <a:off x="6156360" y="4545000"/>
            <a:ext cx="2663640" cy="647640"/>
          </a:xfrm>
          <a:prstGeom prst="wedgeRectCallout">
            <a:avLst>
              <a:gd name="adj1" fmla="val -102509"/>
              <a:gd name="adj2" fmla="val 113805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Складчатые обла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Прямоугольная выноска 5"/>
          <p:cNvSpPr/>
          <p:nvPr/>
        </p:nvSpPr>
        <p:spPr>
          <a:xfrm>
            <a:off x="250920" y="2403360"/>
            <a:ext cx="779400" cy="612720"/>
          </a:xfrm>
          <a:prstGeom prst="wedgeRectCallout">
            <a:avLst>
              <a:gd name="adj1" fmla="val 320120"/>
              <a:gd name="adj2" fmla="val 98685"/>
            </a:avLst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Щит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79280" y="1628640"/>
          <a:ext cx="8785440" cy="50403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Форма релье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Тектоническая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осточно-Европейская рав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Западно-Сибирская рав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реднесибирское плоскогор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авказские г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Уральские г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ихотэ-Али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ерхоянский хре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Сая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355680"/>
            <a:ext cx="87854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РАКТИЧЕСКАЯ РАБОТА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ВЫЯВЛЕНИЕ ВЗАИМОСВЯЗИ МЕЖДУ РЕЛЬЕФОМ И ТЕКТОНИЧЕСКИМИ СТРУКТУРАМИ НА ТЕРРИТОРИИ РОССИИ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4618080" y="22525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Русская платформ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4554720" y="27795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Западно-Сибирская плит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4595400" y="320184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Сибирская платформ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4502880" y="367200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кайн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4509000" y="422604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герцин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4484160" y="46800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герцинской и каледонской скл.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4518720" y="52783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мез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4518720" y="571176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мезозой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4508640" y="621180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Обл. каледонской складчатости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7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7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7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79280" y="1628280"/>
            <a:ext cx="878544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1. Преобладание равнинного рельефа в России связано с ______________строением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2. Крупным равнинам в тектоническом строении соответствуют ____________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3. В рельефе складчатым областям соответствуют _______ и ________ 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4. В областях новой складчатости сформировались _________горы. Они относятся по высоте _________ горам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5. В областях древней складчатости располагаются___________ и _________ горы по высоте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6. Разнообразие рельефа России связано с _________________ тектонического строения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95280" y="197172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тонически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438480" y="257328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733440" y="301464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ы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40560" y="33228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рья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6877080" y="368316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3570840" y="392112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оким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6962760" y="432288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2" name="TextBox 10"/>
          <p:cNvSpPr/>
          <p:nvPr/>
        </p:nvSpPr>
        <p:spPr>
          <a:xfrm>
            <a:off x="443520" y="46688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е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5853600" y="49258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ми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7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7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7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7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1719000"/>
            <a:ext cx="8407440" cy="44067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2308320" y="166680"/>
            <a:ext cx="485604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РЕЛЬЕФ РОССИ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84360" y="1844640"/>
            <a:ext cx="158400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2700360" y="1844640"/>
            <a:ext cx="1511280" cy="79236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530360" cy="81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783480" y="1844640"/>
            <a:ext cx="1530360" cy="8110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4716360" y="19191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Гор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Прямоугольник 9"/>
          <p:cNvSpPr/>
          <p:nvPr/>
        </p:nvSpPr>
        <p:spPr>
          <a:xfrm>
            <a:off x="6783480" y="1917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внины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 высо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1908000" y="3357720"/>
            <a:ext cx="5256360" cy="86328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оссия расположена на Евразийской плит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1908000" y="4545000"/>
            <a:ext cx="5256360" cy="79200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Почему рельеф России так разнообразен?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76" name="Прямая со стрелкой 17"/>
          <p:cNvCxnSpPr>
            <a:stCxn id="369" idx="2"/>
          </p:cNvCxnSpPr>
          <p:nvPr/>
        </p:nvCxnSpPr>
        <p:spPr>
          <a:xfrm>
            <a:off x="3455640" y="2637000"/>
            <a:ext cx="1080" cy="19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7" name="Прямая со стрелкой 19"/>
          <p:cNvCxnSpPr/>
          <p:nvPr/>
        </p:nvCxnSpPr>
        <p:spPr>
          <a:xfrm flipH="1">
            <a:off x="5471280" y="2655720"/>
            <a:ext cx="10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Прямая со стрелкой 21"/>
          <p:cNvCxnSpPr/>
          <p:nvPr/>
        </p:nvCxnSpPr>
        <p:spPr>
          <a:xfrm>
            <a:off x="1763640" y="2655720"/>
            <a:ext cx="505440" cy="189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9" name="Прямая со стрелкой 23"/>
          <p:cNvCxnSpPr/>
          <p:nvPr/>
        </p:nvCxnSpPr>
        <p:spPr>
          <a:xfrm flipH="1">
            <a:off x="6589800" y="2690640"/>
            <a:ext cx="576360" cy="18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0" name="Прямая со стрелкой 25"/>
          <p:cNvCxnSpPr>
            <a:stCxn id="374" idx="2"/>
            <a:endCxn id="375" idx="0"/>
          </p:cNvCxnSpPr>
          <p:nvPr/>
        </p:nvCxnSpPr>
        <p:spPr>
          <a:xfrm>
            <a:off x="4535280" y="4220640"/>
            <a:ext cx="1080" cy="36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4379760" y="5337000"/>
            <a:ext cx="384480" cy="5540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1908000" y="5732640"/>
            <a:ext cx="5256360" cy="72072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Medium"/>
              </a:rPr>
              <a:t>Разнообразно тектоническое строение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п. 11, в. 1-3(у.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501480" indent="-457200"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4949"/>
                </a:solidFill>
                <a:latin typeface="Franklin Gothic Medium"/>
              </a:rPr>
              <a:t>Номенклатура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8:36:06Z</dcterms:created>
  <dc:creator>Надежда</dc:creator>
  <dc:description/>
  <dc:language>en-US</dc:language>
  <cp:lastModifiedBy>Надежда</cp:lastModifiedBy>
  <dcterms:modified xsi:type="dcterms:W3CDTF">2013-03-10T14:30:20Z</dcterms:modified>
  <cp:revision>28</cp:revision>
  <dc:subject/>
  <dc:title>Рельеф России</dc:title>
</cp:coreProperties>
</file>