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9.jpeg" ContentType="image/jpeg"/>
  <Override PartName="/ppt/media/image208.jpeg" ContentType="image/jpeg"/>
  <Override PartName="/ppt/media/image199.jpeg" ContentType="image/jpeg"/>
  <Override PartName="/ppt/media/image198.jpeg" ContentType="image/jpeg"/>
  <Override PartName="/ppt/media/image197.jpeg" ContentType="image/jpeg"/>
  <Override PartName="/ppt/media/image196.jpeg" ContentType="image/jpeg"/>
  <Override PartName="/ppt/media/image195.jpeg" ContentType="image/jpeg"/>
  <Override PartName="/ppt/media/image194.jpeg" ContentType="image/jpeg"/>
  <Override PartName="/ppt/media/image193.jpeg" ContentType="image/jpeg"/>
  <Override PartName="/ppt/media/image99.jpeg" ContentType="image/jpeg"/>
  <Override PartName="/ppt/media/image179.jpeg" ContentType="image/jpeg"/>
  <Override PartName="/ppt/media/image178.jpeg" ContentType="image/jpeg"/>
  <Override PartName="/ppt/media/image177.jpeg" ContentType="image/jpeg"/>
  <Override PartName="/ppt/media/image176.jpeg" ContentType="image/jpeg"/>
  <Override PartName="/ppt/media/image175.jpeg" ContentType="image/jpeg"/>
  <Override PartName="/ppt/media/image37.jpeg" ContentType="image/jpeg"/>
  <Override PartName="/ppt/media/image171.jpeg" ContentType="image/jpeg"/>
  <Override PartName="/ppt/media/image170.jpeg" ContentType="image/jpeg"/>
  <Override PartName="/ppt/media/image249.jpeg" ContentType="image/jpeg"/>
  <Override PartName="/ppt/media/image169.jpeg" ContentType="image/jpeg"/>
  <Override PartName="/ppt/media/image168.jpeg" ContentType="image/jpeg"/>
  <Override PartName="/ppt/media/image167.jpeg" ContentType="image/jpeg"/>
  <Override PartName="/ppt/media/image166.jpeg" ContentType="image/jpeg"/>
  <Override PartName="/ppt/media/image165.jpeg" ContentType="image/jpeg"/>
  <Override PartName="/ppt/media/image164.jpeg" ContentType="image/jpeg"/>
  <Override PartName="/ppt/media/image163.jpeg" ContentType="image/jpeg"/>
  <Override PartName="/ppt/media/image69.jpeg" ContentType="image/jpeg"/>
  <Override PartName="/ppt/media/image162.jpeg" ContentType="image/jpeg"/>
  <Override PartName="/ppt/media/image68.jpeg" ContentType="image/jpeg"/>
  <Override PartName="/ppt/media/image161.jpeg" ContentType="image/jpeg"/>
  <Override PartName="/ppt/media/image67.jpeg" ContentType="image/jpeg"/>
  <Override PartName="/ppt/media/image83.jpeg" ContentType="image/jpeg"/>
  <Override PartName="/ppt/media/image253.jpeg" ContentType="image/jpeg"/>
  <Override PartName="/ppt/media/image103.jpeg" ContentType="image/jpeg"/>
  <Override PartName="/ppt/media/image206.jpeg" ContentType="image/jpeg"/>
  <Override PartName="/ppt/media/image36.jpeg" ContentType="image/jpeg"/>
  <Override PartName="/ppt/media/image38.jpeg" ContentType="image/jpeg"/>
  <Override PartName="/ppt/media/image267.jpeg" ContentType="image/jpeg"/>
  <Override PartName="/ppt/media/image2.jpeg" ContentType="image/jpeg"/>
  <Override PartName="/ppt/media/image272.jpeg" ContentType="image/jpeg"/>
  <Override PartName="/ppt/media/image29.jpeg" ContentType="image/jpeg"/>
  <Override PartName="/ppt/media/image97.jpeg" ContentType="image/jpeg"/>
  <Override PartName="/ppt/media/image191.jpeg" ContentType="image/jpeg"/>
  <Override PartName="/ppt/media/image118.jpeg" ContentType="image/jpeg"/>
  <Override PartName="/ppt/media/image7.jpeg" ContentType="image/jpeg"/>
  <Override PartName="/ppt/media/image277.jpeg" ContentType="image/jpeg"/>
  <Override PartName="/ppt/media/image212.jpeg" ContentType="image/jpeg"/>
  <Override PartName="/ppt/media/image42.jpeg" ContentType="image/jpeg"/>
  <Override PartName="/ppt/media/image122.jpeg" ContentType="image/jpeg"/>
  <Override PartName="/ppt/media/image59.jpeg" ContentType="image/jpeg"/>
  <Override PartName="/ppt/media/image266.jpeg" ContentType="image/jpeg"/>
  <Override PartName="/ppt/media/image205.jpeg" ContentType="image/jpeg"/>
  <Override PartName="/ppt/media/image35.jpeg" ContentType="image/jpeg"/>
  <Override PartName="/ppt/media/image96.jpeg" ContentType="image/jpeg"/>
  <Override PartName="/ppt/media/image190.jpeg" ContentType="image/jpeg"/>
  <Override PartName="/ppt/media/image117.jpeg" ContentType="image/jpeg"/>
  <Override PartName="/ppt/media/image28.jpeg" ContentType="image/jpeg"/>
  <Override PartName="/ppt/media/image271.jpeg" ContentType="image/jpeg"/>
  <Override PartName="/ppt/media/image1.jpeg" ContentType="image/jpeg"/>
  <Override PartName="/ppt/media/image89.jpeg" ContentType="image/jpeg"/>
  <Override PartName="/ppt/media/image210.jpeg" ContentType="image/jpeg"/>
  <Override PartName="/ppt/media/image40.jpeg" ContentType="image/jpeg"/>
  <Override PartName="/ppt/media/image182.jpeg" ContentType="image/jpeg"/>
  <Override PartName="/ppt/media/image109.jpeg" ContentType="image/jpeg"/>
  <Override PartName="/ppt/media/image20.jpeg" ContentType="image/jpeg"/>
  <Override PartName="/ppt/media/image13.jpeg" ContentType="image/jpeg"/>
  <Override PartName="/ppt/media/image116.jpeg" ContentType="image/jpeg"/>
  <Override PartName="/ppt/media/image64.jpeg" ContentType="image/jpeg"/>
  <Override PartName="/ppt/media/image234.jpeg" ContentType="image/jpeg"/>
  <Override PartName="/ppt/media/image65.jpeg" ContentType="image/jpeg"/>
  <Override PartName="/ppt/media/image235.jpeg" ContentType="image/jpeg"/>
  <Override PartName="/ppt/media/image60.jpeg" ContentType="image/jpeg"/>
  <Override PartName="/ppt/media/image230.jpeg" ContentType="image/jpeg"/>
  <Override PartName="/ppt/media/image77.jpeg" ContentType="image/jpeg"/>
  <Override PartName="/ppt/media/image247.jpeg" ContentType="image/jpeg"/>
  <Override PartName="/ppt/media/image237.jpeg" ContentType="image/jpeg"/>
  <Override PartName="/ppt/media/image61.jpeg" ContentType="image/jpeg"/>
  <Override PartName="/ppt/media/image231.jpeg" ContentType="image/jpeg"/>
  <Override PartName="/ppt/media/image78.jpeg" ContentType="image/jpeg"/>
  <Override PartName="/ppt/media/image248.jpeg" ContentType="image/jpeg"/>
  <Override PartName="/ppt/media/image238.jpeg" ContentType="image/jpeg"/>
  <Override PartName="/ppt/media/image62.jpeg" ContentType="image/jpeg"/>
  <Override PartName="/ppt/media/image232.jpeg" ContentType="image/jpeg"/>
  <Override PartName="/ppt/media/image79.jpeg" ContentType="image/jpeg"/>
  <Override PartName="/ppt/media/image239.jpeg" ContentType="image/jpeg"/>
  <Override PartName="/ppt/media/image183.jpeg" ContentType="image/jpeg"/>
  <Override PartName="/ppt/media/image21.jpeg" ContentType="image/jpeg"/>
  <Override PartName="/ppt/media/image124.jpeg" ContentType="image/jpeg"/>
  <Override PartName="/ppt/media/image284.jpeg" ContentType="image/jpeg"/>
  <Override PartName="/ppt/media/image285.jpeg" ContentType="image/jpeg"/>
  <Override PartName="/ppt/media/image286.jpeg" ContentType="image/jpeg"/>
  <Override PartName="/ppt/media/image22.jpeg" ContentType="image/jpeg"/>
  <Override PartName="/ppt/media/image184.jpeg" ContentType="image/jpeg"/>
  <Override PartName="/ppt/media/image81.jpeg" ContentType="image/jpeg"/>
  <Override PartName="/ppt/media/image251.jpeg" ContentType="image/jpeg"/>
  <Override PartName="/ppt/media/image101.jpeg" ContentType="image/jpeg"/>
  <Override PartName="/ppt/media/image258.jpeg" ContentType="image/jpeg"/>
  <Override PartName="/ppt/media/image88.jpeg" ContentType="image/jpeg"/>
  <Override PartName="/ppt/media/image281.jpeg" ContentType="image/jpeg"/>
  <Override PartName="/ppt/media/image259.jpeg" ContentType="image/jpeg"/>
  <Override PartName="/ppt/media/image282.jpeg" ContentType="image/jpeg"/>
  <Override PartName="/ppt/media/image260.jpeg" ContentType="image/jpeg"/>
  <Override PartName="/ppt/media/image90.jpeg" ContentType="image/jpeg"/>
  <Override PartName="/ppt/media/image261.jpeg" ContentType="image/jpeg"/>
  <Override PartName="/ppt/media/image91.jpeg" ContentType="image/jpeg"/>
  <Override PartName="/ppt/media/image125.jpeg" ContentType="image/jpeg"/>
  <Override PartName="/ppt/media/image265.jpeg" ContentType="image/jpeg"/>
  <Override PartName="/ppt/media/image95.jpeg" ContentType="image/jpeg"/>
  <Override PartName="/ppt/media/image262.jpeg" ContentType="image/jpeg"/>
  <Override PartName="/ppt/media/image92.jpeg" ContentType="image/jpeg"/>
  <Override PartName="/ppt/media/image126.jpeg" ContentType="image/jpeg"/>
  <Override PartName="/ppt/media/image263.jpeg" ContentType="image/jpeg"/>
  <Override PartName="/ppt/media/image93.jpeg" ContentType="image/jpeg"/>
  <Override PartName="/ppt/media/image288.jpeg" ContentType="image/jpeg"/>
  <Override PartName="/ppt/media/image250.jpeg" ContentType="image/jpeg"/>
  <Override PartName="/ppt/media/image80.jpeg" ContentType="image/jpeg"/>
  <Override PartName="/ppt/media/image51.jpeg" ContentType="image/jpeg"/>
  <Override PartName="/ppt/media/image221.jpeg" ContentType="image/jpeg"/>
  <Override PartName="/ppt/media/image287.jpeg" ContentType="image/jpeg"/>
  <Override PartName="/ppt/media/image269.jpeg" ContentType="image/jpeg"/>
  <Override PartName="/ppt/media/image71.jpeg" ContentType="image/jpeg"/>
  <Override PartName="/ppt/media/image241.jpeg" ContentType="image/jpeg"/>
  <Override PartName="/ppt/media/image264.jpeg" ContentType="image/jpeg"/>
  <Override PartName="/ppt/media/image94.jpeg" ContentType="image/jpeg"/>
  <Override PartName="/ppt/media/image268.jpeg" ContentType="image/jpeg"/>
  <Override PartName="/ppt/media/image70.jpeg" ContentType="image/jpeg"/>
  <Override PartName="/ppt/media/image159.jpeg" ContentType="image/jpeg"/>
  <Override PartName="/ppt/media/image240.jpeg" ContentType="image/jpeg"/>
  <Override PartName="/ppt/media/image283.jpeg" ContentType="image/jpeg"/>
  <Override PartName="/ppt/media/image123.jpeg" ContentType="image/jpeg"/>
  <Override PartName="/ppt/media/image100.jpeg" ContentType="image/jpeg"/>
  <Override PartName="/ppt/media/image257.jpeg" ContentType="image/jpeg"/>
  <Override PartName="/ppt/media/image87.jpeg" ContentType="image/jpeg"/>
  <Override PartName="/ppt/media/image280.jpeg" ContentType="image/jpeg"/>
  <Override PartName="/ppt/media/image207.jpeg" ContentType="image/jpeg"/>
  <Override PartName="/ppt/media/image270.jpeg" ContentType="image/jpeg"/>
  <Override PartName="/ppt/media/image27.jpeg" ContentType="image/jpeg"/>
  <Override PartName="/ppt/media/image189.jpeg" ContentType="image/jpeg"/>
  <Override PartName="/ppt/media/image19.jpeg" ContentType="image/jpeg"/>
  <Override PartName="/ppt/media/image113.jpeg" ContentType="image/jpeg"/>
  <Override PartName="/ppt/media/image278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246.jpeg" ContentType="image/jpeg"/>
  <Override PartName="/ppt/media/image76.jpeg" ContentType="image/jpeg"/>
  <Override PartName="/ppt/media/image245.jpeg" ContentType="image/jpeg"/>
  <Override PartName="/ppt/media/image75.jpeg" ContentType="image/jpeg"/>
  <Override PartName="/ppt/media/image244.jpeg" ContentType="image/jpeg"/>
  <Override PartName="/ppt/media/image74.jpeg" ContentType="image/jpeg"/>
  <Override PartName="/ppt/media/image18.jpeg" ContentType="image/jpeg"/>
  <Override PartName="/ppt/media/image112.jpeg" ContentType="image/jpeg"/>
  <Override PartName="/ppt/media/image17.jpeg" ContentType="image/jpeg"/>
  <Override PartName="/ppt/media/image111.jpeg" ContentType="image/jpeg"/>
  <Override PartName="/ppt/media/image236.jpeg" ContentType="image/jpeg"/>
  <Override PartName="/ppt/media/image160.jpeg" ContentType="image/jpeg"/>
  <Override PartName="/ppt/media/image66.jpeg" ContentType="image/jpeg"/>
  <Override PartName="/ppt/media/image233.jpeg" ContentType="image/jpeg"/>
  <Override PartName="/ppt/media/image63.jpeg" ContentType="image/jpeg"/>
  <Override PartName="/ppt/media/image73.jpeg" ContentType="image/jpeg"/>
  <Override PartName="/ppt/media/image243.jpeg" ContentType="image/jpeg"/>
  <Override PartName="/ppt/media/image72.jpeg" ContentType="image/jpeg"/>
  <Override PartName="/ppt/media/image242.jpeg" ContentType="image/jpeg"/>
  <Override PartName="/ppt/media/image110.jpeg" ContentType="image/jpeg"/>
  <Override PartName="/ppt/media/image16.jpeg" ContentType="image/jpeg"/>
  <Override PartName="/ppt/media/image15.jpeg" ContentType="image/jpeg"/>
  <Override PartName="/ppt/media/camera.wav" ContentType="audio/x-wav"/>
  <Override PartName="/ppt/media/image24.jpeg" ContentType="image/jpeg"/>
  <Override PartName="/ppt/media/image186.jpeg" ContentType="image/jpeg"/>
  <Override PartName="/ppt/media/image273.jpeg" ContentType="image/jpeg"/>
  <Override PartName="/ppt/media/image3.jpeg" ContentType="image/jpeg"/>
  <Override PartName="/ppt/media/image104.jpeg" ContentType="image/jpeg"/>
  <Override PartName="/ppt/media/image84.jpeg" ContentType="image/jpeg"/>
  <Override PartName="/ppt/media/image254.jpeg" ContentType="image/jpeg"/>
  <Override PartName="/ppt/media/image25.jpeg" ContentType="image/jpeg"/>
  <Override PartName="/ppt/media/image187.jpeg" ContentType="image/jpeg"/>
  <Override PartName="/ppt/media/image274.jpeg" ContentType="image/jpeg"/>
  <Override PartName="/ppt/media/image4.jpeg" ContentType="image/jpeg"/>
  <Override PartName="/ppt/media/image105.jpeg" ContentType="image/jpeg"/>
  <Override PartName="/ppt/media/image85.jpeg" ContentType="image/jpeg"/>
  <Override PartName="/ppt/media/image255.jpeg" ContentType="image/jpeg"/>
  <Override PartName="/ppt/media/image26.jpeg" ContentType="image/jpeg"/>
  <Override PartName="/ppt/media/image188.jpeg" ContentType="image/jpeg"/>
  <Override PartName="/ppt/media/image275.jpeg" ContentType="image/jpeg"/>
  <Override PartName="/ppt/media/image5.jpeg" ContentType="image/jpeg"/>
  <Override PartName="/ppt/media/image106.jpeg" ContentType="image/jpeg"/>
  <Override PartName="/ppt/media/image86.jpeg" ContentType="image/jpeg"/>
  <Override PartName="/ppt/media/image256.jpeg" ContentType="image/jpeg"/>
  <Override PartName="/ppt/media/image10.jpeg" ContentType="image/jpeg"/>
  <Override PartName="/ppt/media/image172.jpeg" ContentType="image/jpeg"/>
  <Override PartName="/ppt/media/image50.jpeg" ContentType="image/jpeg"/>
  <Override PartName="/ppt/media/image139.jpeg" ContentType="image/jpeg"/>
  <Override PartName="/ppt/media/image220.jpeg" ContentType="image/jpeg"/>
  <Override PartName="/ppt/media/image276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20.jpeg" ContentType="image/jpeg"/>
  <Override PartName="/ppt/media/image41.jpeg" ContentType="image/jpeg"/>
  <Override PartName="/ppt/media/image211.jpeg" ContentType="image/jpeg"/>
  <Override PartName="/ppt/media/image119.jpeg" ContentType="image/jpeg"/>
  <Override PartName="/ppt/media/image98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252.jpeg" ContentType="image/jpeg"/>
  <Override PartName="/ppt/media/image23.jpeg" ContentType="image/jpeg"/>
  <Override PartName="/ppt/media/image185.jpeg" ContentType="image/jpeg"/>
  <Override PartName="/ppt/media/image39.jpeg" ContentType="image/jpeg"/>
  <Override PartName="/ppt/media/image107.jpeg" ContentType="image/jpeg"/>
  <Override PartName="/ppt/media/image180.jpeg" ContentType="image/jpeg"/>
  <Override PartName="/ppt/media/image11.jpeg" ContentType="image/jpeg"/>
  <Override PartName="/ppt/media/image173.jpeg" ContentType="image/jpeg"/>
  <Override PartName="/ppt/media/image279.jpeg" ContentType="image/jpeg"/>
  <Override PartName="/ppt/media/image9.jpeg" ContentType="image/jpeg"/>
  <Override PartName="/ppt/media/image108.jpeg" ContentType="image/jpeg"/>
  <Override PartName="/ppt/media/image181.jpeg" ContentType="image/jpeg"/>
  <Override PartName="/ppt/media/image12.jpeg" ContentType="image/jpeg"/>
  <Override PartName="/ppt/media/image174.jpeg" ContentType="image/jpeg"/>
  <Override PartName="/ppt/media/image52.jpeg" ContentType="image/jpeg"/>
  <Override PartName="/ppt/media/image222.jpeg" ContentType="image/jpeg"/>
  <Override PartName="/ppt/media/image30.jpeg" ContentType="image/jpeg"/>
  <Override PartName="/ppt/media/image200.jpeg" ContentType="image/jpeg"/>
  <Override PartName="/ppt/media/image31.jpeg" ContentType="image/jpeg"/>
  <Override PartName="/ppt/media/image201.jpeg" ContentType="image/jpeg"/>
  <Override PartName="/ppt/media/image32.jpeg" ContentType="image/jpeg"/>
  <Override PartName="/ppt/media/image202.jpeg" ContentType="image/jpeg"/>
  <Override PartName="/ppt/media/image33.jpeg" ContentType="image/jpeg"/>
  <Override PartName="/ppt/media/image203.jpeg" ContentType="image/jpeg"/>
  <Override PartName="/ppt/media/image34.jpeg" ContentType="image/jpeg"/>
  <Override PartName="/ppt/media/image204.jpeg" ContentType="image/jpeg"/>
  <Override PartName="/ppt/media/image43.jpeg" ContentType="image/jpeg"/>
  <Override PartName="/ppt/media/image213.jpeg" ContentType="image/jpeg"/>
  <Override PartName="/ppt/media/image44.jpeg" ContentType="image/jpeg"/>
  <Override PartName="/ppt/media/image214.jpeg" ContentType="image/jpeg"/>
  <Override PartName="/ppt/media/image45.jpeg" ContentType="image/jpeg"/>
  <Override PartName="/ppt/media/image215.jpeg" ContentType="image/jpeg"/>
  <Override PartName="/ppt/media/image216.jpeg" ContentType="image/jpeg"/>
  <Override PartName="/ppt/media/image217.jpeg" ContentType="image/jpeg"/>
  <Override PartName="/ppt/media/image218.jpeg" ContentType="image/jpeg"/>
  <Override PartName="/ppt/media/image219.jpeg" ContentType="image/jpeg"/>
  <Override PartName="/ppt/media/image53.jpeg" ContentType="image/jpeg"/>
  <Override PartName="/ppt/media/image223.jpeg" ContentType="image/jpeg"/>
  <Override PartName="/ppt/media/image54.jpeg" ContentType="image/jpeg"/>
  <Override PartName="/ppt/media/image224.jpeg" ContentType="image/jpeg"/>
  <Override PartName="/ppt/media/image55.jpeg" ContentType="image/jpeg"/>
  <Override PartName="/ppt/media/image225.jpeg" ContentType="image/jpeg"/>
  <Override PartName="/ppt/media/image56.jpeg" ContentType="image/jpeg"/>
  <Override PartName="/ppt/media/image226.jpeg" ContentType="image/jpeg"/>
  <Override PartName="/ppt/media/image57.jpeg" ContentType="image/jpeg"/>
  <Override PartName="/ppt/media/image227.jpeg" ContentType="image/jpeg"/>
  <Override PartName="/ppt/media/image58.jpeg" ContentType="image/jpeg"/>
  <Override PartName="/ppt/media/image228.jpeg" ContentType="image/jpeg"/>
  <Override PartName="/ppt/media/image127.jpeg" ContentType="image/jpeg"/>
  <Override PartName="/ppt/media/image128.jpeg" ContentType="image/jpeg"/>
  <Override PartName="/ppt/media/image129.jpeg" ContentType="image/jpeg"/>
  <Override PartName="/ppt/media/image130.jpeg" ContentType="image/jpeg"/>
  <Override PartName="/ppt/media/image131.jpeg" ContentType="image/jpeg"/>
  <Override PartName="/ppt/media/image132.jpeg" ContentType="image/jpeg"/>
  <Override PartName="/ppt/media/image133.jpeg" ContentType="image/jpeg"/>
  <Override PartName="/ppt/media/image134.jpeg" ContentType="image/jpeg"/>
  <Override PartName="/ppt/media/image135.jpeg" ContentType="image/jpeg"/>
  <Override PartName="/ppt/media/image136.jpeg" ContentType="image/jpeg"/>
  <Override PartName="/ppt/media/image137.jpeg" ContentType="image/jpeg"/>
  <Override PartName="/ppt/media/image138.jpeg" ContentType="image/jpeg"/>
  <Override PartName="/ppt/media/image46.jpeg" ContentType="image/jpeg"/>
  <Override PartName="/ppt/media/image140.jpeg" ContentType="image/jpeg"/>
  <Override PartName="/ppt/media/image47.jpeg" ContentType="image/jpeg"/>
  <Override PartName="/ppt/media/image141.jpeg" ContentType="image/jpeg"/>
  <Override PartName="/ppt/media/image48.jpeg" ContentType="image/jpeg"/>
  <Override PartName="/ppt/media/image142.jpeg" ContentType="image/jpeg"/>
  <Override PartName="/ppt/media/image49.jpeg" ContentType="image/jpeg"/>
  <Override PartName="/ppt/media/image143.jpeg" ContentType="image/jpeg"/>
  <Override PartName="/ppt/media/image144.jpeg" ContentType="image/jpeg"/>
  <Override PartName="/ppt/media/image145.jpeg" ContentType="image/jpeg"/>
  <Override PartName="/ppt/media/image146.jpeg" ContentType="image/jpeg"/>
  <Override PartName="/ppt/media/image147.jpeg" ContentType="image/jpeg"/>
  <Override PartName="/ppt/media/image148.jpeg" ContentType="image/jpeg"/>
  <Override PartName="/ppt/media/image149.jpeg" ContentType="image/jpeg"/>
  <Override PartName="/ppt/media/image229.jpeg" ContentType="image/jpeg"/>
  <Override PartName="/ppt/media/image150.jpeg" ContentType="image/jpeg"/>
  <Override PartName="/ppt/media/image151.jpeg" ContentType="image/jpeg"/>
  <Override PartName="/ppt/media/image152.jpeg" ContentType="image/jpeg"/>
  <Override PartName="/ppt/media/image153.jpeg" ContentType="image/jpeg"/>
  <Override PartName="/ppt/media/image154.jpeg" ContentType="image/jpeg"/>
  <Override PartName="/ppt/media/image155.jpeg" ContentType="image/jpeg"/>
  <Override PartName="/ppt/media/image156.jpeg" ContentType="image/jpeg"/>
  <Override PartName="/ppt/media/image157.jpeg" ContentType="image/jpeg"/>
  <Override PartName="/ppt/media/image15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4B5-DAEF-4F82-894B-318F259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546-453C-4407-988C-F8FB25D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067-D66A-4A51-BA45-BC7C33CF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B3D-BB97-4D32-BCED-F6A370DD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4B4B-3E0D-43B3-8C59-BC1DF5A8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8473-8654-485A-8DA3-D55B67D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0DEA-0390-4DD9-A471-9508BF7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FFB-2558-4F5D-BCE9-5588894C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4180-06B7-439F-B4ED-8FB44AF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D003-641E-4CAE-9C6F-943E260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FE2-6662-4C74-A7CF-9F63BC7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40C-4CCF-4E8C-8FC1-96A3E6D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5E37-4C7D-4382-A277-32A444B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6084-C3D1-4110-A7B5-BE5B9D1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BDC5-0AE0-4C71-9C38-A871AF3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8B27-F64C-46F3-90B0-57D01E71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013-2B01-4512-9169-A729FF0B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5F7-393A-4565-8B02-088B1AF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25F-0781-4BF5-8F5E-787E85D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BEC-F70F-4703-A03F-791FF0C8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0D-CE11-4FAB-948D-8EA331ED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7D8-DDDB-415F-A17D-E655FCA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9ED-0206-40F0-B3CA-AB67935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6E-C38F-4389-B2B1-F08BE63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2C7-55B7-4545-9B67-2FC098BAC04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862-E32F-4709-A1E5-2D0F4E91304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image" Target="../media/image135.jpeg"/><Relationship Id="rId5" Type="http://schemas.openxmlformats.org/officeDocument/2006/relationships/image" Target="../media/image136.jpeg"/><Relationship Id="rId6" Type="http://schemas.openxmlformats.org/officeDocument/2006/relationships/image" Target="../media/image137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image" Target="../media/image146.jpeg"/><Relationship Id="rId6" Type="http://schemas.openxmlformats.org/officeDocument/2006/relationships/image" Target="../media/image147.jpeg"/><Relationship Id="rId7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8.jpeg"/><Relationship Id="rId2" Type="http://schemas.openxmlformats.org/officeDocument/2006/relationships/image" Target="../media/image149.jpeg"/><Relationship Id="rId3" Type="http://schemas.openxmlformats.org/officeDocument/2006/relationships/image" Target="../media/image150.jpeg"/><Relationship Id="rId4" Type="http://schemas.openxmlformats.org/officeDocument/2006/relationships/image" Target="../media/image151.jpeg"/><Relationship Id="rId5" Type="http://schemas.openxmlformats.org/officeDocument/2006/relationships/image" Target="../media/image152.jpeg"/><Relationship Id="rId6" Type="http://schemas.openxmlformats.org/officeDocument/2006/relationships/image" Target="../media/image153.jpeg"/><Relationship Id="rId7" Type="http://schemas.openxmlformats.org/officeDocument/2006/relationships/image" Target="../media/image154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5.jpeg"/><Relationship Id="rId2" Type="http://schemas.openxmlformats.org/officeDocument/2006/relationships/image" Target="../media/image156.jpeg"/><Relationship Id="rId3" Type="http://schemas.openxmlformats.org/officeDocument/2006/relationships/image" Target="../media/image157.jpeg"/><Relationship Id="rId4" Type="http://schemas.openxmlformats.org/officeDocument/2006/relationships/image" Target="../media/image158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60.jpeg"/><Relationship Id="rId3" Type="http://schemas.openxmlformats.org/officeDocument/2006/relationships/image" Target="../media/image161.jpeg"/><Relationship Id="rId4" Type="http://schemas.openxmlformats.org/officeDocument/2006/relationships/image" Target="../media/image162.jpeg"/><Relationship Id="rId5" Type="http://schemas.openxmlformats.org/officeDocument/2006/relationships/image" Target="../media/image163.jpeg"/><Relationship Id="rId6" Type="http://schemas.openxmlformats.org/officeDocument/2006/relationships/image" Target="../media/image164.jpeg"/><Relationship Id="rId7" Type="http://schemas.openxmlformats.org/officeDocument/2006/relationships/image" Target="../media/image165.jpeg"/><Relationship Id="rId8" Type="http://schemas.openxmlformats.org/officeDocument/2006/relationships/image" Target="../media/image166.jpe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jpeg"/><Relationship Id="rId3" Type="http://schemas.openxmlformats.org/officeDocument/2006/relationships/image" Target="../media/image169.jpeg"/><Relationship Id="rId4" Type="http://schemas.openxmlformats.org/officeDocument/2006/relationships/image" Target="../media/image170.jpeg"/><Relationship Id="rId5" Type="http://schemas.openxmlformats.org/officeDocument/2006/relationships/image" Target="../media/image171.jpeg"/><Relationship Id="rId6" Type="http://schemas.openxmlformats.org/officeDocument/2006/relationships/image" Target="../media/image172.jpeg"/><Relationship Id="rId7" Type="http://schemas.openxmlformats.org/officeDocument/2006/relationships/image" Target="../media/image173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4.jpeg"/><Relationship Id="rId2" Type="http://schemas.openxmlformats.org/officeDocument/2006/relationships/image" Target="../media/image175.jpeg"/><Relationship Id="rId3" Type="http://schemas.openxmlformats.org/officeDocument/2006/relationships/image" Target="../media/image176.jpeg"/><Relationship Id="rId4" Type="http://schemas.openxmlformats.org/officeDocument/2006/relationships/image" Target="../media/image177.jpeg"/><Relationship Id="rId5" Type="http://schemas.openxmlformats.org/officeDocument/2006/relationships/image" Target="../media/image178.jpeg"/><Relationship Id="rId6" Type="http://schemas.openxmlformats.org/officeDocument/2006/relationships/image" Target="../media/image179.jpeg"/><Relationship Id="rId7" Type="http://schemas.openxmlformats.org/officeDocument/2006/relationships/image" Target="../media/image180.jpeg"/><Relationship Id="rId8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1.jpeg"/><Relationship Id="rId2" Type="http://schemas.openxmlformats.org/officeDocument/2006/relationships/image" Target="../media/image182.jpeg"/><Relationship Id="rId3" Type="http://schemas.openxmlformats.org/officeDocument/2006/relationships/image" Target="../media/image183.jpeg"/><Relationship Id="rId4" Type="http://schemas.openxmlformats.org/officeDocument/2006/relationships/image" Target="../media/image184.jpeg"/><Relationship Id="rId5" Type="http://schemas.openxmlformats.org/officeDocument/2006/relationships/image" Target="../media/image185.jpeg"/><Relationship Id="rId6" Type="http://schemas.openxmlformats.org/officeDocument/2006/relationships/image" Target="../media/image186.jpeg"/><Relationship Id="rId7" Type="http://schemas.openxmlformats.org/officeDocument/2006/relationships/image" Target="../media/image187.jpeg"/><Relationship Id="rId8" Type="http://schemas.openxmlformats.org/officeDocument/2006/relationships/image" Target="../media/image188.jpeg"/><Relationship Id="rId9" Type="http://schemas.openxmlformats.org/officeDocument/2006/relationships/image" Target="../media/image189.jpeg"/><Relationship Id="rId10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0.jpeg"/><Relationship Id="rId2" Type="http://schemas.openxmlformats.org/officeDocument/2006/relationships/image" Target="../media/image191.jpeg"/><Relationship Id="rId3" Type="http://schemas.openxmlformats.org/officeDocument/2006/relationships/image" Target="../media/image192.jpeg"/><Relationship Id="rId4" Type="http://schemas.openxmlformats.org/officeDocument/2006/relationships/image" Target="../media/image193.jpeg"/><Relationship Id="rId5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4.jpeg"/><Relationship Id="rId2" Type="http://schemas.openxmlformats.org/officeDocument/2006/relationships/image" Target="../media/image195.jpeg"/><Relationship Id="rId3" Type="http://schemas.openxmlformats.org/officeDocument/2006/relationships/image" Target="../media/image196.jpeg"/><Relationship Id="rId4" Type="http://schemas.openxmlformats.org/officeDocument/2006/relationships/image" Target="../media/image197.jpeg"/><Relationship Id="rId5" Type="http://schemas.openxmlformats.org/officeDocument/2006/relationships/image" Target="../media/image198.jpeg"/><Relationship Id="rId6" Type="http://schemas.openxmlformats.org/officeDocument/2006/relationships/image" Target="../media/image199.jpeg"/><Relationship Id="rId7" Type="http://schemas.openxmlformats.org/officeDocument/2006/relationships/image" Target="../media/image200.jpe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1.jpeg"/><Relationship Id="rId2" Type="http://schemas.openxmlformats.org/officeDocument/2006/relationships/image" Target="../media/image202.jpeg"/><Relationship Id="rId3" Type="http://schemas.openxmlformats.org/officeDocument/2006/relationships/image" Target="../media/image203.jpeg"/><Relationship Id="rId4" Type="http://schemas.openxmlformats.org/officeDocument/2006/relationships/image" Target="../media/image204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5.jpeg"/><Relationship Id="rId2" Type="http://schemas.openxmlformats.org/officeDocument/2006/relationships/image" Target="../media/image206.jpeg"/><Relationship Id="rId3" Type="http://schemas.openxmlformats.org/officeDocument/2006/relationships/image" Target="../media/image207.jpeg"/><Relationship Id="rId4" Type="http://schemas.openxmlformats.org/officeDocument/2006/relationships/image" Target="../media/image208.jpeg"/><Relationship Id="rId5" Type="http://schemas.openxmlformats.org/officeDocument/2006/relationships/image" Target="../media/image209.jpeg"/><Relationship Id="rId6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0.jpeg"/><Relationship Id="rId2" Type="http://schemas.openxmlformats.org/officeDocument/2006/relationships/image" Target="../media/image211.jpeg"/><Relationship Id="rId3" Type="http://schemas.openxmlformats.org/officeDocument/2006/relationships/image" Target="../media/image212.jpeg"/><Relationship Id="rId4" Type="http://schemas.openxmlformats.org/officeDocument/2006/relationships/image" Target="../media/image213.jpeg"/><Relationship Id="rId5" Type="http://schemas.openxmlformats.org/officeDocument/2006/relationships/image" Target="../media/image214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jpeg"/><Relationship Id="rId4" Type="http://schemas.openxmlformats.org/officeDocument/2006/relationships/image" Target="../media/image218.jpeg"/><Relationship Id="rId5" Type="http://schemas.openxmlformats.org/officeDocument/2006/relationships/image" Target="../media/image219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0.jpeg"/><Relationship Id="rId2" Type="http://schemas.openxmlformats.org/officeDocument/2006/relationships/image" Target="../media/image221.jpeg"/><Relationship Id="rId3" Type="http://schemas.openxmlformats.org/officeDocument/2006/relationships/image" Target="../media/image222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3.jpeg"/><Relationship Id="rId2" Type="http://schemas.openxmlformats.org/officeDocument/2006/relationships/image" Target="../media/image224.jpeg"/><Relationship Id="rId3" Type="http://schemas.openxmlformats.org/officeDocument/2006/relationships/image" Target="../media/image225.jpeg"/><Relationship Id="rId4" Type="http://schemas.openxmlformats.org/officeDocument/2006/relationships/image" Target="../media/image226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7.jpeg"/><Relationship Id="rId2" Type="http://schemas.openxmlformats.org/officeDocument/2006/relationships/image" Target="../media/image22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9.jpeg"/><Relationship Id="rId2" Type="http://schemas.openxmlformats.org/officeDocument/2006/relationships/image" Target="../media/image230.jpeg"/><Relationship Id="rId3" Type="http://schemas.openxmlformats.org/officeDocument/2006/relationships/image" Target="../media/image231.jpeg"/><Relationship Id="rId4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jpeg"/><Relationship Id="rId3" Type="http://schemas.openxmlformats.org/officeDocument/2006/relationships/image" Target="../media/image234.jpeg"/><Relationship Id="rId4" Type="http://schemas.openxmlformats.org/officeDocument/2006/relationships/image" Target="../media/image235.jpeg"/><Relationship Id="rId5" Type="http://schemas.openxmlformats.org/officeDocument/2006/relationships/image" Target="../media/image236.jpeg"/><Relationship Id="rId6" Type="http://schemas.openxmlformats.org/officeDocument/2006/relationships/image" Target="../media/image237.jpe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8.jpeg"/><Relationship Id="rId2" Type="http://schemas.openxmlformats.org/officeDocument/2006/relationships/image" Target="../media/image239.jpeg"/><Relationship Id="rId3" Type="http://schemas.openxmlformats.org/officeDocument/2006/relationships/image" Target="../media/image240.jpeg"/><Relationship Id="rId4" Type="http://schemas.openxmlformats.org/officeDocument/2006/relationships/image" Target="../media/image241.jpeg"/><Relationship Id="rId5" Type="http://schemas.openxmlformats.org/officeDocument/2006/relationships/image" Target="../media/image24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3.jpeg"/><Relationship Id="rId2" Type="http://schemas.openxmlformats.org/officeDocument/2006/relationships/image" Target="../media/image244.jpeg"/><Relationship Id="rId3" Type="http://schemas.openxmlformats.org/officeDocument/2006/relationships/image" Target="../media/image245.jpeg"/><Relationship Id="rId4" Type="http://schemas.openxmlformats.org/officeDocument/2006/relationships/slideLayout" Target="../slideLayouts/slideLayout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6.jpeg"/><Relationship Id="rId2" Type="http://schemas.openxmlformats.org/officeDocument/2006/relationships/image" Target="../media/image247.jpeg"/><Relationship Id="rId3" Type="http://schemas.openxmlformats.org/officeDocument/2006/relationships/image" Target="../media/image24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9.jpeg"/><Relationship Id="rId2" Type="http://schemas.openxmlformats.org/officeDocument/2006/relationships/image" Target="../media/image250.jpeg"/><Relationship Id="rId3" Type="http://schemas.openxmlformats.org/officeDocument/2006/relationships/image" Target="../media/image251.jpeg"/><Relationship Id="rId4" Type="http://schemas.openxmlformats.org/officeDocument/2006/relationships/image" Target="../media/image252.jpeg"/><Relationship Id="rId5" Type="http://schemas.openxmlformats.org/officeDocument/2006/relationships/image" Target="../media/image253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jpeg"/><Relationship Id="rId3" Type="http://schemas.openxmlformats.org/officeDocument/2006/relationships/image" Target="../media/image256.jpeg"/><Relationship Id="rId4" Type="http://schemas.openxmlformats.org/officeDocument/2006/relationships/image" Target="../media/image257.jpeg"/><Relationship Id="rId5" Type="http://schemas.openxmlformats.org/officeDocument/2006/relationships/image" Target="../media/image258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jpeg"/><Relationship Id="rId3" Type="http://schemas.openxmlformats.org/officeDocument/2006/relationships/image" Target="../media/image261.jpeg"/><Relationship Id="rId4" Type="http://schemas.openxmlformats.org/officeDocument/2006/relationships/image" Target="../media/image262.jpeg"/><Relationship Id="rId5" Type="http://schemas.openxmlformats.org/officeDocument/2006/relationships/image" Target="../media/image263.jpeg"/><Relationship Id="rId6" Type="http://schemas.openxmlformats.org/officeDocument/2006/relationships/image" Target="../media/image264.jpe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5.jpeg"/><Relationship Id="rId2" Type="http://schemas.openxmlformats.org/officeDocument/2006/relationships/image" Target="../media/image266.jpeg"/><Relationship Id="rId3" Type="http://schemas.openxmlformats.org/officeDocument/2006/relationships/image" Target="../media/image267.jpeg"/><Relationship Id="rId4" Type="http://schemas.openxmlformats.org/officeDocument/2006/relationships/image" Target="../media/image268.jpeg"/><Relationship Id="rId5" Type="http://schemas.openxmlformats.org/officeDocument/2006/relationships/image" Target="../media/image269.jpeg"/><Relationship Id="rId6" Type="http://schemas.openxmlformats.org/officeDocument/2006/relationships/image" Target="../media/image270.jpeg"/><Relationship Id="rId7" Type="http://schemas.openxmlformats.org/officeDocument/2006/relationships/image" Target="../media/image271.jpe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2.jpeg"/><Relationship Id="rId2" Type="http://schemas.openxmlformats.org/officeDocument/2006/relationships/image" Target="../media/image273.jpeg"/><Relationship Id="rId3" Type="http://schemas.openxmlformats.org/officeDocument/2006/relationships/image" Target="../media/image274.jpeg"/><Relationship Id="rId4" Type="http://schemas.openxmlformats.org/officeDocument/2006/relationships/image" Target="../media/image275.jpeg"/><Relationship Id="rId5" Type="http://schemas.openxmlformats.org/officeDocument/2006/relationships/image" Target="../media/image276.jpeg"/><Relationship Id="rId6" Type="http://schemas.openxmlformats.org/officeDocument/2006/relationships/image" Target="../media/image277.jpeg"/><Relationship Id="rId7" Type="http://schemas.openxmlformats.org/officeDocument/2006/relationships/image" Target="../media/image278.jpe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9.jpeg"/><Relationship Id="rId2" Type="http://schemas.openxmlformats.org/officeDocument/2006/relationships/image" Target="../media/image280.jpeg"/><Relationship Id="rId3" Type="http://schemas.openxmlformats.org/officeDocument/2006/relationships/image" Target="../media/image281.jpeg"/><Relationship Id="rId4" Type="http://schemas.openxmlformats.org/officeDocument/2006/relationships/image" Target="../media/image282.jpe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3.jpeg"/><Relationship Id="rId2" Type="http://schemas.openxmlformats.org/officeDocument/2006/relationships/image" Target="../media/image284.jpeg"/><Relationship Id="rId3" Type="http://schemas.openxmlformats.org/officeDocument/2006/relationships/image" Target="../media/image285.jpeg"/><Relationship Id="rId4" Type="http://schemas.openxmlformats.org/officeDocument/2006/relationships/image" Target="../media/image286.jpeg"/><Relationship Id="rId5" Type="http://schemas.openxmlformats.org/officeDocument/2006/relationships/image" Target="../media/image287.jpeg"/><Relationship Id="rId6" Type="http://schemas.openxmlformats.org/officeDocument/2006/relationships/image" Target="../media/image288.jpe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ШКОЛЬНЫЕ ГОДЫ ЧУДЕСНЫЕ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резентация к выпускному балу в начальной школе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полнила: учитель начальных классов Саутина В. А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920" y="102960"/>
            <a:ext cx="73454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Ответы у доск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2808360" cy="23036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2808000" cy="235116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195640" y="4005360"/>
            <a:ext cx="2663640" cy="24368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2952720" cy="237960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9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За школьной парто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90844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rot="20941200">
            <a:off x="2195640" y="4076280"/>
            <a:ext cx="265248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19572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 rot="447600">
            <a:off x="5651640" y="4005000"/>
            <a:ext cx="2635200" cy="214920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02960"/>
            <a:ext cx="727236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На уроке чт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21177600">
            <a:off x="1692000" y="1628640"/>
            <a:ext cx="3327480" cy="19256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21128400">
            <a:off x="1979640" y="4149360"/>
            <a:ext cx="3375000" cy="19922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508720" y="1916280"/>
            <a:ext cx="3295440" cy="25174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102960"/>
            <a:ext cx="7200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ТДЫХ НА УРОК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3384360" cy="232128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84360" cy="233208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3241440" cy="260352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508720" y="3789360"/>
            <a:ext cx="3276360" cy="256212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102960"/>
            <a:ext cx="77043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Весёлые перемен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81400">
            <a:off x="5724000" y="1052280"/>
            <a:ext cx="2810160" cy="214920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 rot="20979000">
            <a:off x="1692000" y="4005360"/>
            <a:ext cx="3456000" cy="2403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 rot="514800">
            <a:off x="5866920" y="3933720"/>
            <a:ext cx="2664000" cy="235908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rot="513600">
            <a:off x="1619280" y="1196640"/>
            <a:ext cx="3384360" cy="20667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p:transition spd="med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27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Школьные мероприят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3816360" cy="278748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019320" cy="250812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068640" cy="231156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</p:spTree>
  </p:cSld>
  <p:transition spd="med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3280" y="102960"/>
            <a:ext cx="712944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Коллективная игра «Радуг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952720" cy="23256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816280" cy="2293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124000" y="4087800"/>
            <a:ext cx="2879640" cy="2376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724360" y="4100400"/>
            <a:ext cx="2776680" cy="2341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600360" cy="22240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743280" cy="22082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21136200">
            <a:off x="1258560" y="3933720"/>
            <a:ext cx="3527280" cy="18748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 rot="471000">
            <a:off x="5435280" y="3860280"/>
            <a:ext cx="3240000" cy="19148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280" y="102960"/>
            <a:ext cx="698508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езабываемый праздник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3243240" cy="20476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384720" cy="2087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547640" y="3933720"/>
            <a:ext cx="3672000" cy="207180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3056040" cy="21081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p:transition spd="med" advTm="5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6920" y="102960"/>
            <a:ext cx="727236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Конец учебного год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2664000" cy="24116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3041640" cy="23734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3816360" cy="17780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816360" cy="17398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ДАВАЙТЕ ПОЗНАКОМИМ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И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Д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ВАСИЛЬЕВИ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Родил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02.04.19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пошёл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2006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765520" cy="410508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8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празднике друзей.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ыпускной в 4 класс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3513240" cy="206532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295800" cy="210348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376720" cy="232236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397320" cy="209232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</p:spTree>
  </p:cSld>
  <p:transition spd="med" advTm="5000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102960"/>
            <a:ext cx="763272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ед каникулами.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природ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3168720" cy="214308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2295720" cy="2241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2692440" cy="222552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2903400" cy="217944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2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03320"/>
            <a:ext cx="77151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Увлекательная игра – волейбол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3024360" cy="181260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808360" cy="18637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3025800" cy="19177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92720" y="4365720"/>
            <a:ext cx="3436920" cy="19573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</p:spTree>
  </p:cSld>
  <p:transition spd="med" advTm="5000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102960"/>
            <a:ext cx="70563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школьной оздоровительной площадк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2808360" cy="21272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2881440" cy="21081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763640" y="4292640"/>
            <a:ext cx="3284640" cy="22683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435640" y="4292640"/>
            <a:ext cx="2736720" cy="227628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102960"/>
            <a:ext cx="66247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3 класс 2008/2009г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2395800" cy="244944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914480" y="4149720"/>
            <a:ext cx="2376360" cy="221472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176720" cy="294156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</p:spTree>
  </p:cSld>
  <p:transition spd="med" advTm="5000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празднике у первокласснико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89200">
            <a:off x="5219640" y="3716280"/>
            <a:ext cx="3446640" cy="24242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rot="21352200">
            <a:off x="1547640" y="1844640"/>
            <a:ext cx="3378240" cy="25034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p:transition spd="med" advTm="5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2811600" cy="26002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803760" cy="18716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3168720" cy="19573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508720" y="3500280"/>
            <a:ext cx="2960640" cy="25448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ransition spd="med" advTm="5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819600">
            <a:off x="684000" y="549000"/>
            <a:ext cx="2974680" cy="203508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995640" y="620640"/>
            <a:ext cx="1725840" cy="2790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 rot="20585400">
            <a:off x="6156000" y="476280"/>
            <a:ext cx="2548080" cy="23414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20638800">
            <a:off x="993600" y="4032360"/>
            <a:ext cx="3459240" cy="21891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 rot="836400">
            <a:off x="5508360" y="3933360"/>
            <a:ext cx="3246480" cy="22640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102960"/>
            <a:ext cx="727236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Весёлая маслениц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2598840" cy="21654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260520" cy="21164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311640" cy="22208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3155760" cy="22194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</p:spTree>
  </p:cSld>
  <p:transition spd="med" advTm="5000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879640" cy="172404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2333520" cy="21477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367000" cy="2079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2736720" cy="19969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3059280" cy="199044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6012000" y="2492280"/>
            <a:ext cx="2952720" cy="1835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</p:spTree>
  </p:cSld>
  <p:transition spd="med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02960"/>
            <a:ext cx="7488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БУДЕМ ЗНАКО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ИМОВ АЛЕКСАНДР ВИКТОРОВИ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Родился: 26.02.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пошёл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2560680" cy="4103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Спортивная игра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«Последний герой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03280" y="1738440"/>
            <a:ext cx="3097440" cy="20304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716360" y="1778040"/>
            <a:ext cx="4203720" cy="19638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4319640" cy="18367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2900520" cy="20545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p:transition spd="med" advTm="5000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-243000"/>
            <a:ext cx="752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АСХА – великий праздник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311640" cy="230652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552840" cy="223380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3195720" cy="245268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940360" y="4005360"/>
            <a:ext cx="2262240" cy="267480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2957760" cy="21574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6840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воапрельский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СМЕХ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659640" y="1197000"/>
            <a:ext cx="2317680" cy="22082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24000" y="4581360"/>
            <a:ext cx="2808360" cy="20624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332000" y="1197000"/>
            <a:ext cx="2008080" cy="2038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219640" y="4581360"/>
            <a:ext cx="2389320" cy="2011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ransition spd="med" advTm="5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03320"/>
            <a:ext cx="74880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Школьная площадка 2008/2009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578400" cy="19508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3887640" cy="20336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908000" y="4437000"/>
            <a:ext cx="2897280" cy="19908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3119760" cy="20160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</p:spTree>
  </p:cSld>
  <p:transition spd="med" advTm="5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000" y="103320"/>
            <a:ext cx="7343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Литературные мероприят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1854360" cy="21974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1931760" cy="21542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012000" y="1125360"/>
            <a:ext cx="2881080" cy="218448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2737080" cy="22622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3097440" cy="22608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ransition spd="med" advTm="5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76000" y="102960"/>
            <a:ext cx="70563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стреча с родителем героической профессии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19280" y="1852560"/>
            <a:ext cx="7056360" cy="407988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p:transition spd="med" advTm="5000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Игра «По следам Робинзон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330640" cy="24480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16120" cy="24400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050920" y="4005360"/>
            <a:ext cx="2311560" cy="2538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3240000" cy="249084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419360" cy="3190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1280" y="1029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4 класс 2009/2010 учебный год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2544840" cy="1949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284720" y="4508640"/>
            <a:ext cx="1942920" cy="1922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2343240" cy="1885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2497320" cy="2592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981760" y="549360"/>
            <a:ext cx="2405160" cy="2592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3143160" cy="226728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67280" y="3860640"/>
            <a:ext cx="2665440" cy="220212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 школьной библиотек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71640" y="1352520"/>
            <a:ext cx="2592360" cy="212904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2347920" cy="213228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772000" cy="216216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2665440" cy="212580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3564000" y="4149720"/>
            <a:ext cx="2908080" cy="219240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6588000" y="3867120"/>
            <a:ext cx="2292480" cy="222876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ПРИЯТНО ПОЗНАКОМИТЬ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ИНА КРИСТИНА ИВАН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1.05.2000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2960" y="1989000"/>
            <a:ext cx="3421080" cy="3527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360" y="102960"/>
            <a:ext cx="7128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рядка до уроко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3416040" cy="2060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3144960" cy="22417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203640" cy="2265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3527640" cy="2085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med" advTm="5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18920" y="102960"/>
            <a:ext cx="66978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уроках физкультур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2238480" cy="178272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2376360" cy="1671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340000" y="4869000"/>
            <a:ext cx="2736720" cy="175896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716360" y="1052640"/>
            <a:ext cx="2952720" cy="177624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148360" y="3068640"/>
            <a:ext cx="3181320" cy="1617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5796000" y="4869000"/>
            <a:ext cx="3078000" cy="174456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3016080" cy="1954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 rot="21469800">
            <a:off x="1187280" y="475920"/>
            <a:ext cx="2148120" cy="23461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 rot="280200">
            <a:off x="6876720" y="476280"/>
            <a:ext cx="2058840" cy="23335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730520" cy="2146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2411280" y="4005360"/>
            <a:ext cx="2368800" cy="2138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5003640" y="4005360"/>
            <a:ext cx="1770120" cy="2158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7020000" y="3716280"/>
            <a:ext cx="1770120" cy="2284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med" advTm="5000"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18920" y="103320"/>
            <a:ext cx="676908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шведской стенк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95640" y="1197000"/>
            <a:ext cx="2737080" cy="2270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2073240" cy="2665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356000" y="3716280"/>
            <a:ext cx="2105280" cy="2881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948360" y="3141720"/>
            <a:ext cx="1987560" cy="2663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00720" y="5157720"/>
            <a:ext cx="1800000" cy="1449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979640" y="3716280"/>
            <a:ext cx="2301840" cy="11746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2111400" cy="14241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4500720" y="3716280"/>
            <a:ext cx="2233440" cy="12384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6516720" y="1916280"/>
            <a:ext cx="1942920" cy="1477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2340000" y="260280"/>
            <a:ext cx="2232000" cy="1392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4859280" y="260280"/>
            <a:ext cx="2158920" cy="14032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4284720" y="1916280"/>
            <a:ext cx="1942920" cy="1509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3095640" cy="18543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3076560" cy="1870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1889280" cy="1465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1258920" y="2852640"/>
            <a:ext cx="1828800" cy="14972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3132000" y="4941720"/>
            <a:ext cx="1943280" cy="1708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5435640" y="4941720"/>
            <a:ext cx="1922400" cy="16970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3348000" y="2421000"/>
            <a:ext cx="3425760" cy="2293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 advTm="5000"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6920" y="103320"/>
            <a:ext cx="7201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Уборка в класс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992600" cy="21812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2919600" cy="22496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2328840" cy="20192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6732720" y="981000"/>
            <a:ext cx="2193840" cy="223200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059280" y="4149720"/>
            <a:ext cx="1976400" cy="230976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6948360" y="3645000"/>
            <a:ext cx="1943280" cy="23414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5219640" y="4149720"/>
            <a:ext cx="1582920" cy="22766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</p:spTree>
  </p:cSld>
  <p:transition spd="med" advTm="5000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7640" y="102960"/>
            <a:ext cx="67694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борка территори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1863720" cy="21430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197080" cy="2131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036880" cy="1968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133720" cy="19587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1332000" y="4005360"/>
            <a:ext cx="1598400" cy="19573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76360" y="981000"/>
            <a:ext cx="1595520" cy="21607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7740720" y="2421000"/>
            <a:ext cx="1143000" cy="20160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7740720" y="4581360"/>
            <a:ext cx="1157040" cy="208764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7729560" y="260280"/>
            <a:ext cx="1158840" cy="2044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6985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вежливости и добро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2060640" cy="208908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638440" cy="205884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20391000">
            <a:off x="2195640" y="4076280"/>
            <a:ext cx="2523960" cy="221148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 rot="1395600">
            <a:off x="6011640" y="4005360"/>
            <a:ext cx="2379600" cy="230184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920" y="103320"/>
            <a:ext cx="734544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«Правила дорожного движе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2519280" cy="2138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522520" cy="167004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2471760" cy="169704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2627280" y="4724280"/>
            <a:ext cx="2019240" cy="185760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403280" y="2781360"/>
            <a:ext cx="2160720" cy="17589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5178600" y="4724280"/>
            <a:ext cx="2130120" cy="183996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6516720" y="2781360"/>
            <a:ext cx="2036880" cy="17478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01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РАДЫ ВАС ВИДЕ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ОВИКОВА ЕКАТЕРИНА АЛЕКСАНДР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30.07.19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006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9240" y="1773360"/>
            <a:ext cx="3004920" cy="3887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2190600" cy="21733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2525760" cy="21286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105680" y="476280"/>
            <a:ext cx="1803240" cy="22273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419640" y="3213000"/>
            <a:ext cx="4243320" cy="33260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p:transition spd="med" advTm="5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920" y="102960"/>
            <a:ext cx="73454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Праздник осен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1682640" cy="2448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737080" cy="1871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2592360" cy="20480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6372360" y="3716280"/>
            <a:ext cx="2592360" cy="2157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3851280" y="2060640"/>
            <a:ext cx="2133720" cy="29210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med" advTm="5000">
    <p:wheel spokes="8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2359080" cy="17604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190600" cy="178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2520720" cy="17924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3235320" cy="2836800"/>
          </a:xfrm>
          <a:prstGeom prst="rect">
            <a:avLst/>
          </a:prstGeom>
          <a:ln w="28440">
            <a:solidFill>
              <a:srgbClr val="66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3665520" cy="282888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16000" y="103320"/>
            <a:ext cx="74167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Готовим подарки мамам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3152880" cy="2136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1933560" cy="26668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7020000" y="836640"/>
            <a:ext cx="1946160" cy="2898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791000" cy="2838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067280" y="3716280"/>
            <a:ext cx="2773080" cy="2808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med" advTm="5000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2879640" cy="261792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386160" cy="26240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105080" cy="3105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</p:spTree>
  </p:cSld>
  <p:transition spd="med" advTm="5000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2360520" cy="256248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34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овогодний праздник в школ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516720" y="3860640"/>
            <a:ext cx="1851120" cy="269568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501920" y="1700280"/>
            <a:ext cx="2570040" cy="38894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500720" y="3860640"/>
            <a:ext cx="1724040" cy="27147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med" advTm="5000"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103320"/>
            <a:ext cx="741672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готовление книжки-малышки «Рождественские гада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3959280" cy="265752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527280" cy="284472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612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ыжная подготов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888000" cy="32259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279600" cy="197964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240000" cy="25383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5292720" y="2638440"/>
            <a:ext cx="3600360" cy="35211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1942920" cy="18604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1835280" y="4437000"/>
            <a:ext cx="3097080" cy="21621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1835280" y="2492280"/>
            <a:ext cx="3095640" cy="15782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1835280" y="260280"/>
            <a:ext cx="2808000" cy="18716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2087640" cy="18590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 spd="med" advTm="5000">
    <p:wheel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 rot="19934400">
            <a:off x="2627280" y="404280"/>
            <a:ext cx="1913040" cy="25196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 rot="1332000">
            <a:off x="5651640" y="475920"/>
            <a:ext cx="2087280" cy="2376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 rot="21024600">
            <a:off x="1619280" y="3573000"/>
            <a:ext cx="2012760" cy="27464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 rot="623400">
            <a:off x="6803640" y="3573000"/>
            <a:ext cx="1946160" cy="27194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2314440" cy="28191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med" advTm="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102960"/>
            <a:ext cx="777708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РАДЫ ЗНАКОМСТВ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ЫНЧИКОВА ИРИНА ВЛАДИМИР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01.10.1998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2043360" cy="468000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-387360"/>
            <a:ext cx="61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уроке труд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3076920" cy="218592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548160" cy="213372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4969080" cy="28195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p:transition spd="med" advTm="5000"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0560" y="103320"/>
            <a:ext cx="64818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есёлая Маслениц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796000" y="1268280"/>
            <a:ext cx="2954160" cy="226692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3816360" cy="2906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3243240" cy="22194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1992240" cy="242568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2635200" cy="198936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6588000" y="404640"/>
            <a:ext cx="2156040" cy="192564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1403280" y="3645000"/>
            <a:ext cx="3459240" cy="241776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5076720" y="3645000"/>
            <a:ext cx="3818160" cy="242100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3825720" cy="26146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2160720" cy="21193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411280" cy="1989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3924360" y="4365720"/>
            <a:ext cx="2382840" cy="2070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6084720" y="260280"/>
            <a:ext cx="2808360" cy="26067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ransition spd="med" advTm="5000"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19280" y="103320"/>
            <a:ext cx="70675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ткрытый урок по теме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«Жизнь древних славян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2779560" cy="1908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549440" cy="2016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549520" cy="20034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2070000" cy="20876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663640" cy="188136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6"/>
          <a:stretch/>
        </p:blipFill>
        <p:spPr>
          <a:xfrm>
            <a:off x="6012000" y="3860640"/>
            <a:ext cx="2965320" cy="206856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</p:spTree>
  </p:cSld>
  <p:transition spd="med" advTm="5000">
    <p:wheel spokes="1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7640" y="102960"/>
            <a:ext cx="6480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Весн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1495440" cy="20160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867280" y="1052640"/>
            <a:ext cx="3059280" cy="20174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027160" cy="2162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3203640" y="3573360"/>
            <a:ext cx="1590480" cy="2162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932360" y="3573360"/>
            <a:ext cx="2160720" cy="21272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7236000" y="4292640"/>
            <a:ext cx="1706400" cy="2160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3492360" y="1052640"/>
            <a:ext cx="2160720" cy="20206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p:transition spd="med" advTm="5000">
    <p:wheel spokes="8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305240" y="260280"/>
            <a:ext cx="1730520" cy="26640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736720" cy="22194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2735280" cy="21621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1658880" cy="35290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3800520" y="3357720"/>
            <a:ext cx="1279440" cy="3311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5435640" y="3357720"/>
            <a:ext cx="1276200" cy="33130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7020000" y="3141720"/>
            <a:ext cx="1739880" cy="3419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ransition spd="med" advTm="5000">
    <p:wheel spokes="8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0563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Verdana"/>
              </a:rPr>
              <a:t>65 лет ПОБЕД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3384720" cy="21225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300480" cy="20844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3456000" cy="22017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227640" y="3645000"/>
            <a:ext cx="1914480" cy="24192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1778040" cy="217152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1728720" cy="223200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1271520" cy="22334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1744560" cy="2376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1476360" y="3645000"/>
            <a:ext cx="2876400" cy="236520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6516720" y="3645000"/>
            <a:ext cx="2259000" cy="230328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advTm="5000">
    <p:pull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ocument"/>
          <p:cNvSpPr/>
          <p:nvPr/>
        </p:nvSpPr>
        <p:spPr>
          <a:xfrm>
            <a:off x="1476360" y="620640"/>
            <a:ext cx="7272360" cy="5400720"/>
          </a:xfrm>
          <a:prstGeom prst="pie">
            <a:avLst/>
          </a:prstGeom>
          <a:solidFill>
            <a:srgbClr val="edfad2"/>
          </a:solidFill>
          <a:ln w="5724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Ребята, дружбу крепкую св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В 5-й класс возьмит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И на долгие год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Каждый сохраните!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Как всегда, «один за всех»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Будьте вы в ответе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Вот тогда все скажут вам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«Вот такие дети!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6327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вый раз – в ПЕРВЫЙ КЛАСС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168720" cy="2260440"/>
          </a:xfrm>
          <a:prstGeom prst="rect">
            <a:avLst/>
          </a:prstGeom>
          <a:ln w="2844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924000">
            <a:off x="5473800" y="1081080"/>
            <a:ext cx="3168720" cy="2179800"/>
          </a:xfrm>
          <a:prstGeom prst="rect">
            <a:avLst/>
          </a:prstGeom>
          <a:ln w="2844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 rot="21298800">
            <a:off x="385560" y="3657240"/>
            <a:ext cx="3600360" cy="242712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 rot="433800">
            <a:off x="4664160" y="3763800"/>
            <a:ext cx="3384360" cy="25830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ransition spd="med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103320"/>
            <a:ext cx="72007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от и стали мы на год взросле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303720" cy="21495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463840" cy="21495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3384720" cy="247320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161040" y="4005360"/>
            <a:ext cx="2273400" cy="244800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4920" y="103320"/>
            <a:ext cx="64818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2 КЛАСС 2007-2008г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2592720" cy="2230560"/>
          </a:xfrm>
          <a:prstGeom prst="rect">
            <a:avLst/>
          </a:prstGeom>
          <a:ln w="57240">
            <a:solidFill>
              <a:srgbClr val="ff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2860560" cy="195408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2735280" cy="225108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042080" cy="288756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5:47:36Z</dcterms:created>
  <dc:creator>Гена</dc:creator>
  <dc:description/>
  <dc:language>en-US</dc:language>
  <cp:lastModifiedBy>Гена</cp:lastModifiedBy>
  <dcterms:modified xsi:type="dcterms:W3CDTF">2013-03-10T12:18:21Z</dcterms:modified>
  <cp:revision>31</cp:revision>
  <dc:subject/>
  <dc:title>ШКОЛЬНЫЕ ГОДЫ ЧУДЕСНЫЕ</dc:title>
</cp:coreProperties>
</file>