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183A-B0D7-4E83-8160-1618878F2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6C4B-0B8E-46D9-8A34-03837CEAE5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826-63BB-4D93-900C-E1F0FC53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394-28EA-4550-9225-2659AD1C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861-377D-49A1-949F-C1AE4CA5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16B-EE10-4F55-A4E1-C3A4770A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FE38-B944-43A9-9ACC-26931826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C912-E96C-4B26-AEDE-32CB08B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EA63-72CB-4CF0-8E50-2F373369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350A-E94C-4FBC-9379-A11A162C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1FA9-8917-4A53-8ADF-8B534FAA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DA3B-AE0F-43FD-9CBD-7ED89839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88B1-F3DF-4C66-9F23-E2C458E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72B-6367-474C-ACB4-5CF66E92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1281-2162-4945-992B-E2C55A7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41C1-1FBA-42E1-9301-59B7469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392A-0393-44C3-BEBC-9B51AD2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D307-B153-42DF-ABCC-373FDE81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ED7A-AEF9-4C38-9D6A-867C73D0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828-22D6-4EC0-9B5C-45297782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534-A056-4A3F-94F5-CD29986E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7C3-5416-4D17-9026-BCBD5CF8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4A0-BD3C-488C-BD18-1C035CF7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B4D-EC46-430D-A234-D3164B1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C58-D285-46A8-8FE4-5F8D7AC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670-3C3A-4415-B2B3-CCC126F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A8B6-5FC2-4370-942A-D9EFB9FFAC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917C-CA1B-4C19-90B4-0CC2E617E9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684360" y="620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Прямоугольник 6" descr=""/>
          <p:cNvPicPr/>
          <p:nvPr/>
        </p:nvPicPr>
        <p:blipFill>
          <a:blip r:embed="rId1"/>
          <a:stretch/>
        </p:blipFill>
        <p:spPr>
          <a:xfrm>
            <a:off x="231840" y="1889280"/>
            <a:ext cx="883296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a62"/>
                </a:solidFill>
                <a:latin typeface="Arial"/>
              </a:rPr>
              <a:t>Составить генетический ряд мед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Oval 26"/>
          <p:cNvSpPr/>
          <p:nvPr/>
        </p:nvSpPr>
        <p:spPr>
          <a:xfrm>
            <a:off x="1116000" y="4076640"/>
            <a:ext cx="2160720" cy="1152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Oval 27"/>
          <p:cNvSpPr/>
          <p:nvPr/>
        </p:nvSpPr>
        <p:spPr>
          <a:xfrm>
            <a:off x="3564000" y="1700280"/>
            <a:ext cx="1944720" cy="11523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Oval 28"/>
          <p:cNvSpPr/>
          <p:nvPr/>
        </p:nvSpPr>
        <p:spPr>
          <a:xfrm>
            <a:off x="5651640" y="4149720"/>
            <a:ext cx="2233440" cy="1079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Oval 29"/>
          <p:cNvSpPr/>
          <p:nvPr/>
        </p:nvSpPr>
        <p:spPr>
          <a:xfrm>
            <a:off x="3059280" y="5229360"/>
            <a:ext cx="2592360" cy="12240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(OH)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Oval 30"/>
          <p:cNvSpPr/>
          <p:nvPr/>
        </p:nvSpPr>
        <p:spPr>
          <a:xfrm>
            <a:off x="5651640" y="2349360"/>
            <a:ext cx="2233440" cy="11509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1258920" y="2349360"/>
            <a:ext cx="1873080" cy="1152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0"/>
          <p:cNvSpPr/>
          <p:nvPr/>
        </p:nvSpPr>
        <p:spPr>
          <a:xfrm>
            <a:off x="4788000" y="285264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1"/>
          <p:cNvSpPr/>
          <p:nvPr/>
        </p:nvSpPr>
        <p:spPr>
          <a:xfrm flipH="1">
            <a:off x="4859280" y="479736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2"/>
          <p:cNvSpPr/>
          <p:nvPr/>
        </p:nvSpPr>
        <p:spPr>
          <a:xfrm flipH="1" flipV="1">
            <a:off x="3276720" y="4797000"/>
            <a:ext cx="1008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69645"/>
                </a:solidFill>
                <a:latin typeface="Arial"/>
              </a:rPr>
              <a:t>Выделяем признаки, которые характеризуют генетический ряд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ества разных класс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a62"/>
                </a:solidFill>
                <a:latin typeface="Tahoma"/>
              </a:rPr>
              <a:t>Разные вещества образованы одним химическим элементом, т.е. представляют собой разные формы существования одного химического элемент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ые вещества одного химического элемента связаны взаимопревращ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a62"/>
                </a:solidFill>
                <a:latin typeface="Tahoma"/>
              </a:rPr>
              <a:t>Связь между веществами разных классов, образованных одним химическим элементом, связанных взаимопревращениями, отражающая общность происхождения веществ этого элемента (т.е. их генезис), и называется генетической связью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69645"/>
                </a:solidFill>
                <a:latin typeface="Arial"/>
              </a:rPr>
              <a:t>Вещест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)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H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S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2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MgCl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3)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Ca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OH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)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4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CuS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5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H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6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HCl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7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Fe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8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NaOH  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9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Al(N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)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0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H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C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1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MgO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2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H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S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3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Fe(OH)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4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ZnCl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f70"/>
                </a:solidFill>
                <a:latin typeface="Tahoma"/>
              </a:rPr>
              <a:t>Устно дать название веществам, и определить к какому классу веществ, относиться данное вещ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f70"/>
                </a:solidFill>
                <a:latin typeface="Arial"/>
              </a:rPr>
              <a:t>В каждой строчке вычеркнуть формулу того вещества, которая принадлежит к другому классу, чем остальные две и объясни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755640" y="2276640"/>
            <a:ext cx="2303640" cy="4176720"/>
          </a:xfrm>
          <a:prstGeom prst="rect">
            <a:avLst/>
          </a:prstGeom>
          <a:solidFill>
            <a:srgbClr val="ffffb3">
              <a:alpha val="9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3132000" y="2276640"/>
            <a:ext cx="2303640" cy="4176720"/>
          </a:xfrm>
          <a:prstGeom prst="rect">
            <a:avLst/>
          </a:prstGeom>
          <a:solidFill>
            <a:srgbClr val="ffffb3">
              <a:alpha val="9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5508720" y="2276640"/>
            <a:ext cx="2376360" cy="41767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024"/>
          <p:cNvSpPr/>
          <p:nvPr/>
        </p:nvSpPr>
        <p:spPr>
          <a:xfrm>
            <a:off x="1116000" y="24908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B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1025"/>
          <p:cNvSpPr/>
          <p:nvPr/>
        </p:nvSpPr>
        <p:spPr>
          <a:xfrm>
            <a:off x="971640" y="3068640"/>
            <a:ext cx="1944720" cy="579600"/>
          </a:xfrm>
          <a:prstGeom prst="rect">
            <a:avLst/>
          </a:prstGeom>
          <a:solidFill>
            <a:srgbClr val="ffffb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H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1026"/>
          <p:cNvSpPr/>
          <p:nvPr/>
        </p:nvSpPr>
        <p:spPr>
          <a:xfrm>
            <a:off x="826920" y="3573360"/>
            <a:ext cx="20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Na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S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027"/>
          <p:cNvSpPr/>
          <p:nvPr/>
        </p:nvSpPr>
        <p:spPr>
          <a:xfrm>
            <a:off x="826920" y="4149720"/>
            <a:ext cx="216072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Ca(OH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1028"/>
          <p:cNvSpPr/>
          <p:nvPr/>
        </p:nvSpPr>
        <p:spPr>
          <a:xfrm>
            <a:off x="3276720" y="2492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029"/>
          <p:cNvSpPr/>
          <p:nvPr/>
        </p:nvSpPr>
        <p:spPr>
          <a:xfrm>
            <a:off x="3276720" y="306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1030"/>
          <p:cNvSpPr/>
          <p:nvPr/>
        </p:nvSpPr>
        <p:spPr>
          <a:xfrm>
            <a:off x="3203640" y="4221000"/>
            <a:ext cx="201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1031"/>
          <p:cNvSpPr/>
          <p:nvPr/>
        </p:nvSpPr>
        <p:spPr>
          <a:xfrm>
            <a:off x="3203640" y="4797360"/>
            <a:ext cx="2160360" cy="579600"/>
          </a:xfrm>
          <a:prstGeom prst="rect">
            <a:avLst/>
          </a:prstGeom>
          <a:solidFill>
            <a:srgbClr val="ffffb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S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1032"/>
          <p:cNvSpPr/>
          <p:nvPr/>
        </p:nvSpPr>
        <p:spPr>
          <a:xfrm>
            <a:off x="5580000" y="2492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C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1033"/>
          <p:cNvSpPr/>
          <p:nvPr/>
        </p:nvSpPr>
        <p:spPr>
          <a:xfrm>
            <a:off x="5580000" y="306864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1034"/>
          <p:cNvSpPr/>
          <p:nvPr/>
        </p:nvSpPr>
        <p:spPr>
          <a:xfrm>
            <a:off x="5580000" y="42210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Al(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1035"/>
          <p:cNvSpPr/>
          <p:nvPr/>
        </p:nvSpPr>
        <p:spPr>
          <a:xfrm>
            <a:off x="5580000" y="47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1036"/>
          <p:cNvSpPr/>
          <p:nvPr/>
        </p:nvSpPr>
        <p:spPr>
          <a:xfrm>
            <a:off x="3203640" y="3645000"/>
            <a:ext cx="216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1037"/>
          <p:cNvSpPr/>
          <p:nvPr/>
        </p:nvSpPr>
        <p:spPr>
          <a:xfrm>
            <a:off x="5580000" y="3645000"/>
            <a:ext cx="216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BaCl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bbd71"/>
                </a:solidFill>
                <a:latin typeface="Arial"/>
              </a:rPr>
              <a:t>задача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кое количество вещества и число молекул, содержится в 120 г  NaO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бразовательны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ить глубину и прочность усвоения учащимися знаний по теме “Соединения химических элементов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вить типичные ошибки и пробелы в знан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оспитательны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уважение друг дру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аккуратность и наблюдатель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развивающ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самостоятельность, умение преодолевать труд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ть умения выделять главное, логически излагать материа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мыслительную и познавательную деятельность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2987640" y="260280"/>
            <a:ext cx="267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2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Единственный путь, ведущий к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знанию, - это деятельность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(Б. Шоу.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Прямоугольник 10" descr=""/>
          <p:cNvPicPr/>
          <p:nvPr/>
        </p:nvPicPr>
        <p:blipFill>
          <a:blip r:embed="rId1"/>
          <a:stretch/>
        </p:blipFill>
        <p:spPr>
          <a:xfrm>
            <a:off x="420840" y="176040"/>
            <a:ext cx="8156520" cy="114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Цель для обучающихся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упражнения в составлении формул по названиям и названий веществ по форму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классификация сложных веществ, определение принадлежности соединений к различным классам по их форму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счёты по формулам соедин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лассификация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ещест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2556000" y="1484280"/>
            <a:ext cx="3889080" cy="86364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ещест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539640" y="2565360"/>
            <a:ext cx="2808360" cy="64764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ост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5508720" y="2565360"/>
            <a:ext cx="2879640" cy="79236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лож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0" y="3789360"/>
            <a:ext cx="1835280" cy="79200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ал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1979640" y="3789360"/>
            <a:ext cx="2160720" cy="79380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метал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7236000" y="4005360"/>
            <a:ext cx="1728720" cy="71892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исл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4356000" y="3933720"/>
            <a:ext cx="1871640" cy="79056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кс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7093080" y="5229360"/>
            <a:ext cx="1871640" cy="72072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4500720" y="5157720"/>
            <a:ext cx="2158920" cy="72072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0"/>
          <p:cNvSpPr/>
          <p:nvPr/>
        </p:nvSpPr>
        <p:spPr>
          <a:xfrm flipH="1">
            <a:off x="3419640" y="2349360"/>
            <a:ext cx="863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4572000" y="2349360"/>
            <a:ext cx="86364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Line 22"/>
          <p:cNvSpPr/>
          <p:nvPr/>
        </p:nvSpPr>
        <p:spPr>
          <a:xfrm flipH="1">
            <a:off x="900000" y="3284640"/>
            <a:ext cx="93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23"/>
          <p:cNvSpPr/>
          <p:nvPr/>
        </p:nvSpPr>
        <p:spPr>
          <a:xfrm>
            <a:off x="2556000" y="3284640"/>
            <a:ext cx="865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24"/>
          <p:cNvSpPr/>
          <p:nvPr/>
        </p:nvSpPr>
        <p:spPr>
          <a:xfrm flipH="1">
            <a:off x="5292720" y="3357720"/>
            <a:ext cx="1224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7380360" y="3357720"/>
            <a:ext cx="7920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26"/>
          <p:cNvSpPr/>
          <p:nvPr/>
        </p:nvSpPr>
        <p:spPr>
          <a:xfrm flipH="1">
            <a:off x="6084720" y="3357720"/>
            <a:ext cx="64800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77080" y="3357720"/>
            <a:ext cx="431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29"/>
                </a:solidFill>
                <a:latin typeface="Arial"/>
              </a:rPr>
              <a:t>Распределение веществ по классам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алл  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еталл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си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; CaO; Li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LiOH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ло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PO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; HCl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Li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PO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;  KNO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Генетическая связь между основными классами неорганических веществ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6055920"/>
            <a:ext cx="402912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23800" y="1268280"/>
          <a:ext cx="8080560" cy="2802240"/>
        </p:xfrm>
        <a:graphic>
          <a:graphicData uri="http://schemas.openxmlformats.org/drawingml/2006/table">
            <a:tbl>
              <a:tblPr/>
              <a:tblGrid>
                <a:gridCol w="1040040"/>
                <a:gridCol w="7040520"/>
              </a:tblGrid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a500"/>
                          </a:solidFill>
                          <a:latin typeface="Tahoma"/>
                        </a:rPr>
                        <a:t>Вариа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a500"/>
                          </a:solidFill>
                          <a:latin typeface="Tahoma"/>
                        </a:rPr>
                        <a:t>Химические формулы веще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CaS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BaO, H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S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Fe(OH)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Ba, S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BaCl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Ba(OH)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H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HBr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, K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, Mg(OH)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, Si, NaOH, H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, Na, AgCl, K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, A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CuO, H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P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C, H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C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C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Ca(OH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)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 K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C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CuS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Fe(OH)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 , N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71"/>
          <p:cNvSpPr/>
          <p:nvPr/>
        </p:nvSpPr>
        <p:spPr>
          <a:xfrm>
            <a:off x="468360" y="429444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пределите вещества по классам, дайте им назв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Составьте генетический ряд для данного простого вещ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ыберите формулы двухосновных кисло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ыберите формулу основного окси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ыберите формулы нерастворимых основан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Выберите формулы кислородсодержащих кисло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ыберите формулу бескислородной кислот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Выберите формулу растворимого осн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Выберите формулы нерастворимых со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829"/>
                </a:solidFill>
                <a:latin typeface="Arial"/>
              </a:rPr>
              <a:t>Распределение  веществ по классам</a:t>
            </a:r>
            <a:r>
              <a:rPr b="0" lang="ru-RU" sz="3200" spc="-1" strike="noStrike">
                <a:solidFill>
                  <a:srgbClr val="ffb8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9280" y="1197000"/>
            <a:ext cx="4038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си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BaO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–оксид б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SO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– оксид серы (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VI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SiO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-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оксид крем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K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O – оксид ка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Al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O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-оксид алюми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CuO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–оксид меди(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II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CO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– оксид углерода (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IV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16000" y="1196640"/>
            <a:ext cx="40388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Fe(OH)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3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- гидроксид железа (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III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Ba(OH)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2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– гидроксид б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Mg(OH)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– гидроксид магния </a:t>
            </a:r>
            <a:r>
              <a:rPr b="0" lang="ru-RU" sz="1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NaOH – гидроксид нат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Ca(OH)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2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- гидроксид каль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Fe(OH)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2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-гидроксид железа (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II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41493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л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H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SO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4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–серная кис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HBr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– бромоводородная кис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H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SiO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– кремниевая кис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H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3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PO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4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 - фосфорная кис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H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2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CO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3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- угольная кисло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CaSO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3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- сульфит каль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BaCl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2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- хлорид б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AgCl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– хлорид сереб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K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SiO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3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– силикат ка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K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2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CO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3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– карбонат ка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CuSO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4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– сульфат меди (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II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тический ряд данного простого веще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Ba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 BaO 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Ba(OH)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BaCl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Si     Si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H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C 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CO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   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H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CO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 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 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K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CO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1619280" y="19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198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651640" y="1989000"/>
            <a:ext cx="50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154764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3132000" y="2708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5364000" y="2708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1476360" y="3357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3132000" y="342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529272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8:21:37Z</dcterms:created>
  <dc:creator>Вася</dc:creator>
  <dc:description/>
  <dc:language>en-US</dc:language>
  <cp:lastModifiedBy>Пользователь</cp:lastModifiedBy>
  <dcterms:modified xsi:type="dcterms:W3CDTF">2013-03-10T14:56:59Z</dcterms:modified>
  <cp:revision>27</cp:revision>
  <dc:subject/>
  <dc:title>Классификация веществ</dc:title>
</cp:coreProperties>
</file>