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7DE-36C3-4457-937D-40EFF316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874-53A5-4D3C-8F45-923EF6A7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FE1-8B7E-48C5-B29B-BA820AF6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13E-3062-4DE6-AFC6-3AF42173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0242-3B4F-4F2E-9F05-FE5EDFF5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24D7-97F6-430A-BA70-A9959302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1C17-3883-4B16-B981-0E03AE9F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5391-52BE-41F4-95A8-2EBEB5DC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8556-19D9-4037-8EE9-B5CD4A51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4AB4-7F8C-49A0-9C29-E3AAF8BF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74C5-7D50-4F4A-9ED7-C9A8A89C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2C8-F513-4535-8115-3E0C1F21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8393-A51E-4EBC-B06C-49AC73A4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1D14-A7D0-4FCD-8937-4DF76D08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E60C-9F92-456D-A7C6-43CF5272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6651-64DA-4E19-B222-F7645B7B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8FB7-B91F-49DA-8E84-D1A8356C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C36-D0DA-40CC-9D81-7A93E226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124-0D6F-49E4-B889-5B9591DB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B58-AC60-4368-9235-496623B0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5F2-C1F1-474E-A571-C007669E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A53-852A-46B9-B7BF-9F5B595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00D-1F11-48F4-BCA2-AD537EE8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B25-0B50-44B1-93A1-D7D706FB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A1BB-B620-4AE0-AAA1-01001E7B86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0490-09A0-44E1-8CC8-CE567E7CA7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ема урок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этом уроке вы познакомитесь с рассказом Л.Н.Толстого «После бала», повествующем об эпохе правления Николая 1. Всю жизнь Толстой призывал «каждого человека к нравственному обновлению, к борьбе с недостатками, к сознанию своей нравственной ответственности за все свои поступки». Именно эти проблемы и поднимает в произвед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6338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б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, ж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и урок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Раскрыть особенности рассказа и писательский замысел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оказать мастерство писателя, использовавшего прием контраста при создании рассказ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онять главную мысль рассказа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человек должен чувствовать свою личную ответственность за все, что совершается в жизн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оначальные варианты названия рассказ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«Рассказ о бале и сквозь строй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«Дочь и отец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«А вы говорите…» и,  наконец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«После бала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одумайте, чем обосновывает писатель изменение названия рассказа?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673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ловарная работ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агерротип – старинная фотография, выполненная на металлической пластин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юсовый – темно-коричневы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ероньерка – женское украшение с драгоценными камнями, надеваемое на лоб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трипка – тесьма, пришитая к концу брюк и охватывающая ступню под башма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ойковые сапоги – сапоги из опойка – тонкой кожи, выделанной из шкуры теля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пицрутены – прутья или палки, которыми били наказываемы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5041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95280" y="404640"/>
          <a:ext cx="8153280" cy="561636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бала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ле бал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вет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увств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вук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539640" y="404640"/>
          <a:ext cx="8153280" cy="55339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балу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ле бал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 у предводителя (бал чудесный, зала прекрасная, буфет великолепный, музыка замечательна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енька (в белом платье, белых перчатках, лицо – сияющее,  разрумянившееся с ямочками, глаза – ласковые, милы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овник (Красивый, статный, высокий, свежий, с белыми усами, белыми бакенбардами, с блестящими глазами, радостной улыбко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 Васильевич (доволен, счастлив, блажен, добр, смотрит с восторженным умилением, нежным чувство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улицы (пустынный переулок, весенний мокрый туман, ломовые с дровами на санях, скользкая дорог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даты (что-то большое, черное, черные люди, черные мундир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азываемый (что-то пестрое, мокрое, красное, неестественное, спотыкающийся, корчащийся человек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овник (высокий, шел твердой походкой, румяное лицо, белые усы и бакенбарды, статная фигура, твердый шаг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н Васильевич (физическая, доходящая до тошноты тоска, было стыдно, не знал куда смотреть, как будто уличен в самом постыдном поступк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зыка (неприятная, визглива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ес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153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 Какой художественный прием положен в основу композиции рассказа «После бала»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последовательность излагаемых событий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цикличность излагаемых  событи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антитез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) ретроспектив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  С каким чувством описывает   рассказчик сцену бала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отчуждени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возмущени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восторг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) пренебрежени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  Как можно охарактеризовать смысл заглавия рассказа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важность судьбы героя после бал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особое значение сцены расправы с солдато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важность утра, следующего за бало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  С помощью каких языковых средств автор противопоставляет друг другу картины бала и экзекуции солдата? (исключите лишнее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антитез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подвод эпитето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прямая авторская оцен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) цветопис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) звукопис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Е) описание одного геро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Ж) внутренний монолог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   Почему полковник, внимательный и чуткий во время бала, оказался жестоким и бессердечным по отношению к солдату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автор показывает двуличие геро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на балу надел «маску» добропорядочност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добросовестно, не рассуждая, выполняет свои служебные обязанност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) искренне верит в необходимость жестокой расправ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6)   Определите основную идею рассказ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) судьба человека зависит от случа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) осуждение бездумного исполнения правил, из-за которых процветает несправедливост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) идея личной ответственности челове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) осуждение деспотизм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5:10:00Z</dcterms:created>
  <dc:creator>Andrey</dc:creator>
  <dc:description/>
  <dc:language>en-US</dc:language>
  <cp:lastModifiedBy>Andrey</cp:lastModifiedBy>
  <dcterms:modified xsi:type="dcterms:W3CDTF">2009-02-17T06:15:43Z</dcterms:modified>
  <cp:revision>2</cp:revision>
  <dc:subject/>
  <dc:title>                    Тема урока.</dc:title>
</cp:coreProperties>
</file>