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ED8-00B1-423C-B658-AC680831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0D1-61B5-48E3-B161-305C2414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3B4-0142-4D8A-963D-1800E750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DD6-D06D-41C8-84F0-4BBAB715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0E6C-5529-490B-B785-32DE2226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C494-0A63-4B73-8562-8BD1E185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5F08-7B16-4D6E-9B95-25A5F73B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6051-1F62-4189-A6BE-EDE3E2F0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45EE-FC39-4F23-AD04-A5622E1A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8C48-77CA-4F05-96B9-F45C2A22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4F41-B540-4D3D-A576-014A369A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6E4-A52D-421F-81E7-41056865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16F5-1A89-49F2-850A-954CB21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E773-9EBB-4F67-A1E2-4E664E4E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FEC1-DD5D-41DF-991D-FFF282DC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1543-7253-4A55-8F3C-2E7DEBC0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B41B-9962-43B2-AB02-621C8083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19E-612F-400F-8904-715B7EF0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CA9-C7FF-4E06-841F-8BB8277F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216-6802-441A-A489-E4A88D6A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290-81E9-4E20-864F-EBD91D0F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BFD-7F4C-4C30-96DD-4A1EF3FA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1F1-2D22-4AC5-B70D-33A235A8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92B-E5DB-4AC7-9AA0-46A48BD4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F094-76A0-4A43-BED0-7856FDD549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C64B-F96D-4790-BD45-21D0322B04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ема уро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этом уроке вы познакомитесь с рассказом Л.Н.Толстого «После бала», повествующем об эпохе правления Николая 1. Всю жизнь Толстой призывал «каждого человека к нравственному обновлению, к борьбе с недостатками, к сознанию своей нравственной ответственности за все свои поступки». Именно эти проблемы и поднимает в произвед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6338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, ж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урок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Раскрыть особенности рассказа и писательский замысе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оказать мастерство писателя, использовавшего прием контраста при создании рассказ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онять главную мысль рассказа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человек должен чувствовать свою личную ответственность за все, что совершается в жизн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оначальные варианты названия рассказ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«Рассказ о бале и сквозь строй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«Дочь и отец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«А вы говорите…» и,  наконец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«После бала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одумайте, чем обосновывает писатель изменение названия рассказа?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673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ловарная работ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герротип – старинная фотография, выполненная на металлической пластин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юсовый – темно-коричневы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ероньерка – женское украшение с драгоценными камнями, надеваемое на ло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трипка – тесьма, пришитая к концу брюк и охватывающая ступню под башма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ойковые сапоги – сапоги из опойка – тонкой кожи, выделанной из шкуры теля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пицрутены – прутья или палки, которыми били наказываемы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041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404640"/>
          <a:ext cx="8153280" cy="561636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бала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бал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вет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увств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вук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39640" y="404640"/>
          <a:ext cx="8153280" cy="55339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балу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бал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 у предводителя (бал чудесный, зала прекрасная, буфет великолепный, музыка замечательна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енька (в белом платье, белых перчатках, лицо – сияющее,  разрумянившееся с ямочками, глаза – ласковые, милы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овник (Красивый, статный, высокий, свежий, с белыми усами, белыми бакенбардами, с блестящими глазами, радостной улыбко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Васильевич (доволен, счастлив, блажен, добр, смотрит с восторженным умилением, нежным чувство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улицы (пустынный переулок, весенний мокрый туман, ломовые с дровами на санях, скользкая дорог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даты (что-то большое, черное, черные люди, черные мундир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азываемый (что-то пестрое, мокрое, красное, неестественное, спотыкающийся, корчащийся человек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овник (высокий, шел твердой походкой, румяное лицо, белые усы и бакенбарды, статная фигура, твердый шаг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Васильевич (физическая, доходящая до тошноты тоска, было стыдно, не знал куда смотреть, как будто уличен в самом постыдном поступк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зыка (неприятная, визглива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ес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15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 Какой художественный прием положен в основу композиции рассказа «После бала»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последовательность излагаемых событий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цикличность излагаемых  событи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антитез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ретроспектив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  С каким чувством описывает   рассказчик сцену бала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отчуждени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возмущени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востор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пренебрежени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  Как можно охарактеризовать смысл заглавия рассказа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важность судьбы героя после бал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особое значение сцены расправы с солдат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важность утра, следующего за бал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  С помощью каких языковых средств автор противопоставляет друг другу картины бала и экзекуции солдата? (исключите лишнее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антитез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подвод эпитето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прямая авторская оцен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цветопис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) звукопис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Е) описание одного геро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Ж) внутренний монолог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   Почему полковник, внимательный и чуткий во время бала, оказался жестоким и бессердечным по отношению к солдату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автор показывает двуличие геро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на балу надел «маску» добропорядочност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добросовестно, не рассуждая, выполняет свои служебные обязанност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искренне верит в необходимость жестокой расправ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6)   Определите основную идею рассказ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судьба человека зависит от случа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осуждение бездумного исполнения правил, из-за которых процветает несправедливост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идея личной ответственности челове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осуждение деспотизм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5:10:00Z</dcterms:created>
  <dc:creator>Andrey</dc:creator>
  <dc:description/>
  <dc:language>en-US</dc:language>
  <cp:lastModifiedBy>Andrey</cp:lastModifiedBy>
  <dcterms:modified xsi:type="dcterms:W3CDTF">2009-02-17T06:15:43Z</dcterms:modified>
  <cp:revision>2</cp:revision>
  <dc:subject/>
  <dc:title>                    Тема урока.</dc:title>
</cp:coreProperties>
</file>