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F75-A2EC-49D1-A6EF-D65D0D0B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3BC-1003-4407-8EA5-4B89A16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005-9F54-4E34-98C8-9A913F0E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72C-4776-433B-8182-4EB75762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763C-1CEE-4377-85EE-635173F3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5576-1275-4663-AC17-429F681C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BCDE-A88C-4DA4-AD1E-12F57C0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2682-1501-4FED-89D3-D996E284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8AEC-FC2D-4BAB-8F37-5687B3B9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27A6-6146-45E8-80CC-A74C2C57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7B6-85AC-470F-9F37-5A81CC73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986-0A2F-4FFB-B693-9B49CAE4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F8A1-B349-438D-A188-499020D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134-E28D-45C7-B064-FE707F3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14DC-F6F4-4890-A836-393121F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D033-CFF6-4FB4-9909-2E33740A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CB09-10F6-4CB4-B32B-243CDB20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305-6618-433D-BA3B-246C810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F26-AB18-4013-9892-7CAB5C0E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584-CB4A-4CCC-B7B8-1E8753D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EA1-6543-45BC-99E4-982B435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9B3-9295-45D7-878C-B76F28D8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40C-D87C-4BDC-ABEB-077128AD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D10-9101-45D9-A590-974E3835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9B81-FCDE-46EC-9BBE-1CC36BA0BC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0C1-C7DB-4BB8-8E39-FAAB6CA9BC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82000" cy="1009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"/>
              </a:rPr>
              <a:t>QUIZ</a:t>
            </a:r>
            <a:r>
              <a:rPr b="0" lang="en-US" sz="3000" spc="-1" strike="noStrike">
                <a:solidFill>
                  <a:srgbClr val="ffffff"/>
                </a:solidFill>
                <a:latin typeface="comic"/>
              </a:rPr>
              <a:t> </a:t>
            </a:r>
            <a:br>
              <a:rPr sz="3000"/>
            </a:br>
            <a:r>
              <a:rPr b="1" lang="en-US" sz="4600" spc="-1" strike="noStrike">
                <a:solidFill>
                  <a:srgbClr val="ffffff"/>
                </a:solidFill>
                <a:latin typeface="comic"/>
              </a:rPr>
              <a:t>“Welcome to English-speaking countries”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498760" cy="153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2768400" cy="160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203640" y="3429000"/>
            <a:ext cx="2787480" cy="15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2521080" cy="15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5796000" y="4797360"/>
            <a:ext cx="26636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ouv_Boomerang_gloss2"/>
          <p:cNvPicPr/>
          <p:nvPr/>
        </p:nvPicPr>
        <p:blipFill>
          <a:blip r:embed="rId1"/>
          <a:stretch/>
        </p:blipFill>
        <p:spPr>
          <a:xfrm>
            <a:off x="4842000" y="1898640"/>
            <a:ext cx="2927160" cy="3834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16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were boomerangs originally used fo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3744720"/>
            <a:ext cx="7772400" cy="27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for playing g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for h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for ceremon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sending messages to other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5" descr="picture puzzle piece 2"/>
          <p:cNvPicPr/>
          <p:nvPr/>
        </p:nvPicPr>
        <p:blipFill>
          <a:blip r:embed="rId2"/>
          <a:srcRect l="48753" t="21796" r="2293" b="11459"/>
          <a:stretch/>
        </p:blipFill>
        <p:spPr>
          <a:xfrm>
            <a:off x="7362720" y="1420920"/>
            <a:ext cx="14400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493120" cy="17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Great Britain is __________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77724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, Scotland, Wales and Northern Ire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England, Scotland and W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 and Scot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 on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5" descr="istockphoto_1239375_great_britain_uk_flag_map_vector"/>
          <p:cNvPicPr/>
          <p:nvPr/>
        </p:nvPicPr>
        <p:blipFill>
          <a:blip r:embed="rId1"/>
          <a:stretch/>
        </p:blipFill>
        <p:spPr>
          <a:xfrm>
            <a:off x="6372360" y="401472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ir Christopher Wren bui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4695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stminster Abb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t. Paul’s Cathed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ckingham Pa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16" descr="Wren-St Paul's Cathedral"/>
          <p:cNvPicPr/>
          <p:nvPr/>
        </p:nvPicPr>
        <p:blipFill>
          <a:blip r:embed="rId1"/>
          <a:stretch/>
        </p:blipFill>
        <p:spPr>
          <a:xfrm>
            <a:off x="5246640" y="2370240"/>
            <a:ext cx="35100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5920" y="414360"/>
            <a:ext cx="849312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The British flag is called the __________.</a:t>
            </a: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77724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en's fla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ing's fla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onal bann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Union Ja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1"/>
          <a:stretch/>
        </p:blipFill>
        <p:spPr>
          <a:xfrm>
            <a:off x="4572000" y="2529000"/>
            <a:ext cx="3759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7904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is the capital of Wal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307656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ardif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inbur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lf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15" descr="Ливерпуль"/>
          <p:cNvPicPr/>
          <p:nvPr/>
        </p:nvPicPr>
        <p:blipFill>
          <a:blip r:embed="rId1"/>
          <a:stretch/>
        </p:blipFill>
        <p:spPr>
          <a:xfrm>
            <a:off x="3492360" y="2079720"/>
            <a:ext cx="5423040" cy="40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2"/>
          <a:stretch/>
        </p:blipFill>
        <p:spPr>
          <a:xfrm>
            <a:off x="7002360" y="1449360"/>
            <a:ext cx="14414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790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It was a fortress, a palace, a prison and the King’s Zoo, it is a museum no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280" y="2752200"/>
            <a:ext cx="5642280" cy="27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stminster Abb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ckingham Pa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T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Houses of Parli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5" descr="Westminster Abbey"/>
          <p:cNvPicPr/>
          <p:nvPr/>
        </p:nvPicPr>
        <p:blipFill>
          <a:blip r:embed="rId1"/>
          <a:stretch/>
        </p:blipFill>
        <p:spPr>
          <a:xfrm>
            <a:off x="6551640" y="1620720"/>
            <a:ext cx="2322360" cy="1743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tower-of-london"/>
          <p:cNvPicPr/>
          <p:nvPr/>
        </p:nvPicPr>
        <p:blipFill>
          <a:blip r:embed="rId2"/>
          <a:stretch/>
        </p:blipFill>
        <p:spPr>
          <a:xfrm>
            <a:off x="6551640" y="4959360"/>
            <a:ext cx="2322360" cy="1743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londres_buckingham_palace"/>
          <p:cNvPicPr/>
          <p:nvPr/>
        </p:nvPicPr>
        <p:blipFill>
          <a:blip r:embed="rId3"/>
          <a:stretch/>
        </p:blipFill>
        <p:spPr>
          <a:xfrm>
            <a:off x="6551640" y="3429000"/>
            <a:ext cx="22953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ere does the ceremony of the Keys take pla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34720" y="2437920"/>
            <a:ext cx="43369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In the Tower of Lon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Buckingham Pa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Trafalgar Squ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tower-of-london"/>
          <p:cNvPicPr/>
          <p:nvPr/>
        </p:nvPicPr>
        <p:blipFill>
          <a:blip r:embed="rId1"/>
          <a:stretch/>
        </p:blipFill>
        <p:spPr>
          <a:xfrm>
            <a:off x="4032360" y="2259000"/>
            <a:ext cx="48862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are the two official languages in New Zealan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48436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ish and Fre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English and Mao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ish and Ger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047000" y="1808280"/>
            <a:ext cx="1827000" cy="108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12204838"/>
          <p:cNvPicPr/>
          <p:nvPr/>
        </p:nvPicPr>
        <p:blipFill>
          <a:blip r:embed="rId2"/>
          <a:stretch/>
        </p:blipFill>
        <p:spPr>
          <a:xfrm>
            <a:off x="5651640" y="3203640"/>
            <a:ext cx="2566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at is the capital of New Zealand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Well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une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ck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958080" y="1359000"/>
            <a:ext cx="1827000" cy="1087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07NZ_5270_Wellington_Lambton_Harbor"/>
          <p:cNvPicPr/>
          <p:nvPr/>
        </p:nvPicPr>
        <p:blipFill>
          <a:blip r:embed="rId2"/>
          <a:stretch/>
        </p:blipFill>
        <p:spPr>
          <a:xfrm>
            <a:off x="3132000" y="2754360"/>
            <a:ext cx="39085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at sports was invented by the Canadian?</a:t>
            </a: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9036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ase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C. 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Soc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T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846000" cy="4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sketball_net"/>
          <p:cNvPicPr/>
          <p:nvPr/>
        </p:nvPicPr>
        <p:blipFill>
          <a:blip r:embed="rId4"/>
          <a:stretch/>
        </p:blipFill>
        <p:spPr>
          <a:xfrm>
            <a:off x="3860640" y="2492280"/>
            <a:ext cx="177804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ain_baseball"/>
          <p:cNvPicPr/>
          <p:nvPr/>
        </p:nvPicPr>
        <p:blipFill>
          <a:blip r:embed="rId5"/>
          <a:stretch/>
        </p:blipFill>
        <p:spPr>
          <a:xfrm>
            <a:off x="6380280" y="1773360"/>
            <a:ext cx="1755720" cy="21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ro_evolution_soccer_2008_large_2"/>
          <p:cNvPicPr/>
          <p:nvPr/>
        </p:nvPicPr>
        <p:blipFill>
          <a:blip r:embed="rId6"/>
          <a:stretch/>
        </p:blipFill>
        <p:spPr>
          <a:xfrm>
            <a:off x="5948280" y="4076640"/>
            <a:ext cx="294660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xsp_tennis_lesson"/>
          <p:cNvPicPr/>
          <p:nvPr/>
        </p:nvPicPr>
        <p:blipFill>
          <a:blip r:embed="rId7"/>
          <a:stretch/>
        </p:blipFill>
        <p:spPr>
          <a:xfrm>
            <a:off x="2997360" y="4653000"/>
            <a:ext cx="2330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is the capital of Canada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6960" y="2727000"/>
            <a:ext cx="381312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oro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B. Ottawa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Ontari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Montrea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Здание Парламента, Оттава, Канада"/>
          <p:cNvPicPr/>
          <p:nvPr/>
        </p:nvPicPr>
        <p:blipFill>
          <a:blip r:embed="rId3"/>
          <a:stretch/>
        </p:blipFill>
        <p:spPr>
          <a:xfrm>
            <a:off x="4140360" y="2575080"/>
            <a:ext cx="4724280" cy="314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84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6640" y="233280"/>
            <a:ext cx="846108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Times New Roman"/>
              </a:rPr>
              <a:t>Which holiday is celebrated on the 4</a:t>
            </a:r>
            <a:r>
              <a:rPr b="1" lang="en-US" sz="42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4200" spc="-1" strike="noStrike">
                <a:solidFill>
                  <a:srgbClr val="ff6600"/>
                </a:solidFill>
                <a:latin typeface="Times New Roman"/>
              </a:rPr>
              <a:t> Thursday of November?</a:t>
            </a:r>
            <a:r>
              <a:rPr b="1" lang="en-US" sz="4600" spc="-1" strike="noStrike">
                <a:solidFill>
                  <a:srgbClr val="ff66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3476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allowe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ndependence D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C. Thanksgiving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rmot’s Da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7812000" y="114948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turkey_large"/>
          <p:cNvPicPr/>
          <p:nvPr/>
        </p:nvPicPr>
        <p:blipFill>
          <a:blip r:embed="rId3"/>
          <a:stretch/>
        </p:blipFill>
        <p:spPr>
          <a:xfrm>
            <a:off x="5148360" y="3933720"/>
            <a:ext cx="2050920" cy="167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305493"/>
          <p:cNvPicPr/>
          <p:nvPr/>
        </p:nvPicPr>
        <p:blipFill>
          <a:blip r:embed="rId4"/>
          <a:stretch/>
        </p:blipFill>
        <p:spPr>
          <a:xfrm>
            <a:off x="6732720" y="2133720"/>
            <a:ext cx="1944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The President of the USA lives in ________.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4335480" cy="23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White House 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Pennsylvania Ave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Texas Str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Washington Squa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w_house"/>
          <p:cNvPicPr/>
          <p:nvPr/>
        </p:nvPicPr>
        <p:blipFill>
          <a:blip r:embed="rId1"/>
          <a:stretch/>
        </p:blipFill>
        <p:spPr>
          <a:xfrm>
            <a:off x="4572000" y="2168640"/>
            <a:ext cx="4354560" cy="3268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96372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monument is called “The Pencil” in Washington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40920" y="2619000"/>
            <a:ext cx="652644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ncoln Memor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lace of Jus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.</a:t>
            </a: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Washington Mon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stockphoto_4005405_washington_dc_skyline"/>
          <p:cNvPicPr/>
          <p:nvPr/>
        </p:nvPicPr>
        <p:blipFill>
          <a:blip r:embed="rId2"/>
          <a:stretch/>
        </p:blipFill>
        <p:spPr>
          <a:xfrm>
            <a:off x="2322360" y="4734000"/>
            <a:ext cx="48801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0920" y="59328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In what state is Hollywood situate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40920" y="2619000"/>
            <a:ext cx="40957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ew Y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alifor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lori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8180280" y="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ollywood"/>
          <p:cNvPicPr/>
          <p:nvPr/>
        </p:nvPicPr>
        <p:blipFill>
          <a:blip r:embed="rId2"/>
          <a:stretch/>
        </p:blipFill>
        <p:spPr>
          <a:xfrm>
            <a:off x="5021280" y="2919240"/>
            <a:ext cx="38718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4931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ich is the largest city in Australi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303048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Syd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Canber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Brisb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Melbou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picture puzzle piece 2"/>
          <p:cNvPicPr/>
          <p:nvPr/>
        </p:nvPicPr>
        <p:blipFill>
          <a:blip r:embed="rId1"/>
          <a:srcRect l="48753" t="21796" r="2293" b="11459"/>
          <a:stretch/>
        </p:blipFill>
        <p:spPr>
          <a:xfrm>
            <a:off x="7542360" y="998640"/>
            <a:ext cx="1439640" cy="838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6" descr="Australia,_Sydney_-_Opera_House"/>
          <p:cNvPicPr/>
          <p:nvPr/>
        </p:nvPicPr>
        <p:blipFill>
          <a:blip r:embed="rId2"/>
          <a:stretch/>
        </p:blipFill>
        <p:spPr>
          <a:xfrm>
            <a:off x="3762360" y="16383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brisbane"/>
          <p:cNvPicPr/>
          <p:nvPr/>
        </p:nvPicPr>
        <p:blipFill>
          <a:blip r:embed="rId3"/>
          <a:stretch/>
        </p:blipFill>
        <p:spPr>
          <a:xfrm>
            <a:off x="5587920" y="4459320"/>
            <a:ext cx="35560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16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ich is the capital of Australia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573280"/>
            <a:ext cx="32115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Canber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Per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Syd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Melbou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picture puzzle piece 2"/>
          <p:cNvPicPr/>
          <p:nvPr/>
        </p:nvPicPr>
        <p:blipFill>
          <a:blip r:embed="rId1"/>
          <a:srcRect l="48753" t="21796" r="2293" b="11459"/>
          <a:stretch/>
        </p:blipFill>
        <p:spPr>
          <a:xfrm>
            <a:off x="7453440" y="1179360"/>
            <a:ext cx="1439640" cy="838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16" descr="tour_Canberra"/>
          <p:cNvPicPr/>
          <p:nvPr/>
        </p:nvPicPr>
        <p:blipFill>
          <a:blip r:embed="rId2"/>
          <a:stretch/>
        </p:blipFill>
        <p:spPr>
          <a:xfrm>
            <a:off x="3716280" y="2784600"/>
            <a:ext cx="5249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6:42:06Z</dcterms:created>
  <dc:creator>Фролов Д.Г. - методист отдела краеведения РЦДЮТиК</dc:creator>
  <dc:description>Данная игра может использоваться как образец при подготовке занятий с воспитанниками. Позволяет в интересной форме оценить уровень знаний (по мотивам телепередачи "Своя игра")Создание макета очень простое: таблица с вопросами+ гиперссыл</dc:description>
  <dc:language>en-US</dc:language>
  <cp:lastModifiedBy>Юля</cp:lastModifiedBy>
  <dcterms:modified xsi:type="dcterms:W3CDTF">2013-03-10T14:44:30Z</dcterms:modified>
  <cp:revision>76</cp:revision>
  <dc:subject>Знание родного края</dc:subject>
  <dc:title>Краеведческая игра</dc:title>
</cp:coreProperties>
</file>