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15.jpeg" ContentType="image/jpeg"/>
  <Override PartName="/ppt/media/image16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934-6818-411B-B135-F97B439E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3A9-27C2-465B-B29F-0995C55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50A-3BB0-4742-80C8-24D721AF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91E-71A1-4B4B-84EF-A69F4039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27B5-D07A-4B01-B2D1-E10DC9A6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2D85-FCCC-4146-AD18-FFF16482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6F79-3C79-4CE4-A7CB-60A199C5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1E9D-CCA5-48C2-A8EF-CD20F12A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B598-C859-4B4A-AAB6-B2A89255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6580-7716-4EE6-99F8-85624218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0E25-4938-4A66-8D78-C13EB65D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FE9-E12E-4FC3-A8E1-DA8134F9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0470-DF20-4FDA-8109-17EC3E97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47ED-7009-41E7-B95C-B3B515D0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F96E-CECA-47FD-8520-30D99591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034F-2B64-4196-B28B-B6ABCCCC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CC5A-2009-4842-B6F2-8E8DCB5A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FD2-C1A5-4C88-B586-E53B1FC3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AF5-BE1A-4D14-8E86-F066850E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91F-D312-4D4B-B435-6DBFC95C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D3C-EFBF-4627-8B47-374EE0A8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928-FA99-4305-8574-570E1CF7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5ED-6882-4604-9BC2-DB04751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812-8FDC-4F87-9EEE-746B2D5D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E8E6-990B-4F77-A3B8-113915ADFE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FE81-D6B9-4B41-BEA6-4C00040CD1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982000" cy="1009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"/>
              </a:rPr>
              <a:t>QUIZ</a:t>
            </a:r>
            <a:r>
              <a:rPr b="0" lang="en-US" sz="3000" spc="-1" strike="noStrike">
                <a:solidFill>
                  <a:srgbClr val="ffffff"/>
                </a:solidFill>
                <a:latin typeface="comic"/>
              </a:rPr>
              <a:t> </a:t>
            </a:r>
            <a:br>
              <a:rPr sz="3000"/>
            </a:br>
            <a:r>
              <a:rPr b="1" lang="en-US" sz="4600" spc="-1" strike="noStrike">
                <a:solidFill>
                  <a:srgbClr val="ffffff"/>
                </a:solidFill>
                <a:latin typeface="comic"/>
              </a:rPr>
              <a:t>“Welcome to English-speaking countries”</a:t>
            </a:r>
            <a:endParaRPr b="0" lang="en-US" sz="4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498760" cy="153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2768400" cy="160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203640" y="3429000"/>
            <a:ext cx="2787480" cy="15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1042920" y="4797360"/>
            <a:ext cx="2521080" cy="158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5796000" y="4797360"/>
            <a:ext cx="266364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Souv_Boomerang_gloss2"/>
          <p:cNvPicPr/>
          <p:nvPr/>
        </p:nvPicPr>
        <p:blipFill>
          <a:blip r:embed="rId1"/>
          <a:stretch/>
        </p:blipFill>
        <p:spPr>
          <a:xfrm>
            <a:off x="4842000" y="1898640"/>
            <a:ext cx="2927160" cy="3834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493120" cy="16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were boomerangs originally used fo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3744720"/>
            <a:ext cx="7772400" cy="27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for playing g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33"/>
                </a:solidFill>
                <a:latin typeface="Times New Roman"/>
              </a:rPr>
              <a:t>for hu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for ceremon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sending messages to other tri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5" descr="picture puzzle piece 2"/>
          <p:cNvPicPr/>
          <p:nvPr/>
        </p:nvPicPr>
        <p:blipFill>
          <a:blip r:embed="rId2"/>
          <a:srcRect l="48753" t="21796" r="2293" b="11459"/>
          <a:stretch/>
        </p:blipFill>
        <p:spPr>
          <a:xfrm>
            <a:off x="7362720" y="1420920"/>
            <a:ext cx="144000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5920" y="188640"/>
            <a:ext cx="8493120" cy="17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Great Britain is __________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23640"/>
            <a:ext cx="777240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, Scotland, Wales and Northern Ire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England, Scotland and W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 and Scot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 on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15" descr="istockphoto_1239375_great_britain_uk_flag_map_vector"/>
          <p:cNvPicPr/>
          <p:nvPr/>
        </p:nvPicPr>
        <p:blipFill>
          <a:blip r:embed="rId1"/>
          <a:stretch/>
        </p:blipFill>
        <p:spPr>
          <a:xfrm>
            <a:off x="6372360" y="401472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49312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ir Christopher Wren bui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23640"/>
            <a:ext cx="46958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stminster Abb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St. Paul’s Cathed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ckingham Pa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16" descr="Wren-St Paul's Cathedral"/>
          <p:cNvPicPr/>
          <p:nvPr/>
        </p:nvPicPr>
        <p:blipFill>
          <a:blip r:embed="rId1"/>
          <a:stretch/>
        </p:blipFill>
        <p:spPr>
          <a:xfrm>
            <a:off x="5246640" y="2370240"/>
            <a:ext cx="351000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5920" y="414360"/>
            <a:ext cx="8493120" cy="11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The British flag is called the __________.</a:t>
            </a:r>
            <a:r>
              <a:rPr b="1" lang="ru-RU" sz="4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123640"/>
            <a:ext cx="777240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en's fla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ing's fla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tional bann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Union Ja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1"/>
          <a:stretch/>
        </p:blipFill>
        <p:spPr>
          <a:xfrm>
            <a:off x="4572000" y="2529000"/>
            <a:ext cx="3759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87904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is the capital of Wale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72920"/>
            <a:ext cx="307656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Cardif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n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dinbur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lf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15" descr="Ливерпуль"/>
          <p:cNvPicPr/>
          <p:nvPr/>
        </p:nvPicPr>
        <p:blipFill>
          <a:blip r:embed="rId1"/>
          <a:stretch/>
        </p:blipFill>
        <p:spPr>
          <a:xfrm>
            <a:off x="3492360" y="2079720"/>
            <a:ext cx="5423040" cy="40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"/>
          <p:cNvPicPr/>
          <p:nvPr/>
        </p:nvPicPr>
        <p:blipFill>
          <a:blip r:embed="rId2"/>
          <a:stretch/>
        </p:blipFill>
        <p:spPr>
          <a:xfrm>
            <a:off x="7002360" y="1449360"/>
            <a:ext cx="14414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879040" cy="207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It was a fortress, a palace, a prison and the King’s Zoo, it is a museum no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1280" y="2752200"/>
            <a:ext cx="5642280" cy="27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stminster Abb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ckingham Pa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T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Houses of Parlia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5" descr="Westminster Abbey"/>
          <p:cNvPicPr/>
          <p:nvPr/>
        </p:nvPicPr>
        <p:blipFill>
          <a:blip r:embed="rId1"/>
          <a:stretch/>
        </p:blipFill>
        <p:spPr>
          <a:xfrm>
            <a:off x="6551640" y="1620720"/>
            <a:ext cx="2322360" cy="1743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tower-of-london"/>
          <p:cNvPicPr/>
          <p:nvPr/>
        </p:nvPicPr>
        <p:blipFill>
          <a:blip r:embed="rId2"/>
          <a:stretch/>
        </p:blipFill>
        <p:spPr>
          <a:xfrm>
            <a:off x="6551640" y="4959360"/>
            <a:ext cx="2322360" cy="1743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londres_buckingham_palace"/>
          <p:cNvPicPr/>
          <p:nvPr/>
        </p:nvPicPr>
        <p:blipFill>
          <a:blip r:embed="rId3"/>
          <a:stretch/>
        </p:blipFill>
        <p:spPr>
          <a:xfrm>
            <a:off x="6551640" y="3429000"/>
            <a:ext cx="22953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ere does the ceremony of the Keys take plac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34720" y="2437920"/>
            <a:ext cx="433692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In the Tower of Lon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Buckingham Pa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Trafalgar Squ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tower-of-london"/>
          <p:cNvPicPr/>
          <p:nvPr/>
        </p:nvPicPr>
        <p:blipFill>
          <a:blip r:embed="rId1"/>
          <a:stretch/>
        </p:blipFill>
        <p:spPr>
          <a:xfrm>
            <a:off x="4032360" y="2259000"/>
            <a:ext cx="48862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are the two official languages in New Zealan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48436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ish and Fren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English and Mao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ish and Ger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7047000" y="1808280"/>
            <a:ext cx="1827000" cy="1087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12204838"/>
          <p:cNvPicPr/>
          <p:nvPr/>
        </p:nvPicPr>
        <p:blipFill>
          <a:blip r:embed="rId2"/>
          <a:stretch/>
        </p:blipFill>
        <p:spPr>
          <a:xfrm>
            <a:off x="5651640" y="3203640"/>
            <a:ext cx="2566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hat is the capital of New Zealand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Welling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uned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ck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6958080" y="1359000"/>
            <a:ext cx="1827000" cy="1087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07NZ_5270_Wellington_Lambton_Harbor"/>
          <p:cNvPicPr/>
          <p:nvPr/>
        </p:nvPicPr>
        <p:blipFill>
          <a:blip r:embed="rId2"/>
          <a:stretch/>
        </p:blipFill>
        <p:spPr>
          <a:xfrm>
            <a:off x="3132000" y="2754360"/>
            <a:ext cx="39085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00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hat sports was invented by the Canadian?</a:t>
            </a:r>
            <a:r>
              <a:rPr b="1" lang="ru-RU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790360"/>
            <a:ext cx="77724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Base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Basket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C. </a:t>
            </a: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Soc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T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7740720" y="260280"/>
            <a:ext cx="846000" cy="4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sketball_net"/>
          <p:cNvPicPr/>
          <p:nvPr/>
        </p:nvPicPr>
        <p:blipFill>
          <a:blip r:embed="rId4"/>
          <a:stretch/>
        </p:blipFill>
        <p:spPr>
          <a:xfrm>
            <a:off x="3860640" y="2492280"/>
            <a:ext cx="177804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ain_baseball"/>
          <p:cNvPicPr/>
          <p:nvPr/>
        </p:nvPicPr>
        <p:blipFill>
          <a:blip r:embed="rId5"/>
          <a:stretch/>
        </p:blipFill>
        <p:spPr>
          <a:xfrm>
            <a:off x="6380280" y="1773360"/>
            <a:ext cx="1755720" cy="214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ro_evolution_soccer_2008_large_2"/>
          <p:cNvPicPr/>
          <p:nvPr/>
        </p:nvPicPr>
        <p:blipFill>
          <a:blip r:embed="rId6"/>
          <a:stretch/>
        </p:blipFill>
        <p:spPr>
          <a:xfrm>
            <a:off x="5948280" y="4076640"/>
            <a:ext cx="2946600" cy="165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exsp_tennis_lesson"/>
          <p:cNvPicPr/>
          <p:nvPr/>
        </p:nvPicPr>
        <p:blipFill>
          <a:blip r:embed="rId7"/>
          <a:stretch/>
        </p:blipFill>
        <p:spPr>
          <a:xfrm>
            <a:off x="2997360" y="4653000"/>
            <a:ext cx="23302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is the capital of Canada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6960" y="2727000"/>
            <a:ext cx="381312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Toron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B. Ottawa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Ontari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Montrea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4" descr="Здание Парламента, Оттава, Канада"/>
          <p:cNvPicPr/>
          <p:nvPr/>
        </p:nvPicPr>
        <p:blipFill>
          <a:blip r:embed="rId3"/>
          <a:stretch/>
        </p:blipFill>
        <p:spPr>
          <a:xfrm>
            <a:off x="4140360" y="2575080"/>
            <a:ext cx="4724280" cy="314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>
            <a:off x="7740720" y="260280"/>
            <a:ext cx="846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6640" y="233280"/>
            <a:ext cx="8461080" cy="15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Times New Roman"/>
              </a:rPr>
              <a:t>Which holiday is celebrated on the 4</a:t>
            </a:r>
            <a:r>
              <a:rPr b="1" lang="en-US" sz="42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4200" spc="-1" strike="noStrike">
                <a:solidFill>
                  <a:srgbClr val="ff6600"/>
                </a:solidFill>
                <a:latin typeface="Times New Roman"/>
              </a:rPr>
              <a:t> Thursday of November?</a:t>
            </a:r>
            <a:r>
              <a:rPr b="1" lang="en-US" sz="4600" spc="-1" strike="noStrike">
                <a:solidFill>
                  <a:srgbClr val="ff6600"/>
                </a:solidFill>
                <a:latin typeface="Times New Roman"/>
              </a:rPr>
              <a:t>  </a:t>
            </a:r>
            <a:endParaRPr b="0" lang="en-US" sz="4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3476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allowe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Independence D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C. Thanksgiving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armot’s Day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7812000" y="1149480"/>
            <a:ext cx="963720" cy="569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turkey_large"/>
          <p:cNvPicPr/>
          <p:nvPr/>
        </p:nvPicPr>
        <p:blipFill>
          <a:blip r:embed="rId3"/>
          <a:stretch/>
        </p:blipFill>
        <p:spPr>
          <a:xfrm>
            <a:off x="5148360" y="3933720"/>
            <a:ext cx="2050920" cy="167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j0305493"/>
          <p:cNvPicPr/>
          <p:nvPr/>
        </p:nvPicPr>
        <p:blipFill>
          <a:blip r:embed="rId4"/>
          <a:stretch/>
        </p:blipFill>
        <p:spPr>
          <a:xfrm>
            <a:off x="6732720" y="2133720"/>
            <a:ext cx="1944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The President of the USA lives in ________.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4335480" cy="23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White House 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Pennsylvania Aven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Texas Str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Washington Squar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w_house"/>
          <p:cNvPicPr/>
          <p:nvPr/>
        </p:nvPicPr>
        <p:blipFill>
          <a:blip r:embed="rId1"/>
          <a:stretch/>
        </p:blipFill>
        <p:spPr>
          <a:xfrm>
            <a:off x="4572000" y="2168640"/>
            <a:ext cx="4354560" cy="3268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96372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monument is called “The Pencil” in Washington?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40920" y="2619000"/>
            <a:ext cx="652644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ncoln Memor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lace of Just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C.</a:t>
            </a:r>
            <a:r>
              <a:rPr b="1" lang="ru-RU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Washington Mon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667640" y="115920"/>
            <a:ext cx="963720" cy="56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istockphoto_4005405_washington_dc_skyline"/>
          <p:cNvPicPr/>
          <p:nvPr/>
        </p:nvPicPr>
        <p:blipFill>
          <a:blip r:embed="rId2"/>
          <a:stretch/>
        </p:blipFill>
        <p:spPr>
          <a:xfrm>
            <a:off x="2322360" y="4734000"/>
            <a:ext cx="48801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0920" y="593280"/>
            <a:ext cx="855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In what state is Hollywood situate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40920" y="2619000"/>
            <a:ext cx="409572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ew Y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aliforn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ashing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lori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8180280" y="0"/>
            <a:ext cx="963720" cy="56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ollywood"/>
          <p:cNvPicPr/>
          <p:nvPr/>
        </p:nvPicPr>
        <p:blipFill>
          <a:blip r:embed="rId2"/>
          <a:stretch/>
        </p:blipFill>
        <p:spPr>
          <a:xfrm>
            <a:off x="5021280" y="2919240"/>
            <a:ext cx="38718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5920" y="188640"/>
            <a:ext cx="84931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ich is the largest city in Australia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72920"/>
            <a:ext cx="303048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33"/>
                </a:solidFill>
                <a:latin typeface="Times New Roman"/>
              </a:rPr>
              <a:t>Sydn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Canber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Brisb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Melbour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picture puzzle piece 2"/>
          <p:cNvPicPr/>
          <p:nvPr/>
        </p:nvPicPr>
        <p:blipFill>
          <a:blip r:embed="rId1"/>
          <a:srcRect l="48753" t="21796" r="2293" b="11459"/>
          <a:stretch/>
        </p:blipFill>
        <p:spPr>
          <a:xfrm>
            <a:off x="7542360" y="998640"/>
            <a:ext cx="1439640" cy="838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6" descr="Australia,_Sydney_-_Opera_House"/>
          <p:cNvPicPr/>
          <p:nvPr/>
        </p:nvPicPr>
        <p:blipFill>
          <a:blip r:embed="rId2"/>
          <a:stretch/>
        </p:blipFill>
        <p:spPr>
          <a:xfrm>
            <a:off x="3762360" y="1638360"/>
            <a:ext cx="3600360" cy="269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brisbane"/>
          <p:cNvPicPr/>
          <p:nvPr/>
        </p:nvPicPr>
        <p:blipFill>
          <a:blip r:embed="rId3"/>
          <a:stretch/>
        </p:blipFill>
        <p:spPr>
          <a:xfrm>
            <a:off x="5587920" y="4459320"/>
            <a:ext cx="35560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493120" cy="16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ich is the capital of Australia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2573280"/>
            <a:ext cx="32115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33"/>
                </a:solidFill>
                <a:latin typeface="Times New Roman"/>
              </a:rPr>
              <a:t>Canber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Per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Sydn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Melbour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picture puzzle piece 2"/>
          <p:cNvPicPr/>
          <p:nvPr/>
        </p:nvPicPr>
        <p:blipFill>
          <a:blip r:embed="rId1"/>
          <a:srcRect l="48753" t="21796" r="2293" b="11459"/>
          <a:stretch/>
        </p:blipFill>
        <p:spPr>
          <a:xfrm>
            <a:off x="7453440" y="1179360"/>
            <a:ext cx="1439640" cy="8384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3143160" y="1905120"/>
            <a:ext cx="2679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3143160" y="1905120"/>
            <a:ext cx="14288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16" descr="tour_Canberra"/>
          <p:cNvPicPr/>
          <p:nvPr/>
        </p:nvPicPr>
        <p:blipFill>
          <a:blip r:embed="rId2"/>
          <a:stretch/>
        </p:blipFill>
        <p:spPr>
          <a:xfrm>
            <a:off x="3716280" y="2784600"/>
            <a:ext cx="52498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6:42:06Z</dcterms:created>
  <dc:creator>Фролов Д.Г. - методист отдела краеведения РЦДЮТиК</dc:creator>
  <dc:description>Данная игра может использоваться как образец при подготовке занятий с воспитанниками. Позволяет в интересной форме оценить уровень знаний (по мотивам телепередачи "Своя игра")Создание макета очень простое: таблица с вопросами+ гиперссыл</dc:description>
  <dc:language>en-US</dc:language>
  <cp:lastModifiedBy>Юля</cp:lastModifiedBy>
  <dcterms:modified xsi:type="dcterms:W3CDTF">2013-03-10T14:44:30Z</dcterms:modified>
  <cp:revision>76</cp:revision>
  <dc:subject>Знание родного края</dc:subject>
  <dc:title>Краеведческая игра</dc:title>
</cp:coreProperties>
</file>