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8EF-B9FE-4486-800A-7FBEA233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353-917E-4399-BAE1-EB0EF07D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3DF-E3F5-4091-A94F-AC6924BF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AF9-FDFF-432C-BF65-A49BC846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120AF-B82B-4323-9633-4A15F141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E8C60-594A-45D6-9499-194EEA09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C3266-54B2-43A0-8BD3-D4A9411F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DB10B-6B3E-4262-AD1C-971BF350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0CCA7-B9F1-43B4-ABFD-A51808EA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D4196-CA4F-4EF2-B10F-BBB59727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26622-89C0-4285-B74B-25FEE5BC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5E1-D1EE-4A66-812E-D32ED517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9747D-99E0-4554-9099-CA236368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A2F57-520F-479A-A23F-74E4E2CC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7AFE7-90B5-445B-917E-F5D9EBDE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E9BD1-0642-40D0-A810-EB4B0677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61DD2-D77E-4AEF-B862-2C25A33C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975B-2519-4CF6-8A39-29164226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88EA6-244F-4FBF-9656-71AA36F8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7A2A2-7692-49E1-B9B7-97D778CC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4C91B-DA53-4ABE-BBD5-03F21495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4828-D1E2-4346-9D38-5BAC6F44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35E-10C6-4F0D-9441-38EE9E1D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371C-603D-43CF-9096-5841CADB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3ACA-825B-4AB7-9680-8538B377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D05A0-1129-45CB-8B27-B4E7425D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31380-08FA-4ED8-B5AF-5FE2C7B5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7CFE-B4ED-42EF-9EAC-8DC725CD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EC83-5DAF-4B94-9DAC-0CDBA96B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EFF9D-4266-40F9-9EBA-68BA7C91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F0F51B-55FF-4969-8244-EF1A39D6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5C423C-9EDF-4805-B377-87E3FF57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BEF31-2DD2-4D2B-BF71-AFD1896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CF7-6139-4FBE-8D0F-849C530D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5B7DDF-6FF3-43A5-8265-22765F4E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D05DE3-6500-4AF6-AE49-0253F88A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AB476-0540-4D7E-8B18-6BD285CF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A59B57-3FE8-4003-8E20-B6964FC2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1ECF4-F86B-47A2-A547-8F7D8C5E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36917F-CCDC-446E-837E-E442949A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D365E2-EA37-4CE8-9FA6-A0198F61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199CBB-3D09-4762-BD7C-1C66D3E5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9321E-7C53-4906-AAEF-00E2F420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DA4-0FA9-4F9F-BC6B-7DD6F951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DC2-9685-4A5F-B060-E646F65D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BD2-6FF5-494B-93C5-9F198E4E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FE0-1100-4E54-A282-6983F806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F12-D76F-43E2-9B4A-22BE8416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5C2B-AC27-4D45-AE00-7FF7CBE1F3D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0E1B-D071-4421-80E7-B79C7DD613A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6DA6-3B52-4DE0-BB2B-4025556B057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9EFC-4064-44BA-887C-765D0D75185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Средней школы №123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жа – чудесный материал, хорошо поддающийся обработке. В наше время художественные изделия из кожи пользуются огромным спросом. Это всевозможные панно, композиции, пояса, кошельки, сумочки, косметички, очечники, тапочки… Всего и не перечислит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спешите выбрасывать отслужившие свой век сумки, перчатки, сапоги. Распорите их или разрежьте по швам, удалив рваные, изношенные части. Слегка промойте лоскуты кожи в тёплом мыльном растворе, растяните их на куске фанеры, закрепив гвоздиками. Высушенную чистую кожу слегка смажьте любым кремом и можете использовать её для поделок. Для работы с детьми подойдёт кожзаменитель, клеёнка и прорезиненная ткан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з всего этого «богатства» можно сделать массу необходимых оригинальных поделок. Начать можно с самых простых, работа над которыми не нуждается в специальных навыках. Вместе с детьми я часто использую их старые портфели и ранцы. Они яркие, тонкие, легко режутся, склеиваются, сшиваютс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пробуйте и вы сделать некоторые поделки, которые пригодятся вам и вашим близки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шивка  кресто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C:\Users\vadim\Desktop\TT02.JPG"/>
          <p:cNvPicPr/>
          <p:nvPr/>
        </p:nvPicPr>
        <p:blipFill>
          <a:blip r:embed="rId2"/>
          <a:stretch/>
        </p:blipFill>
        <p:spPr>
          <a:xfrm>
            <a:off x="4429080" y="1500120"/>
            <a:ext cx="3629160" cy="454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Users\vadim\Desktop\0-03.jpg"/>
          <p:cNvPicPr/>
          <p:nvPr/>
        </p:nvPicPr>
        <p:blipFill>
          <a:blip r:embed="rId3"/>
          <a:stretch/>
        </p:blipFill>
        <p:spPr>
          <a:xfrm>
            <a:off x="642960" y="214308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делия из кож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0" name="Picture 2" descr="C:\Users\vadim\Desktop\тапок 4.jpg"/>
          <p:cNvPicPr/>
          <p:nvPr/>
        </p:nvPicPr>
        <p:blipFill>
          <a:blip r:embed="rId1"/>
          <a:stretch/>
        </p:blipFill>
        <p:spPr>
          <a:xfrm>
            <a:off x="642960" y="2857680"/>
            <a:ext cx="3878280" cy="2776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Users\vadim\Desktop\287883a5e806.jpg"/>
          <p:cNvPicPr/>
          <p:nvPr/>
        </p:nvPicPr>
        <p:blipFill>
          <a:blip r:embed="rId2"/>
          <a:stretch/>
        </p:blipFill>
        <p:spPr>
          <a:xfrm>
            <a:off x="5143680" y="1857240"/>
            <a:ext cx="3314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одержимое 3" descr="тапок 5.jpg"/>
          <p:cNvPicPr/>
          <p:nvPr/>
        </p:nvPicPr>
        <p:blipFill>
          <a:blip r:embed="rId1"/>
          <a:stretch/>
        </p:blipFill>
        <p:spPr>
          <a:xfrm>
            <a:off x="2666880" y="2071800"/>
            <a:ext cx="3810240" cy="3476520"/>
          </a:xfrm>
          <a:prstGeom prst="rect">
            <a:avLst/>
          </a:prstGeom>
          <a:ln w="0">
            <a:noFill/>
          </a:ln>
        </p:spPr>
      </p:pic>
      <p:pic>
        <p:nvPicPr>
          <p:cNvPr id="183" name="Заголовок 2" descr=""/>
          <p:cNvPicPr/>
          <p:nvPr/>
        </p:nvPicPr>
        <p:blipFill>
          <a:blip r:embed="rId2"/>
          <a:stretch/>
        </p:blipFill>
        <p:spPr>
          <a:xfrm>
            <a:off x="328680" y="-6480"/>
            <a:ext cx="8454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Содержимое 3" descr="тапок 1.jpg"/>
          <p:cNvPicPr/>
          <p:nvPr/>
        </p:nvPicPr>
        <p:blipFill>
          <a:blip r:embed="rId1"/>
          <a:stretch/>
        </p:blipFill>
        <p:spPr>
          <a:xfrm>
            <a:off x="2190600" y="2214720"/>
            <a:ext cx="4762800" cy="3190680"/>
          </a:xfrm>
          <a:prstGeom prst="rect">
            <a:avLst/>
          </a:prstGeom>
          <a:ln w="0">
            <a:noFill/>
          </a:ln>
        </p:spPr>
      </p:pic>
      <p:pic>
        <p:nvPicPr>
          <p:cNvPr id="185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Содержимое 3" descr="тапок2.jpg"/>
          <p:cNvPicPr/>
          <p:nvPr/>
        </p:nvPicPr>
        <p:blipFill>
          <a:blip r:embed="rId1"/>
          <a:stretch/>
        </p:blipFill>
        <p:spPr>
          <a:xfrm>
            <a:off x="2190600" y="2076480"/>
            <a:ext cx="4762800" cy="3467160"/>
          </a:xfrm>
          <a:prstGeom prst="rect">
            <a:avLst/>
          </a:prstGeom>
          <a:ln w="0">
            <a:noFill/>
          </a:ln>
        </p:spPr>
      </p:pic>
      <p:pic>
        <p:nvPicPr>
          <p:cNvPr id="187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одержимое 3" descr="тапок 3.jpg"/>
          <p:cNvPicPr/>
          <p:nvPr/>
        </p:nvPicPr>
        <p:blipFill>
          <a:blip r:embed="rId1"/>
          <a:stretch/>
        </p:blipFill>
        <p:spPr>
          <a:xfrm>
            <a:off x="2190600" y="2004840"/>
            <a:ext cx="4762800" cy="3610080"/>
          </a:xfrm>
          <a:prstGeom prst="rect">
            <a:avLst/>
          </a:prstGeom>
          <a:ln w="0">
            <a:noFill/>
          </a:ln>
        </p:spPr>
      </p:pic>
      <p:pic>
        <p:nvPicPr>
          <p:cNvPr id="189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3" descr="тапок 4.jpg"/>
          <p:cNvPicPr/>
          <p:nvPr/>
        </p:nvPicPr>
        <p:blipFill>
          <a:blip r:embed="rId1"/>
          <a:stretch/>
        </p:blipFill>
        <p:spPr>
          <a:xfrm>
            <a:off x="2190600" y="2104920"/>
            <a:ext cx="4762800" cy="3409920"/>
          </a:xfrm>
          <a:prstGeom prst="rect">
            <a:avLst/>
          </a:prstGeom>
          <a:ln w="0">
            <a:noFill/>
          </a:ln>
        </p:spPr>
      </p:pic>
      <p:pic>
        <p:nvPicPr>
          <p:cNvPr id="191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4:46:32Z</dcterms:created>
  <dc:creator>vadim</dc:creator>
  <dc:description/>
  <dc:language>en-US</dc:language>
  <cp:lastModifiedBy>u</cp:lastModifiedBy>
  <dcterms:modified xsi:type="dcterms:W3CDTF">2013-03-02T14:18:41Z</dcterms:modified>
  <cp:revision>5</cp:revision>
  <dc:subject/>
  <dc:title>Работа Нестеренко Олеси ученицы 9 класса А</dc:title>
</cp:coreProperties>
</file>