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0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583-8D31-4C65-A4FA-0053E479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959D-6C2F-45CE-BC05-0F4B35CF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9D4-C55C-4315-A806-44E1751F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9E0B-7CA5-4BD8-B98E-97208335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B8333-A76C-4300-8723-6EACE581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EA2F6-222E-44EB-9EF7-63C25F50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CA89A-8972-4139-AA80-12EE39E8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B4845-47D0-4BE8-A77B-170C30F6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B6D9C-A204-4C85-8A20-F825CD72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2784B-E558-4EE9-84B2-3D222DF1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7176E-C4D8-42B1-8067-66958120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E287-F805-4738-8933-44F351F5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D27AB-D30B-4F74-9B9B-86729D14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B1E26-B116-4546-BA61-C8AA94B5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9C953-B0A7-453F-8B38-090120DC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B1D81-C9CF-42FD-8159-5D4CDE95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F357A-867E-4B09-A6FE-66570048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EA886-628B-4E4B-AF0F-16D9A988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42614-79CD-4745-AFD7-7DD63606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90626-61DF-4CDF-92F5-DF968AC1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D7579-CD82-4B08-9E73-CF490948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89207-744F-4FFF-85A7-AC5FDB7F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9376-478F-46A9-AA0E-6D730C74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19989-C9A6-4A03-A7C9-CC10CA8C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C1932-288B-4DF1-AFFD-D01C3C3E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8CA02-5C5C-4341-BDCC-6C861D62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CA85B-C482-412E-9628-B5F1B5D0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FB746-673F-4213-B26E-274B20D5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BC1F3-F287-44EC-A8E5-8D23A6A8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E9F4D-8FFA-4D2D-9AE3-FE1B903A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C73755-9856-4DC8-9F29-3C2495B5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98AEB3-9EAC-4F41-BA17-BB8A35C5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6D3DB1-8DF0-4650-BB3C-A815D97D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C7D-BB5A-4801-B7BC-7646CCF8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A6519B-155D-477A-8DB9-403C1B5E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F2D38C-ACB9-4AF3-87B5-94D20F7E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926862-867D-4B12-A04C-3CFB270E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004142-B5AE-4BEA-B79D-D34DABAD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66647C-59E6-4FA0-A53A-BCEE4783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1E9A0D-50CA-45B4-B92E-91300E93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6F3A22-A296-4CAE-A7C0-92924541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E198C2-692E-4C7A-8778-375C8793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49D33F-C958-4020-BCDA-71BEEE8D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F07-59DB-4FB9-B6FB-8D88556F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D91-1CF6-4F0B-B88F-A5BDAAA2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FA9-5202-4B8F-B939-1A30E4D0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05E-2ECF-4163-86C3-6BAF5F3E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F99-03CA-4750-845E-808A7FF3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8794-E418-48F4-A2F5-6DD594B3944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FCCD-2DED-41EC-BD9E-3464B11DB3D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C247-4369-4077-8F32-8074918BC95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F68B-608C-4D70-A16D-5494EAA2D14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Средней школы №123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ожа – чудесный материал, хорошо поддающийся обработке. В наше время художественные изделия из кожи пользуются огромным спросом. Это всевозможные панно, композиции, пояса, кошельки, сумочки, косметички, очечники, тапочки… Всего и не перечислить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спешите выбрасывать отслужившие свой век сумки, перчатки, сапоги. Распорите их или разрежьте по швам, удалив рваные, изношенные части. Слегка промойте лоскуты кожи в тёплом мыльном растворе, растяните их на куске фанеры, закрепив гвоздиками. Высушенную чистую кожу слегка смажьте любым кремом и можете использовать её для поделок. Для работы с детьми подойдёт кожзаменитель, клеёнка и прорезиненная ткань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з всего этого «богатства» можно сделать массу необходимых оригинальных поделок. Начать можно с самых простых, работа над которыми не нуждается в специальных навыках. Вместе с детьми я часто использую их старые портфели и ранцы. Они яркие, тонкие, легко режутся, склеиваются, сшиваютс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пробуйте и вы сделать некоторые поделки, которые пригодятся вам и вашим близки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шивка  кресто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C:\Users\vadim\Desktop\TT02.JPG"/>
          <p:cNvPicPr/>
          <p:nvPr/>
        </p:nvPicPr>
        <p:blipFill>
          <a:blip r:embed="rId2"/>
          <a:stretch/>
        </p:blipFill>
        <p:spPr>
          <a:xfrm>
            <a:off x="4429080" y="1500120"/>
            <a:ext cx="3629160" cy="4541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C:\Users\vadim\Desktop\0-03.jpg"/>
          <p:cNvPicPr/>
          <p:nvPr/>
        </p:nvPicPr>
        <p:blipFill>
          <a:blip r:embed="rId3"/>
          <a:stretch/>
        </p:blipFill>
        <p:spPr>
          <a:xfrm>
            <a:off x="642960" y="2143080"/>
            <a:ext cx="3429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зделия из кож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0" name="Picture 2" descr="C:\Users\vadim\Desktop\тапок 4.jpg"/>
          <p:cNvPicPr/>
          <p:nvPr/>
        </p:nvPicPr>
        <p:blipFill>
          <a:blip r:embed="rId1"/>
          <a:stretch/>
        </p:blipFill>
        <p:spPr>
          <a:xfrm>
            <a:off x="642960" y="2857680"/>
            <a:ext cx="3878280" cy="2776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Users\vadim\Desktop\287883a5e806.jpg"/>
          <p:cNvPicPr/>
          <p:nvPr/>
        </p:nvPicPr>
        <p:blipFill>
          <a:blip r:embed="rId2"/>
          <a:stretch/>
        </p:blipFill>
        <p:spPr>
          <a:xfrm>
            <a:off x="5143680" y="1857240"/>
            <a:ext cx="3314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Содержимое 3" descr="тапок 5.jpg"/>
          <p:cNvPicPr/>
          <p:nvPr/>
        </p:nvPicPr>
        <p:blipFill>
          <a:blip r:embed="rId1"/>
          <a:stretch/>
        </p:blipFill>
        <p:spPr>
          <a:xfrm>
            <a:off x="2666880" y="2071800"/>
            <a:ext cx="3810240" cy="3476520"/>
          </a:xfrm>
          <a:prstGeom prst="rect">
            <a:avLst/>
          </a:prstGeom>
          <a:ln w="0">
            <a:noFill/>
          </a:ln>
        </p:spPr>
      </p:pic>
      <p:pic>
        <p:nvPicPr>
          <p:cNvPr id="183" name="Заголовок 2" descr=""/>
          <p:cNvPicPr/>
          <p:nvPr/>
        </p:nvPicPr>
        <p:blipFill>
          <a:blip r:embed="rId2"/>
          <a:stretch/>
        </p:blipFill>
        <p:spPr>
          <a:xfrm>
            <a:off x="328680" y="-6480"/>
            <a:ext cx="84549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Содержимое 3" descr="тапок 1.jpg"/>
          <p:cNvPicPr/>
          <p:nvPr/>
        </p:nvPicPr>
        <p:blipFill>
          <a:blip r:embed="rId1"/>
          <a:stretch/>
        </p:blipFill>
        <p:spPr>
          <a:xfrm>
            <a:off x="2190600" y="2214720"/>
            <a:ext cx="4762800" cy="3190680"/>
          </a:xfrm>
          <a:prstGeom prst="rect">
            <a:avLst/>
          </a:prstGeom>
          <a:ln w="0">
            <a:noFill/>
          </a:ln>
        </p:spPr>
      </p:pic>
      <p:pic>
        <p:nvPicPr>
          <p:cNvPr id="185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Содержимое 3" descr="тапок2.jpg"/>
          <p:cNvPicPr/>
          <p:nvPr/>
        </p:nvPicPr>
        <p:blipFill>
          <a:blip r:embed="rId1"/>
          <a:stretch/>
        </p:blipFill>
        <p:spPr>
          <a:xfrm>
            <a:off x="2190600" y="2076480"/>
            <a:ext cx="4762800" cy="3467160"/>
          </a:xfrm>
          <a:prstGeom prst="rect">
            <a:avLst/>
          </a:prstGeom>
          <a:ln w="0">
            <a:noFill/>
          </a:ln>
        </p:spPr>
      </p:pic>
      <p:pic>
        <p:nvPicPr>
          <p:cNvPr id="187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Содержимое 3" descr="тапок 3.jpg"/>
          <p:cNvPicPr/>
          <p:nvPr/>
        </p:nvPicPr>
        <p:blipFill>
          <a:blip r:embed="rId1"/>
          <a:stretch/>
        </p:blipFill>
        <p:spPr>
          <a:xfrm>
            <a:off x="2190600" y="2004840"/>
            <a:ext cx="4762800" cy="3610080"/>
          </a:xfrm>
          <a:prstGeom prst="rect">
            <a:avLst/>
          </a:prstGeom>
          <a:ln w="0">
            <a:noFill/>
          </a:ln>
        </p:spPr>
      </p:pic>
      <p:pic>
        <p:nvPicPr>
          <p:cNvPr id="189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Содержимое 3" descr="тапок 4.jpg"/>
          <p:cNvPicPr/>
          <p:nvPr/>
        </p:nvPicPr>
        <p:blipFill>
          <a:blip r:embed="rId1"/>
          <a:stretch/>
        </p:blipFill>
        <p:spPr>
          <a:xfrm>
            <a:off x="2190600" y="2104920"/>
            <a:ext cx="4762800" cy="3409920"/>
          </a:xfrm>
          <a:prstGeom prst="rect">
            <a:avLst/>
          </a:prstGeom>
          <a:ln w="0">
            <a:noFill/>
          </a:ln>
        </p:spPr>
      </p:pic>
      <p:pic>
        <p:nvPicPr>
          <p:cNvPr id="191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4:46:32Z</dcterms:created>
  <dc:creator>vadim</dc:creator>
  <dc:description/>
  <dc:language>en-US</dc:language>
  <cp:lastModifiedBy>u</cp:lastModifiedBy>
  <dcterms:modified xsi:type="dcterms:W3CDTF">2013-03-02T14:18:41Z</dcterms:modified>
  <cp:revision>5</cp:revision>
  <dc:subject/>
  <dc:title>Работа Нестеренко Олеси ученицы 9 класса А</dc:title>
</cp:coreProperties>
</file>