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D97-4A23-40D9-A8A7-7345907A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11C-24BA-477E-9798-92710A0D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6B3-8358-479C-8C54-D1C98C3A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37F-BAF2-4462-8739-4D2AE7FE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00E1-3F76-431A-B4C6-9AD4D31A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6D08-0294-47F3-BE44-FBF88C51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1648-6238-44F1-8823-F0FAC678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6442-1410-41FE-88C8-119DBC94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B054-2C41-4C95-8DC9-21CFA3DD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879B-8CE4-4AD8-8E5F-E332E830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B238-56AF-43B7-A3D3-6316FA27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24C-0FB4-4C98-85B5-C3C7C3D1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B021-6DF6-4EC8-8DA6-CB6BF2E2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3F9-67F1-4C44-989E-CFC4137E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85B5-8893-47A5-A41A-77E5618C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B516-2564-4E2B-9300-A9DDB243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29D8-D4DB-4323-AA58-06EB10A7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4D16-A742-4295-82CB-1E37E09A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CE79-988B-4606-960E-157C44F3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FDD85-7052-4BDF-8A4F-C02BB42A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B3BB1-A45B-4CFB-B827-0AB78756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CA37-DF5D-4C98-840B-C4E90D6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395-BCCF-472E-B674-A28B3E3F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C3ED-F31F-4CCD-9666-9EDA2E79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D81F-9DA3-4851-AE0A-1D388CA4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7C22-251D-4893-ABB9-192265B9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BAD7-5663-45AC-A7BD-0DDD6AE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E199-B1AC-4778-B96D-36E17378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B0CD-496D-46DF-B9A9-80235CF6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8D2E9-53A8-4E6F-B998-649AFCB1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A299-1527-4F44-9874-3B3653DB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4DC9-8C10-4B42-9E26-1B0C6DF0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12B7-CDB9-4222-A56E-556D77CC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EB7-D04A-4639-A9A6-BEC193F0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06E9-6426-4215-A896-929B6C28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D583F-14B5-444A-9169-98E7229C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21090-0D3D-4875-9711-4CC2FC04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D6A6-C058-42C7-967E-606602BB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80A16-3D68-4C71-8F32-55EF265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4136-6741-4D23-9DD5-BC514D8E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D690-1B0E-4AB9-B3D4-69A4628D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8A935-6C7F-485A-AF9B-FF66DB48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E7CA-601F-43D5-B2C4-15BD7BF3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B74-CEF4-48D2-85BB-9F37F55A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CC0-BC33-4BF8-ACC9-C7811667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F18-3BD6-4768-A862-579AEF10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407-4633-4965-88A3-38D4379D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168-1F85-4C77-AD96-1E84404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e3ffff"/>
                </a:gs>
                <a:gs pos="100000">
                  <a:srgbClr val="66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EA10-5BC3-4410-9A42-3F2ADF1C29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F370-103A-49BD-96C1-A24264A571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88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91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1861-22AA-4211-BE8F-301968CF1BD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39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42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0DA7-3BD5-4CDF-B68C-2A591F27239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11280" y="2060280"/>
            <a:ext cx="64008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4400a8"/>
                </a:solidFill>
                <a:latin typeface="Monotype Corsiva"/>
              </a:rPr>
              <a:t> </a:t>
            </a:r>
            <a:r>
              <a:rPr b="0" lang="ru-RU" sz="9600" spc="-1" strike="noStrike">
                <a:solidFill>
                  <a:srgbClr val="4400a8"/>
                </a:solidFill>
                <a:latin typeface="Monotype Corsiva"/>
              </a:rPr>
              <a:t>Брейн-ринг</a:t>
            </a:r>
            <a:endParaRPr b="0" lang="en-US" sz="9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акой химический элемент называют «элементом жизни и мысли»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Й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Фосф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аль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9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Каким прибором нельзя измерить расстояни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етр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икр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Ру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Штангенцирку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10. Планета, на которую летали герои романа Алексея Толстого «Аэлита»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2708280"/>
            <a:ext cx="64008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Вен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а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Лу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ерку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11.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Какой породы белый Бим Черное ухо 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Водо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ет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ол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енберн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12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то из ученых был основоположником научного эксперимента в физике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. Гали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Нью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Ломон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13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ак в старину на Руси называли рубины и сапфиры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Гран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Пер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амоц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Яхо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14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Чьей температурной шкалой пользуются в Америке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ельв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Реомю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Фаренгей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Цель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5.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Создатель Гулливера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Деф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виф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кот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Уайль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Полуфи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lvl="4" marL="182880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6600ff"/>
                </a:solidFill>
                <a:latin typeface="Arial"/>
              </a:rPr>
              <a:t>Второй</a:t>
            </a:r>
            <a:r>
              <a:rPr b="1" i="1" lang="en-US" sz="48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6600ff"/>
                </a:solidFill>
                <a:latin typeface="Arial"/>
              </a:rPr>
              <a:t>эта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Цвет, которого нет в радуге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2852280"/>
            <a:ext cx="6400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Зеле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оричне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р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Си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187c16"/>
                </a:solidFill>
                <a:latin typeface="Arial"/>
              </a:rPr>
              <a:t>Полуфина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39280" y="3573000"/>
            <a:ext cx="8209080" cy="201636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Перв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эта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втор научнофантастического романа «Человек-невидимка»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Братья Стругац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Жюль </a:t>
            </a: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B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ер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лексей Тол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Герберт Уэлл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к называется прибор, которым измеряют относительную влажность воздуха?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2421000"/>
            <a:ext cx="6400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льти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Бар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Гальван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Психрометр.</a:t>
            </a:r>
            <a:br>
              <a:rPr sz="3200"/>
            </a:b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кой газ преобладает в атмосфере Земли?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з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Вод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Что больше?</a:t>
            </a:r>
            <a:br>
              <a:rPr sz="3600"/>
            </a:b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рш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Вер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ил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Миля.</a:t>
            </a:r>
            <a:br>
              <a:rPr sz="3200"/>
            </a:b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6.Кто из известных ученых считается «крестным отцом» физики?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2421000"/>
            <a:ext cx="6400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Аристо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.Гали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. Демокрит.</a:t>
            </a:r>
            <a:br>
              <a:rPr sz="3200"/>
            </a:b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7. О ком Александр Сергеевич Пушкин написал: «Он создал первый университет. Он, лучше сказать, сам был первым нашим университетом»? 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б Аристоте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 Ломонос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 Ньют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 Петре </a:t>
            </a: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br>
              <a:rPr sz="3200"/>
            </a:b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8. Как называется оптический прибор для одного глаза?</a:t>
            </a: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Монок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Пен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b5b5ff"/>
                </a:solidFill>
                <a:latin typeface="Arial"/>
              </a:rPr>
              <a:t>. Ло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9. Сколько планет в Солнечной систем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0. Как называется остров, на котором «жил» Мионотавр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и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Сици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Род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11.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з чего делают бусы для лечения базедовой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болезни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8280" y="2708280"/>
            <a:ext cx="64008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з бирю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з жемч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з малах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з янтар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00a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то из великих мудрецов сказал: «Дайте мне</a:t>
            </a:r>
            <a:br>
              <a:rPr sz="3200"/>
            </a:b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точку опоры и я переверну Землю»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3500280"/>
            <a:ext cx="64008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Аристо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Архим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Евкл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187c16"/>
                </a:solidFill>
                <a:latin typeface="Arial"/>
              </a:rPr>
              <a:t>Пифаг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2.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Что не является счетным устройством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38280" y="2852280"/>
            <a:ext cx="6400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Счё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Индика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рифм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алькуля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3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нсамблем из скольких исполнителей является октет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П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С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Вос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диннадц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4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кими часами следует измерять время на космической станции в условиях невесомости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38280" y="3357720"/>
            <a:ext cx="64008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А. Водя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Песоч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Маятнико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Пружи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5. Создатель старика Хоттабыча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38280" y="2852280"/>
            <a:ext cx="6400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Лаг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Н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Касс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b5ff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b5b5ff"/>
                </a:solidFill>
                <a:latin typeface="Arial"/>
              </a:rPr>
              <a:t>Ол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00808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1700" spc="-1" strike="noStrike">
                <a:solidFill>
                  <a:srgbClr val="ff0066"/>
                </a:solidFill>
                <a:latin typeface="Arial"/>
              </a:rPr>
              <a:t>Финал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00808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b5b5ff"/>
                </a:solidFill>
                <a:latin typeface="Arial"/>
              </a:rPr>
              <a:t>Трети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называется современный аналог гипербо­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лоида инженера Гарина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438280" y="2708280"/>
            <a:ext cx="64008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Ла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Ма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инхрофазо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Ядерный реа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акое взрывчатое вещество медики советуют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ногда подержать под языком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2565000"/>
            <a:ext cx="64008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алид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Тро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Нитроглице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ро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акое животное изображено на эмблеме Все­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ирного фонда дикой природы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енг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с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а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колько спутников у планеты Марс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.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5. Кто изобрел велосипед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ртам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улиб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Ломон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Мато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Имя древнегреческого бога-громовержца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Зев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атур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Юпи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Вулк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Что легч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Золо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Ун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Фу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7.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Что не относится к семи чудесам света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38280" y="28544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ирамида Хеоп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авилонская баш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ады Семирам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олосс Родос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8.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 какой стране жил и работал Блез Паскаль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нг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Гер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Ита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Фран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9.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Как называется прибор для измерения углов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Градус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Штангенцирку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0. Кто придумал слово «робот»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лексей Тол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льберт Эйнштей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арел Чап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11.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колько муз было у Аполлона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ем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Дев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Одиннад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еталл, который легче воды и чье название в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ереводе с греческого означает «камень»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Ли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аль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Кр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Ник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3.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Мать жемчуга»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Известня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Моллю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ерламу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дин из первых ученых, работавших на войну,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 ставший жертвой этой войны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2924280"/>
            <a:ext cx="64008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Гали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Нью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аскаль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b1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Город Малыша и Карлсона.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ари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токголь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Ри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f8f8f8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Как называется главный оптический прибор</a:t>
            </a:r>
            <a:br>
              <a:rPr sz="3200"/>
            </a:b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подводной лодки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3068280"/>
            <a:ext cx="6400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пектро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икро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Пери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Телес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24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Конкурс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3399"/>
                </a:solidFill>
                <a:latin typeface="Times New Roman"/>
              </a:rPr>
              <a:t>знатоков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6705360"/>
            <a:ext cx="640080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98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Вам надо подогреть на спиртовке воду. Для этого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предлагают два стакана: один из толстого стекла, другой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з очень тонкого. Какой вы выберите стакан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62040" y="4941360"/>
            <a:ext cx="777240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Все пробирки и колбы из тонкого стекла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63640" y="228600"/>
            <a:ext cx="7228080" cy="42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вое подошли к реке. У берега стояла лодка, кото­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я может вмещать только одного Человека, но перепра­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ились оба. Как это могло случиться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62040" y="4941360"/>
            <a:ext cx="777240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Двое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подошли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к разным берега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39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Число букв в фамилиях знаменитых учёных одинаково, но в фамилии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одного, кроме согласных, все гласные «о», а у другого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такое же количество гласных «е». Назовите эти фамилии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62040" y="5084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Ответ: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Ломоносов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и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Менделеев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В классе 36 учеников. Мальчиков на 3 больше, чем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девочек. Сколько мальчиков и сколько девочек было в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классе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62040" y="501336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Нет решения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«Химия - правая рука физики, математика - ее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глаза». Что ты знаешь об авторе этого выражения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62040" y="4869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М.В. Ломоносов (1711-1765) - великий русский ученый-химик, физик, математик, философ, поэ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8236080" cy="26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главия каких литературных произведений начинаются с чисел 3, 20, 12, 80 000, 1000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62040" y="3212640"/>
            <a:ext cx="7772400" cy="28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3300"/>
                </a:solidFill>
                <a:latin typeface="Times New Roman"/>
              </a:rPr>
              <a:t>Ответ.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«Три мушкетера», «Три поросенка», «20 лет спустя», «12 стульев», «80 000 лье под водой», «1000 и одна ночь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400a8"/>
                </a:solidFill>
                <a:latin typeface="Arial"/>
              </a:rPr>
              <a:t>Гора, у которой, согласно библейскому преданию, остановился Ноев ковчег.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8280" y="3068280"/>
            <a:ext cx="6400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ра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азб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Пар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Эве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Что меньш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Вер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Дюй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Санти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Ф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Кто из этих великих людей жил раньше?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2997000"/>
            <a:ext cx="64008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рхим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Пифаг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Александр Македон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 Го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7.</a:t>
            </a: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Какое из этих полезных растений было завезе­</a:t>
            </a:r>
            <a:br>
              <a:rPr sz="3200"/>
            </a:br>
            <a:r>
              <a:rPr b="0" lang="ru-RU" sz="3200" spc="-1" strike="noStrike">
                <a:solidFill>
                  <a:srgbClr val="4400a8"/>
                </a:solidFill>
                <a:latin typeface="Arial"/>
              </a:rPr>
              <a:t>но в Европу из Америки?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8280" y="3068280"/>
            <a:ext cx="6400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A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Морк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B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ап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C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Ре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7c16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187c16"/>
                </a:solidFill>
                <a:latin typeface="Arial"/>
              </a:rPr>
              <a:t>Картоф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23:25:48Z</dcterms:created>
  <dc:creator>User</dc:creator>
  <dc:description/>
  <dc:language>en-US</dc:language>
  <cp:lastModifiedBy>Klient</cp:lastModifiedBy>
  <dcterms:modified xsi:type="dcterms:W3CDTF">2008-11-05T11:22:00Z</dcterms:modified>
  <cp:revision>6</cp:revision>
  <dc:subject/>
  <dc:title>Полуфинал</dc:title>
</cp:coreProperties>
</file>