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6C4-1C38-4425-801C-0F3C8F18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C83-33BC-445B-A133-127D029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82C-CC85-4BEE-A482-651870AC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E8A-4B76-4F96-9203-2625CCF5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B0ED-79AD-4DAD-8A55-C361C367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9598-AB29-42DC-9491-D3955F8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DDF1-78A8-433C-B071-198D1D3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20A8-3A5C-45A3-B88F-5321805B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581C-BAB4-4A1B-B5C1-E3CACCF3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D29-6674-488C-82C6-8D09CEA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175A-7BDE-4C2B-8EB0-E567B771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32F-B397-4895-97D3-E8BFBE1C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009E-BD10-48BB-81FE-527DE13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A128-C9C6-4CEE-AAB4-09D105E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3778-13F2-40E0-BCC7-86B35482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7D9E-0342-47E6-BA44-A86CE2D1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3185-D361-432D-BCFA-6415A1EF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8E35-7E7F-47C1-8A3B-06117B1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854D-97A9-4B57-9134-FF6CAA05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9D3D-48F4-4F7C-A9F2-1028353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1B88-F691-4D59-A8D5-80F959E4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7297-A73A-4870-91CB-C435BA2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FC0-BBB7-4BA4-914B-84E88968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8B8A-BCC7-48C4-82CD-3E1DDCE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A4FA-84B5-4009-A22F-8956C25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591B-23D9-4549-9C9B-C5741E9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E121-4A33-470E-84F6-4BEF148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0E1F-3A01-4428-8456-F462E84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3E09-AB63-4346-B7D4-FE6FFF8C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7C5E-ADC3-4E67-9259-896A734F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0E35-31BD-4335-B851-2C76FD8E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CAAA-C21D-4245-9555-0023231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5EA6-9DCC-4D9B-874F-B7C4FBB4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257-27CD-4678-8236-8CE7CA6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8111-D2C7-4CE1-8C05-DFC2112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59CD-8224-4763-8A80-747B9DE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6AE4-D5C4-4FA0-844B-4A4B92E2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13B4-BFFD-47E2-BEF7-1EAE17F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271E-2AA8-41C2-9117-AABE2F6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8DAB-0F97-4B0A-9DBB-16781621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09E1-BEC1-42B1-9424-CB469C9E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804E-69B9-4111-98DD-E72E9F7D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14C3-6B54-419A-8D34-5671CD75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A1D-0127-4D7E-87ED-A1192D7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C74-C459-49B7-8C01-3403D62F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4FA-9389-49F0-8CD2-D3E0158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5FC-81D0-46B3-8D1A-711EB29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086-3AC8-420B-B017-F0A979F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580-F7B2-4585-9F38-12DDF79FF2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891-C254-47CA-89D7-EBD1DAB7BF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88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91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2AB-53E1-46CF-A17E-F578C53744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39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42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6DA-24E2-487A-8FCE-69866EF5C0F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11280" y="2060280"/>
            <a:ext cx="64008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4400a8"/>
                </a:solidFill>
                <a:latin typeface="Monotype Corsiva"/>
              </a:rPr>
              <a:t> </a:t>
            </a:r>
            <a:r>
              <a:rPr b="0" lang="ru-RU" sz="9600" spc="-1" strike="noStrike">
                <a:solidFill>
                  <a:srgbClr val="4400a8"/>
                </a:solidFill>
                <a:latin typeface="Monotype Corsiva"/>
              </a:rPr>
              <a:t>Брейн-ринг</a:t>
            </a:r>
            <a:endParaRPr b="0" lang="en-US" sz="9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акой химический элемент называют «элементом жизни и мысли»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Й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Фосф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ль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Каким прибором нельзя измерить расстояни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етр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икр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Штангенцирк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10. Планета, на которую летали герои романа Алексея Толстого «Аэлита»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е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а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Лу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ерку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11.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Какой породы белый Бим Черное ухо 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одо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ет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ол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енберн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то из ученых был основоположником научного эксперимента в физике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. Гали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Нью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Ломо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ак в старину на Руси называли рубины и сапфиры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Гра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е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амо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Яхо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14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Чьей температурной шкалой пользуются в Америке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ельв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Реомю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Фаренге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Цель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5.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Создатель Гулливера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Деф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виф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кот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Уайль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Полу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lvl="4" marL="18288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00ff"/>
                </a:solidFill>
                <a:latin typeface="Arial"/>
              </a:rPr>
              <a:t>Второй</a:t>
            </a:r>
            <a:r>
              <a:rPr b="1" i="1" lang="en-US" sz="4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00ff"/>
                </a:solidFill>
                <a:latin typeface="Arial"/>
              </a:rPr>
              <a:t>эта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Цвет, которого нет в радуге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Зеле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оричне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р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187c16"/>
                </a:solidFill>
                <a:latin typeface="Arial"/>
              </a:rPr>
              <a:t>Полуфин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39280" y="3573000"/>
            <a:ext cx="8209080" cy="2016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Пер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э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втор научнофантастического романа «Человек-невидимка»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Братья Стругац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Жюль </a:t>
            </a: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е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лексей Тол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Герберт Уэлл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к называется прибор, которым измеряют относительную влажность воздуха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льти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Бар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Гальван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сихрометр.</a:t>
            </a:r>
            <a:br>
              <a:rPr sz="3200"/>
            </a:b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кой газ преобладает в атмосфере Земли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з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Вод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Что больше?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р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Вер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ил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Миля.</a:t>
            </a:r>
            <a:br>
              <a:rPr sz="3200"/>
            </a:b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.Кто из известных ученых считается «крестным отцом» физики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Аристо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.Гали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. Демокрит.</a:t>
            </a:r>
            <a:br>
              <a:rPr sz="3200"/>
            </a:b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7. О ком Александр Сергеевич Пушкин написал: «Он создал первый университет. Он, лучше сказать, сам был первым нашим университетом»? 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б Аристоте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 Ломонос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 Ньют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 Петре </a:t>
            </a: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br>
              <a:rPr sz="3200"/>
            </a:b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. Как называется оптический прибор для одного глаза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Монок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Пен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. Ло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9. Сколько планет в Солнечной систем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0. Как называется остров, на котором «жил» Мионотавр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и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ици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Род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11.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з чего делают бусы для лечения базедовой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болезни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бирю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жемч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малах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янтар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00a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то из великих мудрецов сказал: «Дайте мне</a:t>
            </a:r>
            <a:br>
              <a:rPr sz="3200"/>
            </a:b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точку опоры и я переверну Землю»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3500280"/>
            <a:ext cx="64008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Аристо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Архим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Евкл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Пифа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Что не является счетным устройством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чё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ндика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рифм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алькуля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нсамблем из скольких исполнителей является октет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Вос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диннадц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4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кими часами следует измерять время на космической станции в условиях невесомости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38280" y="3357720"/>
            <a:ext cx="64008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. Водя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есо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Маятнико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ружи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5. Создатель старика Хоттабыча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Лаг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асс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л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0808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1700" spc="-1" strike="noStrike">
                <a:solidFill>
                  <a:srgbClr val="ff0066"/>
                </a:solidFill>
                <a:latin typeface="Arial"/>
              </a:rPr>
              <a:t>Финал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00808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b5b5ff"/>
                </a:solidFill>
                <a:latin typeface="Arial"/>
              </a:rPr>
              <a:t>Трет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называется современный аналог гипербо­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лоида инженера Гарина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а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а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инхрофазо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Ядерный реа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акое взрывчатое вещество медики советуют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ногда подержать под языком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2565000"/>
            <a:ext cx="64008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алид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Тро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итроглице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ро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акое животное изображено на эмблеме Все­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ирного фонда дикой природы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енг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с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колько спутников у планеты Марс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5. Кто изобрел велосипед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ртам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улиб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омо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ато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Имя древнегреческого бога-громовержца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Зев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ату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Юпи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улк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Что легч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Зол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У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Фу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Что не относится к семи чудесам света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ирамида Хеоп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авилонская баш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ады Сем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олосс Родос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 какой стране жил и работал Блез Паскаль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нг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ер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Ита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Фра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9.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ак называется прибор для измерения углов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радус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тангенцирк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0. Кто придумал слово «робот»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ексей Тол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ьберт Эйнштей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арел Чап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11.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колько муз было у Аполлона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Дев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диннад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еталл, который легче воды и чье название в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ереводе с греческого означает «камень»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и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аль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р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ик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Мать жемчуга»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Известня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оллю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ерламу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дин из первых ученых, работавших на войну,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 ставший жертвой этой войны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али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ью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аскаль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ород Малыша и Карлсона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ари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токголь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ак называется главный оптический прибор</a:t>
            </a:r>
            <a:br>
              <a:rPr sz="3200"/>
            </a:b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подводной лодки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3068280"/>
            <a:ext cx="6400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пектро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икро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ери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Теле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Конкурс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3399"/>
                </a:solidFill>
                <a:latin typeface="Times New Roman"/>
              </a:rPr>
              <a:t>знатоков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670536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98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ам надо подогреть на спиртовке воду. Для этого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редлагают два стакана: один из толстого стекла, другой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з очень тонкого. Какой вы выберите стакан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4941360"/>
            <a:ext cx="777240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Все пробирки и колбы из тонкого стекл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63640" y="228600"/>
            <a:ext cx="722808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вое подошли к реке. У берега стояла лодка, кото­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я может вмещать только одного Человека, но перепра­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ились оба. Как это могло случиться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62040" y="4941360"/>
            <a:ext cx="777240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Двое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подошли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к разным берега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Число букв в фамилиях знаменитых учёных одинаково, но в фамили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одного, кроме согласных, все гласные «о», а у другого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такое же количество гласных «е». Назовите эти фамилии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62040" y="5084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Ответ: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Ломоносов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и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Менделеев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В классе 36 учеников. Мальчиков на 3 больше, чем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девочек. Сколько мальчиков и сколько девочек было в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классе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62040" y="501336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Нет решения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Химия - правая рука физики, математика - ее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глаза». Что ты знаешь об авторе этого выраж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62040" y="4869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М.В. Ломоносов (1711-1765) - великий русский ученый-химик, физик, математик, философ, поэ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8236080" cy="26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главия каких литературных произведений начинаются с чисел 3, 20, 12, 80 000, 1000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62040" y="3212640"/>
            <a:ext cx="7772400" cy="28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«Три мушкетера», «Три поросенка», «20 лет спустя», «12 стульев», «80 000 лье под водой», «1000 и одна ночь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Гора, у которой, согласно библейскому преданию, остановился Ноев ковчег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3068280"/>
            <a:ext cx="6400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ра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зб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ар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Эве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Что меньш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ер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Дюй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анти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Ф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Кто из этих великих людей жил раньш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ифаг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лександр Македон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 Го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Какое из этих полезных растений было завезе­</a:t>
            </a:r>
            <a:br>
              <a:rPr sz="3200"/>
            </a:b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но в Европу из Америки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3068280"/>
            <a:ext cx="6400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орк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п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Ре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ртоф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23:25:48Z</dcterms:created>
  <dc:creator>User</dc:creator>
  <dc:description/>
  <dc:language>en-US</dc:language>
  <cp:lastModifiedBy>Klient</cp:lastModifiedBy>
  <dcterms:modified xsi:type="dcterms:W3CDTF">2008-11-05T11:22:00Z</dcterms:modified>
  <cp:revision>6</cp:revision>
  <dc:subject/>
  <dc:title>Полуфинал</dc:title>
</cp:coreProperties>
</file>