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bomb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E90-B45D-4430-B49F-2E320DA6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F0C-DD5F-4045-A96A-EE52B462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03A-ED77-43AF-9015-D010BD09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F84-6B73-43A1-8D4A-73A15930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DC4-1346-41BA-A884-716422E9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4FA-95BD-4C82-851F-94503355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D59-1D78-4700-AFE7-5C8B8046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AEC-53F5-4CA6-87E1-D9E629E8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93F-99B2-4BDE-8F61-D59E2853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641-4245-4B9D-BDB5-6E803BC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11A-2968-4B95-B2CA-627ABE38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E21-2C3A-4C77-B45E-9DD6A235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6520-0CBB-4932-8BF4-7F97EE2B5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5840"/>
            <a:ext cx="61722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нан Аветися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Димка\Рабочий стол\Аветисян.jpg"/>
          <p:cNvPicPr/>
          <p:nvPr/>
        </p:nvPicPr>
        <p:blipFill>
          <a:blip r:embed="rId2"/>
          <a:stretch/>
        </p:blipFill>
        <p:spPr>
          <a:xfrm>
            <a:off x="642960" y="1625760"/>
            <a:ext cx="5715000" cy="67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ергей Николаевич Каданч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57150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нстантин Николаевич Леселид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857160" y="2500200"/>
            <a:ext cx="542952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42720" y="571680"/>
            <a:ext cx="6172200" cy="75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ru-RU" sz="4900" spc="-1" strike="noStrike">
                <a:solidFill>
                  <a:srgbClr val="ffffff"/>
                </a:solidFill>
                <a:latin typeface="Calibri"/>
              </a:rPr>
              <a:t>ВИТЯ НОВИЦКИЙ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итя Новицкий – ученик 21 школы г.  Новороссийс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итя рано осиротел. Родителей он не помнил, воспитывался в семье у дяди. Витя любил свой город и людей, живущих в нем. Фашисты подошли к Новороссийску. Советские воины отстаивали каждый дом, каждую улицу. С ними был и Витя. Вместе с пулеметчиками он засел в башне высокого дома. Отсюда отбивали атаки защитники города. Погибли все, кроме Вити. Немцам удалось ворваться в башню. Мальчика схватили, облили керосином, зажгли и бросили на мостовую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зарь Львович Ку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24000" y="2000160"/>
            <a:ext cx="610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иколай Сипяг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357120" y="2071800"/>
            <a:ext cx="614376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8:01:10Z</dcterms:created>
  <dc:creator>Дима</dc:creator>
  <dc:description/>
  <dc:language>en-US</dc:language>
  <cp:lastModifiedBy>Дима</cp:lastModifiedBy>
  <dcterms:modified xsi:type="dcterms:W3CDTF">2011-08-14T08:50:57Z</dcterms:modified>
  <cp:revision>5</cp:revision>
  <dc:subject/>
  <dc:title>   Унан Аветисян  </dc:title>
</cp:coreProperties>
</file>