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bomb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0096-2082-4895-B5EB-B9FE0D43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369-ABC9-4338-87EA-C53877FB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B09-2281-43A2-B38E-4B5A2CB8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142-2C93-450A-B7EE-CD26315A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CDC-1C70-4DD5-8D95-BC382582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EB9-33D1-4A70-AFAC-C0997F09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8FA-965A-4CF7-9F7C-8CD00F0C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186-9383-441A-9B5B-899CD158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654-57AF-463F-90B3-51566D9F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FB1-7C6E-4CF3-933C-46D7D4CD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58B-88E7-4951-B0AA-3DCA16C8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617-FE22-4B24-A6CD-EFE3F149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FF49-0AF3-4768-8236-E33B1B777E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85840"/>
            <a:ext cx="61722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нан Аветисян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720" y="2133360"/>
            <a:ext cx="6172200" cy="6033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Димка\Рабочий стол\Аветисян.jpg"/>
          <p:cNvPicPr/>
          <p:nvPr/>
        </p:nvPicPr>
        <p:blipFill>
          <a:blip r:embed="rId2"/>
          <a:stretch/>
        </p:blipFill>
        <p:spPr>
          <a:xfrm>
            <a:off x="642960" y="1625760"/>
            <a:ext cx="5715000" cy="67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ергей Николаевич Каданч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571500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онстантин Николаевич Леселидз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2720" y="2133360"/>
            <a:ext cx="6172200" cy="603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857160" y="2500200"/>
            <a:ext cx="542952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42720" y="571680"/>
            <a:ext cx="6172200" cy="75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i="1" lang="ru-RU" sz="4900" spc="-1" strike="noStrike">
                <a:solidFill>
                  <a:srgbClr val="ffffff"/>
                </a:solidFill>
                <a:latin typeface="Calibri"/>
              </a:rPr>
              <a:t>ВИТЯ НОВИЦКИЙ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Витя Новицкий – ученик 21 школы г.  Новороссийс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Витя рано осиротел. Родителей он не помнил, воспитывался в семье у дяди. Витя любил свой город и людей, живущих в нем. Фашисты подошли к Новороссийску. Советские воины отстаивали каждый дом, каждую улицу. С ними был и Витя. Вместе с пулеметчиками он засел в башне высокого дома. Отсюда отбивали атаки защитники города. Погибли все, кроме Вити. Немцам удалось ворваться в башню. Мальчика схватили, облили керосином, зажгли и бросили на мостовую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Цезарь Львович Ку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24000" y="2000160"/>
            <a:ext cx="610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иколай Сипяг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357120" y="2071800"/>
            <a:ext cx="6143760" cy="67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08:01:10Z</dcterms:created>
  <dc:creator>Дима</dc:creator>
  <dc:description/>
  <dc:language>en-US</dc:language>
  <cp:lastModifiedBy>Дима</cp:lastModifiedBy>
  <dcterms:modified xsi:type="dcterms:W3CDTF">2011-08-14T08:50:57Z</dcterms:modified>
  <cp:revision>5</cp:revision>
  <dc:subject/>
  <dc:title>   Унан Аветисян  </dc:title>
</cp:coreProperties>
</file>