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F1FB-13A7-4306-B458-E5AA086CF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3D83-C6BA-4460-BB76-80064542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D9EC-FB13-4A13-AB38-3BAEBF33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ACEE-AA5B-4DC8-92FA-68410FFFD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A823-842B-471A-893C-FDF82C5BA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9DEF-1BA7-41F6-8E10-F03D8F1F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0F4E-EC6F-4F08-931C-DDF46F12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89DF-9828-4F7F-B341-FF698F7A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6C1A-6EA9-4FBB-9CF6-09E0E104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587D-63E4-4A56-8BB0-D943DEC6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2DAC-328B-4267-8FB5-B4534B32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8353-ADE4-4E9F-995D-2D804DA3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6C77-55B1-41FF-B100-936753F5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4207-543D-406D-A313-7784EACC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E5C4-7376-42BD-A135-16CBCC0B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C45D-CD45-4124-A37A-96869E807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66AE-A035-410B-818F-830410B74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49D7-1E58-48F6-8C1E-33CFF45C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E419-4FE9-49D6-A454-5ACA382A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60A3-9770-4A62-B678-80159C48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BD35-4336-4CE1-A57E-6B28CD0A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9C84-696A-422F-A0CD-B48DAFC6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D14A-99E6-4797-86BE-69923693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49BC-53A4-4715-8BFF-070635FC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725E-42AA-4BD5-9023-B43F7B3BC96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D851-1D1E-43DD-B544-E8F3588D0E2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42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Предпринимательство в семейной экономике</a:t>
            </a: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6. Ваше слово не расходится с делом?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7. Вы сопоставляете свои ценности с требованиями морали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8. Интересуют ли вас статьи и книги на экономические темы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9. Знаете ли вы, какие личностные качества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предпринимателя являются профессионально важными?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0. Уверены ли вы в том, что иметь собственное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дело — главная ваша мечта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77724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Каждый положительный ответ «Да» оценивается в один балл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Ключ к тесту: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если вы набрали 17—20 баллов, вы имеете достаточно высокий потенциал предприни­мателя; 13—16 баллов - ваш предпринимательский потенциал требует совершенствования; 12 и менее — ваши шансы стать предпринимателем невелики. Ре­ализуйте себя в другой деятельности. Но помните: удача приходит только к упорным, настойчивым, целеустремленным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Признаки предпринимательства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Инициативная и самостоятельная деятельность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Имущественная ответственность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Систематическое получение прибыли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Рискованная деятельность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Физминутк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Руки к верху поднимаем,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А потом их опускаем,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А потом их разведем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И к себе быстрей прижмем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А потом быстрей, быстрей,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хлопай, хлопай веселей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3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8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770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Формы предпринимательства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276280"/>
            <a:ext cx="77724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1001"/>
              </a:spcBef>
              <a:buClr>
                <a:srgbClr val="ffffcc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Индивидуальное предпринимательство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spcBef>
                <a:spcPts val="1001"/>
              </a:spcBef>
              <a:buClr>
                <a:srgbClr val="ffffcc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Коллективное предпринимательство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Индивидуальное предпринимательство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+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они могут быть легко созданы. Надо  только зарегистрироваться, получить если требуется лицензию и «распахнув» двери собственного дома начинать  оказывать услуги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у собственника индивидуальной фирмы не возникает проблем с сохранением коммерческой тайны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сравнительно небольшие налоги ( не более 35%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большая свобода действий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наименьшее регулирование со стороны государства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19360" y="1142640"/>
            <a:ext cx="3809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ограниченные финансовые возможности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меньшая стабильность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ограниченность предпринимательских способностей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полная ответственность владельца за результаты своей деятельности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3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8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2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3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8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3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8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3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Партнерское предпринимательство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1760" y="1066680"/>
            <a:ext cx="3733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+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      объединение капиталов нескольких лиц позволяет открыть более перспективное дело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      объединяется интелектуальнный капитал собственников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      возможности привлечения банковских капиталов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4.      так же как и индивидуальные предприятия легко создаются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5.      Регулирование со стороны государства существует но не особенно жесткое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7960" y="106668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    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 неограниченная ответственность партнеров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      конфликты между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участниками товарищества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      смерть или выход из товарищества одного из партнеров ведет за собой прекращение его деятельности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5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0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5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0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5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0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5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0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5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Цель урока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Познакомиться с понятием предпринимательств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Видами и формами предпринимательской деятельност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   Выяснить есть ли у вас качества для занятия предпринимательством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Повторение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Что такое маркетинг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Что такое менеджмент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Что такое реклама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Задачи рекламы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Что такое штрих – код? Для чего он нужен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Предпринимательство</a:t>
            </a: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 –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это инициативная деятельность по созданию, ведению и развитию предприятия, имеющая своей целью производство и сбыт продукции, получение прибыли.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Кто может заниматься предпринимательством: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421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Физическое лицо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–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это любой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свободный человек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24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Юридическое лицо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– это уже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организация, предприятие,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фирма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3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3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3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Предприниматели – это люди, наделенные следующими способностями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2971800"/>
            <a:ext cx="80010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Умение оценить, какие товары и услуги нужны людям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Готовность рискнуть всем, что  у них имеется (капитал, знания, репутация)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Умение координировать факторы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производства для создания благ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Любите ли вы выполнять сложную, но инте­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ресную работу?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Есть ли у вас план самоусовершенствования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хотя бы на один год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Заботитесь ли о состоянии своего здоровья и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работоспособности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ы уверены в себе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Часто ли  вы  применяете оригинальный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творческий подход в принятии решений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Оцените ваш потенциал предпринимателя. Внимательно прочтите вопросы и ответьте в форме «Да» или «Нет».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6.  Достаточно ли вы гибки в своем поведении,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в отношении с людьми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7.  Стремитесь ли  сотрудничать с другими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людьми?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8.  «Настойчивый и легко приспосабливающийся» — это хорошее описание вашего характера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Вы регулярно оцениваете свою работу и успехи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Вы считаете, что развитие предпринимательства – основа экономики страны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1. Вы убеждены, что предпринимателю необходимо знать действующие правила налогообложения, начисления заработной платы, ведения бухгалтерской документации?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2. Располагаете ли достаточными финансовыми средствами, чтобы поддержать свое предприятие в течение первого года существования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3. Определили ли вы специфику своей предпринимательской деятельности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4. Ясны ли вам перспективы вашей деятельности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5. Когда приходится принимать важные решения, вы действуете решительно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9:03:22Z</dcterms:created>
  <dc:creator>ххх</dc:creator>
  <dc:description/>
  <dc:language>en-US</dc:language>
  <cp:lastModifiedBy>дщщшщш</cp:lastModifiedBy>
  <dcterms:modified xsi:type="dcterms:W3CDTF">2008-01-29T16:50:55Z</dcterms:modified>
  <cp:revision>6</cp:revision>
  <dc:subject/>
  <dc:title>Понятие предпринимательства и Формы предпринимательства </dc:title>
</cp:coreProperties>
</file>