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6776-A25D-4D45-9E8A-A5AB053A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D17-9AD0-4D32-A0CF-F6D293F3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38F-8131-4ABD-8CE1-39B7186F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F2A-65A6-459A-BC5A-E56D676F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0AF5-05E9-436F-BA9F-5C023E93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2880-52E3-45D0-A77A-5DAC5C20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B1AA-11D9-477F-B065-F9BA1EAA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04CE-5C79-4A38-B349-FE15A0F6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1548-D913-45D2-8A40-CAFF0C06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94D0-6902-4042-BCDF-E3E17F0E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295C-F151-4D72-9DAF-F8869F86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E79-44B1-4459-BAE8-D7EBFA10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7403-9335-402E-A882-EDE85360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17EA-2E51-42FC-8FBF-4B7567B2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BD54-8858-4321-9D44-696642AC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1366-E57B-4E86-A617-9688419E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4B7F-A648-4EE9-9019-F2298B6F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27B-165B-4105-8199-80FF9FF3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827-7A68-4148-875F-67947402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AE1-0178-4125-8A95-E108F6C3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BA2-A5FB-469F-8989-6F6DBFF8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488-9DE9-4E25-8B37-C7691215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943-E317-4047-829E-F952DC72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4A8-1311-4D78-9F87-42D3F56C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A8D4-4430-4479-83AC-C022434093A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E591-1460-412D-9F13-9EBB5EFE0AF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Предпринимательство в семейной экономике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6. Ваше слово не расходится с делом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7. Вы сопоставляете свои ценности с требованиями морали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. Интересуют ли вас статьи и книги на экономические темы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. Знаете ли вы, какие личностные качества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редпринимателя являются профессионально важными?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. Уверены ли вы в том, что иметь собственное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дело — главная ваша мечта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аждый положительный ответ «Да» оценивается в один бал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Ключ к тесту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если вы набрали 17—20 баллов, вы имеете достаточно высокий потенциал предприни­мателя; 13—16 баллов - ваш предпринимательский потенциал требует совершенствования; 12 и менее — ваши шансы стать предпринимателем невелики. Ре­ализуйте себя в другой деятельности. Но помните: удача приходит только к упорным, настойчивым, целеустремленным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Признаки предпринимательства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Инициативная и самостоятельная деятельност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Имущественная ответственност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Систематическое получение прибыл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Рискованная деятельност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Физминут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Руки к верху поднимаем,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А потом их опускаем,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А потом их разведем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И к себе быстрей прижмем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А потом быстрей, быстрей,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хлопай, хлопай веселей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770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Формы предпринимательств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001"/>
              </a:spcBef>
              <a:buClr>
                <a:srgbClr val="ffff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Индивидуальное предпринимательство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spcBef>
                <a:spcPts val="1001"/>
              </a:spcBef>
              <a:buClr>
                <a:srgbClr val="ffff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Коллективное предпринимательство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Индивидуальное предпринимательство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они могут быть легко созданы. Надо  только зарегистрироваться, получить если требуется лицензию и «распахнув» двери собственного дома начинать  оказывать услуги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у собственника индивидуальной фирмы не возникает проблем с сохранением коммерческой тайны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сравнительно небольшие налоги ( не более 35%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большая свобода действий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наименьшее регулирование со стороны государств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19360" y="114264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ограниченные финансовые возможност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меньшая стабильность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ограниченность предпринимательских способностей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полная ответственность владельца за результаты своей деятельности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3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8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Партнерское предпринимательство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066680"/>
            <a:ext cx="3733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     объединение капиталов нескольких лиц позволяет открыть более перспективное дело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     объединяется интелектуальнный капитал собственников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      возможности привлечения банковских капиталов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     так же как и индивидуальные предприятия легко создаются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.      Регулирование со стороны государства существует но не особенно жесткое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06668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   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 неограниченная ответственность партнеров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     конфликты между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частниками товариществ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      смерть или выход из товарищества одного из партнеров ведет за собой прекращение его деятельности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5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ознакомиться с понятием предпринимательств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идами и формами предпринимательской деятельност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   Выяснить есть ли у вас качества для занятия предпринимательство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Повторение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Что такое маркетинг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Что такое менеджмент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Что такое реклама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Задачи рекламы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Что такое штрих – код? Для чего он нужен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Предпринимательство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–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это инициативная деятельность по созданию, ведению и развитию предприятия, имеющая своей целью производство и сбыт продукции, получение прибыли.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Кто может заниматься предпринимательством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2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Физическое лицо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это любой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свободный человек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Юридическое лицо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– это уже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организация, предприятие,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фирм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3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3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3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Предприниматели – это люди, наделенные следующими способностями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9718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мение оценить, какие товары и услуги нужны людям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отовность рискнуть всем, что  у них имеется (капитал, знания, репутация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мение координировать факторы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роизводства для создания благ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Любите ли вы выполнять сложную, но инте­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есную работу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Есть ли у вас план самоусовершенствовани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хотя бы на один год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аботитесь ли о состоянии своего здоровья и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аботоспособности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ы уверены в себе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Часто ли  вы  применяете оригинальный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творческий подход в принятии решений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Оцените ваш потенциал предпринимателя. Внимательно прочтите вопросы и ответьте в форме «Да» или «Нет»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.  Достаточно ли вы гибки в своем поведении,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 отношении с людьми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.  Стремитесь ли  сотрудничать с другими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людьми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.  «Настойчивый и легко приспосабливающийся» — это хорошее описание вашего характера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ы регулярно оцениваете свою работу и успехи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ы считаете, что развитие предпринимательства – основа экономики страны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1. Вы убеждены, что предпринимателю необходимо знать действующие правила налогообложения, начисления заработной платы, ведения бухгалтерской документации?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2. Располагаете ли достаточными финансовыми средствами, чтобы поддержать свое предприятие в течение первого года существования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3. Определили ли вы специфику своей предпринимательской деятельности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4. Ясны ли вам перспективы вашей деятельности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5. Когда приходится принимать важные решения, вы действуете решительно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9:03:22Z</dcterms:created>
  <dc:creator>ххх</dc:creator>
  <dc:description/>
  <dc:language>en-US</dc:language>
  <cp:lastModifiedBy>дщщшщш</cp:lastModifiedBy>
  <dcterms:modified xsi:type="dcterms:W3CDTF">2008-01-29T16:50:55Z</dcterms:modified>
  <cp:revision>6</cp:revision>
  <dc:subject/>
  <dc:title>Понятие предпринимательства и Формы предпринимательства </dc:title>
</cp:coreProperties>
</file>