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EB0-3735-4633-9B01-4F30B530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B36-D8F4-4717-A0DF-87C2E356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CCF-8002-481B-A283-56EEE2A5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CEA-6EE0-46E0-BF04-753F985D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971-6CB8-4AA8-852A-CBDDA32A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F96-7D3E-4A84-A0AE-335DAC14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A30-A5CF-4E1F-B3A9-E9BE2B57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692-127F-425E-A2CF-83E798C2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C31-DAC2-41F8-B117-077E89D6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DD5-FE60-4FE3-9236-5823A9F4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EE2-0BF8-4E30-92EC-F8B8F208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003-6846-4FE0-B186-4CFE7ABA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D0F4-BE11-4FCC-B842-6F08EE36F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0" y="659736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Рисунок 8" descr="C41-32.jpg"/>
          <p:cNvPicPr/>
          <p:nvPr/>
        </p:nvPicPr>
        <p:blipFill>
          <a:blip r:embed="rId3"/>
          <a:stretch/>
        </p:blipFill>
        <p:spPr>
          <a:xfrm>
            <a:off x="7885080" y="333360"/>
            <a:ext cx="901800" cy="161604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9" descr="img3081812.jpg"/>
          <p:cNvPicPr/>
          <p:nvPr/>
        </p:nvPicPr>
        <p:blipFill>
          <a:blip r:embed="rId4"/>
          <a:stretch/>
        </p:blipFill>
        <p:spPr>
          <a:xfrm>
            <a:off x="324000" y="4724280"/>
            <a:ext cx="1069920" cy="184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2920" y="3860280"/>
            <a:ext cx="9177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Викторина по истории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201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 rot="21369000">
            <a:off x="720360" y="1989000"/>
            <a:ext cx="7989840" cy="24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ремя. События. Люд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создатель знаменитой галереи, которую он пожертвовал городу Москв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63356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«…Он был одновременно и певцом, и оперным артистом, и режиссёром, и  драматургом , и создателем русской частной оперы, и меценатом в живописи… и строителем многих русских железнодорожных линий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56000" y="549360"/>
            <a:ext cx="475272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оймали добра молодц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вязали руки бел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овезли во каменную Моск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И на славной Красной площад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Отрубили буйну голов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.Помутился славный тихий 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От Черкасска до Черного мо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..\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80647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Друзья рассорились, вследствие чего он самовольно  покинул патриарший престол надеясь , что царь униженный мольбой воротит его, а царь этого не сделал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4968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«…несмотря на положение непризнанного ученого, в котором он находился всю свою жизнь, совершил в научной области грандиозный подвиг- создал неевклидову геометрию , а в области общественной и организационной создал  один из лучших университетов – Казанский университет…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739960" cy="3671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69217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искусстве политических комбинаций он не знал себе равных. Найдя себе опору в среде дворянства  и столичного населения , о без кровопролития сломал сопротивление знати и стал первым «выборным царё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«В.Г. Белинский  о нём писал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«… для него жизнь была поэзией, а поэзия жизнью, и   он поэтизировал всё, к чему прикасался… да и сам он говорил, что партизанство- поприще исполненное поэзие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..\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575160" cy="410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00360" y="3141720"/>
            <a:ext cx="604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20877000">
            <a:off x="1190520" y="2249280"/>
            <a:ext cx="72723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36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Немецкая принцесса Фике, выданная замуж за наследника русского престола и отрешившая его от власти, стала российской императрицей, сделавшей нашу страну великой европейской державой.   Современники называли её при жизни Вели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56000" y="5660640"/>
            <a:ext cx="62848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Левицкий Д.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Екатерина </a:t>
            </a: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II </a:t>
            </a: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в виде законодательниц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42465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Какому политическому деятелю принадлежат слова: «Кто с мечом к нам придёт, тот и  от меча и погибне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2376720" cy="2506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60036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 Он человек ! Он властвует мгновен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н раб молвы , сомненья и стра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остим ему неправое гонень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н взял Париж, он основал Лицей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50920" y="2852640"/>
            <a:ext cx="6921720" cy="3571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581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5:48:13Z</dcterms:created>
  <dc:creator>Dark</dc:creator>
  <dc:description/>
  <dc:language>en-US</dc:language>
  <cp:lastModifiedBy>Dark</cp:lastModifiedBy>
  <dcterms:modified xsi:type="dcterms:W3CDTF">2011-04-02T11:54:34Z</dcterms:modified>
  <cp:revision>6</cp:revision>
  <dc:subject/>
  <dc:title> </dc:title>
</cp:coreProperties>
</file>