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DED2-9190-42CB-B29A-15CA79187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789F-2439-4D16-BF32-7B5DA723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2E77-B2B1-42C9-898E-8E3A6C389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A134-778D-44A2-9405-342EA8376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BB97-1D28-408B-BDF8-212113B0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7DD6-C965-402A-867A-D7E249D6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565C-3B92-40DE-9C4E-686747BA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5572-9003-4EE3-A7EA-2F7A7BD9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A844-3A27-44C6-90BA-7519749C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708B-DB84-48DB-925C-34D66EF3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6BFE-399F-40C7-906E-DD196D2C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E909-982F-4E88-9782-DDB150D0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6B6E-5BE1-448A-B39B-3D25E2A67C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" name="Прямоугольник 6"/>
          <p:cNvGrpSpPr/>
          <p:nvPr/>
        </p:nvGrpSpPr>
        <p:grpSpPr>
          <a:xfrm>
            <a:off x="115920" y="152280"/>
            <a:ext cx="8905680" cy="6602400"/>
            <a:chOff x="115920" y="152280"/>
            <a:chExt cx="8905680" cy="6602400"/>
          </a:xfrm>
        </p:grpSpPr>
        <p:pic>
          <p:nvPicPr>
            <p:cNvPr id="6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115920" y="152280"/>
              <a:ext cx="8905680" cy="66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179280" y="189000"/>
              <a:ext cx="8785440" cy="64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" name="Rectangle 1"/>
          <p:cNvSpPr/>
          <p:nvPr/>
        </p:nvSpPr>
        <p:spPr>
          <a:xfrm>
            <a:off x="0" y="6597360"/>
            <a:ext cx="163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6a6a6"/>
                </a:solidFill>
                <a:latin typeface="Arial"/>
                <a:ea typeface="Calibri"/>
              </a:rPr>
              <a:t>FokinaLida.75@mail.ru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Рисунок 8" descr="C41-32.jpg"/>
          <p:cNvPicPr/>
          <p:nvPr/>
        </p:nvPicPr>
        <p:blipFill>
          <a:blip r:embed="rId3"/>
          <a:stretch/>
        </p:blipFill>
        <p:spPr>
          <a:xfrm>
            <a:off x="7885080" y="333360"/>
            <a:ext cx="901800" cy="1616040"/>
          </a:xfrm>
          <a:prstGeom prst="rect">
            <a:avLst/>
          </a:prstGeom>
          <a:ln w="0">
            <a:noFill/>
          </a:ln>
        </p:spPr>
      </p:pic>
      <p:pic>
        <p:nvPicPr>
          <p:cNvPr id="10" name="Рисунок 9" descr="img3081812.jpg"/>
          <p:cNvPicPr/>
          <p:nvPr/>
        </p:nvPicPr>
        <p:blipFill>
          <a:blip r:embed="rId4"/>
          <a:stretch/>
        </p:blipFill>
        <p:spPr>
          <a:xfrm>
            <a:off x="324000" y="4724280"/>
            <a:ext cx="1069920" cy="184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02920" y="3860280"/>
            <a:ext cx="9177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Викторина по истории Росс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2010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 rot="21369000">
            <a:off x="720360" y="1989000"/>
            <a:ext cx="7989840" cy="243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Время. События. Люд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создатель знаменитой галереи, которую он пожертвовал городу Москве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92360" y="907920"/>
            <a:ext cx="633564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«…Он был одновременно и певцом, и оперным артистом, и режиссёром, и  драматургом , и создателем русской частной оперы, и меценатом в живописи… и строителем многих русских железнодорожных линий.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56000" y="549360"/>
            <a:ext cx="4752720" cy="58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Поймали добра молодц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Завязали руки белы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Повезли во каменную Москв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И на славной Красной площад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Отрубили буйну голову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.Помутился славный тихий Д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От Черкасска до Черного мор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</a:rPr>
              <a:t>..\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806472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Друзья рассорились, вследствие чего он самовольно  покинул патриарший престол надеясь , что царь униженный мольбой воротит его, а царь этого не сделал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340000" y="476280"/>
            <a:ext cx="496872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«…несмотря на положение непризнанного ученого, в котором он находился всю свою жизнь, совершил в научной области грандиозный подвиг- создал неевклидову геометрию , а в области общественной и организационной создал  один из лучших университетов – Казанский университет…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2739960" cy="3671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908000" y="2421000"/>
            <a:ext cx="692172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искусстве политических комбинаций он не знал себе равных. Найдя себе опору в среде дворянства  и столичного населения , о без кровопролития сломал сопротивление знати и стал первым «выборным царём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«В.Г. Белинский  о нём писал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«… для него жизнь была поэзией, а поэзия жизнью, и   он поэтизировал всё, к чему прикасался… да и сам он говорил, что партизанство- поприще исполненное поэзией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</a:rPr>
              <a:t>..\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3575160" cy="4103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700360" y="3141720"/>
            <a:ext cx="6048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 rot="20877000">
            <a:off x="1190520" y="2249280"/>
            <a:ext cx="72723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843280" y="692280"/>
            <a:ext cx="336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Немецкая принцесса Фике, выданная замуж за наследника русского престола и отрешившая его от власти, стала российской императрицей, сделавшей нашу страну великой европейской державой.   Современники называли её при жизни Велик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56000" y="5660640"/>
            <a:ext cx="628488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Arial"/>
              </a:rPr>
              <a:t>Левицкий Д.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800080"/>
                </a:solidFill>
                <a:latin typeface="Arial"/>
              </a:rPr>
              <a:t>Екатерина </a:t>
            </a: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II </a:t>
            </a:r>
            <a:r>
              <a:rPr b="0" lang="ru-RU" sz="1600" spc="-1" strike="noStrike">
                <a:solidFill>
                  <a:srgbClr val="800080"/>
                </a:solidFill>
                <a:latin typeface="Arial"/>
              </a:rPr>
              <a:t>в виде законодательниц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700360" y="549360"/>
            <a:ext cx="42465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Какому политическому деятелю принадлежат слова: «Кто с мечом к нам придёт, тот и  от меча и погибнет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2376720" cy="2506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788000" y="549360"/>
            <a:ext cx="3600360" cy="58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« Он человек ! Он властвует мгновень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Он раб молвы , сомненья и страс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ростим ему неправое гонень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Он взял Париж, он основал Лицей.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050920" y="2852640"/>
            <a:ext cx="6921720" cy="3571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35812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2T05:48:13Z</dcterms:created>
  <dc:creator>Dark</dc:creator>
  <dc:description/>
  <dc:language>en-US</dc:language>
  <cp:lastModifiedBy>Dark</cp:lastModifiedBy>
  <dcterms:modified xsi:type="dcterms:W3CDTF">2011-04-02T11:54:34Z</dcterms:modified>
  <cp:revision>6</cp:revision>
  <dc:subject/>
  <dc:title> </dc:title>
</cp:coreProperties>
</file>