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DD1-DB70-45BD-9130-D142316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A44-22DC-4510-B470-62823C1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178-B4A7-4337-8446-56C7EAB4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431-3222-49F9-A5C8-6B157D7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DC1-7CFD-47F6-961F-0F5E8721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1D1-4523-424F-B9FA-D80298A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315-727F-4C06-BB4B-D204A19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682-F10F-4168-8667-7B38E16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615-7BC7-4921-909B-7DF98D9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E68-8490-452F-8869-D65431D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6D6-4D83-4863-A567-D3C2C0D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666-0E68-4340-B249-43825C9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43C-07FC-483D-9F46-F86676C3B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Век девятнадцатый, железный, воистину жестокий век!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Развитие основных литературных жан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1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баллада, лироэпическая поэма, элеги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логическая пов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2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 прозаические жанры: романтические повести, исторические романы, критические статьи; драматургия, ли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3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сновные жанры «натуральной школы»: поэма, физиологический очерк, социальная повесть, социально-психологический роман; пейзажная, любовно-эстетическая и философская ли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4 пери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мократическая повесть, роман. литературная критика, журналистика, лирические жан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Развитие основных литературных жан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5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черк, рассказ, повесть, роман, с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6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каз, повесть, роман; романтические жанры в поэзии; социальные мотивы в поэзии революционеров-народовольц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7 пери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ассказ, повесть, роман, публицистиче- ские жанры; жанры в традициях революционной поэзии; драматические жанр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Вопросы для домашнего анкет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оизведения русской литературы XIX века вы прочли летом? Оцените их по пятибал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вопросы, поставленные в русской классической литературе, актуальны и сего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герои литературы XIX века вызывают вашу симпатию или вам неприятны? Аргументир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Arial"/>
              </a:rPr>
              <a:t>Спасибо за работ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Arial"/>
              </a:rPr>
              <a:t>на урок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6600"/>
                </a:solidFill>
                <a:latin typeface="Arial"/>
              </a:rPr>
              <a:t>Удач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6600"/>
                </a:solidFill>
                <a:latin typeface="Arial"/>
              </a:rPr>
              <a:t>Периодизация русской литературы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ериод – литература 1-й четверти (1801—18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ериод – литература 30-х годов (1826—184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ериод – литература 40—50-х годов (1842—185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ериод – Литература 60-х годов (1855—1868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период – Литература 70-х годов (1869—188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период – Литература 80-х годов (1882—18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период – Литература 90-х годов (1895—190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1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идей дворянской революционности. Декабр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ьба литературных направлений: классицизм, сентиментализм, романтизм, ранний реализм, натурал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едина 20-х годов — рождение метода критического реал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ий художественный метод — ром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2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убление общего кризиса крепостничества, общественная реак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сть идеям декабризма в творчестве  Пушк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революционного романтизма  Лермонт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от романтизма к реализму и социальной сатире в творчестве Н. Гог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демократических тенден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ее направление – реал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3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кризиса крепостнической системы, рост демократических тенден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идей революции и утопического соц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влияния на общественную жизнь передовой журналис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йная борьба славянофилов и зап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«натуральной шк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темы «маленького челове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онные охранительные меры правительства в связи с революциями в Евро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4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ъем демократического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борство либералов и демокра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зис самодержавия, пропаганда идей крестьянской револю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цвет демократической журнали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е темы, проблемы в литературе: герои-рабочие, разночинцы, крестья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очвенничеств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м и правдивость в изображении жизни  у Л. Толстого, Ф. Достоевского, Н. Лес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е художественное мастерство поэтов-романт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Фет, Ф. Тютчев, А. Майков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5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апитализма в 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кратические идеи народничест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 утопический социал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изация тайных революционны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ализация крестьянской жизни в литературе писателей-наро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ая роль журнала «Отечественные запис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стические тенденции в творчестве Н. Лескова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 Салтыкова-Щедрина, Ф. Достоев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6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реакционной политики ца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пролетариата. Пропаганда идей маркс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т на передовые журналы. Возрастание роли развлекательной журналистик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тический реализм в творчестве М. Салтыкова-Щедрина, Л. Толстого, В. Короле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новление тематики в литературе: изображение «среднего человека», интеллиген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ичение социального неравенства в творчестве Л. Толстог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бщая характеристика 7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апитализма в 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т марксистских и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остояние реалистической и декадентск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ождение пролетарской литературы (М. Горь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критического реализма в творчестве И. Бунина, А. Куприна, Л. Толстого, А. Чех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tiana</cp:lastModifiedBy>
  <dcterms:modified xsi:type="dcterms:W3CDTF">2012-09-02T17:29:3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