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63F-61DD-4C65-B58B-E8ADC4EE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845-85D9-4E4B-BAA5-AA29337A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CC4-7B0D-4B6F-8085-F72CC9F9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B3B-1230-4A45-9624-7D41F7C1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59C-D19C-454C-8675-C87A0B21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01B-BFFC-4E78-90CD-7AA8F948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8E4-E2A2-4E84-884C-442488CD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283-6E3C-48DE-B1F9-65C8D60C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19B-D011-4718-8E59-C20967EF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6ED-CB95-4312-9A34-4C2DDD8E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05C-975E-442F-93CC-F1FF3066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A4E-1924-47FE-86ED-20B7B42A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2AD4-B6B5-4F2F-985B-8F0A6B80C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Век девятнадцатый, железный, воистину жестокий век!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Развитие основных литературных жанр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1 пери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баллада, лироэпическая поэма, элегия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ическая пов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2 пери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 прозаические жанры: романтические повести, исторические романы, критические статьи; драматургия, ли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3 пери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сновные жанры «натуральной школы»: поэма, физиологический очерк, социальная повесть, социально-психологический роман; пейзажная, любовно-эстетическая и философская лир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4 пери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демократическая повесть, роман. литературная критика, журналистика, лирические жан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Развитие основных литературных жан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5 пери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черк, рассказ, повесть, роман, с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6 пери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ссказ, повесть, роман; романтические жанры в поэзии; социальные мотивы в поэзии революционеров-народовольц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7 пери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ссказ, повесть, роман, публицистиче- ские жанры; жанры в традициях революционной поэзии; драматические жанр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Вопросы для домашнего анкет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произведения русской литературы XIX века вы прочли летом? Оцените их по пятибалль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вопросы, поставленные в русской классической литературе, актуальны и сегод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герои литературы XIX века вызывают вашу симпатию или вам неприятны? Аргументируйте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6600"/>
                </a:solidFill>
                <a:latin typeface="Arial"/>
              </a:rPr>
              <a:t>Спасибо за работ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6600"/>
                </a:solidFill>
                <a:latin typeface="Arial"/>
              </a:rPr>
              <a:t>на урок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6600"/>
                </a:solidFill>
                <a:latin typeface="Arial"/>
              </a:rPr>
              <a:t>Удач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Периодизация русской литературы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ериод – литература 1-й четверти (1801—182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ериод – литература 30-х годов (1826—184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ериод – литература 40—50-х годов (1842—185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ериод – Литература 60-х годов (1855—1868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период – Литература 70-х годов (1869—188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период – Литература 80-х годов (1882—189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период – Литература 90-х годов (1895—190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1 период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идей дворянской революционности. Декабр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ьба литературных направлений: классицизм, сентиментализм, романтизм, ранний реализм, натурал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едина 20-х годов — рождение метода критического реал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ущий художественный метод — ром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2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убление общего кризиса крепостничества, общественная реак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ость идеям декабризма в творчестве  Пушк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цвет революционного романтизма  Лермонт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ход от романтизма к реализму и социальной сатире в творчестве Н. Гого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иление демократических тенден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ущее направление – реал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3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иление кризиса крепостнической системы, рост демократических тенден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идей революции и утопического соц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т влияния на общественную жизнь передовой журналис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йная борьба славянофилов и запа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цвет «натуральной школ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темы «маленького человек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онные охранительные меры правительства в связи с революциями в Европ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4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ъем демократического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ивоборство либералов и демокра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изис самодержавия, пропаганда идей крестьянской револю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цвет демократической журнали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ые темы, проблемы в литературе: герои-рабочие, разночинцы, крестья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очвенничеств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лизм и правдивость в изображении жизни  у Л. Толстого, Ф. Достоевского, Н. Лес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кое художественное мастерство поэтов-романт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Фет, Ф. Тютчев, А. Майков и друг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5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капитализма в 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мократические идеи народничества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х утопический социал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изация тайных революционны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ализация крестьянской жизни в литературе писателей-наро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ущая роль журнала «Отечественные записк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листические тенденции в творчестве Н. Лескова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. Салтыкова-Щедрина, Ф. Достоев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6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иление реакционной политики ца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т пролетариата. Пропаганда идей маркс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рет на передовые журналы. Возрастание роли развлекательной журналистик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итический реализм в творчестве М. Салтыкова-Щедрина, Л. Толстого, В. Королен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новление тематики в литературе: изображение «среднего человека», интеллиген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ичение социального неравенства в творчестве Л. Толстого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7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капитализма в 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т марксистских и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ивостояние реалистической и декадентской литера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ождение пролетарской литературы (М. Горьк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критического реализма в творчестве И. Бунина, А. Куприна, Л. Толстого, А. Чех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tiana</cp:lastModifiedBy>
  <dcterms:modified xsi:type="dcterms:W3CDTF">2012-09-02T17:29:3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