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775-B685-4DD5-B45E-D0A94CDA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40C-1062-47A7-8D09-1ADE025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FBA-21C2-418E-AD33-D878D2DF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F7A-0B6D-458F-8C12-9A0801E4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7883-6B64-4667-AC55-DF1031B5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2D7E-B528-4EA9-B797-FA39FE82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9481-3E17-46AA-A520-C3BF6954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3166-D33C-4088-905E-B374908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9228-9754-496F-B086-6181454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BC3E-9DBE-4DEB-8830-1C04388A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5E28-B0E9-4371-B1C7-798AF90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01E-8144-4D68-9FBE-782411B1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F8F7-9E3C-4FF6-B8C9-8BDB68CF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A73-E4ED-475E-92FC-D27EEAC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C32-9F24-44FC-87FC-E80831C4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D11E-4EC6-4279-8EE6-414B52FD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6FC-2213-4D28-B10B-19204DB7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99C8-BE6F-447B-9884-7A889B47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94D6-BE1D-4A3E-9E5A-04C45A2E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4EE6-4E1E-4442-97F5-02DC7C7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3151-34B6-400F-91D2-0E38EE79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DBB5-6FBA-452F-BC17-A2478BC5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C46-AA26-4C61-9981-E922FECB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D108-4452-4336-ADD4-B7A8B4E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8838-7FE6-4867-B4D1-5EFDFDC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947C-C26F-40EF-8792-E6C7312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C208-A47E-42F2-9177-1663152A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536F-7A14-49E5-8D96-E3AAE93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1A9E-978F-4BB0-8142-AD88531E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04C2-1929-43E9-8715-389BDB36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5C4D-9FD3-4B2B-8191-C2154E0E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5FBC-973E-4175-983C-1599AE81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2E84-C94C-40A8-A17A-C4D11AE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DB4-D6B2-4566-B90F-042FF7F7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1A55-579B-414E-8158-731B547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69C0-D113-402B-961E-5B76570C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4C98-AD29-4A87-B284-34734D31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1FEE-E2E4-4A62-A373-34D84B0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B2D7-0795-4A22-B23B-3822C46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65B3-44AF-4B77-8C28-BBC01FD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657C-442E-4DCA-B42B-FB9BD59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6B0D-744A-45C6-8F7F-61593417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5325-6E8C-4DD0-9687-641D6E22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7388-3BD1-40FC-BD2F-F9E2C3A8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06C-4EC6-40C1-92C1-A8193F94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A0A8-6673-4566-9231-3C95A643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0E286-F297-45CB-A938-C66D3E3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19E5-D55F-4BFB-9D29-FCAACCA4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52D7-73F4-4148-87AB-4DAAEC08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51262-509A-4AB6-9F12-83241E25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145F-0F99-43BA-BABB-C2C8E8C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99720-F031-4454-B208-8CD4DB3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A195-9A05-4857-B508-FADB376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DFAA-BCB3-4B09-98F5-50451BC3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18B3-AB29-44E9-BCBB-1DFC74C7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2B8-E6EC-4336-A64F-ADD2AB23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A17E-1FEB-4977-AD1E-CD938C7B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365D-1CB5-4078-818F-4866C5D0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6EF1E-4C52-438A-B7BE-C00DCC5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D44EA-3F73-423C-AC71-17EBE27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5CD0-EE08-4722-B9DA-196BB90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DFDDA-54A9-435B-860B-0237D44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8AFD-1610-4B27-B726-1AFF6DB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3E809-A088-4BE3-B323-62C254A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6E3F-5118-4ACB-A12B-84B96D3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80644-25F8-4EA8-AD56-8CA1387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364-790A-48C6-965F-AE0FED1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C6BA-0E6D-421C-9E6F-27C694F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F5373-90F6-44E4-8E8E-43F4E68C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DBA6-B76B-4A88-B58D-0B650C1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AF4-A0BA-42CA-BFB1-2489134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E78-AA09-4FC3-8BAD-9D4D2E2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25D6-92E3-44E7-8C81-A2AFA60CF9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8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87C1-AAA5-480D-AA42-7D68CDF284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1F40-599D-4CCE-9FC4-F6278050A2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481-E02C-496F-8A7D-1283DEC7D1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E75-DF99-40A7-89E7-D73F63F3A7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3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3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3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6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7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BC7-E0F9-454A-B941-2470FC01306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"/>
              </a:rPr>
              <a:t>ЗАКОН СОХРАНЕНИЯ ВНУТРЕННЕЙ ЭНЕРГИИ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403280" y="746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Сосуд Дьюара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Термос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алориметр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калориметре находится                                         холодная вода массой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Times New Roman"/>
              </a:rPr>
              <a:t>   </a:t>
            </a:r>
            <a:r>
              <a:rPr b="0" lang="ru-RU" sz="2800" spc="-1" strike="noStrike" baseline="-25000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 с начальной температурой </a:t>
            </a:r>
            <a:r>
              <a:rPr b="0" lang="ru-RU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Добавим к ней горячую воду массой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ru-RU" sz="2800" spc="-1" strike="noStrike" baseline="-25000">
                <a:solidFill>
                  <a:srgbClr val="009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имеющей начальную температуру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результате теплообмена в калориметре установилась температура </a:t>
            </a: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  Определите количество теплоты отданное горячей водой (</a:t>
            </a:r>
            <a:r>
              <a:rPr b="0" lang="en-US" sz="3600" spc="-1" strike="noStrike">
                <a:solidFill>
                  <a:srgbClr val="0099ff"/>
                </a:solidFill>
                <a:latin typeface="Arial Unicode MS"/>
              </a:rPr>
              <a:t>Q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Verdana"/>
              </a:rPr>
              <a:t>от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 и сравните его с количеством теплоты , полученным холодной водой(</a:t>
            </a:r>
            <a:r>
              <a:rPr b="0" lang="en-US" sz="3600" spc="-1" strike="noStrike">
                <a:solidFill>
                  <a:srgbClr val="0099ff"/>
                </a:solidFill>
                <a:latin typeface="Arial Unicode MS"/>
              </a:rPr>
              <a:t>Q</a:t>
            </a:r>
            <a:r>
              <a:rPr b="0" lang="ru-RU" sz="3600" spc="-1" strike="noStrike" baseline="-25000">
                <a:solidFill>
                  <a:srgbClr val="0099ff"/>
                </a:solidFill>
                <a:latin typeface="Arial Unicode MS"/>
              </a:rPr>
              <a:t>по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2" name="Picture 4" descr="ANTN027"/>
          <p:cNvPicPr/>
          <p:nvPr/>
        </p:nvPicPr>
        <p:blipFill>
          <a:blip r:embed="rId1"/>
          <a:stretch/>
        </p:blipFill>
        <p:spPr>
          <a:xfrm>
            <a:off x="5364000" y="-171360"/>
            <a:ext cx="4038840" cy="256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Palatino Linotype"/>
              </a:rPr>
              <a:t>§</a:t>
            </a: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36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Palatino Linotype"/>
              </a:rPr>
              <a:t>Задача №152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5" name="Picture 4" descr="17"/>
          <p:cNvPicPr/>
          <p:nvPr/>
        </p:nvPicPr>
        <p:blipFill>
          <a:blip r:embed="rId1"/>
          <a:stretch/>
        </p:blipFill>
        <p:spPr>
          <a:xfrm>
            <a:off x="4140360" y="170028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ЧУТЬ - ЧУТЬ ПОДУМАЕМ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нутые из кипятка цилиндры из свинца и меди массой 1 кг каждый поместили на лед. Под каким из них растает больше  льда? Какая из лунок  (рис.  102)  образовалась под свинцовым цилиндром, какая — под медны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3321000" cy="2837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6108840" y="3924360"/>
            <a:ext cx="1117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.Каким способом теплопередачи происходит нагревание воды на газовой плит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2.Благодаря какому способу теплопередачи можно погреться у костр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.Каким способом возможна теплопередача между телами разделёнными безвоздушным пространством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Теплопроводность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 Конвекци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 Излучени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.В какой цвет окрашивают наружные поверхности самолётов, искусственных спутников Земли, воздушных шаров, чтобы избежать их перегре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В темный цве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В светлый серебрист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5.Как называется явление передачи внутренней энергии от одной части тела к другой 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теплопередач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теплопроводно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конвекц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6.Какой вид теплопередачи не сопровождается переносом вещества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)Теплопроводнос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) Конвекц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) Излучени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Правильный отве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Знать формулировку закона сохранения энергии  и уметь применять его для решения задач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8.Почему птицы в холодную погоду сидят нахохлившис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9.Почему зимой, когда холодно, животные спят, свернувшись в клубок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0.Какое значение имеют двойные рам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1.В каких условиях можно одеть теплый ватный халат зимой и летом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12.Почему летом  одевают светлую одежду, а не темную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13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акой буквой обозначают количество теплот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cc66"/>
                </a:solidFill>
                <a:latin typeface="Arial"/>
              </a:rPr>
              <a:t>Правильный ответ</a:t>
            </a:r>
            <a:r>
              <a:rPr b="0" lang="en-US" sz="6000" spc="-1" strike="noStrike">
                <a:solidFill>
                  <a:srgbClr val="00cc66"/>
                </a:solidFill>
                <a:latin typeface="Arial"/>
              </a:rPr>
              <a:t>  Q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 нужно знать для расчёта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Arial"/>
              </a:rPr>
              <a:t>m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t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8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66"/>
                </a:solidFill>
                <a:latin typeface="Palatino Linotype"/>
              </a:rPr>
              <a:t>Q=m•c•∆t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Что такое </a:t>
            </a:r>
            <a:r>
              <a:rPr b="0" lang="en-US" sz="80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8000" spc="-1" strike="noStrike">
                <a:solidFill>
                  <a:srgbClr val="00cc66"/>
                </a:solidFill>
                <a:latin typeface="Arial"/>
              </a:rPr>
              <a:t>t</a:t>
            </a: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∆</a:t>
            </a: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t= t</a:t>
            </a:r>
            <a:r>
              <a:rPr b="0" lang="ru-RU" sz="9600" spc="-1" strike="noStrike" baseline="-25000">
                <a:solidFill>
                  <a:srgbClr val="00cc66"/>
                </a:solidFill>
                <a:latin typeface="Palatino Linotype"/>
              </a:rPr>
              <a:t>нач.</a:t>
            </a:r>
            <a:r>
              <a:rPr b="0" lang="en-US" sz="9600" spc="-1" strike="noStrike">
                <a:solidFill>
                  <a:srgbClr val="00cc66"/>
                </a:solidFill>
                <a:latin typeface="Palatino Linotype"/>
              </a:rPr>
              <a:t>-t</a:t>
            </a:r>
            <a:r>
              <a:rPr b="0" lang="ru-RU" sz="9600" spc="-1" strike="noStrike" baseline="-25000">
                <a:solidFill>
                  <a:srgbClr val="00cc66"/>
                </a:solidFill>
                <a:latin typeface="Palatino Linotype"/>
              </a:rPr>
              <a:t>кон. изменение температуры 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286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будет по знаку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если тело получает некоторое количество теплот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5400" y="3789000"/>
            <a:ext cx="822636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положительны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920" y="272880"/>
            <a:ext cx="8431200" cy="207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м будет по знаку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если тело отдаёт некоторое количество тепло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5400" y="3429000"/>
            <a:ext cx="8226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отрицательны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19880" cy="21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буквой обозначается внутренняя энергия, а также её начальное и конечное знач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5400" y="2852280"/>
            <a:ext cx="82263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60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60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формулой связаны между собой изменение внутренней энергии </a:t>
            </a:r>
            <a:r>
              <a:rPr b="0" lang="en-US" sz="2400" spc="-1" strike="noStrike">
                <a:solidFill>
                  <a:srgbClr val="cc3300"/>
                </a:solidFill>
                <a:latin typeface="Palatino Linotype"/>
              </a:rPr>
              <a:t>∆</a:t>
            </a:r>
            <a:r>
              <a:rPr b="0" lang="en-US" sz="4000" spc="-1" strike="noStrike">
                <a:solidFill>
                  <a:srgbClr val="cc3300"/>
                </a:solidFill>
                <a:latin typeface="Palatino Linotype"/>
              </a:rPr>
              <a:t>U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 работа (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) и количество теплоты (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5400" y="4076280"/>
            <a:ext cx="822636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6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Palatino Linotype"/>
              </a:rPr>
              <a:t>      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∆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U</a:t>
            </a:r>
            <a:r>
              <a:rPr b="0" lang="ru-RU" sz="10500" spc="-1" strike="noStrike">
                <a:solidFill>
                  <a:srgbClr val="cc3300"/>
                </a:solidFill>
                <a:latin typeface="Palatino Linotype"/>
              </a:rPr>
              <a:t>=А</a:t>
            </a:r>
            <a:r>
              <a:rPr b="0" lang="en-US" sz="10500" spc="-1" strike="noStrike">
                <a:solidFill>
                  <a:srgbClr val="cc3300"/>
                </a:solidFill>
                <a:latin typeface="Palatino Linotype"/>
              </a:rPr>
              <a:t>+</a:t>
            </a:r>
            <a:r>
              <a:rPr b="0" lang="en-US" sz="10500" spc="-1" strike="noStrike">
                <a:solidFill>
                  <a:srgbClr val="cc3300"/>
                </a:solidFill>
                <a:latin typeface="Arial"/>
              </a:rPr>
              <a:t>Q</a:t>
            </a:r>
            <a:endParaRPr b="0" lang="en-US" sz="10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51:09Z</dcterms:created>
  <dc:creator>Klient</dc:creator>
  <dc:description/>
  <dc:language>en-US</dc:language>
  <cp:lastModifiedBy>Я</cp:lastModifiedBy>
  <dcterms:modified xsi:type="dcterms:W3CDTF">2013-03-10T04:31:33Z</dcterms:modified>
  <cp:revision>8</cp:revision>
  <dc:subject/>
  <dc:title>ЗАКОН СОХРАНЕНИЯ ВНУТРЕННЕЙ ЭНЕРГИИ</dc:title>
</cp:coreProperties>
</file>