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EB7-8646-4E2F-B4CE-C07D07F2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46E-16B7-4B1F-B5D0-0B2A78C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297-A763-4C91-800E-0D5B9851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550-0E28-4CB2-98F3-6839D0DC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80B-5136-4C84-AF38-C09F3439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467-5328-4878-8116-9E6C5C7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7186-E14A-4E92-BA92-C5B7135B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A697-D233-4DDD-8230-DE813ED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EFB0-7A43-436F-9994-53E1942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23C6-B0F5-4AE0-976A-D2D7B42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CBE-1625-4603-B413-5811C08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BEC-1EA3-46DF-94E1-244B6986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A046-1415-4A06-8885-01A5D1E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0BB0-A5E5-4BFD-9DFD-379BF89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5DA-359F-4EEC-BC8A-CA5DD45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DFC-B0DB-4E89-A8A4-A0EB21A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4914-E233-4DB5-A3F1-2DBF3531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398B-5216-423E-85F1-90486253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C39D-62DE-4D4A-A614-E6D8FFD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ED8B-CCFC-4E87-AD8F-D0ECE56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2357-B77D-4D41-BBDD-16CC6A9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5C27-4F6C-4915-BF2D-619C405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9E8-4423-4D17-BE1B-7CD565D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FD7F-DF42-48C2-9A33-D54888F9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606F-237D-4DD1-92EE-6EF2AD8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3364-DFA5-4DD9-8401-C1ACBF3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3820-4BC4-4B50-933F-126C298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5505-AD18-48C8-A5E4-65F0368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5B5F-3416-4E01-AB7B-985E50E7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BBE1-B770-4D1C-A377-C5E7424F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A470-4442-4B4F-8A2B-55FE2E01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B441-1613-4CD0-AA99-F421CFB0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AECD-B8FC-4CA8-9284-8001544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444-9750-46DB-8898-CD52AC4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C23C-0160-4F92-8B3E-148DA7ED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08B6-1AA9-4DF0-AFB3-BC23E41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9F55-E892-44A3-8974-BC5274B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B583E-AFE4-4854-BD6A-54FF917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AD2A-7415-4F70-9A08-BA84A2B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9A1D-2D71-49F6-917B-22F9CF3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1A4A-0F42-4116-8B48-5CDBBEE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965E-E2D6-4DFA-8564-827A3EE1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B573-0B29-4BAA-8449-7353B41C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5C2F-90F7-40E3-A884-8B2E03EB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E18-194E-4306-91F2-8A874D5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EE4E-5D9F-4232-8BA1-36DECEA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8487-46E4-48C7-BDAB-308FB0F7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6E193-3EA5-4079-BD68-F3FAF22E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798AA-C0B7-48E7-ADF1-B0883000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DB76-BF63-4F05-A38E-0FCA307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689A7-1A62-4B12-AC7A-4D14550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8856-3144-4AB7-A69C-DA27CF4E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545A-3AA3-4EDF-B485-7152F0D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3D70-35F0-4CA3-B5EE-A372C763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1C99E-6D2B-45B5-91F5-E10D5D16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DFA-8872-4F11-B9B4-DE88097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F693-2CFD-4555-89A6-9154A48C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6932-8073-4F7F-A020-0A680C30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F7F5-C922-400A-94C4-9D959C5C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21B1-97B4-4B2B-8ACD-C94AE8A1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8399D-7F81-449F-AF3E-B4F98DC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F8FB-7A3F-4756-9B00-090AD8E5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C4D9-B120-4A48-A6B7-D8EDFAC7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DE49-6996-48B8-88F7-2D6D2C4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73A82-050A-4150-8786-D46CB2F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C476-9EA4-4C00-9DF8-D9A2A2C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B9F-175B-4211-BC69-D8D5077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38A8-3156-4FF4-9B34-9BFBC424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4D6B-D816-47AD-8DD7-6B1DB1A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7917-45A7-4D83-8E5D-3456A780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B46-874D-498D-AA43-DF0606F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523-901B-4DC4-B993-F421CE8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A07-54FD-49AC-9A45-0477D1C729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8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0CE-F2AF-4281-9769-0BA54B82F1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EEC-162A-4C08-B180-B5CFA97E8D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79A9-3BCB-42F1-BF80-3A90D24C1B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FE0-FFC8-4209-BD5B-CA2A838EBB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3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3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3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6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7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6E7-5D46-45F8-BD46-D5002639FA5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"/>
              </a:rPr>
              <a:t>ЗАКОН СОХРАНЕНИЯ ВНУТРЕННЕЙ ЭНЕРГИ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403280" y="746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Сосуд Дьюара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Термос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алориметр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калориметре находится                                         холодная вода массой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ru-RU" sz="2800" spc="-1" strike="noStrike" baseline="-25000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 с начальной температурой </a:t>
            </a:r>
            <a:r>
              <a:rPr b="0" lang="ru-RU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Добавим к ней горячую воду массой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ru-RU" sz="2800" spc="-1" strike="noStrike" baseline="-25000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имеющей начальную температуру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результате теплообмена в калориметре установилась температура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  Определите количество теплоты отданное горячей водой (</a:t>
            </a:r>
            <a:r>
              <a:rPr b="0" lang="en-US" sz="3600" spc="-1" strike="noStrike">
                <a:solidFill>
                  <a:srgbClr val="0099ff"/>
                </a:solidFill>
                <a:latin typeface="Arial Unicode MS"/>
              </a:rPr>
              <a:t>Q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Verdana"/>
              </a:rPr>
              <a:t>от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 и сравните его с количеством теплоты , полученным холодной водой(</a:t>
            </a:r>
            <a:r>
              <a:rPr b="0" lang="en-US" sz="3600" spc="-1" strike="noStrike">
                <a:solidFill>
                  <a:srgbClr val="0099ff"/>
                </a:solidFill>
                <a:latin typeface="Arial Unicode MS"/>
              </a:rPr>
              <a:t>Q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Arial Unicode MS"/>
              </a:rPr>
              <a:t>по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2" name="Picture 4" descr="ANTN027"/>
          <p:cNvPicPr/>
          <p:nvPr/>
        </p:nvPicPr>
        <p:blipFill>
          <a:blip r:embed="rId1"/>
          <a:stretch/>
        </p:blipFill>
        <p:spPr>
          <a:xfrm>
            <a:off x="5364000" y="-171360"/>
            <a:ext cx="4038840" cy="256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Palatino Linotype"/>
              </a:rPr>
              <a:t>§</a:t>
            </a: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36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Задача №152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5" name="Picture 4" descr="17"/>
          <p:cNvPicPr/>
          <p:nvPr/>
        </p:nvPicPr>
        <p:blipFill>
          <a:blip r:embed="rId1"/>
          <a:stretch/>
        </p:blipFill>
        <p:spPr>
          <a:xfrm>
            <a:off x="4140360" y="170028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ЧУТЬ - ЧУТЬ ПОДУМАЕМ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нутые из кипятка цилиндры из свинца и меди массой 1 кг каждый поместили на лед. Под каким из них растает больше  льда? Какая из лунок  (рис.  102)  образовалась под свинцовым цилиндром, какая — под медны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3321000" cy="2837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6108840" y="3924360"/>
            <a:ext cx="1117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.Каким способом теплопередачи происходит нагревание воды на газовой плит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2.Благодаря какому способу теплопередачи можно погреться у костр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.Каким способом возможна теплопередача между телами разделёнными безвоздушным пространством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 Конвекци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 Излучени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.В какой цвет окрашивают наружные поверхности самолётов, искусственных спутников Земли, воздушных шаров, чтобы избежать их перегре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В темный цв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В светлый серебрист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5.Как называется явление передачи внутренней энергии от одной части тела к другой 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теплопередач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теплопроводно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конвекц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6.Какой вид теплопередачи не сопровождается переносом вещества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Теплопровод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Знать формулировку закона сохранения энергии  и уметь применять его для решения задач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8.Почему птицы в холодную погоду сидят нахохлившис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9.Почему зимой, когда холодно, животные спят, свернувшись в клубок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0.Какое значение имеют двойные рам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1.В каких условиях можно одеть теплый ватный халат зимой и летом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2.Почему летом  одевают светлую одежду, а не темную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13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акой буквой обозначают количество теплот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cc66"/>
                </a:solidFill>
                <a:latin typeface="Arial"/>
              </a:rPr>
              <a:t>Правильный ответ</a:t>
            </a: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  Q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нужно знать для расчёта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Arial"/>
              </a:rPr>
              <a:t>m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t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Q=m•c•∆t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Что такое </a:t>
            </a:r>
            <a:r>
              <a:rPr b="0" lang="en-US" sz="80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8000" spc="-1" strike="noStrike">
                <a:solidFill>
                  <a:srgbClr val="00cc66"/>
                </a:solidFill>
                <a:latin typeface="Arial"/>
              </a:rPr>
              <a:t>t</a:t>
            </a: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t= t</a:t>
            </a:r>
            <a:r>
              <a:rPr b="0" lang="ru-RU" sz="9600" spc="-1" strike="noStrike" baseline="-25000">
                <a:solidFill>
                  <a:srgbClr val="00cc66"/>
                </a:solidFill>
                <a:latin typeface="Palatino Linotype"/>
              </a:rPr>
              <a:t>нач.</a:t>
            </a: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-t</a:t>
            </a:r>
            <a:r>
              <a:rPr b="0" lang="ru-RU" sz="9600" spc="-1" strike="noStrike" baseline="-25000">
                <a:solidFill>
                  <a:srgbClr val="00cc66"/>
                </a:solidFill>
                <a:latin typeface="Palatino Linotype"/>
              </a:rPr>
              <a:t>кон. изменение температуры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286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будет по знаку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если тело получает некоторое количество теплот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5400" y="3789000"/>
            <a:ext cx="822636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положительны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920" y="272880"/>
            <a:ext cx="8431200" cy="207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м будет по знаку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если тело отдаёт некоторое количество тепло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5400" y="3429000"/>
            <a:ext cx="8226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отрицательны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19880" cy="21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буквой обозначается внутренняя энергия, а также её начальное и конечное знач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5400" y="2852280"/>
            <a:ext cx="82263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60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60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формулой связаны между собой изменение внутренней энергии </a:t>
            </a:r>
            <a:r>
              <a:rPr b="0" lang="en-US" sz="2400" spc="-1" strike="noStrike">
                <a:solidFill>
                  <a:srgbClr val="cc3300"/>
                </a:solidFill>
                <a:latin typeface="Palatino Linotype"/>
              </a:rPr>
              <a:t>∆</a:t>
            </a:r>
            <a:r>
              <a:rPr b="0" lang="en-US" sz="4000" spc="-1" strike="noStrike">
                <a:solidFill>
                  <a:srgbClr val="cc3300"/>
                </a:solidFill>
                <a:latin typeface="Palatino Linotype"/>
              </a:rPr>
              <a:t>U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 работа (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) и количество теплоты (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5400" y="4076280"/>
            <a:ext cx="822636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6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Palatino Linotype"/>
              </a:rPr>
              <a:t>      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∆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U</a:t>
            </a:r>
            <a:r>
              <a:rPr b="0" lang="ru-RU" sz="10500" spc="-1" strike="noStrike">
                <a:solidFill>
                  <a:srgbClr val="cc3300"/>
                </a:solidFill>
                <a:latin typeface="Palatino Linotype"/>
              </a:rPr>
              <a:t>=А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+</a:t>
            </a:r>
            <a:r>
              <a:rPr b="0" lang="en-US" sz="10500" spc="-1" strike="noStrike">
                <a:solidFill>
                  <a:srgbClr val="cc3300"/>
                </a:solidFill>
                <a:latin typeface="Arial"/>
              </a:rPr>
              <a:t>Q</a:t>
            </a:r>
            <a:endParaRPr b="0" lang="en-US" sz="10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51:09Z</dcterms:created>
  <dc:creator>Klient</dc:creator>
  <dc:description/>
  <dc:language>en-US</dc:language>
  <cp:lastModifiedBy>Я</cp:lastModifiedBy>
  <dcterms:modified xsi:type="dcterms:W3CDTF">2013-03-10T04:31:33Z</dcterms:modified>
  <cp:revision>8</cp:revision>
  <dc:subject/>
  <dc:title>ЗАКОН СОХРАНЕНИЯ ВНУТРЕННЕЙ ЭНЕРГИИ</dc:title>
</cp:coreProperties>
</file>