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D3C-95D5-4C7C-A619-0DEBBA4F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273-EFE9-4333-BE01-E1A06CE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19D-0E3E-44E7-B981-5F5DF555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836-C1E4-4857-BE8A-13F86D90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A76-A8C9-4E1C-A8E1-CEF2A49C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342-14BA-4276-9483-A3FCB199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32F-4077-4CC7-BF37-FA76346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D2B-1084-48CC-B15C-FD4D155D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345-DB27-4008-BE03-AC8BA61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46B-5413-41DB-B106-742BE43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419-435E-4C26-AA79-9EF3259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A07-4B63-431C-ADBC-DC61142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933-E42B-4C3B-B537-6FA675B6664F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free-lancers.net/posted_files/N7FEF2E509A7F.gif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Franklin Gothic Medium"/>
              </a:rPr>
              <a:t>ЗОЛОТАЯ ХОХЛОМА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emino.narod.ru/IMAGES/ladiapt.JPG"/>
          <p:cNvPicPr/>
          <p:nvPr/>
        </p:nvPicPr>
        <p:blipFill>
          <a:blip r:embed="rId1"/>
          <a:stretch/>
        </p:blipFill>
        <p:spPr>
          <a:xfrm>
            <a:off x="611280" y="304920"/>
            <a:ext cx="7599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Franklin Gothic Medium"/>
              </a:rPr>
              <a:t>История хохломской росписи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Еще в давние времена среди жителей местных деревень, надежно укрытых в глухомани лесов, было немало «утеклецов», то есть людей, спасавшихся от гонения за «старую веру»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Среди переселившихся на нижегородскую землю старообрядцев было немало иконописцев, мастеров книжной миниатюры. Они привезли с собой древние иконы и рукописные книги с красочными заставками, принесли тонкое живописное мастерство, каллиграфию свободного кистевого письма и образцы богатейшего растительного орнамента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11.radikal.ru/i184/1003/67/92e8df82cd7f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36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s58.radikal.ru/i161/0902/7e/fe8072205bb2.jpg"/>
          <p:cNvPicPr/>
          <p:nvPr/>
        </p:nvPicPr>
        <p:blipFill>
          <a:blip r:embed="rId2"/>
          <a:stretch/>
        </p:blipFill>
        <p:spPr>
          <a:xfrm>
            <a:off x="5830920" y="2441520"/>
            <a:ext cx="331308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narpromysel.ru/UserFiles/Image/1-28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://img-fotki.yandex.ru/get/5604/tigra-saransk-13.7/0_6d7a3_1d5dc03e_XL"/>
          <p:cNvPicPr/>
          <p:nvPr/>
        </p:nvPicPr>
        <p:blipFill>
          <a:blip r:embed="rId4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Franklin Gothic Medium"/>
              </a:rPr>
              <a:t>Рисуем сами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1" name="Picture 2" descr="http://artorbita.ru/tipy_rospisi/pic_hohloma/picture/pic_hohloma15.jpg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img-fotki.yandex.ru/get/4428/126030467.80/0_5d7d7_9ba4a141_XL"/>
          <p:cNvPicPr/>
          <p:nvPr/>
        </p:nvPicPr>
        <p:blipFill>
          <a:blip r:embed="rId2"/>
          <a:stretch/>
        </p:blipFill>
        <p:spPr>
          <a:xfrm>
            <a:off x="4491000" y="3583080"/>
            <a:ext cx="46530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Найди хохломскую роспись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4" name="Picture 2" descr="http://img1.liveinternet.ru/images/attach/b/3/19/638/19638974_hohloma.jpg"/>
          <p:cNvPicPr/>
          <p:nvPr/>
        </p:nvPicPr>
        <p:blipFill>
          <a:blip r:embed="rId1"/>
          <a:stretch/>
        </p:blipFill>
        <p:spPr>
          <a:xfrm>
            <a:off x="2916360" y="37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014.radikal.ru/0805/0b/f15f6508a053.gif"/>
          <p:cNvPicPr/>
          <p:nvPr/>
        </p:nvPicPr>
        <p:blipFill>
          <a:blip r:embed="rId2"/>
          <a:stretch/>
        </p:blipFill>
        <p:spPr>
          <a:xfrm>
            <a:off x="6119640" y="1341360"/>
            <a:ext cx="302436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gar-ptisa.ru/admin/pictures/433161b.jpg"/>
          <p:cNvPicPr/>
          <p:nvPr/>
        </p:nvPicPr>
        <p:blipFill>
          <a:blip r:embed="rId3"/>
          <a:stretch/>
        </p:blipFill>
        <p:spPr>
          <a:xfrm>
            <a:off x="0" y="1197000"/>
            <a:ext cx="30243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Franklin Gothic Medium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Солнце 3"/>
          <p:cNvSpPr/>
          <p:nvPr/>
        </p:nvSpPr>
        <p:spPr>
          <a:xfrm>
            <a:off x="2124000" y="1844640"/>
            <a:ext cx="4751640" cy="4176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6:09:30Z</dcterms:created>
  <dc:creator>1</dc:creator>
  <dc:description/>
  <dc:language>en-US</dc:language>
  <cp:lastModifiedBy>1</cp:lastModifiedBy>
  <dcterms:modified xsi:type="dcterms:W3CDTF">2012-11-22T16:41:33Z</dcterms:modified>
  <cp:revision>9</cp:revision>
  <dc:subject/>
  <dc:title>Золотая хохлома</dc:title>
</cp:coreProperties>
</file>