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D0C6-9A28-404B-B407-D7AF8DBD8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7F67-27DD-4916-9E44-73F28BFB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8BF9-3336-4E11-B2C1-95A46AB1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7F91-07CC-4539-825A-628AE2F5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0560-FA10-4173-A5C9-8CF0032A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C1C9-9C1D-4C9E-A912-EF348840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4B4E-E88A-44F5-AAAB-7ED1BC02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FD3-2028-48AB-8486-13B0D266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005E-ADF7-49EE-8CC0-FB3C34DF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B04E-A154-4A08-954D-68CC63D0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4536-30C8-4722-8773-F3335779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B555-E5C3-4A7A-8357-CADF8720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67EB-06CE-417E-9D45-A2A7098F3027}" type="slidenum">
              <a:rPr b="0" lang="ru-RU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free-lancers.net/posted_files/N7FEF2E509A7F.gif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19280" y="112500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Franklin Gothic Medium"/>
              </a:rPr>
              <a:t>ЗОЛОТАЯ ХОХЛОМА</a:t>
            </a:r>
            <a:endParaRPr b="0" lang="en-US" sz="66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semino.narod.ru/IMAGES/ladiapt.JPG"/>
          <p:cNvPicPr/>
          <p:nvPr/>
        </p:nvPicPr>
        <p:blipFill>
          <a:blip r:embed="rId1"/>
          <a:stretch/>
        </p:blipFill>
        <p:spPr>
          <a:xfrm>
            <a:off x="611280" y="304920"/>
            <a:ext cx="75992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Franklin Gothic Medium"/>
              </a:rPr>
              <a:t>История хохломской росписи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Franklin Gothic Book"/>
              </a:rPr>
              <a:t>Еще в давние времена среди жителей местных деревень, надежно укрытых в глухомани лесов, было немало «утеклецов», то есть людей, спасавшихся от гонения за «старую веру».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Franklin Gothic Book"/>
              </a:rPr>
              <a:t>Среди переселившихся на нижегородскую землю старообрядцев было немало иконописцев, мастеров книжной миниатюры. Они привезли с собой древние иконы и рукописные книги с красочными заставками, принесли тонкое живописное мастерство, каллиграфию свободного кистевого письма и образцы богатейшего растительного орнамента.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s11.radikal.ru/i184/1003/67/92e8df82cd7f.jpg"/>
          <p:cNvPicPr/>
          <p:nvPr/>
        </p:nvPicPr>
        <p:blipFill>
          <a:blip r:embed="rId1"/>
          <a:stretch/>
        </p:blipFill>
        <p:spPr>
          <a:xfrm>
            <a:off x="0" y="0"/>
            <a:ext cx="4788000" cy="3360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s58.radikal.ru/i161/0902/7e/fe8072205bb2.jpg"/>
          <p:cNvPicPr/>
          <p:nvPr/>
        </p:nvPicPr>
        <p:blipFill>
          <a:blip r:embed="rId2"/>
          <a:stretch/>
        </p:blipFill>
        <p:spPr>
          <a:xfrm>
            <a:off x="5830920" y="2441520"/>
            <a:ext cx="3313080" cy="4416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http://www.narpromysel.ru/UserFiles/Image/1-280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ttp://img-fotki.yandex.ru/get/5604/tigra-saransk-13.7/0_6d7a3_1d5dc03e_XL"/>
          <p:cNvPicPr/>
          <p:nvPr/>
        </p:nvPicPr>
        <p:blipFill>
          <a:blip r:embed="rId4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Franklin Gothic Medium"/>
              </a:rPr>
              <a:t>Рисуем сами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51" name="Picture 2" descr="http://artorbita.ru/tipy_rospisi/pic_hohloma/picture/pic_hohloma15.jpg"/>
          <p:cNvPicPr/>
          <p:nvPr/>
        </p:nvPicPr>
        <p:blipFill>
          <a:blip r:embed="rId1"/>
          <a:stretch/>
        </p:blipFill>
        <p:spPr>
          <a:xfrm>
            <a:off x="0" y="1413000"/>
            <a:ext cx="4500720" cy="3573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img-fotki.yandex.ru/get/4428/126030467.80/0_5d7d7_9ba4a141_XL"/>
          <p:cNvPicPr/>
          <p:nvPr/>
        </p:nvPicPr>
        <p:blipFill>
          <a:blip r:embed="rId2"/>
          <a:stretch/>
        </p:blipFill>
        <p:spPr>
          <a:xfrm>
            <a:off x="4491000" y="3583080"/>
            <a:ext cx="465300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anklin Gothic Medium"/>
              </a:rPr>
              <a:t>Найди хохломскую роспись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54" name="Picture 2" descr="http://img1.liveinternet.ru/images/attach/b/3/19/638/19638974_hohloma.jpg"/>
          <p:cNvPicPr/>
          <p:nvPr/>
        </p:nvPicPr>
        <p:blipFill>
          <a:blip r:embed="rId1"/>
          <a:stretch/>
        </p:blipFill>
        <p:spPr>
          <a:xfrm>
            <a:off x="2916360" y="371628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i014.radikal.ru/0805/0b/f15f6508a053.gif"/>
          <p:cNvPicPr/>
          <p:nvPr/>
        </p:nvPicPr>
        <p:blipFill>
          <a:blip r:embed="rId2"/>
          <a:stretch/>
        </p:blipFill>
        <p:spPr>
          <a:xfrm>
            <a:off x="6119640" y="1341360"/>
            <a:ext cx="3024360" cy="3743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www.gar-ptisa.ru/admin/pictures/433161b.jpg"/>
          <p:cNvPicPr/>
          <p:nvPr/>
        </p:nvPicPr>
        <p:blipFill>
          <a:blip r:embed="rId3"/>
          <a:stretch/>
        </p:blipFill>
        <p:spPr>
          <a:xfrm>
            <a:off x="0" y="1197000"/>
            <a:ext cx="302436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Franklin Gothic Medium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Солнце 3"/>
          <p:cNvSpPr/>
          <p:nvPr/>
        </p:nvSpPr>
        <p:spPr>
          <a:xfrm>
            <a:off x="2124000" y="1844640"/>
            <a:ext cx="4751640" cy="4176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06:09:30Z</dcterms:created>
  <dc:creator>1</dc:creator>
  <dc:description/>
  <dc:language>en-US</dc:language>
  <cp:lastModifiedBy>1</cp:lastModifiedBy>
  <dcterms:modified xsi:type="dcterms:W3CDTF">2012-11-22T16:41:33Z</dcterms:modified>
  <cp:revision>9</cp:revision>
  <dc:subject/>
  <dc:title>Золотая хохлома</dc:title>
</cp:coreProperties>
</file>