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3A43-40E9-42A7-BB96-6FEF068ACB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76C3-9F9F-4729-B8E5-F670CD4164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C81B-DA5C-4C9A-8EDA-9179DB6CF3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711-4F07-4DD0-AC87-740FD6B6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F13-4243-4218-BCB4-AEA808FD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DD0-BAC5-453B-AF99-D8CF94FC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0C6-8677-4A5C-9A6B-1898043A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D519-7C73-4342-ABC7-630CFA47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4AB6-A61E-435B-9E09-4849B27E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4E4A-96E9-4487-ADE7-B010039E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D7DC-AFE2-42A4-89CF-CCEC55E7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8F59-FE27-4DD6-97E6-E748C65F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C251-85BC-44F2-B07D-47231003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00AE-EC1C-40F1-AF65-6DD243F5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2BE-D8E3-4089-9B42-8EEBDF73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D525-3F03-40B7-AFA6-14DC6B6F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5926-C292-420A-9ED1-A52FFDE0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B927-4912-444D-BA86-C9D6EB83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CDA0-5F67-4036-BCD0-54528AE6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FA4E-8E68-47BC-9B08-9775EBFF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BF1-1D63-432C-94B2-CFA8FCD3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E1B-824C-4051-A32F-DAD06469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5D7-EFD6-4CE1-AB34-ADBA7F92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FDC-6D29-4571-9CD4-660EAEAD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FD6-C195-4A77-A281-4099835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ADE-DB94-45BF-A9D0-B1834BFC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A61-E209-4674-BE10-8CBF248B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8BD1-A385-43E6-BF0C-804EED1D5B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7F8F-BC94-4534-B681-25818940D0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680"/>
            <a:ext cx="72392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6666"/>
                </a:solidFill>
                <a:latin typeface="Arial"/>
              </a:rPr>
              <a:t>СОВМЕСТНАЯ ДЕЯТЕЛЬНОСТЬ</a:t>
            </a:r>
            <a:br>
              <a:rPr sz="5000"/>
            </a:br>
            <a:r>
              <a:rPr b="0" i="1" lang="en-US" sz="5000" spc="-1" strike="noStrike">
                <a:solidFill>
                  <a:srgbClr val="006666"/>
                </a:solidFill>
                <a:latin typeface="Arial"/>
              </a:rPr>
              <a:t>взрослого и детей</a:t>
            </a:r>
            <a:endParaRPr b="0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9640" y="386028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Verdana"/>
              </a:rPr>
              <a:t>МКДОУ к.в № 133 г. Киров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Мотивация деятельност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Постановка общей цел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Мотивация объединения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нкретизация результата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Планирование предстоящей деятельност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Распределение материала, действий или ролей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нкретизация индивидуальной цел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Организация рабочего места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Осуществление деятельност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Оценка результата (соответствие цели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Рефлексия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395280" y="189000"/>
            <a:ext cx="8497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Алгоритм организации совместной деятельности взрослого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УВАЖАЕМЫЕ КОЛЛЕГИ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Verdana"/>
              </a:rPr>
              <a:t>У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– удивляйте!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Verdana"/>
              </a:rPr>
              <a:t>Д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– дерзайте!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Verdana"/>
              </a:rPr>
              <a:t>А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– агитируйте!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Verdana"/>
              </a:rPr>
              <a:t>Ч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– чудите!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Verdana"/>
              </a:rPr>
              <a:t>И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– изумляйте! 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труктура образовательного процесс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Содержимое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8105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1040" y="378000"/>
            <a:ext cx="66816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Calibri"/>
              </a:rPr>
              <a:t>Совместная деятельно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119700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д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совместной деятельностью взрослых и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детей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понимается деятельность двух и более участников образовательного процесса (взрослых и воспитанников) по решению образовательных задач на одном пространстве и в одно и то же врем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на отличается наличием партнёрской позиции взрослого и партнёрской формой организации (сотрудничество взрослого и детей, возможность свободного размещения, перемещения и общения детей в процессе образовательной деятельности), предполагает сочетание индивидуальной, подгрупповой и групповой форм организации работы с воспитанникам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Calibri"/>
              </a:rPr>
              <a:t>Основные тезисы организации партнерской деятельности взрослого с детьм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1413000"/>
            <a:ext cx="79930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обровольное присоединение детей к деятельности (без психического и дисциплинарного принуждения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Включенность воспитателя в деятельность наравне с деть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вободное общение и перемещение детей во время деятельности (при соответствии организации рабочего пространства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Открытый временной конец занятия (каждый работает в своем темпе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  <a:ea typeface="Calibri"/>
              </a:rPr>
              <a:t>(Н.А. Короткова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-360" y="1557360"/>
            <a:ext cx="471636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странственное и временное соприсутствие участников(совместное нахождение), создающее возможности непосредственного личного контакта между ними в плане обмена действиями и обмена информаци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324000" y="189000"/>
            <a:ext cx="8497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Calibri"/>
                <a:ea typeface="Calibri"/>
              </a:rPr>
              <a:t>Основные характеристики совместной деятельности взрослого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SC00402"/>
          <p:cNvPicPr/>
          <p:nvPr/>
        </p:nvPicPr>
        <p:blipFill>
          <a:blip r:embed="rId1"/>
          <a:stretch/>
        </p:blipFill>
        <p:spPr>
          <a:xfrm>
            <a:off x="4643280" y="1989000"/>
            <a:ext cx="43326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333360"/>
            <a:ext cx="822960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Нахождение значимой для каждого ребенка цели деятельности: личная мотивация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Наличие общей цели, отвечающей запросам и интересам всех участников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Общая цель включает в себя два вида постановки и решения задач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Verdana"/>
              </a:rPr>
              <a:t>первый  вид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постановка и решение педагогических задач;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Verdana"/>
              </a:rPr>
              <a:t>второй вид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постановка практической задачи перед детьм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Заголовок 1"/>
          <p:cNvSpPr/>
          <p:nvPr/>
        </p:nvSpPr>
        <p:spPr>
          <a:xfrm flipV="1">
            <a:off x="324000" y="691920"/>
            <a:ext cx="849780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9280" y="259920"/>
            <a:ext cx="822960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c1c1c"/>
                </a:solidFill>
                <a:latin typeface="Verdana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Наличие органов организации и руководства, которые воплощены в лице одного из участников, либо распределены.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1c1c1c"/>
                </a:solidFill>
                <a:uFillTx/>
                <a:latin typeface="Verdana"/>
              </a:rPr>
              <a:t>Функции органа организации и руководства: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Распределение обязанностей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Ответственность за общий результа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Заголовок 1"/>
          <p:cNvSpPr/>
          <p:nvPr/>
        </p:nvSpPr>
        <p:spPr>
          <a:xfrm flipV="1">
            <a:off x="250920" y="188640"/>
            <a:ext cx="8497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a2339"/>
                </a:solidFill>
                <a:latin typeface="Verdana"/>
              </a:rPr>
              <a:t>4</a:t>
            </a:r>
            <a:r>
              <a:rPr b="0" lang="en-US" sz="2700" spc="-1" strike="noStrike">
                <a:solidFill>
                  <a:srgbClr val="99cccc"/>
                </a:solidFill>
                <a:latin typeface="Verdana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азделение процесса совместной деятельности между участниками, обусловленное характером целей, средств и условий, составом и уровнем квалификации участник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2339"/>
                </a:solidFill>
                <a:latin typeface="Verdana"/>
              </a:rPr>
              <a:t>Формы совместной деятельности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2339"/>
                </a:solidFill>
                <a:latin typeface="Verdana"/>
              </a:rPr>
              <a:t>1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совместно-индивидуальная деятельно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2339"/>
                </a:solidFill>
                <a:latin typeface="Verdana"/>
              </a:rPr>
              <a:t>2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совместно-последовательная деятельно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2339"/>
                </a:solidFill>
                <a:latin typeface="Verdana"/>
              </a:rPr>
              <a:t>3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совместно-совместная деятельно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Заголовок 1"/>
          <p:cNvSpPr/>
          <p:nvPr/>
        </p:nvSpPr>
        <p:spPr>
          <a:xfrm flipV="1">
            <a:off x="250920" y="188640"/>
            <a:ext cx="8497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10920" y="620280"/>
            <a:ext cx="7705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cccc"/>
                </a:solidFill>
                <a:latin typeface="Verdana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Возникновение межличностных отношений, проявляющихся в общении, обмене действиям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92280" indent="-60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cccc"/>
                </a:solidFill>
                <a:latin typeface="Verdana"/>
              </a:rPr>
              <a:t>6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Поощрение самостоятельных действий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92280" indent="-60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92280" indent="-60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cccc"/>
                </a:solidFill>
                <a:latin typeface="Verdana"/>
              </a:rPr>
              <a:t>7.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Партнерский  стиль общения. Поддержка, установка «Ты все можешь»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92280" indent="-60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Заголовок 1"/>
          <p:cNvSpPr/>
          <p:nvPr/>
        </p:nvSpPr>
        <p:spPr>
          <a:xfrm>
            <a:off x="395280" y="765000"/>
            <a:ext cx="8497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15:42:00Z</dcterms:created>
  <dc:creator>папа</dc:creator>
  <dc:description/>
  <dc:language>en-US</dc:language>
  <cp:lastModifiedBy>папа</cp:lastModifiedBy>
  <dcterms:modified xsi:type="dcterms:W3CDTF">2012-11-14T18:26:20Z</dcterms:modified>
  <cp:revision>9</cp:revision>
  <dc:subject/>
  <dc:title>Слайд 1</dc:title>
</cp:coreProperties>
</file>