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721-BFF7-473F-8B08-6E816BB698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C59-D52D-4530-BF3F-7528BE057E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D2F7-EC27-45A3-9AFA-3C971A82C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632-B22E-4C56-8272-2A442D65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469-DF1B-4F87-8847-C0DF95D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5FA-7FD9-41D1-9BE8-B3384BD5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3D6-8E21-4650-BBEF-D28B8647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7A32-714B-41BE-8F31-9CEE953E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B30-7E7D-4AED-BB3A-D25E754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6E03-45C5-4DAE-9D33-CC48068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260E-3179-4DA7-AC0F-A8BBE19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8D67-7CE9-4BF6-A9F5-696D5DF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112-2977-4AAD-8FAF-C1B18C0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621A-A19D-43B1-9B1E-AC85363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D9B-60A6-40BB-82EF-1F51093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AA69-B84C-43EF-B2D8-DF51B31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B2A-0EA4-4618-BABB-11EDF23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8ABC-EDDE-4AB9-9AB7-EEA90B3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A2C2-3665-4945-908A-8C4A357D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8FF-2EFF-4AC1-AEC3-204438D8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A72-EAA8-4CC8-AF13-3AB68DF1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CF0-5171-422D-B42F-E7FFA52B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9AD-834D-4FD0-A0B0-73DF42AA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8C3-7DD2-4832-9384-48C8647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455-31CD-4BC9-A37F-33A2DCA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147-D2CA-4841-B378-39AF93F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F9F-A435-4831-B411-59BE8CB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0A4-BA90-4C8A-883F-FF727AB988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B8C-2832-47EE-B584-09335745EA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6666"/>
                </a:solidFill>
                <a:latin typeface="Arial"/>
              </a:rPr>
              <a:t>СОВМЕСТНАЯ ДЕЯТЕЛЬНОСТЬ</a:t>
            </a:r>
            <a:br>
              <a:rPr sz="5000"/>
            </a:br>
            <a:r>
              <a:rPr b="0" i="1" lang="en-US" sz="5000" spc="-1" strike="noStrike">
                <a:solidFill>
                  <a:srgbClr val="006666"/>
                </a:solidFill>
                <a:latin typeface="Arial"/>
              </a:rPr>
              <a:t>взрослого и детей</a:t>
            </a:r>
            <a:endParaRPr b="0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Verdana"/>
              </a:rPr>
              <a:t>МКДОУ к.в № 133 г. Киров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Мотивация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остановка общей цел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Мотивация объединен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нкретизация результата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ланирование предстоящей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спределение материала, действий или ролей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нкретизация индивидуальной цел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рганизация рабочего места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существление деятельност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ценка результата (соответствие цели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1200" indent="-33120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395280" y="189000"/>
            <a:ext cx="8497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Алгоритм организации совместной деятельности взрослого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УВАЖАЕМЫЕ КОЛЛЕГИ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У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удивля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Д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дерза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А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агитируй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Ч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чудит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Verdana"/>
              </a:rPr>
              <a:t>И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– изумляйте!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труктура образовательного процес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8105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1040" y="378000"/>
            <a:ext cx="6681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Calibri"/>
              </a:rPr>
              <a:t>Совместная деятель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19700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д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совместной деятельностью взрослых и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дете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понимается деятельность двух и более участников образовательного процесса (взрослых и воспитанников) по решению образовательных задач на одном пространстве и в одно и то же врем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на отличается наличием партнёрской позиции взрослого и партнёрской формой организации (сотрудничество взрослого и детей, возможность свободного размещения, перемещения и общения детей в процессе образовательной деятельности), предполагает сочетание индивидуальной, подгрупповой и групповой форм организации работы с воспитанника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Calibri"/>
              </a:rPr>
              <a:t>Основные тезисы организации партнерской деятельности взрослого с детьм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413000"/>
            <a:ext cx="7993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обровольное присоединение детей к деятельности (без психического и дисциплинарного принуждения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Включенность воспитателя в деятельность наравне с дет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вободное общение и перемещение детей во время деятельности (при соответствии организации рабочего пространств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Открытый временной конец занятия (каждый работает в своем темпе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  <a:ea typeface="Calibri"/>
              </a:rPr>
              <a:t>(Н.А. Коротков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-360" y="1557360"/>
            <a:ext cx="47163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странственное и временное соприсутствие участников(совместное нахождение), создающее возможности непосредственного личного контакта между ними в плане обмена действиями и обмена информаци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324000" y="189000"/>
            <a:ext cx="8497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Calibri"/>
                <a:ea typeface="Calibri"/>
              </a:rPr>
              <a:t>Основные характеристики совместной деятельности взрослого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0402"/>
          <p:cNvPicPr/>
          <p:nvPr/>
        </p:nvPicPr>
        <p:blipFill>
          <a:blip r:embed="rId1"/>
          <a:stretch/>
        </p:blipFill>
        <p:spPr>
          <a:xfrm>
            <a:off x="4643280" y="1989000"/>
            <a:ext cx="43326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33336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Нахождение значимой для каждого ребенка цели деятельности: личная мотивац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Наличие общей цели, отвечающей запросам и интересам всех участников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Общая цель включает в себя два вида постановки и решения задач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</a:rPr>
              <a:t>первый  вид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постановка и решение педагогических задач;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</a:rPr>
              <a:t>второй вид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постановка практической задачи перед детьм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Заголовок 1"/>
          <p:cNvSpPr/>
          <p:nvPr/>
        </p:nvSpPr>
        <p:spPr>
          <a:xfrm flipV="1">
            <a:off x="324000" y="691920"/>
            <a:ext cx="84978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9280" y="259920"/>
            <a:ext cx="82296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c1c1c"/>
                </a:solidFill>
                <a:latin typeface="Verdana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Наличие органов организации и руководства, которые воплощены в лице одного из участников, либо распределены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1c1c1c"/>
                </a:solidFill>
                <a:uFillTx/>
                <a:latin typeface="Verdana"/>
              </a:rPr>
              <a:t>Функции органа организации и руководства: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Распределение обязанностей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6680" indent="-26820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Ответственность за общий результа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Заголовок 1"/>
          <p:cNvSpPr/>
          <p:nvPr/>
        </p:nvSpPr>
        <p:spPr>
          <a:xfrm flipV="1">
            <a:off x="250920" y="188640"/>
            <a:ext cx="849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a2339"/>
                </a:solidFill>
                <a:latin typeface="Verdana"/>
              </a:rPr>
              <a:t>4</a:t>
            </a: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деление процесса совместной деятельности между участниками, обусловленное характером целей, средств и условий, составом и уровнем квалификации участник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Формы совместной деятельност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1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индивидуальная деятель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2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последовательная деятель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2339"/>
                </a:solidFill>
                <a:latin typeface="Verdana"/>
              </a:rPr>
              <a:t>3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совместно-совместная деятельно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6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Заголовок 1"/>
          <p:cNvSpPr/>
          <p:nvPr/>
        </p:nvSpPr>
        <p:spPr>
          <a:xfrm flipV="1">
            <a:off x="250920" y="188640"/>
            <a:ext cx="849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10920" y="620280"/>
            <a:ext cx="770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Возникновение межличностных отношений, проявляющихся в общении, обмене действиями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cccc"/>
                </a:solidFill>
                <a:latin typeface="Verdana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Поощрение самостоятельных действий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cccc"/>
                </a:solidFill>
                <a:latin typeface="Verdana"/>
              </a:rPr>
              <a:t>7.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Партнерский  стиль общения. Поддержка, установка «Ты все можешь»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92280" indent="-60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395280" y="765000"/>
            <a:ext cx="8497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5:42:00Z</dcterms:created>
  <dc:creator>папа</dc:creator>
  <dc:description/>
  <dc:language>en-US</dc:language>
  <cp:lastModifiedBy>папа</cp:lastModifiedBy>
  <dcterms:modified xsi:type="dcterms:W3CDTF">2012-11-14T18:26:20Z</dcterms:modified>
  <cp:revision>9</cp:revision>
  <dc:subject/>
  <dc:title>Слайд 1</dc:title>
</cp:coreProperties>
</file>