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6C4-69CD-48F2-9D9C-2FE84893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227-7F9F-4675-84CC-C33B163B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8DA-79DA-457F-BB34-F4B2F19D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E3C-3B34-443B-AD1D-FDC25E73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AA9-FD9E-4344-9F48-99861502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CB3-3361-4FDB-A870-02B9ED7D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E37E-678B-463B-9946-B7AE9246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4DF-FC58-4398-B677-C59469CE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139-D718-4CFC-945D-5417080A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60D-A3AD-40BE-9585-EA9E3435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AA4-ACD5-448F-A47F-AACE4E0E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876-3A95-4257-8C55-33C993B6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37AB-679A-4E44-933B-C2B7B65CC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supersadovnik.ru/plant.aspx?id=1365" TargetMode="External"/><Relationship Id="rId5" Type="http://schemas.openxmlformats.org/officeDocument/2006/relationships/hyperlink" Target="http://www.supersadovnik.ru/article.aspx?id=1001847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www.supersadovnik.ru/article_plant.aspx?id=1003503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www.supersadovnik.ru/article_plant.aspx?id=1003149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143000"/>
            <a:ext cx="7391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 растет н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доконник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62120" y="167652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ловкина Нина Анатольевн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 начальных классов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КОУ "Средняя общеобразовательная школа"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Юхновского р-на, Калужской области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114800" cy="301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48320" y="3479760"/>
            <a:ext cx="4305240" cy="3149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48320" y="381600"/>
            <a:ext cx="41148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Азал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инадлежат к роду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ододендронов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из древнейшего семейств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ересковы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В самостоятельный род их выделили по ошибке. И, хотя ученые ошибку исправили, садоводы-практики сохранили название "азалии" за комнатными и тепличными рододендронами. Бывает розовая, белая, крас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794040"/>
            <a:ext cx="434340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натные растения ценят за цветы или декоративные листья. Гораздо реже встречаются культуры с красивыми плодами. Вот так попала сначала в оранжереи ботанических садов, а затем и в наши дома </a:t>
            </a: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ардиз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3886200" cy="2842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3886200" cy="2843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762480"/>
            <a:ext cx="449568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Бальзамины</a:t>
            </a: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ти африканских лесов, удивительно быстро "обрусели" и освоились на окнах деревенских изб и городских домов. Их полюбили и называли совсем по-свойски – "Ванька-мокрый", "огонек" – за непритязательность, умение легко восстанавливаться и неутомимо бодрое цветени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3277440"/>
            <a:ext cx="419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Китайская ро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дин из самых популярных видо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ибиску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но далеко не единств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 гибискусов необыкновенно богат – он насчитывает более 250 видов. Среди них есть вечнозеленые и листопадные деревья и кустарники, многолетние и однолетние травы, и далеко не все из них обладают крупными яркими цветками.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228600"/>
            <a:ext cx="3657600" cy="267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3886200" cy="2843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686160"/>
            <a:ext cx="441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ркая, броская, привлекающая всеобщее внимание,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глокси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мит многих соседок по подоконнику. Глоксиния растет и цветет все лето, и в это время растение выглядит как букет дивных колокольчиков из бархата, возвышающихся над розеткой лист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2957040"/>
            <a:ext cx="4419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аконов привозят из южных стран. Но не в яйце, как можно предположить, а в картонных коробочках. На каждой – инструкция, объясняющая, что лежащее внутри безжизненное полешко надо поставить в воду, через месяц толстая драконья кожа (или кора) лопнет и из нее покажется маленький зеленый росток. Это и есть будущий могучий дракон, вернее, драконша – именно так переводится греческое слово </a:t>
            </a: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Драце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шее название этому роду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114800" cy="3011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029200" y="3733920"/>
            <a:ext cx="3848040" cy="281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0" y="53352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арственные, пышные, торжественные – так называют 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кан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а разных языках. Эти удивительные растения встречаются до сего дня во многих странах мира, правда, в основном гибридные сорта, созданные селекционера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206960"/>
            <a:ext cx="42670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никогда не слышали о том, что растения могут молиться? Если нет - присмотритесь к 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марантовы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наступлением темноты они начинают шевелиться и словно тянут в немой мольбе к небу ладони-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114800" cy="301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3695760" cy="2703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76920" y="570600"/>
            <a:ext cx="396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Молочай</a:t>
            </a: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, или </a:t>
            </a: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эуфорб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амый обширный и известный род семейства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лочай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н насчитывает до 2000 видов. Научное название роду дал древнеримский врач Диоскарид в честь своего коллеги Эуфорба, владевшего секретами приготовления самых разнообразных лекарств и снадобий из этих растени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435560"/>
            <a:ext cx="43434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Пеларгония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греческого "пеларгониум" - журавлиный нос) относится к семейству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раниев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 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ларгонии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хожи на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геран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19640" y="228600"/>
            <a:ext cx="3924360" cy="2871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190760" cy="3067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8080" y="1066680"/>
            <a:ext cx="39625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звезды зажигаются, значит, это кому-нибудь нуж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Звезда 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пуансетт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зошла над миром почти сто лет назад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3674160"/>
            <a:ext cx="396252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фиалках сложено немало легенд. Они усмиряли грозных императоров и умиляли восторженных поэтов. Но столь популярные в наши дни комнатные, или </a:t>
            </a: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узамбарские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фиал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ни к тем легендам, ни к самому растению не имеют абсолютно никакого отношения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05120" y="304920"/>
            <a:ext cx="4686120" cy="3429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95280" y="449568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Циклам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чил свое название из-за идеально округлой формы клубня – греческое слово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kyklas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еводе означает "круг". Родина цветка – Южная Европа и страны Черноморского региона. Больше всего видо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дикорастущих цикламе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 Турции, в Европе известен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икламен европейский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льпийская фиал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15:45:48Z</dcterms:created>
  <dc:creator>Нина</dc:creator>
  <dc:description/>
  <dc:language>en-US</dc:language>
  <cp:lastModifiedBy>ёёё</cp:lastModifiedBy>
  <dcterms:modified xsi:type="dcterms:W3CDTF">2013-03-03T16:12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