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9.png" ContentType="image/png"/>
  <Override PartName="/ppt/media/image10.png" ContentType="image/png"/>
  <Override PartName="/ppt/media/image30.png" ContentType="image/png"/>
  <Override PartName="/ppt/media/image28.wmf" ContentType="image/x-wmf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7DB3-E6EB-4171-B45B-2E639E922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27160" y="523476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3632-07AF-440A-9F08-B1A2C1ABA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7B6A5B-8C96-4FF0-BD6A-D85FD6468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4354D3-BEF6-4921-9444-262FF62E0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227160" y="304560"/>
            <a:ext cx="6400800" cy="46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F253D6-14D9-4176-AA6D-BB50CF451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A822EB-3667-4A31-A1D0-65D56F84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350712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E92A52-4053-4708-ACDD-970477A8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A0A459-5FA1-4624-8B10-AE0EF308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227160" y="523476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2F5D53-DF8D-42AC-B1CB-C42F8C74C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350712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2B7A03-8033-46E7-88CE-29BDBCEB8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239112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5544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22716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239112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455544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5538AE-A59D-4CAB-B563-FFEEDE742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D79B70-9615-497D-BDD0-6587ED246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50712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36AA-F063-43EF-B609-151EB765E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D563DF-9A77-4373-ADD3-4077AEB87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4F3EDC-CA49-4074-BEA0-0F20CB855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0B8043-05C6-458D-8A03-BC632AFDF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77FA01-1DF6-40B2-83FD-D460A0D92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227160" y="304560"/>
            <a:ext cx="6400800" cy="46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B3FD07-9D8A-4CF6-8E69-F879F0A55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986661-79DD-4841-A35B-9E38C611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50712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F7A080-8275-4068-AB2F-62865333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9FF8F1-8333-4C02-B2E6-4BED67B4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227160" y="523476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FCD381-5FB7-414A-B084-C1D46C05E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350712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C1DE62-6367-41B2-BE11-6C34B58C4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239112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5544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2716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239112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455544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E158-5B67-40E7-BE15-BDBF7C53D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239112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5544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22716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239112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455544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E83700-28CB-4CFF-A8A7-769436997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AC253C-4BA9-4FDF-A014-7FB4D9848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32DE2D-8466-49E9-9A85-7071A3DD9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BE4086-13EE-438B-AD10-D9D6BD0F3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16A513-04D3-4E77-9C5C-F9C3944F4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40E3CD-630E-4822-AC97-9C09ABB39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227160" y="304560"/>
            <a:ext cx="6400800" cy="46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9A6E3A-5C22-47CC-A94B-E32B69B97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3A0EEB-5DCB-444D-ADD4-342EA11E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350712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B1971A-0FEF-46A7-B4B6-3438B319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DDDC70-AEB4-4F5F-9138-67FA628A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A7F0C-EF7C-428A-B414-8A0E53F06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227160" y="523476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97BAF5-8732-4C52-8A30-0D411FCF2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350712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D0D46B-F863-4D95-8910-950C602A1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239112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5544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22716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239112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455544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0DF87B-EB17-4362-A1C3-42E698120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6D53E5-0914-41F3-9197-EBDA55153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E00F62-DC42-48A8-A493-5458FE153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35799F-86C9-454F-A2C8-B28FD644A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BA2917-637D-4E96-A6F0-BF374A847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1C4C9D-4049-4D64-8CE4-2C91C7ACF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227160" y="304560"/>
            <a:ext cx="6400800" cy="46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CE9E05-2B5E-4B51-A10E-A9A862B35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B2F0C6-54BF-4FBA-AC3A-1052F6BF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B1BA2-9D24-406F-A065-443FD2F7A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350712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E4957A-DACA-4ADF-84C4-C7D98AEB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FEF857-1426-4C66-A02F-A772DCBB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227160" y="523476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699E45-9F03-4CAA-9704-A5697DD2B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350712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D4D8E6-BB77-4030-8A82-8700876AF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239112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5544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22716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239112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455544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45853B-C245-42E1-845F-16579DF6F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7B764-C177-43DA-902B-87A6F2110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DF5BE-F793-4B65-B7C9-63185F1C0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E2F98-AB7D-42CD-AA4A-7732F7B6A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227160" y="304560"/>
            <a:ext cx="6400800" cy="46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1C30E-01FC-41E2-9B30-E4D6BCBF3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8CFA3-F2B9-465B-A899-62175AC9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E1F2-1FEA-418B-B42E-02247A949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712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284E1-5ABE-41EF-ABAF-F19E5D49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CE2F8-4672-4DC9-9772-59A3D5A3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227160" y="523476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E3F64-3509-4D20-BAE7-A5B8827FF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712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6B1DB-D13B-47A9-9C70-95D0595F1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39112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5544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22716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39112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5544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DD16C-29E5-4A0C-A25C-1BD7B9583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299D3-36A2-4164-8D9B-9F0619D20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1AE17-1E6A-47BF-BC29-1751480FF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BC9A5-10A2-4E2D-86A1-48DD9DABA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277E3-CD1A-44A3-B770-D940BFD92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C54DD-6F57-4B79-869A-AD3EAB513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1975-4D3E-45FA-8686-E1FFE906F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227160" y="304560"/>
            <a:ext cx="6400800" cy="46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8A409-48C1-44D9-A9BF-704D24EA4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531C1-9FF4-412B-BE78-FBD89733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50712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5641A-A1DE-49AA-A429-5C2595F5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922B8-6833-4548-9D46-931D8D4B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227160" y="523476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F457A-BDF2-4EA5-8F98-85100C681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50712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1197A-8745-4D65-BB1E-9D4A9E3E0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239112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5544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22716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239112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455544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AE2D8-39BF-471F-9E5F-79C4B4965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4D01C-6AF6-4130-8327-EFA8C1A8D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01DAA-CA9F-4E76-9DB4-A1A0E91E9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5BA43-00BF-40B5-B591-DA0441D90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0814-9C59-4857-9A70-E03938DD7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E8585-4FED-4C72-ACB2-CCB372B35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F7331-0E93-4046-B3BF-C5B778074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227160" y="304560"/>
            <a:ext cx="6400800" cy="46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D395D-5391-4537-B5B9-FC0D17349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BBCCC-BF04-4E0D-8981-1BF56235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50712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82ADD-0C55-4C18-A686-1DE73AA5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C6302-42C8-4D3E-93AA-D730FFA1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227160" y="523476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6373E-FA5E-44A8-B91F-62BC02595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350712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20353-E500-4EDB-8530-D3E5EAAE6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239112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5544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22716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239112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455544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D7BC1-556F-46BE-B065-1ED0D3C77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DF584-F500-4E92-8744-9189562BA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899B-87C7-4F0D-8699-B49126E48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EF384-7A21-429B-8D2A-4821A400A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E4E10-286A-464C-98CF-7707A9B09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69E41-A2FC-4476-AE49-90CE4E378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2610A-17C0-4959-BA90-BB3C7EA43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227160" y="304560"/>
            <a:ext cx="6400800" cy="46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3E82D-22ED-405D-9646-953B6F383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DD65A7-3E6C-48A2-A7CF-D78C1D93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350712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3C5B5-3330-41F2-887F-3506CDEE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7CD30-0C71-45BB-85CE-7BC5321B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227160" y="523476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1228B-3E58-4959-9F0A-2EA9792C8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350712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EF500-7E9F-43ED-AEC8-8F40BEED9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27160" y="304560"/>
            <a:ext cx="6400800" cy="46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6CE5-49B7-47E8-873E-31F690AA3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239112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5544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22716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239112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455544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BA3F3-BB3F-4DF4-9C06-00967302E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721E63-DA53-44BF-AE3B-DAB3A2CB5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D2863-CCFD-48CA-A147-812517C8B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9C064-49CB-4187-AFAF-625CDE61B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A32F5-956A-4091-A6B5-623EDE411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3E423-F68A-4326-922A-1A65BE4A9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227160" y="304560"/>
            <a:ext cx="6400800" cy="46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C84FDC-D48E-4FFA-A213-106E2FCD9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304D89-36FC-458D-AFD3-5B046F97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350712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C88F6-DC77-41D1-BC89-6C6AFE2C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77B2E-C4D0-492C-AF96-AD0EEDDD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7246-9869-4389-8C83-8A3E89BA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227160" y="523476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D6593-DB81-4763-B41B-F678BD080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350712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18837-8024-4E07-84FA-6B0FB82B9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239112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5544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22716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239112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455544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930A5-1FB0-45DF-8A30-3E8156A92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868127-5913-401E-816F-4E63603C2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AA5417-C08E-4008-B78D-A177256A9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2B58AC-77F9-4FF3-812D-63DA7884B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24B4C4-F75E-45F0-9841-42A32E209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85103D-E68F-4C19-8657-3A5B2C456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227160" y="304560"/>
            <a:ext cx="6400800" cy="46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236FCC-9C9A-417D-97FD-1A246AB16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BA8B55-747B-4980-AE37-3E79F11F4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50712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F360-1C83-4274-9F91-64E8210D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350712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36DD25-AF3E-4131-81C3-6D792FDC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AE18D7-9F7E-4C9F-B073-1DF5578C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227160" y="523476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1229F7-DCFD-4200-ADC4-585533155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350712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E4AEC-742B-489F-95FA-A7C359E42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239112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5544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22716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239112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455544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7201F-C330-47F0-AAA0-F57B5F2B7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489D77-6AD6-41BA-911F-64ED3F522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1F6891-1F6B-4E54-8F9E-1246F28FA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D2E61D-AE6C-4C68-8B46-5911915E2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FB18D6-6CFD-4422-86FC-386EAB347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F34747-19BE-426C-ABE1-5C7051CFC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9BF4-CC43-45F3-AB20-8530410C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227160" y="304560"/>
            <a:ext cx="6400800" cy="46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B19FC6-E4CF-4526-A0BF-2242F9B69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B166E6-D716-4CEB-95A9-6198BEEF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350712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EBC643-0AE2-4165-AA87-A3EB3A30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E5D195-75A4-44DB-B4EE-FCA4FCF8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227160" y="523476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60D97B-7DBF-4B0C-9A68-B67AD2FC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350712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CDE8B3-20E5-4E6E-9A44-6557C4EEE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239112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5544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22716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239112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455544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C3A714-2580-49B5-B639-736173059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B139AC-53A3-4BF7-9879-95BFB1579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E71207-A53D-4E7D-9F31-50B99CE1C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C6BC77-8262-4F53-AA7E-90410C341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8940960"/>
            <a:ext cx="6858000" cy="20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6858000" cy="18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1448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6743880" y="0"/>
            <a:ext cx="11412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12680" y="8518680"/>
            <a:ext cx="6624720" cy="412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4343400" y="8540640"/>
            <a:ext cx="22845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228240" y="8547120"/>
            <a:ext cx="26859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14480" y="208080"/>
            <a:ext cx="6624360" cy="872784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14480" y="1701720"/>
            <a:ext cx="66243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3200400" y="1274760"/>
            <a:ext cx="457200" cy="812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3271680" y="1400040"/>
            <a:ext cx="314640" cy="56196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3257640" y="1387440"/>
            <a:ext cx="342720" cy="587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63B16-3730-4211-8B89-5BADC507FE91}" type="slidenum">
              <a:rPr b="0" lang="ru-RU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14480" y="711360"/>
            <a:ext cx="66243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8940960"/>
            <a:ext cx="6858000" cy="20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6743880" y="0"/>
            <a:ext cx="11412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6858000" cy="20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1448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14480" y="203040"/>
            <a:ext cx="6624360" cy="4017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14480" y="812880"/>
            <a:ext cx="2057400" cy="782316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14480" y="208080"/>
            <a:ext cx="6624360" cy="872784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971640" y="304920"/>
            <a:ext cx="457200" cy="812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042920" y="430200"/>
            <a:ext cx="314280" cy="56196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12680" y="8518680"/>
            <a:ext cx="6624720" cy="412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028880" y="417240"/>
            <a:ext cx="342720" cy="587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549CF-0DAE-4365-8F04-A1741F6EE362}" type="slidenum">
              <a:rPr b="0" lang="ru-RU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4341600" y="8540640"/>
            <a:ext cx="22827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226800" y="8547120"/>
            <a:ext cx="26874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8940960"/>
            <a:ext cx="6858000" cy="20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6858000" cy="18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1448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6743880" y="0"/>
            <a:ext cx="11412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12680" y="8518680"/>
            <a:ext cx="6624720" cy="412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14480" y="208080"/>
            <a:ext cx="6624360" cy="872784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14480" y="1701720"/>
            <a:ext cx="66243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3200400" y="1274760"/>
            <a:ext cx="457200" cy="812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3271680" y="1400040"/>
            <a:ext cx="314640" cy="56196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4343400" y="8540640"/>
            <a:ext cx="22845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228240" y="8547120"/>
            <a:ext cx="26859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3257640" y="1387440"/>
            <a:ext cx="342720" cy="587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00C64-7E78-48E3-BA53-413237C88B45}" type="slidenum">
              <a:rPr b="0" lang="ru-RU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8940960"/>
            <a:ext cx="6858000" cy="20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5257800" y="0"/>
            <a:ext cx="16002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6858000" cy="20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1448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09440" y="8521560"/>
            <a:ext cx="6624720" cy="41292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14480" y="208080"/>
            <a:ext cx="6624360" cy="872784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5357880" y="208080"/>
            <a:ext cx="0" cy="832644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5129280" y="3900600"/>
            <a:ext cx="457200" cy="812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5200560" y="4027320"/>
            <a:ext cx="316080" cy="56052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5186520" y="4013280"/>
            <a:ext cx="342720" cy="588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39310-AB05-4269-A6E6-B7A7C60C24EF}" type="slidenum">
              <a:rPr b="0" lang="ru-RU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4343400" y="8540640"/>
            <a:ext cx="22845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228240" y="8547120"/>
            <a:ext cx="26859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8940960"/>
            <a:ext cx="6858000" cy="20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6743880" y="4680"/>
            <a:ext cx="11412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1448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6858000" cy="335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09440" y="8521560"/>
            <a:ext cx="6624720" cy="41292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15920" y="3227400"/>
            <a:ext cx="66261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14480" y="203040"/>
            <a:ext cx="6624360" cy="873000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3200400" y="2820960"/>
            <a:ext cx="457200" cy="812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3271680" y="2946240"/>
            <a:ext cx="314640" cy="56052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343400" y="8540640"/>
            <a:ext cx="22845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28240" y="8547120"/>
            <a:ext cx="26859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3257640" y="2932200"/>
            <a:ext cx="342720" cy="588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11F40-F1B6-4DE8-9581-A46587B5354C}" type="slidenum">
              <a:rPr b="0" lang="ru-RU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8940960"/>
            <a:ext cx="6858000" cy="20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6858000" cy="18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1448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6743880" y="0"/>
            <a:ext cx="11412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12680" y="8518680"/>
            <a:ext cx="6624720" cy="412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14480" y="208080"/>
            <a:ext cx="6624360" cy="872784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14480" y="1701720"/>
            <a:ext cx="66243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3200400" y="1274760"/>
            <a:ext cx="457200" cy="812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3271680" y="1400040"/>
            <a:ext cx="314640" cy="56196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343400" y="8540640"/>
            <a:ext cx="22845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28240" y="8547120"/>
            <a:ext cx="26859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3271320" y="1368360"/>
            <a:ext cx="343080" cy="588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9CE67-FE22-424C-B636-A83FBBA33D04}" type="slidenum">
              <a:rPr b="0" lang="ru-RU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1448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8940960"/>
            <a:ext cx="6858000" cy="20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6858000" cy="20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6743880" y="25560"/>
            <a:ext cx="11412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14480" y="3048120"/>
            <a:ext cx="662436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15920" y="190440"/>
            <a:ext cx="6626160" cy="28526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09440" y="8521560"/>
            <a:ext cx="6624720" cy="41292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14480" y="203040"/>
            <a:ext cx="6624360" cy="873000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14480" y="3251160"/>
            <a:ext cx="66243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3200400" y="2820960"/>
            <a:ext cx="457200" cy="812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3271680" y="2946240"/>
            <a:ext cx="314640" cy="56052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228240" y="8547120"/>
            <a:ext cx="26859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4343400" y="8540640"/>
            <a:ext cx="22845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3257640" y="2932200"/>
            <a:ext cx="342720" cy="588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C8965-F4CF-4A86-9D6A-895B014ACB87}" type="slidenum">
              <a:rPr b="0" lang="ru-RU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8940960"/>
            <a:ext cx="6858000" cy="20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6858000" cy="18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1448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6743880" y="0"/>
            <a:ext cx="11412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12680" y="8518680"/>
            <a:ext cx="6624720" cy="412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14480" y="208080"/>
            <a:ext cx="6624360" cy="872784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14480" y="1701720"/>
            <a:ext cx="66243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3200400" y="1274760"/>
            <a:ext cx="457200" cy="812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3271680" y="1400040"/>
            <a:ext cx="314640" cy="56196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3422520" y="2099880"/>
            <a:ext cx="6480" cy="6426360"/>
          </a:xfrm>
          <a:prstGeom prst="line">
            <a:avLst/>
          </a:prstGeom>
          <a:ln w="9360">
            <a:solidFill>
              <a:srgbClr val="04617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4343400" y="8547120"/>
            <a:ext cx="22845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228240" y="8547120"/>
            <a:ext cx="26859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3257640" y="1387440"/>
            <a:ext cx="342720" cy="587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84C17-988C-4D90-940A-0038722D9277}" type="slidenum">
              <a:rPr b="0" lang="ru-RU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3429000" y="2933280"/>
            <a:ext cx="0" cy="5583240"/>
          </a:xfrm>
          <a:prstGeom prst="line">
            <a:avLst/>
          </a:prstGeom>
          <a:ln w="9360">
            <a:solidFill>
              <a:srgbClr val="04617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6858000" cy="19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8940960"/>
            <a:ext cx="6858000" cy="20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1448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6743880" y="0"/>
            <a:ext cx="11412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14480" y="1828800"/>
            <a:ext cx="6624360" cy="121932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09440" y="8521560"/>
            <a:ext cx="6624720" cy="4143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14480" y="1706400"/>
            <a:ext cx="66243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14480" y="208080"/>
            <a:ext cx="6624360" cy="872784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3200400" y="1274760"/>
            <a:ext cx="457200" cy="812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3271680" y="1400040"/>
            <a:ext cx="314640" cy="56196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4343400" y="8540640"/>
            <a:ext cx="22845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228240" y="8547120"/>
            <a:ext cx="26859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3257640" y="1390680"/>
            <a:ext cx="342720" cy="587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470DB-8DD7-4F86-93C4-B072874708CC}" type="slidenum">
              <a:rPr b="0" lang="ru-RU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8940960"/>
            <a:ext cx="6858000" cy="20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6858000" cy="18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1448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6743880" y="0"/>
            <a:ext cx="11412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12680" y="8518680"/>
            <a:ext cx="6624720" cy="412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14480" y="208080"/>
            <a:ext cx="6624360" cy="872784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14480" y="1701720"/>
            <a:ext cx="66243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3200400" y="1274760"/>
            <a:ext cx="457200" cy="812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3271680" y="1400040"/>
            <a:ext cx="314640" cy="56196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4343400" y="8540640"/>
            <a:ext cx="22845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228240" y="8547120"/>
            <a:ext cx="26859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3257640" y="1380960"/>
            <a:ext cx="342720" cy="588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C30A6-3E69-4308-A98B-D7D119759F60}" type="slidenum">
              <a:rPr b="0" lang="ru-RU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8940960"/>
            <a:ext cx="6858000" cy="20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6858000" cy="20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6743880" y="0"/>
            <a:ext cx="11412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1448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09440" y="8521560"/>
            <a:ext cx="6624720" cy="41292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14480" y="210960"/>
            <a:ext cx="6624360" cy="873000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4343400" y="8540640"/>
            <a:ext cx="22845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228240" y="8547120"/>
            <a:ext cx="26859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3200400" y="8432640"/>
            <a:ext cx="457200" cy="588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F96CA-CF18-4C36-B77E-700FCC752F8E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14480" y="203040"/>
            <a:ext cx="6624360" cy="4064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8940960"/>
            <a:ext cx="6858000" cy="20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6743880" y="0"/>
            <a:ext cx="11412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6858000" cy="15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1448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14480" y="812880"/>
            <a:ext cx="2057400" cy="782316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14480" y="203040"/>
            <a:ext cx="6624360" cy="873000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14480" y="711360"/>
            <a:ext cx="66243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971640" y="304920"/>
            <a:ext cx="457200" cy="812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042920" y="430200"/>
            <a:ext cx="314280" cy="56196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12680" y="8518680"/>
            <a:ext cx="6624720" cy="412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028880" y="417240"/>
            <a:ext cx="342720" cy="587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0AB62-A5CB-4823-A57B-95F304FEC9FE}" type="slidenum">
              <a:rPr b="0" lang="ru-RU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4343400" y="8540640"/>
            <a:ext cx="22845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227160" y="8547120"/>
            <a:ext cx="25365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28.wmf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028520" y="1285920"/>
            <a:ext cx="480060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7e9632"/>
                </a:solidFill>
                <a:latin typeface="Times New Roman"/>
                <a:ea typeface="Times New Roman"/>
              </a:rPr>
              <a:t>ЦЕЛЬ ИГРЫ</a:t>
            </a:r>
            <a:r>
              <a:rPr b="1" lang="ru-RU" sz="16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: ПО ПОРЯДКУ СЛЕДОВАНИЯ СЛОВ -  КАРТИНОК (</a:t>
            </a:r>
            <a:r>
              <a:rPr b="1" i="1" lang="ru-RU" sz="1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СВЕРХУ ВНИЗ</a:t>
            </a:r>
            <a:r>
              <a:rPr b="1" lang="ru-RU" sz="16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) НАЙТИ ВО ВТОРОЙ КОЛОНКЕ СЛОВО, НАЧИНАЮЩЕЕСЯ  НА ГЛУХУЮ ПАРУ  ЗВУКА И КЛИКНУТЬ МЫШКОЙ ПО СТРЕЛКЕ РЯДОМ С КАРТИНКОЙ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571680" y="285840"/>
            <a:ext cx="582912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Найди соседа»</a:t>
            </a:r>
            <a:endParaRPr b="0" lang="en-US" sz="4200" spc="-1" strike="noStrike">
              <a:solidFill>
                <a:srgbClr val="08b7bf"/>
              </a:solidFill>
              <a:latin typeface="Georgia"/>
            </a:endParaRPr>
          </a:p>
        </p:txBody>
      </p:sp>
      <p:pic>
        <p:nvPicPr>
          <p:cNvPr id="608" name="Рисунок 3" descr="C:\Users\1\Desktop\Иллюстрации\Фото и сказ.герои\Фото и сказ.герои 007.jpg"/>
          <p:cNvPicPr/>
          <p:nvPr/>
        </p:nvPicPr>
        <p:blipFill>
          <a:blip r:embed="rId1"/>
          <a:stretch/>
        </p:blipFill>
        <p:spPr>
          <a:xfrm>
            <a:off x="1706400" y="3786120"/>
            <a:ext cx="346896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500040" y="928440"/>
            <a:ext cx="5857920" cy="764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Georgia"/>
              </a:rPr>
              <a:t>ЗВОНКИЕ - ГЛУХИЕ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title"/>
          </p:nvPr>
        </p:nvSpPr>
        <p:spPr>
          <a:xfrm>
            <a:off x="571680" y="285840"/>
            <a:ext cx="582912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f6fc6"/>
                </a:solidFill>
                <a:latin typeface="Georgia"/>
              </a:rPr>
              <a:t>Найди соседа</a:t>
            </a:r>
            <a:endParaRPr b="0" lang="en-US" sz="2400" spc="-1" strike="noStrike">
              <a:solidFill>
                <a:srgbClr val="08b7bf"/>
              </a:solidFill>
              <a:latin typeface="Georgia"/>
            </a:endParaRPr>
          </a:p>
        </p:txBody>
      </p:sp>
      <p:pic>
        <p:nvPicPr>
          <p:cNvPr id="611" name="Рисунок 3" descr="C:\Users\1\Desktop\Иллюстрации\Сканированные картинки\Предметные картинки - сканиров\Предметные картинки 001.jpg"/>
          <p:cNvPicPr/>
          <p:nvPr/>
        </p:nvPicPr>
        <p:blipFill>
          <a:blip r:embed="rId1"/>
          <a:stretch/>
        </p:blipFill>
        <p:spPr>
          <a:xfrm>
            <a:off x="642960" y="2071800"/>
            <a:ext cx="1643040" cy="1428480"/>
          </a:xfrm>
          <a:prstGeom prst="rect">
            <a:avLst/>
          </a:prstGeom>
          <a:ln w="0">
            <a:noFill/>
          </a:ln>
        </p:spPr>
      </p:pic>
      <p:pic>
        <p:nvPicPr>
          <p:cNvPr id="612" name="Рисунок 4" descr="C:\Users\1\Desktop\Иллюстрации\Сканированные картинки\Предметные картинки - сканиров\Предметные картинки 003.jpg"/>
          <p:cNvPicPr/>
          <p:nvPr/>
        </p:nvPicPr>
        <p:blipFill>
          <a:blip r:embed="rId2"/>
          <a:stretch/>
        </p:blipFill>
        <p:spPr>
          <a:xfrm>
            <a:off x="4643280" y="5786280"/>
            <a:ext cx="1357560" cy="1571760"/>
          </a:xfrm>
          <a:prstGeom prst="rect">
            <a:avLst/>
          </a:prstGeom>
          <a:ln w="0">
            <a:noFill/>
          </a:ln>
        </p:spPr>
      </p:pic>
      <p:pic>
        <p:nvPicPr>
          <p:cNvPr id="613" name="Рисунок 5" descr="C:\Users\1\Desktop\Иллюстрации\Сканированные картинки\Предметные картинки - сканиров\Предметные картинки 001.jpg"/>
          <p:cNvPicPr/>
          <p:nvPr/>
        </p:nvPicPr>
        <p:blipFill>
          <a:blip r:embed="rId3"/>
          <a:stretch/>
        </p:blipFill>
        <p:spPr>
          <a:xfrm>
            <a:off x="785880" y="3786120"/>
            <a:ext cx="1357200" cy="1571760"/>
          </a:xfrm>
          <a:prstGeom prst="rect">
            <a:avLst/>
          </a:prstGeom>
          <a:ln w="0">
            <a:noFill/>
          </a:ln>
        </p:spPr>
      </p:pic>
      <p:pic>
        <p:nvPicPr>
          <p:cNvPr id="614" name="Рисунок 6" descr="C:\Users\1\Desktop\Иллюстрации\Сканированные картинки\Предметные картинки - сканиров\Предметные картинки 003.jpg"/>
          <p:cNvPicPr/>
          <p:nvPr/>
        </p:nvPicPr>
        <p:blipFill>
          <a:blip r:embed="rId4"/>
          <a:stretch/>
        </p:blipFill>
        <p:spPr>
          <a:xfrm>
            <a:off x="4786200" y="757224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615" name="Рисунок 7" descr="C:\Users\1\Desktop\Иллюстрации\Сканированные картинки\Предметные картинки - сканиров\Предметные картинки 003.jpg"/>
          <p:cNvPicPr/>
          <p:nvPr/>
        </p:nvPicPr>
        <p:blipFill>
          <a:blip r:embed="rId5"/>
          <a:stretch/>
        </p:blipFill>
        <p:spPr>
          <a:xfrm>
            <a:off x="4653000" y="2124000"/>
            <a:ext cx="1420920" cy="1641600"/>
          </a:xfrm>
          <a:prstGeom prst="rect">
            <a:avLst/>
          </a:prstGeom>
          <a:ln w="0">
            <a:noFill/>
          </a:ln>
        </p:spPr>
      </p:pic>
      <p:pic>
        <p:nvPicPr>
          <p:cNvPr id="616" name="Рисунок 8" descr="C:\Users\1\Desktop\Иллюстрации\Сканированные картинки\Предметные картинки - сканиров\Предметные картинки 004.jpg"/>
          <p:cNvPicPr/>
          <p:nvPr/>
        </p:nvPicPr>
        <p:blipFill>
          <a:blip r:embed="rId6"/>
          <a:stretch/>
        </p:blipFill>
        <p:spPr>
          <a:xfrm>
            <a:off x="714240" y="5715000"/>
            <a:ext cx="1419480" cy="1617840"/>
          </a:xfrm>
          <a:prstGeom prst="rect">
            <a:avLst/>
          </a:prstGeom>
          <a:ln w="0">
            <a:noFill/>
          </a:ln>
        </p:spPr>
      </p:pic>
      <p:pic>
        <p:nvPicPr>
          <p:cNvPr id="617" name="Рисунок 9" descr="C:\Users\1\Desktop\Иллюстрации\Сканированные картинки\Предметные картинки - сканиров\Предметные картинки.jpg"/>
          <p:cNvPicPr/>
          <p:nvPr/>
        </p:nvPicPr>
        <p:blipFill>
          <a:blip r:embed="rId7"/>
          <a:stretch/>
        </p:blipFill>
        <p:spPr>
          <a:xfrm>
            <a:off x="4724280" y="4146480"/>
            <a:ext cx="1419480" cy="1354320"/>
          </a:xfrm>
          <a:prstGeom prst="rect">
            <a:avLst/>
          </a:prstGeom>
          <a:ln w="0">
            <a:noFill/>
          </a:ln>
        </p:spPr>
      </p:pic>
      <p:pic>
        <p:nvPicPr>
          <p:cNvPr id="618" name="Рисунок 10" descr="C:\Users\1\Desktop\Иллюстрации\Сканированные картинки\Предметные картинки - сканиров\Предметные картинки 005.jpg"/>
          <p:cNvPicPr/>
          <p:nvPr/>
        </p:nvPicPr>
        <p:blipFill>
          <a:blip r:embed="rId8"/>
          <a:stretch/>
        </p:blipFill>
        <p:spPr>
          <a:xfrm>
            <a:off x="714240" y="7574040"/>
            <a:ext cx="1451160" cy="156996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2" descr="C:\Users\1\Desktop\зимние чудеса\Swinging_Bell_With_Holly[1].gif"/>
          <p:cNvPicPr/>
          <p:nvPr/>
        </p:nvPicPr>
        <p:blipFill>
          <a:blip r:embed="rId9"/>
          <a:stretch/>
        </p:blipFill>
        <p:spPr>
          <a:xfrm>
            <a:off x="785880" y="714240"/>
            <a:ext cx="1057320" cy="118116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2" descr="C:\Users\1\Desktop\зимние чудеса\Swinging_Bell_With_Holly[1].gif"/>
          <p:cNvPicPr/>
          <p:nvPr/>
        </p:nvPicPr>
        <p:blipFill>
          <a:blip r:embed="rId10"/>
          <a:stretch/>
        </p:blipFill>
        <p:spPr>
          <a:xfrm>
            <a:off x="4643280" y="714240"/>
            <a:ext cx="1057320" cy="1181160"/>
          </a:xfrm>
          <a:prstGeom prst="rect">
            <a:avLst/>
          </a:prstGeom>
          <a:ln w="0">
            <a:noFill/>
          </a:ln>
        </p:spPr>
      </p:pic>
      <p:sp>
        <p:nvSpPr>
          <p:cNvPr id="621" name="Прямая соединительная линия 14"/>
          <p:cNvSpPr/>
          <p:nvPr/>
        </p:nvSpPr>
        <p:spPr>
          <a:xfrm>
            <a:off x="4786200" y="928800"/>
            <a:ext cx="914400" cy="914400"/>
          </a:xfrm>
          <a:prstGeom prst="line">
            <a:avLst/>
          </a:prstGeom>
          <a:ln w="7632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Стрелка вправо 15"/>
          <p:cNvSpPr/>
          <p:nvPr/>
        </p:nvSpPr>
        <p:spPr>
          <a:xfrm>
            <a:off x="2286000" y="2357280"/>
            <a:ext cx="642960" cy="357480"/>
          </a:xfrm>
          <a:prstGeom prst="rightArrow">
            <a:avLst>
              <a:gd name="adj1" fmla="val 50000"/>
              <a:gd name="adj2" fmla="val 49961"/>
            </a:avLst>
          </a:prstGeom>
          <a:solidFill>
            <a:srgbClr val="0f6fc6"/>
          </a:solidFill>
          <a:ln w="11520">
            <a:solidFill>
              <a:srgbClr val="08509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Стрелка вправо 16"/>
          <p:cNvSpPr/>
          <p:nvPr/>
        </p:nvSpPr>
        <p:spPr>
          <a:xfrm>
            <a:off x="2143080" y="4286160"/>
            <a:ext cx="642960" cy="35712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92d050"/>
          </a:solidFill>
          <a:ln w="11520">
            <a:solidFill>
              <a:srgbClr val="08509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Стрелка вправо 17"/>
          <p:cNvSpPr/>
          <p:nvPr/>
        </p:nvSpPr>
        <p:spPr>
          <a:xfrm>
            <a:off x="2143080" y="6215040"/>
            <a:ext cx="642960" cy="35712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ffff00"/>
          </a:solidFill>
          <a:ln w="11520">
            <a:solidFill>
              <a:srgbClr val="08509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Стрелка вправо 18"/>
          <p:cNvSpPr/>
          <p:nvPr/>
        </p:nvSpPr>
        <p:spPr>
          <a:xfrm>
            <a:off x="2214720" y="8072280"/>
            <a:ext cx="642960" cy="357480"/>
          </a:xfrm>
          <a:prstGeom prst="rightArrow">
            <a:avLst>
              <a:gd name="adj1" fmla="val 50000"/>
              <a:gd name="adj2" fmla="val 49961"/>
            </a:avLst>
          </a:prstGeom>
          <a:solidFill>
            <a:srgbClr val="ff0000"/>
          </a:solidFill>
          <a:ln w="11520">
            <a:solidFill>
              <a:srgbClr val="08509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Прямая соединительная линия 20"/>
          <p:cNvSpPr/>
          <p:nvPr/>
        </p:nvSpPr>
        <p:spPr>
          <a:xfrm>
            <a:off x="4786200" y="1000080"/>
            <a:ext cx="857520" cy="785880"/>
          </a:xfrm>
          <a:prstGeom prst="line">
            <a:avLst/>
          </a:prstGeom>
          <a:ln w="7632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Записанный звук" descr=""/>
          <p:cNvPicPr/>
          <p:nvPr/>
        </p:nvPicPr>
        <p:blipFill>
          <a:blip r:embed="rId11"/>
          <a:stretch/>
        </p:blipFill>
        <p:spPr>
          <a:xfrm>
            <a:off x="3276720" y="4419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6213 0.42534 E">
                                      <p:cBhvr>
                                        <p:cTn id="6" dur="2000" fill="hold"/>
                                        <p:tgtEl>
                                          <p:spTgt spid="6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9.8012E-007 -4.44444E-006 L 0.28733 0.38976 E">
                                      <p:cBhvr>
                                        <p:cTn id="10" dur="2000" fill="hold"/>
                                        <p:tgtEl>
                                          <p:spTgt spid="6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08507E-006 6.94444E-006 L 0.25151 -0.35434 E">
                                      <p:cBhvr>
                                        <p:cTn id="14" dur="2000" fill="hold"/>
                                        <p:tgtEl>
                                          <p:spTgt spid="6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91493E-006 -5.55556E-006 L 0.25174 -0.37796 E">
                                      <p:cBhvr>
                                        <p:cTn id="18" dur="2000" fill="hold"/>
                                        <p:tgtEl>
                                          <p:spTgt spid="6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627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627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9871" fill="hold"/>
                                        <p:tgtEl>
                                          <p:spTgt spid="6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Picture 2" descr="C:\Users\1\Desktop\зимние чудеса\Swinging_Bell_With_Holly[1].gif"/>
          <p:cNvPicPr/>
          <p:nvPr/>
        </p:nvPicPr>
        <p:blipFill>
          <a:blip r:embed="rId1"/>
          <a:stretch/>
        </p:blipFill>
        <p:spPr>
          <a:xfrm>
            <a:off x="500040" y="428760"/>
            <a:ext cx="1057320" cy="118080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2" descr="C:\Users\1\Desktop\зимние чудеса\Swinging_Bell_With_Holly[1].gif"/>
          <p:cNvPicPr/>
          <p:nvPr/>
        </p:nvPicPr>
        <p:blipFill>
          <a:blip r:embed="rId2"/>
          <a:stretch/>
        </p:blipFill>
        <p:spPr>
          <a:xfrm>
            <a:off x="5072040" y="428760"/>
            <a:ext cx="1057320" cy="1180800"/>
          </a:xfrm>
          <a:prstGeom prst="rect">
            <a:avLst/>
          </a:prstGeom>
          <a:ln w="0">
            <a:noFill/>
          </a:ln>
        </p:spPr>
      </p:pic>
      <p:sp>
        <p:nvSpPr>
          <p:cNvPr id="630" name="Прямая соединительная линия 8"/>
          <p:cNvSpPr/>
          <p:nvPr/>
        </p:nvSpPr>
        <p:spPr>
          <a:xfrm>
            <a:off x="5286240" y="785880"/>
            <a:ext cx="857520" cy="785880"/>
          </a:xfrm>
          <a:prstGeom prst="line">
            <a:avLst/>
          </a:prstGeom>
          <a:ln w="7632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Содержимое 9" descr="C:\Users\1\Desktop\Иллюстрации\Сканированные картинки\Предметные картинки - сканиров\Предметные картинки 001.jpg"/>
          <p:cNvPicPr/>
          <p:nvPr/>
        </p:nvPicPr>
        <p:blipFill>
          <a:blip r:embed="rId3"/>
          <a:stretch/>
        </p:blipFill>
        <p:spPr>
          <a:xfrm>
            <a:off x="404640" y="2050920"/>
            <a:ext cx="1167120" cy="130680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4" descr="35 mm camera 3"/>
          <p:cNvPicPr/>
          <p:nvPr/>
        </p:nvPicPr>
        <p:blipFill>
          <a:blip r:embed="rId4"/>
          <a:stretch/>
        </p:blipFill>
        <p:spPr>
          <a:xfrm>
            <a:off x="5229360" y="5681520"/>
            <a:ext cx="1299960" cy="113220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6" descr="birdhouse 4"/>
          <p:cNvPicPr/>
          <p:nvPr/>
        </p:nvPicPr>
        <p:blipFill>
          <a:blip r:embed="rId5"/>
          <a:stretch/>
        </p:blipFill>
        <p:spPr>
          <a:xfrm>
            <a:off x="357120" y="3643200"/>
            <a:ext cx="1559160" cy="165744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black forest cake 2"/>
          <p:cNvPicPr/>
          <p:nvPr/>
        </p:nvPicPr>
        <p:blipFill>
          <a:blip r:embed="rId6"/>
          <a:stretch/>
        </p:blipFill>
        <p:spPr>
          <a:xfrm>
            <a:off x="5157720" y="1979640"/>
            <a:ext cx="1420920" cy="99360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8" descr="acoustic guitar 6"/>
          <p:cNvPicPr/>
          <p:nvPr/>
        </p:nvPicPr>
        <p:blipFill>
          <a:blip r:embed="rId7"/>
          <a:stretch/>
        </p:blipFill>
        <p:spPr>
          <a:xfrm rot="2172600">
            <a:off x="948960" y="5276520"/>
            <a:ext cx="927000" cy="2063880"/>
          </a:xfrm>
          <a:prstGeom prst="rect">
            <a:avLst/>
          </a:prstGeom>
          <a:ln w="0">
            <a:noFill/>
          </a:ln>
        </p:spPr>
      </p:pic>
      <p:pic>
        <p:nvPicPr>
          <p:cNvPr id="636" name="Рисунок 14" descr="C:\Users\1\Desktop\Иллюстрации\Фото и сказ.герои\Фото и сказ.герои 002.jpg"/>
          <p:cNvPicPr/>
          <p:nvPr/>
        </p:nvPicPr>
        <p:blipFill>
          <a:blip r:embed="rId8"/>
          <a:stretch/>
        </p:blipFill>
        <p:spPr>
          <a:xfrm>
            <a:off x="5143680" y="7358040"/>
            <a:ext cx="1143000" cy="1285920"/>
          </a:xfrm>
          <a:prstGeom prst="rect">
            <a:avLst/>
          </a:prstGeom>
          <a:ln w="0">
            <a:noFill/>
          </a:ln>
        </p:spPr>
      </p:pic>
      <p:sp>
        <p:nvSpPr>
          <p:cNvPr id="637" name="Стрелка вправо 14"/>
          <p:cNvSpPr/>
          <p:nvPr/>
        </p:nvSpPr>
        <p:spPr>
          <a:xfrm>
            <a:off x="1571760" y="2214720"/>
            <a:ext cx="642960" cy="285480"/>
          </a:xfrm>
          <a:prstGeom prst="rightArrow">
            <a:avLst>
              <a:gd name="adj1" fmla="val 50000"/>
              <a:gd name="adj2" fmla="val 50049"/>
            </a:avLst>
          </a:prstGeom>
          <a:solidFill>
            <a:srgbClr val="ff0000"/>
          </a:solidFill>
          <a:ln w="11520">
            <a:solidFill>
              <a:srgbClr val="08509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Стрелка вправо 15"/>
          <p:cNvSpPr/>
          <p:nvPr/>
        </p:nvSpPr>
        <p:spPr>
          <a:xfrm>
            <a:off x="1928880" y="4143240"/>
            <a:ext cx="642960" cy="28584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92d050"/>
          </a:solidFill>
          <a:ln w="11520">
            <a:solidFill>
              <a:srgbClr val="08509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Стрелка вправо 16"/>
          <p:cNvSpPr/>
          <p:nvPr/>
        </p:nvSpPr>
        <p:spPr>
          <a:xfrm>
            <a:off x="1785960" y="6357960"/>
            <a:ext cx="642960" cy="28584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11520">
            <a:solidFill>
              <a:srgbClr val="08509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Рисунок 17" descr="C:\Users\1\Desktop\Иллюстрации\Фото и сказ.герои\Фото и сказ.герои 002.jpg"/>
          <p:cNvPicPr/>
          <p:nvPr/>
        </p:nvPicPr>
        <p:blipFill>
          <a:blip r:embed="rId9"/>
          <a:stretch/>
        </p:blipFill>
        <p:spPr>
          <a:xfrm>
            <a:off x="620640" y="7527960"/>
            <a:ext cx="1285920" cy="1352520"/>
          </a:xfrm>
          <a:prstGeom prst="rect">
            <a:avLst/>
          </a:prstGeom>
          <a:ln w="0">
            <a:noFill/>
          </a:ln>
        </p:spPr>
      </p:pic>
      <p:pic>
        <p:nvPicPr>
          <p:cNvPr id="641" name="Рисунок 18" descr="C:\Users\1\Desktop\Иллюстрации\Фото и сказ.герои\Фото и сказ.герои 002.jpg"/>
          <p:cNvPicPr/>
          <p:nvPr/>
        </p:nvPicPr>
        <p:blipFill>
          <a:blip r:embed="rId10"/>
          <a:stretch/>
        </p:blipFill>
        <p:spPr>
          <a:xfrm>
            <a:off x="5214960" y="3500280"/>
            <a:ext cx="1428840" cy="1357560"/>
          </a:xfrm>
          <a:prstGeom prst="rect">
            <a:avLst/>
          </a:prstGeom>
          <a:ln w="0">
            <a:noFill/>
          </a:ln>
        </p:spPr>
      </p:pic>
      <p:sp>
        <p:nvSpPr>
          <p:cNvPr id="642" name="Стрелка вправо 19"/>
          <p:cNvSpPr/>
          <p:nvPr/>
        </p:nvSpPr>
        <p:spPr>
          <a:xfrm>
            <a:off x="1857240" y="7929720"/>
            <a:ext cx="642960" cy="285480"/>
          </a:xfrm>
          <a:prstGeom prst="rightArrow">
            <a:avLst>
              <a:gd name="adj1" fmla="val 50000"/>
              <a:gd name="adj2" fmla="val 50049"/>
            </a:avLst>
          </a:prstGeom>
          <a:solidFill>
            <a:srgbClr val="20c9f8"/>
          </a:solidFill>
          <a:ln w="11520">
            <a:solidFill>
              <a:srgbClr val="08509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Записанный звук" descr=""/>
          <p:cNvPicPr/>
          <p:nvPr/>
        </p:nvPicPr>
        <p:blipFill>
          <a:blip r:embed="rId11"/>
          <a:stretch/>
        </p:blipFill>
        <p:spPr>
          <a:xfrm>
            <a:off x="3276720" y="4419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9621E-006 7.22222E-006 L 0.40892 0.40174 E">
                                      <p:cBhvr>
                                        <p:cTn id="29" dur="2000" fill="hold"/>
                                        <p:tgtEl>
                                          <p:spTgt spid="6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9.07536E-006 3.61111E-006 L 0.36686 -0.18125 E">
                                      <p:cBhvr>
                                        <p:cTn id="33" dur="2000" fill="hold"/>
                                        <p:tgtEl>
                                          <p:spTgt spid="6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35784E-007 -6.11111E-006 L 0.39852 0.17326 E">
                                      <p:cBhvr>
                                        <p:cTn id="37" dur="2000" fill="hold"/>
                                        <p:tgtEl>
                                          <p:spTgt spid="6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35784E-007 5E-006 L 0.40892 -0.43316 E">
                                      <p:cBhvr>
                                        <p:cTn id="41" dur="2000" fill="hold"/>
                                        <p:tgtEl>
                                          <p:spTgt spid="6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643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643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19871" fill="hold"/>
                                        <p:tgtEl>
                                          <p:spTgt spid="6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8" descr="bicycle 10"/>
          <p:cNvPicPr/>
          <p:nvPr/>
        </p:nvPicPr>
        <p:blipFill>
          <a:blip r:embed="rId1"/>
          <a:stretch/>
        </p:blipFill>
        <p:spPr>
          <a:xfrm>
            <a:off x="357120" y="1785960"/>
            <a:ext cx="1897200" cy="114948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8" descr="artificial owl"/>
          <p:cNvPicPr/>
          <p:nvPr/>
        </p:nvPicPr>
        <p:blipFill>
          <a:blip r:embed="rId2"/>
          <a:stretch/>
        </p:blipFill>
        <p:spPr>
          <a:xfrm>
            <a:off x="5516640" y="3262320"/>
            <a:ext cx="841320" cy="1812960"/>
          </a:xfrm>
          <a:prstGeom prst="rect">
            <a:avLst/>
          </a:prstGeom>
          <a:ln w="0">
            <a:noFill/>
          </a:ln>
        </p:spPr>
      </p:pic>
      <p:pic>
        <p:nvPicPr>
          <p:cNvPr id="646" name="Рисунок 14" descr="C:\Users\1\Desktop\Иллюстрации\Фото и сказ.герои\Фото и сказ.герои 002.jpg"/>
          <p:cNvPicPr/>
          <p:nvPr/>
        </p:nvPicPr>
        <p:blipFill>
          <a:blip r:embed="rId3"/>
          <a:stretch/>
        </p:blipFill>
        <p:spPr>
          <a:xfrm>
            <a:off x="571680" y="7500960"/>
            <a:ext cx="1285560" cy="1214280"/>
          </a:xfrm>
          <a:prstGeom prst="rect">
            <a:avLst/>
          </a:prstGeom>
          <a:ln w="0">
            <a:noFill/>
          </a:ln>
        </p:spPr>
      </p:pic>
      <p:pic>
        <p:nvPicPr>
          <p:cNvPr id="647" name="Рисунок 17" descr="C:\Users\1\Desktop\Иллюстрации\Фото и сказ.герои\Фото и сказ.герои 002.jpg"/>
          <p:cNvPicPr/>
          <p:nvPr/>
        </p:nvPicPr>
        <p:blipFill>
          <a:blip r:embed="rId4"/>
          <a:stretch/>
        </p:blipFill>
        <p:spPr>
          <a:xfrm>
            <a:off x="5300640" y="5435640"/>
            <a:ext cx="1171440" cy="130176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2" descr="C:\Users\1\Desktop\зимние чудеса\Swinging_Bell_With_Holly[1].gif"/>
          <p:cNvPicPr/>
          <p:nvPr/>
        </p:nvPicPr>
        <p:blipFill>
          <a:blip r:embed="rId5"/>
          <a:stretch/>
        </p:blipFill>
        <p:spPr>
          <a:xfrm>
            <a:off x="500040" y="428760"/>
            <a:ext cx="1057320" cy="118080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2" descr="C:\Users\1\Desktop\зимние чудеса\Swinging_Bell_With_Holly[1].gif"/>
          <p:cNvPicPr/>
          <p:nvPr/>
        </p:nvPicPr>
        <p:blipFill>
          <a:blip r:embed="rId6"/>
          <a:stretch/>
        </p:blipFill>
        <p:spPr>
          <a:xfrm>
            <a:off x="5357880" y="285840"/>
            <a:ext cx="1057320" cy="1181160"/>
          </a:xfrm>
          <a:prstGeom prst="rect">
            <a:avLst/>
          </a:prstGeom>
          <a:ln w="0">
            <a:noFill/>
          </a:ln>
        </p:spPr>
      </p:pic>
      <p:sp>
        <p:nvSpPr>
          <p:cNvPr id="650" name="Прямая соединительная линия 10"/>
          <p:cNvSpPr/>
          <p:nvPr/>
        </p:nvSpPr>
        <p:spPr>
          <a:xfrm>
            <a:off x="5429160" y="428760"/>
            <a:ext cx="914400" cy="914400"/>
          </a:xfrm>
          <a:prstGeom prst="line">
            <a:avLst/>
          </a:prstGeom>
          <a:ln w="7632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Picture 10" descr="anea marthesia 2"/>
          <p:cNvPicPr/>
          <p:nvPr/>
        </p:nvPicPr>
        <p:blipFill>
          <a:blip r:embed="rId7"/>
          <a:stretch/>
        </p:blipFill>
        <p:spPr>
          <a:xfrm>
            <a:off x="357120" y="3286080"/>
            <a:ext cx="1631880" cy="123660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5" descr="artificial tomato"/>
          <p:cNvPicPr/>
          <p:nvPr/>
        </p:nvPicPr>
        <p:blipFill>
          <a:blip r:embed="rId8"/>
          <a:stretch/>
        </p:blipFill>
        <p:spPr>
          <a:xfrm>
            <a:off x="5300640" y="1908000"/>
            <a:ext cx="1247760" cy="108432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5" descr="balloons 6"/>
          <p:cNvPicPr/>
          <p:nvPr/>
        </p:nvPicPr>
        <p:blipFill>
          <a:blip r:embed="rId9"/>
          <a:srcRect l="0" t="0" r="0" b="36416"/>
          <a:stretch/>
        </p:blipFill>
        <p:spPr>
          <a:xfrm rot="1965000">
            <a:off x="5140080" y="7165440"/>
            <a:ext cx="1047600" cy="183996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4" descr="giraffe 2"/>
          <p:cNvPicPr/>
          <p:nvPr/>
        </p:nvPicPr>
        <p:blipFill>
          <a:blip r:embed="rId10"/>
          <a:stretch/>
        </p:blipFill>
        <p:spPr>
          <a:xfrm>
            <a:off x="460440" y="4788000"/>
            <a:ext cx="15285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211 -0.00226 L 0.50856 0.17882 E">
                                      <p:cBhvr>
                                        <p:cTn id="52" dur="2000" fill="hold"/>
                                        <p:tgtEl>
                                          <p:spTgt spid="6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869 0.00347 L 0.40083 -0.17761 E">
                                      <p:cBhvr>
                                        <p:cTn id="56" dur="2000" fill="hold"/>
                                        <p:tgtEl>
                                          <p:spTgt spid="6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193 0.00017 L 0.41447 0.22066 E">
                                      <p:cBhvr>
                                        <p:cTn id="60" dur="2000" fill="hold"/>
                                        <p:tgtEl>
                                          <p:spTgt spid="6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321 -0.00868 L 0.52173 -0.22916 E">
                                      <p:cBhvr>
                                        <p:cTn id="64" dur="2000" fill="hold"/>
                                        <p:tgtEl>
                                          <p:spTgt spid="6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Picture 2" descr="C:\Users\1\Desktop\зимние чудеса\Swinging_Bell_With_Holly[1].gif"/>
          <p:cNvPicPr/>
          <p:nvPr/>
        </p:nvPicPr>
        <p:blipFill>
          <a:blip r:embed="rId1"/>
          <a:stretch/>
        </p:blipFill>
        <p:spPr>
          <a:xfrm>
            <a:off x="500040" y="428760"/>
            <a:ext cx="1057320" cy="118080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2" descr="C:\Users\1\Desktop\зимние чудеса\Swinging_Bell_With_Holly[1].gif"/>
          <p:cNvPicPr/>
          <p:nvPr/>
        </p:nvPicPr>
        <p:blipFill>
          <a:blip r:embed="rId2"/>
          <a:stretch/>
        </p:blipFill>
        <p:spPr>
          <a:xfrm>
            <a:off x="5143680" y="428760"/>
            <a:ext cx="1056960" cy="1180800"/>
          </a:xfrm>
          <a:prstGeom prst="rect">
            <a:avLst/>
          </a:prstGeom>
          <a:ln w="0">
            <a:noFill/>
          </a:ln>
        </p:spPr>
      </p:pic>
      <p:sp>
        <p:nvSpPr>
          <p:cNvPr id="657" name="Прямая соединительная линия 8"/>
          <p:cNvSpPr/>
          <p:nvPr/>
        </p:nvSpPr>
        <p:spPr>
          <a:xfrm>
            <a:off x="5214960" y="714240"/>
            <a:ext cx="914400" cy="914400"/>
          </a:xfrm>
          <a:prstGeom prst="line">
            <a:avLst/>
          </a:prstGeom>
          <a:ln w="7632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Picture 38" descr=""/>
          <p:cNvPicPr/>
          <p:nvPr/>
        </p:nvPicPr>
        <p:blipFill>
          <a:blip r:embed="rId3"/>
          <a:stretch/>
        </p:blipFill>
        <p:spPr>
          <a:xfrm>
            <a:off x="5214960" y="3786120"/>
            <a:ext cx="1285920" cy="149400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12" descr="замок"/>
          <p:cNvPicPr/>
          <p:nvPr/>
        </p:nvPicPr>
        <p:blipFill>
          <a:blip r:embed="rId4"/>
          <a:stretch/>
        </p:blipFill>
        <p:spPr>
          <a:xfrm>
            <a:off x="500040" y="1857240"/>
            <a:ext cx="1200240" cy="170496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7" descr="капуста"/>
          <p:cNvPicPr/>
          <p:nvPr/>
        </p:nvPicPr>
        <p:blipFill>
          <a:blip r:embed="rId5">
            <a:lum contrast="6000"/>
          </a:blip>
          <a:stretch/>
        </p:blipFill>
        <p:spPr>
          <a:xfrm>
            <a:off x="4786200" y="7358040"/>
            <a:ext cx="1638360" cy="129528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5" descr="гриб"/>
          <p:cNvPicPr/>
          <p:nvPr/>
        </p:nvPicPr>
        <p:blipFill>
          <a:blip r:embed="rId6"/>
          <a:stretch/>
        </p:blipFill>
        <p:spPr>
          <a:xfrm>
            <a:off x="571680" y="3571920"/>
            <a:ext cx="1139760" cy="142884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11" descr="шкаф"/>
          <p:cNvPicPr/>
          <p:nvPr/>
        </p:nvPicPr>
        <p:blipFill>
          <a:blip r:embed="rId7"/>
          <a:stretch/>
        </p:blipFill>
        <p:spPr>
          <a:xfrm>
            <a:off x="5214960" y="1857240"/>
            <a:ext cx="1309680" cy="19576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28" descr="ziraf1"/>
          <p:cNvPicPr/>
          <p:nvPr/>
        </p:nvPicPr>
        <p:blipFill>
          <a:blip r:embed="rId8"/>
          <a:stretch/>
        </p:blipFill>
        <p:spPr>
          <a:xfrm>
            <a:off x="642960" y="5214960"/>
            <a:ext cx="1214280" cy="163980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12" descr="artificial bananas 3"/>
          <p:cNvPicPr/>
          <p:nvPr/>
        </p:nvPicPr>
        <p:blipFill>
          <a:blip r:embed="rId9"/>
          <a:stretch/>
        </p:blipFill>
        <p:spPr>
          <a:xfrm>
            <a:off x="357120" y="7358040"/>
            <a:ext cx="1663920" cy="100008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7" descr="canary 2"/>
          <p:cNvPicPr/>
          <p:nvPr/>
        </p:nvPicPr>
        <p:blipFill>
          <a:blip r:embed="rId10"/>
          <a:stretch/>
        </p:blipFill>
        <p:spPr>
          <a:xfrm>
            <a:off x="4929120" y="5429160"/>
            <a:ext cx="1586160" cy="13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17799E-007 -5.83333E-006 L 0.52427 0.18888 E">
                                      <p:cBhvr>
                                        <p:cTn id="70" dur="2000" fill="hold"/>
                                        <p:tgtEl>
                                          <p:spTgt spid="6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2275E-006 2.22222E-006 L 0.44036 0.40156 E">
                                      <p:cBhvr>
                                        <p:cTn id="74" dur="2000" fill="hold"/>
                                        <p:tgtEl>
                                          <p:spTgt spid="6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772 -0.00243 L 0.48521 -0.33316 E">
                                      <p:cBhvr>
                                        <p:cTn id="78" dur="2000" fill="hold"/>
                                        <p:tgtEl>
                                          <p:spTgt spid="6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754 -0.00503 L 0.46255 -0.1783 E">
                                      <p:cBhvr>
                                        <p:cTn id="82" dur="2000" fill="hold"/>
                                        <p:tgtEl>
                                          <p:spTgt spid="6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7T05:28:05Z</dcterms:created>
  <dc:creator>1</dc:creator>
  <dc:description/>
  <dc:language>en-US</dc:language>
  <cp:lastModifiedBy>Аюпова</cp:lastModifiedBy>
  <dcterms:modified xsi:type="dcterms:W3CDTF">2013-03-11T14:59:27Z</dcterms:modified>
  <cp:revision>12</cp:revision>
  <dc:subject/>
  <dc:title>Найди соседа</dc:title>
</cp:coreProperties>
</file>