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7E5-41EF-46A3-A339-19CB948B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3DC-EA4C-49D0-87E6-5B6CECB8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8550C-E0C1-4EAA-8DC3-32C30D25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311A8-59BC-4AF2-8887-71674615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EB36D-8C6D-4403-847B-5F4F0139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82585-5725-4C78-9683-8A657E2E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85957-DCCC-4DA3-8E36-D6691D3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CBEA2-38D5-4AE3-9C24-69D2459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06A56-BF3F-4532-B99C-4CFA8948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0F938-B882-426F-A6A5-ADEC95EC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B217A-18AC-4CB3-B8A6-5AB5839F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525CA-7F9C-4C9F-AB95-C70B40DD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B78-18A6-446F-8715-C7F3942F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A1B1E-8DD0-450C-B6B1-20EF0C38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B1521-AEA3-4413-AE40-EBBC7C6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17D7E-E1E0-4F98-AC83-248CB083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F5378-B311-4674-AB6A-734F4F1B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FE263-D6FD-4F54-9B3C-06E7DE89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37746-0BC1-418D-9784-F4E622B7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B3B80-0A02-453D-BA2F-BB357033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134B7-8208-4A4C-B3E2-EF8A6BB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8D9E8-CDCE-4B4D-92FF-78C953A5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63E25-F56F-4E2A-86AC-7A35654B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B31-0834-4E5B-8CC4-0CA763BA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C7F3A-D724-4188-B806-68CFE59D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27684-8E07-4BD9-9DE8-37BE5917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5F5BC-3DE1-49C5-AFF8-B0108FA5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2121A-081D-4810-9F7E-73E0855C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DD1B5-22A8-4D28-972A-82697BBE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CC905-0937-4E39-812D-3993CB18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419E5-B910-4972-89B3-19D5872F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6D19A-2B36-423A-8DBC-F8481A82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15E72-8287-49C7-A44D-861DCBBD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F24C8-183D-442B-88A1-CA31B8D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C51D-0693-412F-BC50-41C64101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9778D-75DF-4344-87A0-D98CD0FF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45C6-77E9-4693-B9E4-8ED4117D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7CE66-ACB7-45A6-B663-E1BD43DA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87CE9-0846-435C-9081-FDD74DF9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3A06C-678B-460B-A161-E43617B4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7C9D8-0EC7-4DEC-B0D8-723ED3A5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98CEB-778A-4234-AF24-A9D2E13C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3ED4B-3D2D-47CF-A430-487D9C30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B96D8-5083-4EF7-B81F-52856F84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24EC6-D7CA-474F-9238-68C5F8B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D648-6CDB-47CA-8912-AA551778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38FE6-EA4E-4F9D-AF54-4AD1F6B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33470-01E8-4247-A38A-2945D2F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6198D-F403-42CB-909C-8A449399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48616-6ECE-4653-9929-585FD9F7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A4133-F63E-499A-ADB7-52805B00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18A8-3203-4561-9537-CD34664B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7F3E-FD9C-425B-A1C5-CF5C4E64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0B57-D596-4625-8BF6-0B47412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5B72-B9CA-42C2-9BEF-D7ADB341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321F-B58F-41A0-BE59-0B46DA21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8D3-C490-4303-92F0-BE0FDEC7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BAAF-9F84-4D54-854B-7553867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9B8F-2889-4300-BC1F-7C42F89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A0FD-EDDB-4806-872D-37488B3E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884-6A06-4C2E-85C7-FD5427EE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31CB-D3F4-498F-BFE6-24C0E406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138E-D404-4D11-A054-9C572A30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231A-F793-4396-A673-263F16AF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4B2D-9573-4B71-92DD-048F7E39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497C-7BCD-4EA2-AF67-B3FC404B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4E32-7752-4C22-831C-C840D424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70F-2F62-4F13-8930-AD1A041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DF57-B0EA-48B2-A2CF-E3D93465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AAD9-B96C-4EAB-B0DE-2F689CC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77D4-A407-4DE7-BFFC-85C8EE9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9383-2743-46E6-94B3-C283354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3EA9-C347-4BC7-80EB-EFE1A54F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A714-95CB-4B10-9FB5-1C7C95EF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B38B-212C-435A-8A41-258E308A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D7B7-5400-4263-ADB6-E9446ED2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B846-0D13-4519-8DF1-05E365D8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D7F39-F144-4858-B1ED-F4E3CF80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FC6-8D1E-4AEC-9566-6F6F20AE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A80F-65AA-4C6A-B9D0-9C00BB30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1EBC-62D4-420A-84D7-CA974053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2034-B502-4244-A905-A6B845B1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88CB0-8B55-44E6-8B8C-D21BE35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2A32A-B9CC-4940-AA3D-EF177CF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8890A-5F79-42F2-8C4A-4A17593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3F80-F720-4896-92D8-05DE8C2A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0037-6971-48D9-9513-4AB643B1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3DAE-97F6-453D-9215-9393D137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A1059-649A-4015-8581-9038F34E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4FE-F469-48AC-822F-88CAB279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AC1C-98EB-42B5-8698-D04F5AFC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3E8A9-59A5-47C3-AF26-DD6460A8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64447-7AF1-49F6-B84D-9ABB8811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93070-D51E-4820-BE66-01453330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414B2-D9C5-482B-B7CD-17F591F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13B0B-E5C0-4C66-A34A-F366EF1C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BEBB-6F65-495C-B361-5C57F99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DAA4-CC15-4E1F-85CD-62CAB82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E3761-A761-4F36-8C20-EA599E6A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53BD-E82B-4937-A328-AF5B30D5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0FE-AF7B-46FE-9410-5FB61178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1138-FA10-4B2F-A922-78D0306B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C25C7-A366-4ADB-A9A9-00658592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FE9D-0501-4B28-BEB5-8E4F6E63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AF20C-C0A0-4117-B2BC-E529E89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6366-AA00-4B4D-B853-D47ED5E0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B16A-F629-4BB5-BFBA-50A1152A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DB81-123C-4E93-AC1C-7EDF24E7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53E86-1F3B-4ADA-A5EE-825A0B6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F4283-078B-4F6E-8A5E-CDBDEE1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53410-9367-43B0-959A-CE8CB64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D3F-B468-4989-A0E7-0A027BF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A708B-8DB7-4108-B768-F3EFBAC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6056A-2FED-42B0-92C7-B4EB179B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D76B7-1D4C-4028-9513-F7A312DF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AF3C-CF4F-431E-A2E2-55C84D5C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448B5-8CF0-4A69-B374-8E3AFD42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79971-5E61-463E-8570-81BF28B5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FC147-2D3A-471A-9F6B-8F2A61DF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94A3F-26A5-4537-9D80-714851D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1DE79-5C49-4BF6-8896-E2381282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066B2-9263-4B5D-B9EB-66F2D3BB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4C2-65D0-4315-B08E-9671533D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2ABB-8932-4069-ADCA-B12EB6F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E1E9B-B0BD-4CCC-BF3A-527B519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6E26A-4530-41D0-966C-3DC68FF9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4C03-F870-4B4E-BBCE-9BCD8AA6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7D301-7F03-4A04-98C9-A6A0FF79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8F7AF-97FE-40CB-B100-E12C6BB7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7CA6C-68D0-4A24-9D7F-4886C83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C4688-2F09-4C87-AD76-0D9CBD71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07655-0381-4D0E-992F-B59C04A2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2480C-82F3-43B3-B967-96EB11BE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5FA-0389-4F72-8847-A23FEB15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4A592-6ED1-4338-B087-DB12CA46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BE43-B4AE-4890-883E-232F0820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BCE5-226C-454A-86CF-E170BFF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08C40-36A5-4ACB-862E-39ECE9B3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1DB0A-2D61-4420-8495-93FB462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302FD-0AC6-4AA5-9470-48804EE5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37CBF-649F-4C2C-9680-436961F3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8E4D2-CAE9-4728-94A1-80972521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D3447-5D5C-4962-AD85-612EC15F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903A2-95ED-4C61-9753-20BEF0C6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EF2D-F683-4485-BDF6-C2BA5348B8EC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14480" y="711360"/>
            <a:ext cx="66243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14480" y="203040"/>
            <a:ext cx="6624360" cy="4017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14480" y="812880"/>
            <a:ext cx="2057400" cy="7823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971640" y="30492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042920" y="430200"/>
            <a:ext cx="31428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028880" y="417240"/>
            <a:ext cx="34272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AF64-74C9-4876-8163-7027F74E729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4341600" y="8540640"/>
            <a:ext cx="2282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226800" y="8547120"/>
            <a:ext cx="2687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E0DA-C606-453F-AE8B-5F3E7858F30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5257800" y="0"/>
            <a:ext cx="16002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685800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5357880" y="208080"/>
            <a:ext cx="0" cy="832644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5129280" y="390060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5200560" y="4027320"/>
            <a:ext cx="31608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5186520" y="401328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F2F8-B1C4-4BDC-9EB7-C8FABFE4D9E8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6743880" y="468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68580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15920" y="3227400"/>
            <a:ext cx="66261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3200400" y="28209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3271680" y="2946240"/>
            <a:ext cx="31464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3257640" y="293220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1D9A-1D64-442D-8B76-1E17D204EFBE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3271320" y="1368360"/>
            <a:ext cx="34308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137-F86F-4858-B73B-61E8024A05A4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6743880" y="2556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14480" y="3048120"/>
            <a:ext cx="662436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15920" y="190440"/>
            <a:ext cx="6626160" cy="2852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14480" y="3251160"/>
            <a:ext cx="66243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3200400" y="28209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3271680" y="2946240"/>
            <a:ext cx="31464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257640" y="293220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9394-9B18-4E88-8558-73B552713464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3422520" y="2099880"/>
            <a:ext cx="6480" cy="642636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343400" y="854712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B3A-E771-4FAC-A41F-492405A793C6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3429000" y="2933280"/>
            <a:ext cx="0" cy="558324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685800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14480" y="1828800"/>
            <a:ext cx="6624360" cy="12193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09440" y="8521560"/>
            <a:ext cx="6624720" cy="4143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14480" y="1706400"/>
            <a:ext cx="66243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28240" y="8547120"/>
            <a:ext cx="268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3257640" y="139068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018A-801F-4EE5-BF13-AF8C9FB7443B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3257640" y="138096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DA5-AF39-407C-B653-73268743AADE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685800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14480" y="210960"/>
            <a:ext cx="6624360" cy="873000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3200400" y="8432640"/>
            <a:ext cx="45720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1319-C9F8-4EF3-BCD2-B5C143355B4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14480" y="203040"/>
            <a:ext cx="6624360" cy="4064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68580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14480" y="812880"/>
            <a:ext cx="2057400" cy="7823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14480" y="711360"/>
            <a:ext cx="66243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971640" y="30492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042920" y="430200"/>
            <a:ext cx="31428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028880" y="417240"/>
            <a:ext cx="34272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E755-D29D-4E09-AA0E-6C9134507661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227160" y="8547120"/>
            <a:ext cx="2536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028520" y="1285920"/>
            <a:ext cx="4800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e9632"/>
                </a:solidFill>
                <a:latin typeface="Times New Roman"/>
                <a:ea typeface="Times New Roman"/>
              </a:rPr>
              <a:t>ЦЕЛЬ ИГРЫ</a:t>
            </a:r>
            <a:r>
              <a:rPr b="1" lang="ru-RU" sz="1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 ПО ПОРЯДКУ СЛЕДОВАНИЯ СЛОВ -  КАРТИНОК (</a:t>
            </a:r>
            <a:r>
              <a:rPr b="1" i="1" lang="ru-RU" sz="1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СВЕРХУ ВНИЗ</a:t>
            </a:r>
            <a:r>
              <a:rPr b="1" lang="ru-RU" sz="1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 НАЙТИ ВО ВТОРОЙ КОЛОНКЕ СЛОВО, НАЧИНАЮЩЕЕСЯ  НА ГЛУХУЮ ПАРУ  ЗВУКА И КЛИКНУТЬ МЫШКОЙ ПО СТРЕЛКЕ РЯДОМ С КАРТИНКО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571680" y="285840"/>
            <a:ext cx="58291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йди соседа»</a:t>
            </a:r>
            <a:endParaRPr b="0" lang="en-US" sz="42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08" name="Рисунок 3" descr="C:\Users\1\Desktop\Иллюстрации\Фото и сказ.герои\Фото и сказ.герои 007.jpg"/>
          <p:cNvPicPr/>
          <p:nvPr/>
        </p:nvPicPr>
        <p:blipFill>
          <a:blip r:embed="rId1"/>
          <a:stretch/>
        </p:blipFill>
        <p:spPr>
          <a:xfrm>
            <a:off x="1706400" y="3786120"/>
            <a:ext cx="3468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500040" y="928440"/>
            <a:ext cx="5857920" cy="76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ЗВОНКИЕ - ГЛУХ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571680" y="285840"/>
            <a:ext cx="58291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Georgia"/>
              </a:rPr>
              <a:t>Найди соседа</a:t>
            </a:r>
            <a:endParaRPr b="0" lang="en-US" sz="24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11" name="Рисунок 3" descr="C:\Users\1\Desktop\Иллюстрации\Сканированные картинки\Предметные картинки - сканиров\Предметные картинки 001.jpg"/>
          <p:cNvPicPr/>
          <p:nvPr/>
        </p:nvPicPr>
        <p:blipFill>
          <a:blip r:embed="rId1"/>
          <a:stretch/>
        </p:blipFill>
        <p:spPr>
          <a:xfrm>
            <a:off x="642960" y="2071800"/>
            <a:ext cx="1643040" cy="142848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4" descr="C:\Users\1\Desktop\Иллюстрации\Сканированные картинки\Предметные картинки - сканиров\Предметные картинки 003.jpg"/>
          <p:cNvPicPr/>
          <p:nvPr/>
        </p:nvPicPr>
        <p:blipFill>
          <a:blip r:embed="rId2"/>
          <a:stretch/>
        </p:blipFill>
        <p:spPr>
          <a:xfrm>
            <a:off x="4643280" y="5786280"/>
            <a:ext cx="1357560" cy="157176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5" descr="C:\Users\1\Desktop\Иллюстрации\Сканированные картинки\Предметные картинки - сканиров\Предметные картинки 001.jpg"/>
          <p:cNvPicPr/>
          <p:nvPr/>
        </p:nvPicPr>
        <p:blipFill>
          <a:blip r:embed="rId3"/>
          <a:stretch/>
        </p:blipFill>
        <p:spPr>
          <a:xfrm>
            <a:off x="785880" y="3786120"/>
            <a:ext cx="1357200" cy="157176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6" descr="C:\Users\1\Desktop\Иллюстрации\Сканированные картинки\Предметные картинки - сканиров\Предметные картинки 003.jpg"/>
          <p:cNvPicPr/>
          <p:nvPr/>
        </p:nvPicPr>
        <p:blipFill>
          <a:blip r:embed="rId4"/>
          <a:stretch/>
        </p:blipFill>
        <p:spPr>
          <a:xfrm>
            <a:off x="4786200" y="75722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7" descr="C:\Users\1\Desktop\Иллюстрации\Сканированные картинки\Предметные картинки - сканиров\Предметные картинки 003.jpg"/>
          <p:cNvPicPr/>
          <p:nvPr/>
        </p:nvPicPr>
        <p:blipFill>
          <a:blip r:embed="rId5"/>
          <a:stretch/>
        </p:blipFill>
        <p:spPr>
          <a:xfrm>
            <a:off x="4653000" y="2124000"/>
            <a:ext cx="1420920" cy="164160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8" descr="C:\Users\1\Desktop\Иллюстрации\Сканированные картинки\Предметные картинки - сканиров\Предметные картинки 004.jpg"/>
          <p:cNvPicPr/>
          <p:nvPr/>
        </p:nvPicPr>
        <p:blipFill>
          <a:blip r:embed="rId6"/>
          <a:stretch/>
        </p:blipFill>
        <p:spPr>
          <a:xfrm>
            <a:off x="714240" y="5715000"/>
            <a:ext cx="1419480" cy="16178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9" descr="C:\Users\1\Desktop\Иллюстрации\Сканированные картинки\Предметные картинки - сканиров\Предметные картинки.jpg"/>
          <p:cNvPicPr/>
          <p:nvPr/>
        </p:nvPicPr>
        <p:blipFill>
          <a:blip r:embed="rId7"/>
          <a:stretch/>
        </p:blipFill>
        <p:spPr>
          <a:xfrm>
            <a:off x="4724280" y="4146480"/>
            <a:ext cx="1419480" cy="13543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10" descr="C:\Users\1\Desktop\Иллюстрации\Сканированные картинки\Предметные картинки - сканиров\Предметные картинки 005.jpg"/>
          <p:cNvPicPr/>
          <p:nvPr/>
        </p:nvPicPr>
        <p:blipFill>
          <a:blip r:embed="rId8"/>
          <a:stretch/>
        </p:blipFill>
        <p:spPr>
          <a:xfrm>
            <a:off x="714240" y="7574040"/>
            <a:ext cx="1451160" cy="15699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C:\Users\1\Desktop\зимние чудеса\Swinging_Bell_With_Holly[1].gif"/>
          <p:cNvPicPr/>
          <p:nvPr/>
        </p:nvPicPr>
        <p:blipFill>
          <a:blip r:embed="rId9"/>
          <a:stretch/>
        </p:blipFill>
        <p:spPr>
          <a:xfrm>
            <a:off x="785880" y="71424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C:\Users\1\Desktop\зимние чудеса\Swinging_Bell_With_Holly[1].gif"/>
          <p:cNvPicPr/>
          <p:nvPr/>
        </p:nvPicPr>
        <p:blipFill>
          <a:blip r:embed="rId10"/>
          <a:stretch/>
        </p:blipFill>
        <p:spPr>
          <a:xfrm>
            <a:off x="4643280" y="71424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ая соединительная линия 14"/>
          <p:cNvSpPr/>
          <p:nvPr/>
        </p:nvSpPr>
        <p:spPr>
          <a:xfrm>
            <a:off x="4786200" y="928800"/>
            <a:ext cx="914400" cy="91440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Стрелка вправо 15"/>
          <p:cNvSpPr/>
          <p:nvPr/>
        </p:nvSpPr>
        <p:spPr>
          <a:xfrm>
            <a:off x="2286000" y="2357280"/>
            <a:ext cx="64296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0f6fc6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Стрелка вправо 16"/>
          <p:cNvSpPr/>
          <p:nvPr/>
        </p:nvSpPr>
        <p:spPr>
          <a:xfrm>
            <a:off x="2143080" y="428616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92d05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Стрелка вправо 17"/>
          <p:cNvSpPr/>
          <p:nvPr/>
        </p:nvSpPr>
        <p:spPr>
          <a:xfrm>
            <a:off x="2143080" y="621504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0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Стрелка вправо 18"/>
          <p:cNvSpPr/>
          <p:nvPr/>
        </p:nvSpPr>
        <p:spPr>
          <a:xfrm>
            <a:off x="2214720" y="8072280"/>
            <a:ext cx="64296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ая соединительная линия 20"/>
          <p:cNvSpPr/>
          <p:nvPr/>
        </p:nvSpPr>
        <p:spPr>
          <a:xfrm>
            <a:off x="4786200" y="1000080"/>
            <a:ext cx="857520" cy="78588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Записанный звук" descr=""/>
          <p:cNvPicPr/>
          <p:nvPr/>
        </p:nvPicPr>
        <p:blipFill>
          <a:blip r:embed="rId11"/>
          <a:stretch/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213 0.42534 E">
                                      <p:cBhvr>
                                        <p:cTn id="6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8012E-007 -4.44444E-006 L 0.28733 0.38976 E">
                                      <p:cBhvr>
                                        <p:cTn id="10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507E-006 6.94444E-006 L 0.25151 -0.35434 E">
                                      <p:cBhvr>
                                        <p:cTn id="14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91493E-006 -5.55556E-006 L 0.25174 -0.37796 E">
                                      <p:cBhvr>
                                        <p:cTn id="18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871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C:\Users\1\Desktop\зимние чудеса\Swinging_Bell_With_Holly[1].gif"/>
          <p:cNvPicPr/>
          <p:nvPr/>
        </p:nvPicPr>
        <p:blipFill>
          <a:blip r:embed="rId1"/>
          <a:stretch/>
        </p:blipFill>
        <p:spPr>
          <a:xfrm>
            <a:off x="500040" y="428760"/>
            <a:ext cx="1057320" cy="11808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C:\Users\1\Desktop\зимние чудеса\Swinging_Bell_With_Holly[1].gif"/>
          <p:cNvPicPr/>
          <p:nvPr/>
        </p:nvPicPr>
        <p:blipFill>
          <a:blip r:embed="rId2"/>
          <a:stretch/>
        </p:blipFill>
        <p:spPr>
          <a:xfrm>
            <a:off x="5072040" y="428760"/>
            <a:ext cx="1057320" cy="11808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ая соединительная линия 8"/>
          <p:cNvSpPr/>
          <p:nvPr/>
        </p:nvSpPr>
        <p:spPr>
          <a:xfrm>
            <a:off x="5286240" y="785880"/>
            <a:ext cx="857520" cy="78588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Содержимое 9" descr="C:\Users\1\Desktop\Иллюстрации\Сканированные картинки\Предметные картинки - сканиров\Предметные картинки 001.jpg"/>
          <p:cNvPicPr/>
          <p:nvPr/>
        </p:nvPicPr>
        <p:blipFill>
          <a:blip r:embed="rId3"/>
          <a:stretch/>
        </p:blipFill>
        <p:spPr>
          <a:xfrm>
            <a:off x="404640" y="2050920"/>
            <a:ext cx="1167120" cy="1306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35 mm camera 3"/>
          <p:cNvPicPr/>
          <p:nvPr/>
        </p:nvPicPr>
        <p:blipFill>
          <a:blip r:embed="rId4"/>
          <a:stretch/>
        </p:blipFill>
        <p:spPr>
          <a:xfrm>
            <a:off x="5229360" y="5681520"/>
            <a:ext cx="1299960" cy="1132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birdhouse 4"/>
          <p:cNvPicPr/>
          <p:nvPr/>
        </p:nvPicPr>
        <p:blipFill>
          <a:blip r:embed="rId5"/>
          <a:stretch/>
        </p:blipFill>
        <p:spPr>
          <a:xfrm>
            <a:off x="357120" y="3643200"/>
            <a:ext cx="1559160" cy="16574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black forest cake 2"/>
          <p:cNvPicPr/>
          <p:nvPr/>
        </p:nvPicPr>
        <p:blipFill>
          <a:blip r:embed="rId6"/>
          <a:stretch/>
        </p:blipFill>
        <p:spPr>
          <a:xfrm>
            <a:off x="5157720" y="1979640"/>
            <a:ext cx="1420920" cy="993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acoustic guitar 6"/>
          <p:cNvPicPr/>
          <p:nvPr/>
        </p:nvPicPr>
        <p:blipFill>
          <a:blip r:embed="rId7"/>
          <a:stretch/>
        </p:blipFill>
        <p:spPr>
          <a:xfrm rot="2172600">
            <a:off x="948960" y="5276520"/>
            <a:ext cx="927000" cy="206388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14" descr="C:\Users\1\Desktop\Иллюстрации\Фото и сказ.герои\Фото и сказ.герои 002.jpg"/>
          <p:cNvPicPr/>
          <p:nvPr/>
        </p:nvPicPr>
        <p:blipFill>
          <a:blip r:embed="rId8"/>
          <a:stretch/>
        </p:blipFill>
        <p:spPr>
          <a:xfrm>
            <a:off x="5143680" y="7358040"/>
            <a:ext cx="1143000" cy="1285920"/>
          </a:xfrm>
          <a:prstGeom prst="rect">
            <a:avLst/>
          </a:prstGeom>
          <a:ln w="0">
            <a:noFill/>
          </a:ln>
        </p:spPr>
      </p:pic>
      <p:sp>
        <p:nvSpPr>
          <p:cNvPr id="637" name="Стрелка вправо 14"/>
          <p:cNvSpPr/>
          <p:nvPr/>
        </p:nvSpPr>
        <p:spPr>
          <a:xfrm>
            <a:off x="1571760" y="2214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f000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трелка вправо 15"/>
          <p:cNvSpPr/>
          <p:nvPr/>
        </p:nvSpPr>
        <p:spPr>
          <a:xfrm>
            <a:off x="1928880" y="414324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2d05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Стрелка вправо 16"/>
          <p:cNvSpPr/>
          <p:nvPr/>
        </p:nvSpPr>
        <p:spPr>
          <a:xfrm>
            <a:off x="1785960" y="635796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Рисунок 17" descr="C:\Users\1\Desktop\Иллюстрации\Фото и сказ.герои\Фото и сказ.герои 002.jpg"/>
          <p:cNvPicPr/>
          <p:nvPr/>
        </p:nvPicPr>
        <p:blipFill>
          <a:blip r:embed="rId9"/>
          <a:stretch/>
        </p:blipFill>
        <p:spPr>
          <a:xfrm>
            <a:off x="620640" y="7527960"/>
            <a:ext cx="1285920" cy="135252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18" descr="C:\Users\1\Desktop\Иллюстрации\Фото и сказ.герои\Фото и сказ.герои 002.jpg"/>
          <p:cNvPicPr/>
          <p:nvPr/>
        </p:nvPicPr>
        <p:blipFill>
          <a:blip r:embed="rId10"/>
          <a:stretch/>
        </p:blipFill>
        <p:spPr>
          <a:xfrm>
            <a:off x="5214960" y="3500280"/>
            <a:ext cx="1428840" cy="1357560"/>
          </a:xfrm>
          <a:prstGeom prst="rect">
            <a:avLst/>
          </a:prstGeom>
          <a:ln w="0">
            <a:noFill/>
          </a:ln>
        </p:spPr>
      </p:pic>
      <p:sp>
        <p:nvSpPr>
          <p:cNvPr id="642" name="Стрелка вправо 19"/>
          <p:cNvSpPr/>
          <p:nvPr/>
        </p:nvSpPr>
        <p:spPr>
          <a:xfrm>
            <a:off x="1857240" y="7929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20c9f8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Записанный звук" descr=""/>
          <p:cNvPicPr/>
          <p:nvPr/>
        </p:nvPicPr>
        <p:blipFill>
          <a:blip r:embed="rId11"/>
          <a:stretch/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9621E-006 7.22222E-006 L 0.40892 0.40174 E">
                                      <p:cBhvr>
                                        <p:cTn id="29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07536E-006 3.61111E-006 L 0.36686 -0.18125 E">
                                      <p:cBhvr>
                                        <p:cTn id="33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5784E-007 -6.11111E-006 L 0.39852 0.17326 E">
                                      <p:cBhvr>
                                        <p:cTn id="37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5784E-007 5E-006 L 0.40892 -0.43316 E">
                                      <p:cBhvr>
                                        <p:cTn id="41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987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8" descr="bicycle 10"/>
          <p:cNvPicPr/>
          <p:nvPr/>
        </p:nvPicPr>
        <p:blipFill>
          <a:blip r:embed="rId1"/>
          <a:stretch/>
        </p:blipFill>
        <p:spPr>
          <a:xfrm>
            <a:off x="357120" y="1785960"/>
            <a:ext cx="1897200" cy="1149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artificial owl"/>
          <p:cNvPicPr/>
          <p:nvPr/>
        </p:nvPicPr>
        <p:blipFill>
          <a:blip r:embed="rId2"/>
          <a:stretch/>
        </p:blipFill>
        <p:spPr>
          <a:xfrm>
            <a:off x="5516640" y="3262320"/>
            <a:ext cx="841320" cy="181296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14" descr="C:\Users\1\Desktop\Иллюстрации\Фото и сказ.герои\Фото и сказ.герои 002.jpg"/>
          <p:cNvPicPr/>
          <p:nvPr/>
        </p:nvPicPr>
        <p:blipFill>
          <a:blip r:embed="rId3"/>
          <a:stretch/>
        </p:blipFill>
        <p:spPr>
          <a:xfrm>
            <a:off x="571680" y="7500960"/>
            <a:ext cx="1285560" cy="121428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17" descr="C:\Users\1\Desktop\Иллюстрации\Фото и сказ.герои\Фото и сказ.герои 002.jpg"/>
          <p:cNvPicPr/>
          <p:nvPr/>
        </p:nvPicPr>
        <p:blipFill>
          <a:blip r:embed="rId4"/>
          <a:stretch/>
        </p:blipFill>
        <p:spPr>
          <a:xfrm>
            <a:off x="5300640" y="5435640"/>
            <a:ext cx="1171440" cy="1301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C:\Users\1\Desktop\зимние чудеса\Swinging_Bell_With_Holly[1].gif"/>
          <p:cNvPicPr/>
          <p:nvPr/>
        </p:nvPicPr>
        <p:blipFill>
          <a:blip r:embed="rId5"/>
          <a:stretch/>
        </p:blipFill>
        <p:spPr>
          <a:xfrm>
            <a:off x="500040" y="428760"/>
            <a:ext cx="1057320" cy="11808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" descr="C:\Users\1\Desktop\зимние чудеса\Swinging_Bell_With_Holly[1].gif"/>
          <p:cNvPicPr/>
          <p:nvPr/>
        </p:nvPicPr>
        <p:blipFill>
          <a:blip r:embed="rId6"/>
          <a:stretch/>
        </p:blipFill>
        <p:spPr>
          <a:xfrm>
            <a:off x="5357880" y="28584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ая соединительная линия 10"/>
          <p:cNvSpPr/>
          <p:nvPr/>
        </p:nvSpPr>
        <p:spPr>
          <a:xfrm>
            <a:off x="5429160" y="428760"/>
            <a:ext cx="914400" cy="91440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0" descr="anea marthesia 2"/>
          <p:cNvPicPr/>
          <p:nvPr/>
        </p:nvPicPr>
        <p:blipFill>
          <a:blip r:embed="rId7"/>
          <a:stretch/>
        </p:blipFill>
        <p:spPr>
          <a:xfrm>
            <a:off x="357120" y="3286080"/>
            <a:ext cx="1631880" cy="12366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artificial tomato"/>
          <p:cNvPicPr/>
          <p:nvPr/>
        </p:nvPicPr>
        <p:blipFill>
          <a:blip r:embed="rId8"/>
          <a:stretch/>
        </p:blipFill>
        <p:spPr>
          <a:xfrm>
            <a:off x="5300640" y="1908000"/>
            <a:ext cx="1247760" cy="10843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balloons 6"/>
          <p:cNvPicPr/>
          <p:nvPr/>
        </p:nvPicPr>
        <p:blipFill>
          <a:blip r:embed="rId9"/>
          <a:srcRect l="0" t="0" r="0" b="36416"/>
          <a:stretch/>
        </p:blipFill>
        <p:spPr>
          <a:xfrm rot="1965000">
            <a:off x="5140080" y="7165440"/>
            <a:ext cx="1047600" cy="1839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giraffe 2"/>
          <p:cNvPicPr/>
          <p:nvPr/>
        </p:nvPicPr>
        <p:blipFill>
          <a:blip r:embed="rId10"/>
          <a:stretch/>
        </p:blipFill>
        <p:spPr>
          <a:xfrm>
            <a:off x="460440" y="4788000"/>
            <a:ext cx="1528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11 -0.00226 L 0.50856 0.17882 E">
                                      <p:cBhvr>
                                        <p:cTn id="52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869 0.00347 L 0.40083 -0.17761 E">
                                      <p:cBhvr>
                                        <p:cTn id="56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93 0.00017 L 0.41447 0.22066 E">
                                      <p:cBhvr>
                                        <p:cTn id="6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21 -0.00868 L 0.52173 -0.22916 E">
                                      <p:cBhvr>
                                        <p:cTn id="64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C:\Users\1\Desktop\зимние чудеса\Swinging_Bell_With_Holly[1].gif"/>
          <p:cNvPicPr/>
          <p:nvPr/>
        </p:nvPicPr>
        <p:blipFill>
          <a:blip r:embed="rId1"/>
          <a:stretch/>
        </p:blipFill>
        <p:spPr>
          <a:xfrm>
            <a:off x="500040" y="428760"/>
            <a:ext cx="1057320" cy="1180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C:\Users\1\Desktop\зимние чудеса\Swinging_Bell_With_Holly[1].gif"/>
          <p:cNvPicPr/>
          <p:nvPr/>
        </p:nvPicPr>
        <p:blipFill>
          <a:blip r:embed="rId2"/>
          <a:stretch/>
        </p:blipFill>
        <p:spPr>
          <a:xfrm>
            <a:off x="5143680" y="428760"/>
            <a:ext cx="1056960" cy="1180800"/>
          </a:xfrm>
          <a:prstGeom prst="rect">
            <a:avLst/>
          </a:prstGeom>
          <a:ln w="0">
            <a:noFill/>
          </a:ln>
        </p:spPr>
      </p:pic>
      <p:sp>
        <p:nvSpPr>
          <p:cNvPr id="657" name="Прямая соединительная линия 8"/>
          <p:cNvSpPr/>
          <p:nvPr/>
        </p:nvSpPr>
        <p:spPr>
          <a:xfrm>
            <a:off x="5214960" y="714240"/>
            <a:ext cx="914400" cy="91440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38" descr=""/>
          <p:cNvPicPr/>
          <p:nvPr/>
        </p:nvPicPr>
        <p:blipFill>
          <a:blip r:embed="rId3"/>
          <a:stretch/>
        </p:blipFill>
        <p:spPr>
          <a:xfrm>
            <a:off x="5214960" y="3786120"/>
            <a:ext cx="1285920" cy="14940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2" descr="замок"/>
          <p:cNvPicPr/>
          <p:nvPr/>
        </p:nvPicPr>
        <p:blipFill>
          <a:blip r:embed="rId4"/>
          <a:stretch/>
        </p:blipFill>
        <p:spPr>
          <a:xfrm>
            <a:off x="500040" y="1857240"/>
            <a:ext cx="1200240" cy="17049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" descr="капуст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4786200" y="7358040"/>
            <a:ext cx="1638360" cy="1295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гриб"/>
          <p:cNvPicPr/>
          <p:nvPr/>
        </p:nvPicPr>
        <p:blipFill>
          <a:blip r:embed="rId6"/>
          <a:stretch/>
        </p:blipFill>
        <p:spPr>
          <a:xfrm>
            <a:off x="571680" y="3571920"/>
            <a:ext cx="1139760" cy="14288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1" descr="шкаф"/>
          <p:cNvPicPr/>
          <p:nvPr/>
        </p:nvPicPr>
        <p:blipFill>
          <a:blip r:embed="rId7"/>
          <a:stretch/>
        </p:blipFill>
        <p:spPr>
          <a:xfrm>
            <a:off x="5214960" y="1857240"/>
            <a:ext cx="1309680" cy="19576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8" descr="ziraf1"/>
          <p:cNvPicPr/>
          <p:nvPr/>
        </p:nvPicPr>
        <p:blipFill>
          <a:blip r:embed="rId8"/>
          <a:stretch/>
        </p:blipFill>
        <p:spPr>
          <a:xfrm>
            <a:off x="642960" y="5214960"/>
            <a:ext cx="1214280" cy="16398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2" descr="artificial bananas 3"/>
          <p:cNvPicPr/>
          <p:nvPr/>
        </p:nvPicPr>
        <p:blipFill>
          <a:blip r:embed="rId9"/>
          <a:stretch/>
        </p:blipFill>
        <p:spPr>
          <a:xfrm>
            <a:off x="357120" y="7358040"/>
            <a:ext cx="1663920" cy="10000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canary 2"/>
          <p:cNvPicPr/>
          <p:nvPr/>
        </p:nvPicPr>
        <p:blipFill>
          <a:blip r:embed="rId10"/>
          <a:stretch/>
        </p:blipFill>
        <p:spPr>
          <a:xfrm>
            <a:off x="4929120" y="5429160"/>
            <a:ext cx="158616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17799E-007 -5.83333E-006 L 0.52427 0.18888 E">
                                      <p:cBhvr>
                                        <p:cTn id="70" dur="2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2275E-006 2.22222E-006 L 0.44036 0.40156 E">
                                      <p:cBhvr>
                                        <p:cTn id="74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72 -0.00243 L 0.48521 -0.33316 E">
                                      <p:cBhvr>
                                        <p:cTn id="78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4 -0.00503 L 0.46255 -0.1783 E">
                                      <p:cBhvr>
                                        <p:cTn id="82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5:28:05Z</dcterms:created>
  <dc:creator>1</dc:creator>
  <dc:description/>
  <dc:language>en-US</dc:language>
  <cp:lastModifiedBy>Аюпова</cp:lastModifiedBy>
  <dcterms:modified xsi:type="dcterms:W3CDTF">2013-03-11T14:59:27Z</dcterms:modified>
  <cp:revision>12</cp:revision>
  <dc:subject/>
  <dc:title>Найди соседа</dc:title>
</cp:coreProperties>
</file>