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gif" ContentType="image/gif"/>
  <Override PartName="/ppt/media/image8.png" ContentType="image/png"/>
  <Override PartName="/ppt/media/image26.jpeg" ContentType="image/jpeg"/>
  <Override PartName="/ppt/media/image7.gif" ContentType="image/gif"/>
  <Override PartName="/ppt/media/image16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9.jpeg" ContentType="image/jpeg"/>
  <Override PartName="/ppt/media/image29.wmf" ContentType="image/x-wmf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7.png" ContentType="image/png"/>
  <Override PartName="/ppt/media/image18.gif" ContentType="image/gif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media/image22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04B-2900-49F7-9045-A1C3E7AB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8C3-6A55-4D1F-9928-075C3CC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7C1-D58F-41B1-8195-6E607668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6AB-F5A6-470E-B7A3-CA019D66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C79-B912-4EE6-8402-CBD5DEA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D3D-00A6-4570-A7C1-4D5FEB8D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619-B7EB-46B7-ADCC-6C510F7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CC7-3E7C-41DA-B314-48E09079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F6F-3C7A-4792-B8EE-888798C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D70-8E82-411F-B7AF-0A40C03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763-6FDD-4041-8D19-2FC67604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DA6-906D-44CB-8CB4-83B457A2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859-0370-4593-A240-25739E7D8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1619280" y="1700280"/>
            <a:ext cx="57592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2195640" y="476280"/>
            <a:ext cx="611964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0" name="Picture 6" descr="arshin"/>
          <p:cNvPicPr/>
          <p:nvPr/>
        </p:nvPicPr>
        <p:blipFill>
          <a:blip r:embed="rId1"/>
          <a:stretch/>
        </p:blipFill>
        <p:spPr>
          <a:xfrm>
            <a:off x="3059280" y="1989000"/>
            <a:ext cx="3600360" cy="3019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 rot="5400000">
            <a:off x="5057280" y="998280"/>
            <a:ext cx="179280" cy="2303640"/>
          </a:xfrm>
          <a:prstGeom prst="upDownArrow">
            <a:avLst>
              <a:gd name="adj1" fmla="val 50000"/>
              <a:gd name="adj2" fmla="val 255798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124000" y="404640"/>
            <a:ext cx="641052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Picture 3" descr="SY00970A"/>
          <p:cNvPicPr/>
          <p:nvPr/>
        </p:nvPicPr>
        <p:blipFill>
          <a:blip r:embed="rId1"/>
          <a:stretch/>
        </p:blipFill>
        <p:spPr>
          <a:xfrm>
            <a:off x="4140360" y="1773360"/>
            <a:ext cx="4644720" cy="4645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 flipH="1" flipV="1" rot="17172000">
            <a:off x="6438240" y="1076040"/>
            <a:ext cx="322200" cy="3819240"/>
          </a:xfrm>
          <a:prstGeom prst="upDownArrow">
            <a:avLst>
              <a:gd name="adj1" fmla="val 50000"/>
              <a:gd name="adj2" fmla="val 235975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403280" y="2781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ажен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979640" y="333360"/>
            <a:ext cx="62643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Picture 3" descr="BD10796_"/>
          <p:cNvPicPr/>
          <p:nvPr/>
        </p:nvPicPr>
        <p:blipFill>
          <a:blip r:embed="rId1"/>
          <a:stretch/>
        </p:blipFill>
        <p:spPr>
          <a:xfrm>
            <a:off x="5364000" y="1700280"/>
            <a:ext cx="279108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 flipH="1">
            <a:off x="2771280" y="17733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771280" y="29973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276720" y="1773360"/>
            <a:ext cx="215640" cy="1222200"/>
          </a:xfrm>
          <a:prstGeom prst="upDownArrow">
            <a:avLst>
              <a:gd name="adj1" fmla="val 50000"/>
              <a:gd name="adj2" fmla="val 11283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124000" y="2997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локо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258920" y="2060640"/>
            <a:ext cx="1225440" cy="2736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478800 h 2736720"/>
              <a:gd name="textAreaBottom" fmla="*/ 198432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D13738_"/>
          <p:cNvPicPr/>
          <p:nvPr/>
        </p:nvPicPr>
        <p:blipFill>
          <a:blip r:embed="rId1"/>
          <a:stretch/>
        </p:blipFill>
        <p:spPr>
          <a:xfrm>
            <a:off x="2556000" y="2565360"/>
            <a:ext cx="4249440" cy="31752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2124000" y="98100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Локти у всех разные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97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98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112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119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9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130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2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33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71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2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351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35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3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36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36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3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37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375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7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700360" y="692280"/>
            <a:ext cx="446544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 в  пар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692360" y="1844640"/>
            <a:ext cx="121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юч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572000" y="2781360"/>
            <a:ext cx="18716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4788000" y="3213000"/>
            <a:ext cx="1419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0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300720" y="1916280"/>
            <a:ext cx="18716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940360" y="414972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1547640" y="2781360"/>
            <a:ext cx="1872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6588000" y="2349360"/>
            <a:ext cx="122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7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1908000" y="3213000"/>
            <a:ext cx="110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15"/>
          <p:cNvSpPr txBox="1"/>
          <p:nvPr/>
        </p:nvSpPr>
        <p:spPr>
          <a:xfrm>
            <a:off x="6300720" y="4581360"/>
            <a:ext cx="11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2916360" y="422100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7"/>
          <p:cNvSpPr txBox="1"/>
          <p:nvPr/>
        </p:nvSpPr>
        <p:spPr>
          <a:xfrm>
            <a:off x="3203640" y="4653000"/>
            <a:ext cx="129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3059280" y="1628640"/>
            <a:ext cx="1871640" cy="19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9"/>
          <p:cNvSpPr txBox="1"/>
          <p:nvPr/>
        </p:nvSpPr>
        <p:spPr>
          <a:xfrm>
            <a:off x="3708360" y="1989000"/>
            <a:ext cx="5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74208E-007 L -0.19687 -0.24659 E">
                                      <p:cBhvr>
                                        <p:cTn id="4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10895E-006 L -0.2 -0.25122 E">
                                      <p:cBhvr>
                                        <p:cTn id="48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53921E-006 L -0.04705 0.13116 E">
                                      <p:cBhvr>
                                        <p:cTn id="48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14781E-007 L -0.04826 0.12653 E">
                                      <p:cBhvr>
                                        <p:cTn id="48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79019E-008 L -0.17309 -0.257 E">
                                      <p:cBhvr>
                                        <p:cTn id="49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7106E-006 L -0.17431 -0.26163 E">
                                      <p:cBhvr>
                                        <p:cTn id="49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1161E-006 L -0.03924 0.08929 E">
                                      <p:cBhvr>
                                        <p:cTn id="49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9294E-007 L -0.03716 0.08443 E">
                                      <p:cBhvr>
                                        <p:cTn id="49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050920" y="105264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3708360" y="2276640"/>
            <a:ext cx="323064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2195640" y="278100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6ea91854e38t"/>
          <p:cNvPicPr/>
          <p:nvPr/>
        </p:nvPicPr>
        <p:blipFill>
          <a:blip r:embed="rId3"/>
          <a:srcRect l="0" t="0" r="0" b="7427"/>
          <a:stretch/>
        </p:blipFill>
        <p:spPr>
          <a:xfrm rot="19810800">
            <a:off x="1618920" y="3645000"/>
            <a:ext cx="1212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922480" cy="21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500"/>
                            </p:stCondLst>
                            <p:childTnLst>
                              <p:par>
                                <p:cTn id="5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700360" y="69228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шим задач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71" name="Picture 14" descr="c6ea91854e38t"/>
          <p:cNvPicPr/>
          <p:nvPr/>
        </p:nvPicPr>
        <p:blipFill>
          <a:blip r:embed="rId1"/>
          <a:srcRect l="0" t="0" r="0" b="7427"/>
          <a:stretch/>
        </p:blipFill>
        <p:spPr>
          <a:xfrm rot="20342400">
            <a:off x="826920" y="3573360"/>
            <a:ext cx="115416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1403280" y="414936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Берёза2i"/>
          <p:cNvPicPr/>
          <p:nvPr/>
        </p:nvPicPr>
        <p:blipFill>
          <a:blip r:embed="rId3"/>
          <a:stretch/>
        </p:blipFill>
        <p:spPr>
          <a:xfrm>
            <a:off x="2282760" y="1700280"/>
            <a:ext cx="1924200" cy="255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Яблоня 2i"/>
          <p:cNvPicPr/>
          <p:nvPr/>
        </p:nvPicPr>
        <p:blipFill>
          <a:blip r:embed="rId4"/>
          <a:stretch/>
        </p:blipFill>
        <p:spPr>
          <a:xfrm>
            <a:off x="4788000" y="2349360"/>
            <a:ext cx="2879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2" descr="сканирование0017"/>
          <p:cNvPicPr/>
          <p:nvPr/>
        </p:nvPicPr>
        <p:blipFill>
          <a:blip r:embed="rId1"/>
          <a:stretch/>
        </p:blipFill>
        <p:spPr>
          <a:xfrm>
            <a:off x="3132000" y="1484280"/>
            <a:ext cx="5532480" cy="399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Берёза2i"/>
          <p:cNvPicPr/>
          <p:nvPr/>
        </p:nvPicPr>
        <p:blipFill>
          <a:blip r:embed="rId2"/>
          <a:stretch/>
        </p:blipFill>
        <p:spPr>
          <a:xfrm>
            <a:off x="1692360" y="1484280"/>
            <a:ext cx="143496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Яблоня 2i"/>
          <p:cNvPicPr/>
          <p:nvPr/>
        </p:nvPicPr>
        <p:blipFill>
          <a:blip r:embed="rId3"/>
          <a:stretch/>
        </p:blipFill>
        <p:spPr>
          <a:xfrm>
            <a:off x="1547640" y="3933720"/>
            <a:ext cx="15843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"маленькой" школы до "большой"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908000" y="765000"/>
            <a:ext cx="62661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пишите числа, в которы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700360" y="1700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сот. 7дес. 5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2700360" y="2565360"/>
            <a:ext cx="424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9ед. 6дес. 4со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92360" y="3357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сот. 6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3492360" y="414972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сот. 3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924360" y="5013360"/>
            <a:ext cx="1942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0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050920" y="907920"/>
            <a:ext cx="619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875, 469, 706, 530, 6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3" name="WordArt 20"/>
          <p:cNvSpPr txBox="1"/>
          <p:nvPr/>
        </p:nvSpPr>
        <p:spPr>
          <a:xfrm>
            <a:off x="2124000" y="2060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575, 169, 406, 230, 3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WordArt 21"/>
          <p:cNvSpPr txBox="1"/>
          <p:nvPr/>
        </p:nvSpPr>
        <p:spPr>
          <a:xfrm>
            <a:off x="2124000" y="321300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595, 189, 426, 250, 3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979640" y="4797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3"/>
          <p:cNvSpPr txBox="1"/>
          <p:nvPr/>
        </p:nvSpPr>
        <p:spPr>
          <a:xfrm rot="21325800">
            <a:off x="2340000" y="4292280"/>
            <a:ext cx="424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787"/>
                <a:gd name="adj2" fmla="val -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91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91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195640" y="620640"/>
            <a:ext cx="61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какими величин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ы знаком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8" name="Picture 20" descr="Alarm-02-june"/>
          <p:cNvPicPr/>
          <p:nvPr/>
        </p:nvPicPr>
        <p:blipFill>
          <a:blip r:embed="rId1"/>
          <a:stretch/>
        </p:blipFill>
        <p:spPr>
          <a:xfrm>
            <a:off x="6372360" y="4581360"/>
            <a:ext cx="1071360" cy="127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web"/>
          <p:cNvPicPr/>
          <p:nvPr/>
        </p:nvPicPr>
        <p:blipFill>
          <a:blip r:embed="rId2"/>
          <a:stretch/>
        </p:blipFill>
        <p:spPr>
          <a:xfrm>
            <a:off x="4356000" y="4076640"/>
            <a:ext cx="1136880" cy="115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Forzuto"/>
          <p:cNvPicPr/>
          <p:nvPr/>
        </p:nvPicPr>
        <p:blipFill>
          <a:blip r:embed="rId3"/>
          <a:stretch/>
        </p:blipFill>
        <p:spPr>
          <a:xfrm>
            <a:off x="1835280" y="3429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6"/>
          <p:cNvSpPr txBox="1"/>
          <p:nvPr/>
        </p:nvSpPr>
        <p:spPr>
          <a:xfrm>
            <a:off x="1763640" y="2637000"/>
            <a:ext cx="194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асс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2" name="WordArt 47"/>
          <p:cNvSpPr txBox="1"/>
          <p:nvPr/>
        </p:nvSpPr>
        <p:spPr>
          <a:xfrm>
            <a:off x="3851280" y="299736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3" name="WordArt 48"/>
          <p:cNvSpPr txBox="1"/>
          <p:nvPr/>
        </p:nvSpPr>
        <p:spPr>
          <a:xfrm>
            <a:off x="6227640" y="328464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ремя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8 попугаев.wmv" descr=""/>
          <p:cNvPicPr/>
          <p:nvPr/>
        </p:nvPicPr>
        <p:blipFill>
          <a:blip r:embed="rId1"/>
          <a:stretch/>
        </p:blipFill>
        <p:spPr>
          <a:xfrm>
            <a:off x="1547640" y="576360"/>
            <a:ext cx="720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Мартышкаi"/>
          <p:cNvPicPr/>
          <p:nvPr/>
        </p:nvPicPr>
        <p:blipFill>
          <a:blip r:embed="rId1"/>
          <a:stretch/>
        </p:blipFill>
        <p:spPr>
          <a:xfrm>
            <a:off x="1835280" y="3860640"/>
            <a:ext cx="2449440" cy="183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Попугайi"/>
          <p:cNvPicPr/>
          <p:nvPr/>
        </p:nvPicPr>
        <p:blipFill>
          <a:blip r:embed="rId2"/>
          <a:stretch/>
        </p:blipFill>
        <p:spPr>
          <a:xfrm>
            <a:off x="4932360" y="4076640"/>
            <a:ext cx="2374920" cy="177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Слонёнокi"/>
          <p:cNvPicPr/>
          <p:nvPr/>
        </p:nvPicPr>
        <p:blipFill>
          <a:blip r:embed="rId3"/>
          <a:stretch/>
        </p:blipFill>
        <p:spPr>
          <a:xfrm>
            <a:off x="5796000" y="1359000"/>
            <a:ext cx="2592360" cy="193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Удав 2i"/>
          <p:cNvPicPr/>
          <p:nvPr/>
        </p:nvPicPr>
        <p:blipFill>
          <a:blip r:embed="rId4"/>
          <a:stretch/>
        </p:blipFill>
        <p:spPr>
          <a:xfrm>
            <a:off x="2124000" y="1125360"/>
            <a:ext cx="273528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2050920" y="476280"/>
            <a:ext cx="67690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Picture 3" descr="BD10869_"/>
          <p:cNvPicPr/>
          <p:nvPr/>
        </p:nvPicPr>
        <p:blipFill>
          <a:blip r:embed="rId1"/>
          <a:stretch/>
        </p:blipFill>
        <p:spPr>
          <a:xfrm rot="9834000">
            <a:off x="5579280" y="2205000"/>
            <a:ext cx="2381400" cy="3619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 flipH="1" rot="17172000">
            <a:off x="6571440" y="4470840"/>
            <a:ext cx="216000" cy="1588680"/>
          </a:xfrm>
          <a:prstGeom prst="upDownArrow">
            <a:avLst>
              <a:gd name="adj1" fmla="val 50000"/>
              <a:gd name="adj2" fmla="val 146419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 flipH="1" rot="1494000">
            <a:off x="2916000" y="4797360"/>
            <a:ext cx="3528720" cy="1008000"/>
          </a:xfrm>
          <a:custGeom>
            <a:avLst/>
            <a:gdLst>
              <a:gd name="textAreaLeft" fmla="*/ 617400 w 3528720"/>
              <a:gd name="textAreaRight" fmla="*/ 2558520 w 352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979640" y="177336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яд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195640" y="333360"/>
            <a:ext cx="65530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Давным-давно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Picture 3" descr="BD10869_"/>
          <p:cNvPicPr/>
          <p:nvPr/>
        </p:nvPicPr>
        <p:blipFill>
          <a:blip r:embed="rId1"/>
          <a:stretch/>
        </p:blipFill>
        <p:spPr>
          <a:xfrm>
            <a:off x="3780000" y="3716280"/>
            <a:ext cx="4698720" cy="23814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 flipH="1" rot="15960000">
            <a:off x="4469040" y="4538520"/>
            <a:ext cx="169920" cy="687240"/>
          </a:xfrm>
          <a:prstGeom prst="upDownArrow">
            <a:avLst>
              <a:gd name="adj1" fmla="val 50000"/>
              <a:gd name="adj2" fmla="val 80515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619280" y="2133720"/>
            <a:ext cx="417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ершок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DNS</cp:lastModifiedBy>
  <dcterms:modified xsi:type="dcterms:W3CDTF">2013-03-11T16:22:57Z</dcterms:modified>
  <cp:revision>13</cp:revision>
  <dc:subject/>
  <dc:title>Слайд 1</dc:title>
</cp:coreProperties>
</file>