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785-154C-44E0-89EB-611CAB7D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BE2-590A-48FE-9A8F-F4B4C42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F91-B3F8-4EF1-A70B-DC316EBF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EBB-5A77-4C7D-997C-1EB3ED1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3602-86DA-4B55-B1FC-599347A1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ECFA-EA93-44D0-990E-85D22F1B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D0AD-32BA-4A48-A811-F196F9DE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130E-ED7C-42CA-8F51-C3256930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F043-01E8-40AC-BE1E-A56F95E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7FC-FF09-4A3B-B7AF-853F6B1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B0F6-A3EA-40BC-97A8-FCBEB99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DB1-EA50-4F26-81E1-8F3AF6EF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99A-6315-444C-AA55-AE16214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2D8-9F93-4B1B-A1BA-F0E2699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E095-6E13-44B7-BD5B-992FDA7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291-4EE3-435E-9EFD-88B3C19A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22D9-D16B-43FD-8DC5-7F3CAC9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8B85-E261-41E6-BA84-2BCB47B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116E-A1EF-4245-B098-8DCE7F6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3682-0BA9-478E-9B51-32E789A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3683-C78C-42E6-8DCD-A89F208E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16AB-4646-4C42-840C-4CC4C1F6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34A-2584-460B-A6E8-98BA178E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FD7E-D3A6-458E-9BBA-E1B1BE9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5CB2-EA8F-4AAF-96DA-864B8DC9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A7CD-1FC6-4506-A939-B360808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AE2F-E520-463C-9FF0-9B0FAA8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03A3-6996-4B1C-8533-F81814A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1390-3066-436B-AB46-F41E71FF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7A08-0AFF-4794-81A0-CC78A0E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FD0-4276-409F-ADBC-B5941F4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AE3-EC91-4E3A-B04E-B3295E94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CBB-38DB-4D14-A94D-0E44A77C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022-B175-43B9-8B65-C432ECD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DE8-3922-47B8-B274-BB46B8E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273-5E1B-4869-85DC-80E37D9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C958-C54A-4592-93FA-CADA943DFFA3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091-7A6C-4049-9387-05D86D4D64C7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0355-0AD0-4382-91F6-8C5BF2F75E2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a.edu.ru/" TargetMode="External"/><Relationship Id="rId2" Type="http://schemas.openxmlformats.org/officeDocument/2006/relationships/hyperlink" Target="http://gia.edu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ОСУДАРСТВЕННАЯ (ИТОГОВАЯ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ТТЕСТАЦИЯ В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ЛАССАХ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РЕДМЕТЫ ПО ВЫБОРУ, СООТВЕТСТВУЮЩИЕ ПРОФИЛЯМ ОБУЧЕНИЯ.</a:t>
            </a: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692280"/>
          <a:ext cx="8893080" cy="6153120"/>
        </p:xfrm>
        <a:graphic>
          <a:graphicData uri="http://schemas.openxmlformats.org/drawingml/2006/table">
            <a:tbl>
              <a:tblPr/>
              <a:tblGrid>
                <a:gridCol w="541080"/>
                <a:gridCol w="4024440"/>
                <a:gridCol w="4327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ы для ГИ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матема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и ИКТ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хим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ко-би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о-географ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географ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эконом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й язык, обществознание, географ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гуманита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, литература, 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, 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информатика и ИКТ, биолог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география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стриальн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информатика и И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-эсте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, литера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онно-спортив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, история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30320" y="404640"/>
            <a:ext cx="86407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влетворительные результаты аттест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бщеобразовательным предметам являются основанием для выдачи обучающим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ттестата об основном общем образов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домости образовательных дости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ющимся, не допущенные до ГИА, не прошедшие ГИ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ыдается справка об обучении в образовательном учреждении.  Право пройти аттестацию- не ранее, чем через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557360"/>
          <a:ext cx="8856720" cy="3330720"/>
        </p:xfrm>
        <a:graphic>
          <a:graphicData uri="http://schemas.openxmlformats.org/drawingml/2006/table">
            <a:tbl>
              <a:tblPr/>
              <a:tblGrid>
                <a:gridCol w="2544840"/>
                <a:gridCol w="1365120"/>
                <a:gridCol w="517680"/>
                <a:gridCol w="519120"/>
                <a:gridCol w="517680"/>
                <a:gridCol w="517320"/>
                <a:gridCol w="519120"/>
                <a:gridCol w="2355840"/>
              </a:tblGrid>
              <a:tr h="25560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Результаты государственной (итоговой) аттес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ьные предм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офильные предм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23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. Обязательные экзамены за курс основной общей школы, установленные Министерством образования и науки Р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Мате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1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. Экзамены по выбору обучаю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3" name="Rectangle 1"/>
          <p:cNvSpPr/>
          <p:nvPr/>
        </p:nvSpPr>
        <p:spPr>
          <a:xfrm>
            <a:off x="108000" y="8532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668160"/>
          <a:ext cx="8351640" cy="5916960"/>
        </p:xfrm>
        <a:graphic>
          <a:graphicData uri="http://schemas.openxmlformats.org/drawingml/2006/table">
            <a:tbl>
              <a:tblPr/>
              <a:tblGrid>
                <a:gridCol w="1909440"/>
                <a:gridCol w="2832120"/>
                <a:gridCol w="2832120"/>
                <a:gridCol w="777960"/>
              </a:tblGrid>
              <a:tr h="182880">
                <a:tc gridSpan="4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Индивидуальная накопительная оц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. Элективные кур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о возмож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493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. Олимпи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4900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. Конк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825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. Спортив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и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оревнований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228600">
                <a:tc rowSpan="3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. Дополните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сертификата, свиде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477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. Образовательные к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сертификата, свиде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1"/>
          <p:cNvSpPr/>
          <p:nvPr/>
        </p:nvSpPr>
        <p:spPr>
          <a:xfrm>
            <a:off x="108000" y="237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638280"/>
          <a:ext cx="8207280" cy="6103800"/>
        </p:xfrm>
        <a:graphic>
          <a:graphicData uri="http://schemas.openxmlformats.org/drawingml/2006/table">
            <a:tbl>
              <a:tblPr/>
              <a:tblGrid>
                <a:gridCol w="2616120"/>
                <a:gridCol w="2933640"/>
                <a:gridCol w="2657520"/>
              </a:tblGrid>
              <a:tr h="677880"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Общий уровень учебных, внеучебных достижений, компетентностн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«портфолио»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«портфоли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.Предмет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.Функциональная грамо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.Социаль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1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.Общекультурная и поликультур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.Коммуникатив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.Интеллектуаль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108000" y="55080"/>
            <a:ext cx="89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Б УСЛОВИЯХ ОБУЧЕНИЯ НА СТАРШЕЙ СТУПЕНИ.  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97000"/>
            <a:ext cx="7620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исление в профильные классы проводиться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ожением о комплектовании профильных 10 класс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явление о приеме на имя руководителя образовательного учреждения( с 1ма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тестат об основном общем образован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омость образовательных достижений, включая «портфолио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если количество поданных заявлений превышает количество мест в профильном классе, прием выпускников 9-ых классов осуществляется на основании ведомости образовательных достиж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СРОКАХ И МЕСТАХ И ПОРЯДКЕ ПОДАЧИ ЗАЯВЛЕНИЯ О СДАЧЕ ЭКЗАМЕНОВ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349000"/>
            <a:ext cx="778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 10.12.20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бразовательном учрежден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2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экзамена 10.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ументы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аспорт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черная гелиевая ручк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разрешенные справочные материал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0" y="698400"/>
          <a:ext cx="8856720" cy="6218280"/>
        </p:xfrm>
        <a:graphic>
          <a:graphicData uri="http://schemas.openxmlformats.org/drawingml/2006/table">
            <a:tbl>
              <a:tblPr/>
              <a:tblGrid>
                <a:gridCol w="360360"/>
                <a:gridCol w="1152360"/>
                <a:gridCol w="2232360"/>
                <a:gridCol w="5111640"/>
              </a:tblGrid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тельность экза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ительные 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227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минут (3 часа 5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очные материалы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квадратов двузначных чисел, формулы корней квадратного уравнения,разложения на множители квадратного трехчлена, формулы n-го члена и суммы n первых членов арифметической и геометрической прогрессий, основные формулы из курса геометр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зрешается использовать линей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лькуляторы на экзамене не использую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10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минут (3 часа 5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е словар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206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минут (2 часа 20 мину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, непрограммируемый калькулятор, географические атласы для 7, 8 и 9 классов (любого издательст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8413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ериодическая система химических элементов Д.И. Менделее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аблица растворимости солей, кислот и оснований в во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лектрохимический ряд напряжений металл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программируемый калькулято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113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05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языки (английский, немецкий, французский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устного ответа одного отвечающего -6 минут, подготовка к устному ответу-10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спроизводящая и звукозаписывающая аппаратура, часы, аудиокассеты или компакт–диски (CD) с материалами для выполнения заданий раздела 1 (задания по аудированию) и для записи ответов экзаменуемых в разделе 5 (задания по говорени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минут (2,5 час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3 выполняются учащимися на компьюте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538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минут (3 часа 55 минут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ы художественных произведений, а также сборники лир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420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граммируемый калькулятор (на каждого ученика) и экспериментальное 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640" y="981000"/>
            <a:ext cx="87850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ое, что не входит в данный перечен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использовать на экзамене запрещено, в том числ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бильные телефоны или иные средства связ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любые электронно-вычислительные устройства и справочные материалы и устройства, кроме тех, котор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тверждены Рособрнадзор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качестве дополнительных устройств и материалов, используемых по отдельным предмета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кже запрещаются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разгово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вставания с мес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пересажи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обмен любыми материалами и предмет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хождение по ППЭ во время экзамена без сопрово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41 от 27.12.20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Об утверждении порядка информирования участников государственной (итоговой) аттестации и их родителей по вопросам организации и проведения государственной (итоговой) аттестаци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76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нарушении этих правил и отказе в их соблюдении ( пункт 6.2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рганизаторы совместно с уполномоченным представителем РЭК вправе удалить участника ГИА с экзамена с внесением записи в протокол проведения экзамена в аудитории с указанием причины удал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заменационная работа такого участника ГИ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проверя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358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 заполнения блан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учаях обнаружения брака или некомплектности экзаменационных материалов организаторы выдают новый комплект. Заполнение бланков осуществляется черной гелиевой ручкой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ц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экзамена можно выходить из аудитории только в сопровождении организатор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иеся, завершившие выполнение экзаменационной работы досрочно, могут сдать её организаторам и покинуть аудиторию. За 15 минут до окончания экзамена досрочная сдача прекра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й бланк №2 выдается по требованию выпускника при полном заполнении основного бланка №2, их количество не ограничен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94" name="Picture 3" descr="Z:\ВЕЮ\почта\2013\2 2013\28.02.2013\РусБл1.png"/>
          <p:cNvPicPr/>
          <p:nvPr/>
        </p:nvPicPr>
        <p:blipFill>
          <a:blip r:embed="rId1"/>
          <a:stretch/>
        </p:blipFill>
        <p:spPr>
          <a:xfrm>
            <a:off x="222120" y="115920"/>
            <a:ext cx="3541680" cy="5011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543120" cy="50133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"/>
          <p:cNvPicPr/>
          <p:nvPr/>
        </p:nvPicPr>
        <p:blipFill>
          <a:blip r:embed="rId3"/>
          <a:stretch/>
        </p:blipFill>
        <p:spPr>
          <a:xfrm>
            <a:off x="5656320" y="2060640"/>
            <a:ext cx="3543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78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СРОКАХ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8.05.2013 матема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1.05.2013 1 день по выбо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04.06.2013 русский 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07.06.2013 2 день по выбо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06.2013 резерв: математика, история, география, биология, физика, и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06.2013 резерв: русский язык, обществознание, химия, информатика, литерату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торная аттестац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5.06.2013 русский язык     28.06.2013 матема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каз Министерства образования  СО от 25.02.2013 № 5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нарушении процедуры проведен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ой (итоговой) аттестации в ППЭ, при этом под нарушением процедуры понимаются любые отступления от установленного порядка и требований к процедуре проведения экзаменов, которые могли оказать существенное негативное влияние на качество выполнения экзаменационных работ обучающимис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ой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97000"/>
            <a:ext cx="7620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елляция о нарушении процедуры проведения государственной (итоговой) аттестации подается обучающим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 в день проведения экзамена до выхода из ПП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ю ППЭ или уполномоченному представителю региональной экзаменационной комисс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 отклонении апелляци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 удовлетворении апелля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днем случае результат проведения государственной (итоговой) аттестации подлежит аннулированию и обучающемуся предоставляется возможность сдать экзамен по соответствующему общеобразовательному предмет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сроки повторной аттест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81000"/>
            <a:ext cx="762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елляция о несогласии с выставленными баллами (отметкой) подается  в течен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дн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ю общеобразовательного  учреждения. Апелляция рассматривается в течен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-х дн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ее подачи по желанию обучающегося в его присутствии или заоч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отклонении апелляции и сохранении выставленных баллов (отметки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удовлетворении апелляции и выставлении других баллов (отметки) (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в сторону увеличения, так и  в сторону умень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ая информация в день завершения рассмотрения апелляций по соответствующему предмету передается Комиссией в ОГУ «РЦОКО» для внесения соответствующих изменений в протоколы о результатах государственной (итоговой) аттестации. Измененные протоколы о результатах государственной (итоговой) аттестации являются основанием для аннулирования ранее выставленных баллов и выставления новы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МЕСТАХ РАСПОЛОЖЕНИЯ ППЭ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25 ( ППЭ 13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7854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282e"/>
                </a:solidFill>
                <a:latin typeface="Arial Black"/>
              </a:rPr>
              <a:t>О ПОЛУЧЕНИИ РАЗРЕШЕНИЯ НА УЧАСТИЕ В ГИА ПРИ ПРОПУСКЕ ЭКЗАМЕНА В ОСНОВНЫЕ СРОКИ ПО УВАЖИТЕЛЬНОЙ ПРИЧИНЕ, ПРИ ДОСРОЧНОМ ЗАВЕРШЕНИИ ЭКЗАМЕНА, ПРИ АННУЛИРОВАНИИ РЕЗУЛЬТАТОВ РЭК</a:t>
            </a: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341000"/>
            <a:ext cx="857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4.  По  решению РЭК  повторно  допускаются  к  сдаче  экзаменов : ( не позднее 31 августа ), следующие обучающиеся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получившие на Аттестации неудовлетворительные результаты не более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м по двум общеобразовательным предметам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не сдававшие экзамены по уважительным причинам (болезнь или ины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стоятельства, подтвержденные документально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не  завершившие  выполнение  экзаменационной  работы  п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ажительным причинам (болезнь или иные обстоятельства, подтвержденны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кументально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результаты которых были аннулированы РЭК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, подтверждающие уважительную причину невозможности прохождения ГИА в установленные сроки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еобходимо предоставить в день проведения экзамена  на ППЭ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Б УДАЛЕНИИ С ЭКЗАМЕН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20.  Во  время  экзамена  обучающиеся  должны  соблюдать установленный  порядок  проведения  экзамена  и  следовать  указаниям организаторов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экзамена обучающиеся не вправе  общаться друг с другом,  свободно  перемещаться  по  аудитории,  пользоваться справочными материал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удиториях во время проведения экзаменов обучающимся и лицам, привлекаемым  к  проведению  экзамена,  запрещается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ть  при  себе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использовать  средства  связи  и  электронно-вычислительной  техники, справочные  материалы,  за  исключением  случаев,  когда  использование электронно-вычислительной техники, справочных материалов предусмотрено процедурой  проведения  экзамена  по  соответствующему общеобразовательному предмету. При установлении факт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аличия и (или) использован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анными лицами  средств  связи  и  электронно-вычислительной  техники  во  время проведения  экзамена  или  иного  нарушения  ими  установленного  порядка проведения  экзаменов,  уполномоченные  представители  РЭК  удаляют указанных лиц из ППЭ и составляют акт об удалении с экзамена. Акт об удалении с экзамена в тот же день направляется в РЦОКО для учета при обработке бланков Аттест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НОРМАТИВНО-ПРАВОВАЯ БАЗ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1267920"/>
            <a:ext cx="7632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9 ноября 2012 г. N 41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положения об организации и проведении государственной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итоговой) аттестации обучающихся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классов, освоивших основные общеобразовательные программы основного общего образования, с участием региональной экзаменационной комиссии Саратовской области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4.01.2013 г. N 18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ведомости образовательных достижений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учающихся, освоивших основные общеобразовательные программы основного общего образования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5.02.2013 г. N 52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сроков проведения государственной (итоговой) аттестации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классов, освоивших основные общеобразовательные программы основного общего образования, с участием региональной экзаменационной комиссии Саратовской области в 2013 году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ПРОВЕРКЕ ЭКЗАМЕНАЦИОННЫХ РАБОТ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1.  РЦОКО  обеспечивает  предметные  комиссии  обезличенными копиями экзаменационных работ обучаю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. Срок работы предметных комиссий по русскому языку и математике составля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более п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ендарных дней, по другим общеобразовательным предметам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более тре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ендарных д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50752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СРОКАХ, МЕСТАХ И ПОРЯДКЕ ИНФОРМИРОВАНИЯ О РЕЗУЛЬТАТАХ ГИА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 СО 1 рабочий день  после формирования электронного протоко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 БМР в течение 1дня после утверждения РЭК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У в течение 3-х рабочих дней  после  утверждения  РЭК результатов  Аттест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накомление участников ГИ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бразовательном учреждении под личную  подпись в день получения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244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Б ИНФОРМИРОВАНИИ О СРОКАХ, МЕСТАХ РАССМОТРЕНИЯ АПЕЛЛЯЦИЙ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924280"/>
            <a:ext cx="76201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щение на сайте министерства  образования в день утверждения РЭК результатов Аттест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Б ИНФОРМИРОВАНИИ ОБ ОКОНЧАТЕЛЬНЫХ РЕЗУЛЬТАТАХ РАССМОТРЕНИЯ АПЕЛЛЯЦИЙ (ПОСЛЕ УТВЕРЖДЕНИЯ РЭК)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060280"/>
            <a:ext cx="76201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 СО 1 рабочий день  после формирования электронного протоко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 БМР в течение 1дня после утверждения РЭК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У в течение 3-х рабочих дней  после  утверждения  РЭК результатов  Аттест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накомление участников ГИ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У под личную  подп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айте гимназ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по информированию обучающихся 9 классов и их родителей по вопросам организации и  проведения государственной (итоговой) аттестации в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0"/>
          <a:ext cx="9144000" cy="6740640"/>
        </p:xfrm>
        <a:graphic>
          <a:graphicData uri="http://schemas.openxmlformats.org/drawingml/2006/table">
            <a:tbl>
              <a:tblPr/>
              <a:tblGrid>
                <a:gridCol w="1285920"/>
                <a:gridCol w="2000160"/>
                <a:gridCol w="1714680"/>
                <a:gridCol w="679320"/>
                <a:gridCol w="677880"/>
                <a:gridCol w="696960"/>
                <a:gridCol w="696960"/>
                <a:gridCol w="695160"/>
                <a:gridCol w="696960"/>
              </a:tblGrid>
              <a:tr h="205920"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с результатами 2 ч.12-13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датова Л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влева С.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дина Т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к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rowSpan="3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/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rowSpan="9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по выб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др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дина Т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акова О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шина Т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ова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унцо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очникова А.Е., Храмова Е.И., Чистопруд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ш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по выб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ЕПЕТИЦИОННЫЙ ЭКЗАМЕН.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Министерства образования Саратовской обла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Комитета образования БМ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МАОУ Гимназия №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О РАБОТЕ ТЕЛЕФОНОВ «ГОРЯЧАЯ ЛИНИЯ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ы для обращений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ОУ Гимназия №1: р/т 44-31-80 (с/т 89271523619), Вилкова Елена Юрьевна, заместитель директора по УВР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итет образования БМР: 44-03-81. Режим работы телефона "горячей линии": с понедельника по пятницу, с 08.00 до 12.00 и с 14.00 до 18.00. На вопросы будет отвечать Солдатова Екатерина Владимировна, заместитель председателя Комитета образ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ИНФОРМАЦИОННЫЙ ПОРТАЛ ГОСУДАРСТВЕННОЙ ИТОГОВОЙ АТТЕСТАЦИИ. 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GIA.EDU.RU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ИНФОРМАЦИОННЫЙ ПОРТАЛ ЕДИНОГО ГОСУДАРСТВЕННОГО ЭКЗАМЕНА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GE.EDU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ФЕДЕРАЛЬНОГО ИНСТИТУТА ПЕДАГОГИЧЕСКИХ ИЗМЕРЕНИЙ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FIPI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ФГБУ "ФЕДЕРАЛЬНЫЙ ЦЕНТР ТЕСТИРОВАНИЯ" (ОРГАНИЗАЦИОННО-ТЕХНОЛОГИЧЕСКОЕ СОПРОВОЖДЕНИЕ ЕДИНОГО ГОСУДАРСТВЕННОГО ЭКЗАМЕНА)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USTEST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ГКУ "РЕГИОНАЛЬНЫЙ ЦЕНТР ОЦЕНКИ КАЧЕСТВА ОБРАЗОВАНИЯ" (РЦОКО)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SARRCOKO.RU/INDEX.P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MON.GOV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РАЗОВАНИЯ САРАТОВСКОЙ ОБЛАСТ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MINOBR.SARATOV.GOV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ИТЕТ ОБРАЗОВАНИЯ БМР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XN----8SBACH7BEGXGB.XN--P1AI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ГИМНАЗИЯ №1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GIMNAZI1.EDUSITE.RU/</a:t>
            </a:r>
            <a:endParaRPr b="0" lang="en-US" sz="1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1282e"/>
                </a:solidFill>
                <a:latin typeface="Arial Black"/>
              </a:rPr>
              <a:t>ОБ ОФИЦИАЛЬНЫХ САЙТАХ В СЕТИ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9152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О СИСТЕМЕ ОЦЕНИВАНИЯ В 2013 ГОДУ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620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ПИ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 по использованию и интерпретации результатов выполнения экзаменационных работ для проведения ГИА выпускников основной школы в новой форме в 2013 г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484280"/>
          <a:ext cx="9036000" cy="564840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90600"/>
                <a:gridCol w="1290600"/>
                <a:gridCol w="1292400"/>
                <a:gridCol w="1289160"/>
                <a:gridCol w="1292040"/>
              </a:tblGrid>
              <a:tr h="10789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имальный балл для отбора в профильные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367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 менее 4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 по критериям ГК1-ГК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 менее 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 по критериям ГК1-Г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5160">
                <a:tc rowSpan="2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 каждому из модулей должно быть набрано не менее 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62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964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62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953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15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ДЕМОНСТРАЦИОННЫХ ВАРИАНТАХ КИМ</a:t>
            </a:r>
            <a:r>
              <a:rPr b="0" lang="ru-RU" sz="1800" spc="-1" strike="noStrike">
                <a:solidFill>
                  <a:srgbClr val="d1282e"/>
                </a:solidFill>
                <a:latin typeface="Arial Black"/>
              </a:rPr>
              <a:t>ОВ</a:t>
            </a: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В 2013ГОДУ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КИМов: демоверсия, спецификация, кодификатор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 Демоверсия- пробный вариант с ответами и системой оцен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фикация-распределение заданий по содержанию, видам умений и уровню сложности, время работы, система оцен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ификатор- перечень элементов содержания, проверяемого на ЕГЭ, перечень требований к уровню подготов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ФОРМАХ И ПОРЯДКЕ ПРОВЕДЕНИЯ АТТЕСТ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52120"/>
            <a:ext cx="8362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тестация  проводится  в  виде письменных экзаменов для всех обучающих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пуск до ГИ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учающиеся имеющие не более одной неудовлетворительной годовой отметки, с обязательной сдачей экзамена по данному предм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учающихся, имеющих одну неудовлетворительную годовую отметку, по предметам по выбору министерством образования устанавли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ый (пятый) экзамен в резервные д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ся не допущенным к итоговой аттестации  выдаё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правка об обучении в школе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 о допуске к государственной (итоговой) аттестации принимается педагогическим советом образовательного учреждения и оформляется приказом не поздне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5 м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ущего года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сударственная итоговая аттес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052720" y="126828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480" y="763560"/>
            <a:ext cx="8641440" cy="5690520"/>
            <a:chOff x="501480" y="763560"/>
            <a:chExt cx="8641440" cy="5690520"/>
          </a:xfrm>
        </p:grpSpPr>
        <p:grpSp>
          <p:nvGrpSpPr>
            <p:cNvPr id="149" name="Group 28"/>
            <p:cNvGrpSpPr/>
            <p:nvPr/>
          </p:nvGrpSpPr>
          <p:grpSpPr>
            <a:xfrm>
              <a:off x="501480" y="763560"/>
              <a:ext cx="8641440" cy="5690520"/>
              <a:chOff x="501480" y="763560"/>
              <a:chExt cx="8641440" cy="5690520"/>
            </a:xfrm>
          </p:grpSpPr>
          <p:sp>
            <p:nvSpPr>
              <p:cNvPr id="150" name="AutoShape 29"/>
              <p:cNvSpPr/>
              <p:nvPr/>
            </p:nvSpPr>
            <p:spPr>
              <a:xfrm>
                <a:off x="7274160" y="4792680"/>
                <a:ext cx="1866600" cy="1661400"/>
              </a:xfrm>
              <a:prstGeom prst="roundRect">
                <a:avLst>
                  <a:gd name="adj" fmla="val 4917"/>
                </a:avLst>
              </a:prstGeom>
              <a:solidFill>
                <a:srgbClr val="ff6600">
                  <a:alpha val="1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Ины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форм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30"/>
              <p:cNvGrpSpPr/>
              <p:nvPr/>
            </p:nvGrpSpPr>
            <p:grpSpPr>
              <a:xfrm>
                <a:off x="501480" y="763560"/>
                <a:ext cx="8641440" cy="3870000"/>
                <a:chOff x="501480" y="763560"/>
                <a:chExt cx="8641440" cy="3870000"/>
              </a:xfrm>
            </p:grpSpPr>
            <p:sp>
              <p:nvSpPr>
                <p:cNvPr id="152" name="Text Box 31"/>
                <p:cNvSpPr/>
                <p:nvPr/>
              </p:nvSpPr>
              <p:spPr>
                <a:xfrm>
                  <a:off x="703800" y="763560"/>
                  <a:ext cx="823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Г  И  А     в независимой форме – 9 класс: 4 экзаме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32"/>
                <p:cNvSpPr/>
                <p:nvPr/>
              </p:nvSpPr>
              <p:spPr>
                <a:xfrm>
                  <a:off x="501480" y="1470960"/>
                  <a:ext cx="8641440" cy="3162600"/>
                </a:xfrm>
                <a:prstGeom prst="roundRect">
                  <a:avLst>
                    <a:gd name="adj" fmla="val 4917"/>
                  </a:avLst>
                </a:prstGeom>
                <a:solidFill>
                  <a:srgbClr val="7a7a7a">
                    <a:alpha val="2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3"/>
                <p:cNvSpPr/>
                <p:nvPr/>
              </p:nvSpPr>
              <p:spPr>
                <a:xfrm>
                  <a:off x="2720880" y="2182320"/>
                  <a:ext cx="1985040" cy="632880"/>
                </a:xfrm>
                <a:prstGeom prst="rect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русски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язы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34"/>
                <p:cNvSpPr/>
                <p:nvPr/>
              </p:nvSpPr>
              <p:spPr>
                <a:xfrm>
                  <a:off x="5290560" y="2182320"/>
                  <a:ext cx="2232720" cy="632880"/>
                </a:xfrm>
                <a:prstGeom prst="rect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математик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3225960" y="1654200"/>
                  <a:ext cx="35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ОБЯЗАТЕЛЬНЫЕ ПРЕДМЕ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6"/>
                <p:cNvSpPr/>
                <p:nvPr/>
              </p:nvSpPr>
              <p:spPr>
                <a:xfrm>
                  <a:off x="2538000" y="3002040"/>
                  <a:ext cx="471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РЕДМЕТЫ ПО ВЫБОРУ ВЫПУСКНИ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7"/>
                <p:cNvSpPr/>
                <p:nvPr/>
              </p:nvSpPr>
              <p:spPr>
                <a:xfrm>
                  <a:off x="1317600" y="3448440"/>
                  <a:ext cx="8161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Н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8"/>
                <p:cNvSpPr/>
                <p:nvPr/>
              </p:nvSpPr>
              <p:spPr>
                <a:xfrm>
                  <a:off x="2249640" y="3448440"/>
                  <a:ext cx="105084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хим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9"/>
                <p:cNvSpPr/>
                <p:nvPr/>
              </p:nvSpPr>
              <p:spPr>
                <a:xfrm>
                  <a:off x="3416400" y="3448440"/>
                  <a:ext cx="1168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физ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40"/>
                <p:cNvSpPr/>
                <p:nvPr/>
              </p:nvSpPr>
              <p:spPr>
                <a:xfrm>
                  <a:off x="4700880" y="3448440"/>
                  <a:ext cx="163548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литерату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41"/>
                <p:cNvSpPr/>
                <p:nvPr/>
              </p:nvSpPr>
              <p:spPr>
                <a:xfrm>
                  <a:off x="1317600" y="3922560"/>
                  <a:ext cx="1402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биолог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2"/>
                <p:cNvSpPr/>
                <p:nvPr/>
              </p:nvSpPr>
              <p:spPr>
                <a:xfrm>
                  <a:off x="2833920" y="3922560"/>
                  <a:ext cx="140364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географ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3"/>
                <p:cNvSpPr/>
                <p:nvPr/>
              </p:nvSpPr>
              <p:spPr>
                <a:xfrm>
                  <a:off x="4353480" y="3922560"/>
                  <a:ext cx="1402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стор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4"/>
                <p:cNvSpPr/>
                <p:nvPr/>
              </p:nvSpPr>
              <p:spPr>
                <a:xfrm>
                  <a:off x="5873040" y="3922560"/>
                  <a:ext cx="233568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обществозн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5"/>
                <p:cNvSpPr/>
                <p:nvPr/>
              </p:nvSpPr>
              <p:spPr>
                <a:xfrm>
                  <a:off x="6455160" y="3448440"/>
                  <a:ext cx="175320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нформат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Text Box 46"/>
            <p:cNvSpPr/>
            <p:nvPr/>
          </p:nvSpPr>
          <p:spPr>
            <a:xfrm>
              <a:off x="7475400" y="5427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9900"/>
                  </a:solidFill>
                  <a:latin typeface="Arial"/>
                </a:rPr>
                <a:t>Щадящ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9900"/>
                  </a:solidFill>
                  <a:latin typeface="Arial"/>
                </a:rPr>
                <a:t>режи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41:04Z</dcterms:created>
  <dc:creator>Skiff</dc:creator>
  <dc:description/>
  <dc:language>en-US</dc:language>
  <cp:lastModifiedBy>user</cp:lastModifiedBy>
  <cp:lastPrinted>2012-12-13T12:37:56Z</cp:lastPrinted>
  <dcterms:modified xsi:type="dcterms:W3CDTF">2013-03-01T09:45:09Z</dcterms:modified>
  <cp:revision>99</cp:revision>
  <dc:subject/>
  <dc:title>Государственная (итоговая) аттестация в XI и XII классах в 2009 году</dc:title>
</cp:coreProperties>
</file>