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E27E-F785-4643-96AF-A72F7A45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BBD-C62A-4666-AD69-61EDC1DC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067-8240-4711-A4C9-2B152556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5A13-4852-43B2-99E8-47D5CAAF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3759-3563-455D-B97A-E164865B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EA41-FF67-48DB-BD91-8186AB9B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0264-CB20-44A7-91BB-6E9F1C67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1513-352B-486A-8485-A28F16A8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24EA-B218-4BC4-9EBB-BA063C59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DEB5-2EC4-48F6-817B-27FEB84F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49E3-6A78-4073-89A9-AA3BD9EB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11BE-5826-47F8-AACE-07D9E256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076A-ED6F-439E-96D6-AE285F90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1A7E-39C7-4A1F-9BB8-0F841E6F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B28F-924E-4AEF-8712-0878920E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13D1-B798-418F-A5FD-08E27CBA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FE5B-7F8B-44FC-A638-2068F0AA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2A301-B3D5-4169-A489-6F6F2270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49152-A10B-4D67-BB78-295B5E23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8CF9E-34DC-4B61-B08A-80209458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6F87A-8E0B-4BFA-87D8-4BCA9894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A30CC-664D-48AE-A370-3B81D173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B572-9D46-4E26-B406-8754B4D6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9D526-229D-4A1E-B432-CC0AE219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44CDE-3EF5-438A-BB8D-8BCB5983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6E1BF-264F-4B40-AF5E-809A95CA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24E49-C6C9-464A-8D8C-B1B6053D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1C949-E50A-4626-94E2-992003EC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DF77D-8398-4A90-AF09-C4FF4FB1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5AE73-D585-42B6-8ACA-145DF6F0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278A-1645-4F01-8F2D-E039D507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4A00-84A6-4136-8197-AD0E0C63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5744-97C5-4E91-B612-8CF62CE4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401E-4421-4C44-92BD-3EB59010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0F05-7F30-4130-9E00-259BCCB6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F85-1694-43B3-8AE5-29B571A1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E8F8-BBD4-4435-936F-4C2680C6F40A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86AA-DE7F-4053-ACD7-9F2CA7768B31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E080-3DE7-45B6-92F0-BF97BA9A0E4F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ia.edu.ru/" TargetMode="External"/><Relationship Id="rId2" Type="http://schemas.openxmlformats.org/officeDocument/2006/relationships/hyperlink" Target="http://gia.edu.ru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ГОСУДАРСТВЕННАЯ (ИТОГОВАЯ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ТТЕСТАЦИЯ В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X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КЛАССАХ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ПРЕДМЕТЫ ПО ВЫБОРУ, СООТВЕТСТВУЮЩИЕ ПРОФИЛЯМ ОБУЧЕНИЯ.</a:t>
            </a:r>
            <a:endParaRPr b="0" lang="en-US" sz="1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692280"/>
          <a:ext cx="8893080" cy="6153120"/>
        </p:xfrm>
        <a:graphic>
          <a:graphicData uri="http://schemas.openxmlformats.org/drawingml/2006/table">
            <a:tbl>
              <a:tblPr/>
              <a:tblGrid>
                <a:gridCol w="541080"/>
                <a:gridCol w="4024440"/>
                <a:gridCol w="4327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и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ы для ГИ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о-математ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 и ИКТ, физ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о-хим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, хим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ко-биолог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, хим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о-географ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, географ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о-эконом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остранный язык, обществознание, географ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о-гуманитар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, литература, иностранный язы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олог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, иностранный язы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-технолог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, информатика и ИКТ, биолог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ро-технолог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, география, физ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устриально-технолог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, информатика и ИК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жественно-эстет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, литера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онно-спортив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знание, история, физ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e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130320" y="404640"/>
            <a:ext cx="864072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довлетворительные результаты аттестац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общеобразовательным предметам являются основанием для выдачи обучающимс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ттестата об основном общем образова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едомости образовательных достиж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учающимся, не допущенные до ГИА, не прошедшие ГИ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ыдается справка об обучении в образовательном учреждении.  Право пройти аттестацию- не ранее, чем через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79280" y="1557360"/>
          <a:ext cx="8856720" cy="3330720"/>
        </p:xfrm>
        <a:graphic>
          <a:graphicData uri="http://schemas.openxmlformats.org/drawingml/2006/table">
            <a:tbl>
              <a:tblPr/>
              <a:tblGrid>
                <a:gridCol w="2544840"/>
                <a:gridCol w="1365120"/>
                <a:gridCol w="517680"/>
                <a:gridCol w="519120"/>
                <a:gridCol w="517680"/>
                <a:gridCol w="517320"/>
                <a:gridCol w="519120"/>
                <a:gridCol w="2355840"/>
              </a:tblGrid>
              <a:tr h="255600">
                <a:tc rowSpan="3"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Результаты государственной (итоговой) аттест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 rowSpan="3"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 gridSpan="6"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ильные предме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рофильные предме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т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ый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т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ксимальный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1023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. Обязательные экзамены за курс основной общей школы, установленные Министерством образования и науки РФ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Матема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Русский язы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51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. Экзамены по выбору обучающихс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</a:tbl>
          </a:graphicData>
        </a:graphic>
      </p:graphicFrame>
      <p:sp>
        <p:nvSpPr>
          <p:cNvPr id="173" name="Rectangle 1"/>
          <p:cNvSpPr/>
          <p:nvPr/>
        </p:nvSpPr>
        <p:spPr>
          <a:xfrm>
            <a:off x="108000" y="85320"/>
            <a:ext cx="89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до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тельных достижений обучающего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324000" y="668160"/>
          <a:ext cx="8351640" cy="5916960"/>
        </p:xfrm>
        <a:graphic>
          <a:graphicData uri="http://schemas.openxmlformats.org/drawingml/2006/table">
            <a:tbl>
              <a:tblPr/>
              <a:tblGrid>
                <a:gridCol w="1909440"/>
                <a:gridCol w="2832120"/>
                <a:gridCol w="2832120"/>
                <a:gridCol w="777960"/>
              </a:tblGrid>
              <a:tr h="182880">
                <a:tc gridSpan="4"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Индивидуальная накопительная оцен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840">
                <a:tc rowSpan="2"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. Элективные курс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, 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ксимально возможны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63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549360">
                <a:tc rowSpan="2"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. Олимпиа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 rowSpan="2"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(муниципальный, региональный, всероссийский, международны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зовое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549000">
                <a:tc rowSpan="2"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. Конкур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(муниципальный, региональный, всероссийский, международны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зовое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19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682560">
                <a:tc rowSpan="2"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. Спортив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сти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спор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соревнований (муниципальный, региональный, всероссийский, международны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зовое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228600">
                <a:tc rowSpan="3"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. Дополнительно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 rowSpan="2"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 rowSpan="2"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ные сертификата, свиде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347760">
                <a:tc rowSpan="2"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6. Образовательные кур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ные сертификата, свиде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</a:tbl>
          </a:graphicData>
        </a:graphic>
      </p:graphicFrame>
      <p:sp>
        <p:nvSpPr>
          <p:cNvPr id="175" name="Rectangle 1"/>
          <p:cNvSpPr/>
          <p:nvPr/>
        </p:nvSpPr>
        <p:spPr>
          <a:xfrm>
            <a:off x="108000" y="2376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до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тельных достижений обучаю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468360" y="638280"/>
          <a:ext cx="8207280" cy="6103800"/>
        </p:xfrm>
        <a:graphic>
          <a:graphicData uri="http://schemas.openxmlformats.org/drawingml/2006/table">
            <a:tbl>
              <a:tblPr/>
              <a:tblGrid>
                <a:gridCol w="2616120"/>
                <a:gridCol w="2933640"/>
                <a:gridCol w="2657520"/>
              </a:tblGrid>
              <a:tr h="677880"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Общий уровень учебных, внеучебных достижений, компетентностного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балл по «портфолио» обучающего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ксимальны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«портфоли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679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.Предметная компетент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677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.Функциональная грамот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677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.Социальная компетент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1017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.Общекультурная и поликультурная компетент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677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.Коммуникативная компетент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677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.Интеллектуальная компетент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339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</a:tbl>
          </a:graphicData>
        </a:graphic>
      </p:graphicFrame>
      <p:sp>
        <p:nvSpPr>
          <p:cNvPr id="177" name="Rectangle 1"/>
          <p:cNvSpPr/>
          <p:nvPr/>
        </p:nvSpPr>
        <p:spPr>
          <a:xfrm>
            <a:off x="108000" y="55080"/>
            <a:ext cx="892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до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тельных достижений обучающего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628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1282e"/>
                </a:solidFill>
                <a:latin typeface="Arial Black"/>
              </a:rPr>
              <a:t>ОБ УСЛОВИЯХ ОБУЧЕНИЯ НА СТАРШЕЙ СТУПЕНИ.  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197000"/>
            <a:ext cx="76201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числение в профильные классы проводиться в соответствии с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ложением о комплектовании профильных 10 классо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кументы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явление о приеме на имя руководителя образовательного учреждения( с 1мая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тестат об основном общем образовани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омость образовательных достижений, включая «портфолио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лучае если количество поданных заявлений превышает количество мест в профильном классе, прием выпускников 9-ых классов осуществляется на основании ведомости образовательных достижен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628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1282e"/>
                </a:solidFill>
                <a:latin typeface="Arial Black"/>
              </a:rPr>
              <a:t>О СРОКАХ И МЕСТАХ И ПОРЯДКЕ ПОДАЧИ ЗАЯВЛЕНИЯ О СДАЧЕ ЭКЗАМЕНОВ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2349000"/>
            <a:ext cx="7786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о 10.12.201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образовательном учрежден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2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О ПРОЦЕДУРЕ ПРОВЕДЕНИЯ ГИА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ало экзамена 10.00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кументы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паспорт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черная гелиевая ручка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разрешенные справочные материал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3588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О ПРОЦЕДУРЕ ПРОВЕДЕНИЯ ГИА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6840" y="1752120"/>
            <a:ext cx="7620120" cy="437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0" y="698400"/>
          <a:ext cx="8856720" cy="6218280"/>
        </p:xfrm>
        <a:graphic>
          <a:graphicData uri="http://schemas.openxmlformats.org/drawingml/2006/table">
            <a:tbl>
              <a:tblPr/>
              <a:tblGrid>
                <a:gridCol w="360360"/>
                <a:gridCol w="1152360"/>
                <a:gridCol w="2232360"/>
                <a:gridCol w="5111640"/>
              </a:tblGrid>
              <a:tr h="42084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олжительность экзам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полнительные материа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12272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 минут (3 часа 55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авочные материалы: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ца квадратов двузначных чисел, формулы корней квадратного уравнения,разложения на множители квадратного трехчлена, формулы n-го члена и суммы n первых членов арифметической и геометрической прогрессий, основные формулы из курса геометри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Разрешается использовать линейк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лькуляторы на экзамене не используют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2102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 минут (3 часа 55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фографические словар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206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минут (2 часа 20 мину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спользу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4204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минут (2 час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ейка, непрограммируемый калькулятор, географические атласы для 7, 8 и 9 классов (любого издательств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8413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минут (2 час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ериодическая система химических элементов Д.И. Менделеев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таблица растворимости солей, кислот и оснований в вод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электрохимический ряд напряжений металл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епрограммируемый калькулято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2113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2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минут (3 час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спользу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10508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остранные языки (английский, немецкий, французский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минут (2 часа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устного ответа одного отвечающего -6 минут, подготовка к устному ответу-10 мину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овоспроизводящая и звукозаписывающая аппаратура, часы, аудиокассеты или компакт–диски (CD) с материалами для выполнения заданий раздела 1 (задания по аудированию) и для записи ответов экзаменуемых в разделе 5 (задания по говорению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4208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 и И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минут (2,5 часа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3 выполняются учащимися на компьютер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3538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минут (3 часа 55 минут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ы художественных произведений, а также сборники лир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4208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зн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минут (3 час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спользу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4201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минут (3 час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граммируемый калькулятор (на каждого ученика) и экспериментальное оборуд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3588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О ПРОЦЕДУРЕ ПРОВЕДЕНИЯ ГИА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640" y="981000"/>
            <a:ext cx="87850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остальное, что не входит в данный перечень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е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использовать на экзамене запрещено, в том числе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бильные телефоны или иные средства связ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любые электронно-вычислительные устройства и справочные материалы и устройства, кроме тех, которые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тверждены Рособрнадзор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качестве дополнительных устройств и материалов, используемых по отдельным предмета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акже запрещаются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разговор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вставания с мес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пересажива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обмен любыми материалами и предметам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хождение по ППЭ во время экзамена без сопровожд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Саратовской област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341 от 27.12.201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Об утверждении порядка информирования участников государственной (итоговой) аттестации и их родителей по вопросам организации и проведения государственной (итоговой) аттестации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3588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О ПРОЦЕДУРЕ ПРОВЕДЕНИЯ ГИА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7640" y="1052280"/>
            <a:ext cx="8785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 нарушении этих правил и отказе в их соблюдении ( пункт 6.20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рганизаторы совместно с уполномоченным представителем РЭК вправе удалить участника ГИА с экзамена с внесением записи в протокол проведения экзамена в аудитории с указанием причины удал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заменационная работа такого участника ГИ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проверяет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3588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О ПРОЦЕДУРЕ ПРОВЕДЕНИЯ ГИА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 заполнения бланк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случаях обнаружения брака или некомплектности экзаменационных материалов организаторы выдают новый комплект. Заполнение бланков осуществляется черной гелиевой ручкой в соответствии с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авила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разцу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время экзамена можно выходить из аудитории только в сопровождении организатор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учающиеся, завершившие выполнение экзаменационной работы досрочно, могут сдать её организаторам и покинуть аудиторию. За 15 минут до окончания экзамена досрочная сдача прекращаетс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полнительный бланк №2 выдается по требованию выпускника при полном заполнении основного бланка №2, их количество не ограничено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94" name="Picture 3" descr="Z:\ВЕЮ\почта\2013\2 2013\28.02.2013\РусБл1.png"/>
          <p:cNvPicPr/>
          <p:nvPr/>
        </p:nvPicPr>
        <p:blipFill>
          <a:blip r:embed="rId1"/>
          <a:stretch/>
        </p:blipFill>
        <p:spPr>
          <a:xfrm>
            <a:off x="222120" y="115920"/>
            <a:ext cx="3541680" cy="50115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3" descr=""/>
          <p:cNvPicPr/>
          <p:nvPr/>
        </p:nvPicPr>
        <p:blipFill>
          <a:blip r:embed="rId2"/>
          <a:stretch/>
        </p:blipFill>
        <p:spPr>
          <a:xfrm>
            <a:off x="2700360" y="1052640"/>
            <a:ext cx="3543120" cy="501336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"/>
          <p:cNvPicPr/>
          <p:nvPr/>
        </p:nvPicPr>
        <p:blipFill>
          <a:blip r:embed="rId3"/>
          <a:stretch/>
        </p:blipFill>
        <p:spPr>
          <a:xfrm>
            <a:off x="5656320" y="2060640"/>
            <a:ext cx="35431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5788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О СРОКАХ ПРОВЕДЕНИЯ ГИА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836280"/>
            <a:ext cx="821844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28.05.2013 математи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31.05.2013 1 день по выбор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04.06.2013 русский язы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07.06.2013 2 день по выбор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.06.2013 резерв: математика, история, география, биология, физика, ин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4.06.2013 резерв: русский язык, обществознание, химия, информатика, литератур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вторная аттестация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25.06.2013 русский язык     28.06.2013 математи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каз Министерства образования  СО от 25.02.2013 № 52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АПЕЛЛЯ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нарушении процедуры проведени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ударственной (итоговой) аттестации в ППЭ, при этом под нарушением процедуры понимаются любые отступления от установленного порядка и требований к процедуре проведения экзаменов, которые могли оказать существенное негативное влияние на качество выполнения экзаменационных работ обучающимися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несогласии с выставленными баллами (отметкой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АПЕЛЛЯ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197000"/>
            <a:ext cx="76201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пелляция о нарушении процедуры проведения государственной (итоговой) аттестации подается обучающимся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посредственно в день проведения экзамена до выхода из ППЭ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ителю ППЭ или уполномоченному представителю региональной экзаменационной комисси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я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об отклонении апелляции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об удовлетворении апелляци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оследнем случае результат проведения государственной (итоговой) аттестации подлежит аннулированию и обучающемуся предоставляется возможность сдать экзамен по соответствующему общеобразовательному предмету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сроки повторной аттестаци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АПЕЛЛЯ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981000"/>
            <a:ext cx="762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пелляция о несогласии с выставленными баллами (отметкой) подается  в течение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 дне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ителю общеобразовательного  учреждения. Апелляция рассматривается в течение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3-х дне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ее подачи по желанию обучающегося в его присутствии или заочн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я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 отклонении апелляции и сохранении выставленных баллов (отметки)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 удовлетворении апелляции и выставлении других баллов (отметки) (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как в сторону увеличения, так и  в сторону уменьш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ная информация в день завершения рассмотрения апелляций по соответствующему предмету передается Комиссией в ОГУ «РЦОКО» для внесения соответствующих изменений в протоколы о результатах государственной (итоговой) аттестации. Измененные протоколы о результатах государственной (итоговой) аттестации являются основанием для аннулирования ранее выставленных баллов и выставления новых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О МЕСТАХ РАСПОЛОЖЕНИЯ ППЭ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БОУ СОШ №25 ( ППЭ 134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878544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282e"/>
                </a:solidFill>
                <a:latin typeface="Arial Black"/>
              </a:rPr>
              <a:t>О ПОЛУЧЕНИИ РАЗРЕШЕНИЯ НА УЧАСТИЕ В ГИА ПРИ ПРОПУСКЕ ЭКЗАМЕНА В ОСНОВНЫЕ СРОКИ ПО УВАЖИТЕЛЬНОЙ ПРИЧИНЕ, ПРИ ДОСРОЧНОМ ЗАВЕРШЕНИИ ЭКЗАМЕНА, ПРИ АННУЛИРОВАНИИ РЕЗУЛЬТАТОВ РЭК</a:t>
            </a:r>
            <a:endParaRPr b="0" lang="en-US" sz="1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341000"/>
            <a:ext cx="8578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4.  По  решению РЭК  повторно  допускаются  к  сдаче  экзаменов : ( не позднее 31 августа ), следующие обучающиеся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* получившие на Аттестации неудовлетворительные результаты не более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м по двум общеобразовательным предметам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* не сдававшие экзамены по уважительным причинам (болезнь или иные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стоятельства, подтвержденные документально)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* не  завершившие  выполнение  экзаменационной  работы  по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важительным причинам (болезнь или иные обстоятельства, подтвержденные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кументально)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* результаты которых были аннулированы РЭК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ументы, подтверждающие уважительную причину невозможности прохождения ГИА в установленные сроки,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необходимо предоставить в день проведения экзамена  на ППЭ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ОБ УДАЛЕНИИ С ЭКЗАМЕНА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692280"/>
            <a:ext cx="85788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20.  Во  время  экзамена  обучающиеся  должны  соблюдать установленный  порядок  проведения  экзамена  и  следовать  указаниям организаторов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 время экзамена обучающиеся не вправе  общаться друг с другом,  свободно  перемещаться  по  аудитории,  пользоваться справочными материалами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аудиториях во время проведения экзаменов обучающимся и лицам, привлекаемым  к  проведению  экзамена,  запрещается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еть  при  себе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использовать  средства  связи  и  электронно-вычислительной  техники, справочные  материалы,  за  исключением  случаев,  когда  использование электронно-вычислительной техники, справочных материалов предусмотрено процедурой  проведения  экзамена  по  соответствующему общеобразовательному предмету. При установлении факта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наличия и (или) использован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азанными лицами  средств  связи  и  электронно-вычислительной  техники  во  время проведения  экзамена  или  иного  нарушения  ими  установленного  порядка проведения  экзаменов,  уполномоченные  представители  РЭК  удаляют указанных лиц из ППЭ и составляют акт об удалении с экзамена. Акт об удалении с экзамена в тот же день направляется в РЦОКО для учета при обработке бланков Аттестац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1282e"/>
                </a:solidFill>
                <a:latin typeface="Arial Black"/>
              </a:rPr>
              <a:t>НОРМАТИВНО-ПРАВОВАЯ БАЗА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4360" y="1267920"/>
            <a:ext cx="76327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Саратовской области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т 29 ноября 2012 г. N 410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"Об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утверждении положения об организации и проведении государственной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(итоговой) аттестации обучающихся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классов, освоивших основные общеобразовательные программы основного общего образования, с участием региональной экзаменационной комиссии Саратовской области»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Саратовской области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т 24.01.2013 г. N 18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"Об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утверждении ведомости образовательных достижений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бучающихся, освоивших основные общеобразовательные программы основного общего образования»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Саратовской области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т 25.02.2013 г. N 528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"Об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утверждении сроков проведения государственной (итоговой) аттестации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бучающихся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классов, освоивших основные общеобразовательные программы основного общего образования, с участием региональной экзаменационной комиссии Саратовской области в 2013 году»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628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1282e"/>
                </a:solidFill>
                <a:latin typeface="Arial Black"/>
              </a:rPr>
              <a:t>О ПРОВЕРКЕ ЭКЗАМЕНАЦИОННЫХ РАБОТ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12500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1.  РЦОКО  обеспечивает  предметные  комиссии  обезличенными копиями экзаменационных работ обучающихс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2. Срок работы предметных комиссий по русскому языку и математике составляе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 более п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лендарных дней, по другим общеобразовательным предметам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 более трех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лендарных дне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507520" cy="16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О СРОКАХ, МЕСТАХ И ПОРЯДКЕ ИНФОРМИРОВАНИЯ О РЕЗУЛЬТАТАХ ГИА 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 СО 1 рабочий день  после формирования электронного протокол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 БМР в течение 1дня после утверждения РЭК результато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У в течение 3-х рабочих дней  после  утверждения  РЭК результатов  Аттестац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знакомление участников ГИ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образовательном учреждении под личную  подпись в день получения результат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244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ОБ ИНФОРМИРОВАНИИ О СРОКАХ, МЕСТАХ РАССМОТРЕНИЯ АПЕЛЛЯЦИЙ 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2924280"/>
            <a:ext cx="76201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щение на сайте министерства  образования в день утверждения РЭК результатов Аттест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1282e"/>
                </a:solidFill>
                <a:latin typeface="Arial Black"/>
              </a:rPr>
              <a:t>ОБ ИНФОРМИРОВАНИИ ОБ ОКОНЧАТЕЛЬНЫХ РЕЗУЛЬТАТАХ РАССМОТРЕНИЯ АПЕЛЛЯЦИЙ (ПОСЛЕ УТВЕРЖДЕНИЯ РЭК)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2060280"/>
            <a:ext cx="76201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 СО 1 рабочий день  после формирования электронного протокол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 БМР в течение 1дня после утверждения РЭК результато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У в течение 3-х рабочих дней  после  утверждения  РЭК результатов  Аттестац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знакомление участников ГИ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ОУ под личную  подпис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айте гимназ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 по информированию обучающихся 9 классов и их родителей по вопросам организации и  проведения государственной (итоговой) аттестации в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0" y="0"/>
          <a:ext cx="9144000" cy="6740640"/>
        </p:xfrm>
        <a:graphic>
          <a:graphicData uri="http://schemas.openxmlformats.org/drawingml/2006/table">
            <a:tbl>
              <a:tblPr/>
              <a:tblGrid>
                <a:gridCol w="1285920"/>
                <a:gridCol w="2000160"/>
                <a:gridCol w="1714680"/>
                <a:gridCol w="679320"/>
                <a:gridCol w="677880"/>
                <a:gridCol w="696960"/>
                <a:gridCol w="696960"/>
                <a:gridCol w="695160"/>
                <a:gridCol w="696960"/>
              </a:tblGrid>
              <a:tr h="205920">
                <a:tc rowSpan="2"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ение с результатами 2 ч.12-13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датова Л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анова Н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овлева С.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дина Т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икова Е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анова Н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 rowSpan="3"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/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rowSpan="9"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ы по выбо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дрова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анова Н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дина Т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вакова О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шина Т.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нова Н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-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гунцова О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дочникова А.Е., Храмова Е.И., Чистопрудова Е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емова Е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дряшова Е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-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ы по выбо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РЕПЕТИЦИОННЫЙ ЭКЗАМЕН.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каз  Министерства образования Саратовской област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_______________ №________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каз  Комитета образования БМ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_______________ №________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каз  МАОУ Гимназия №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_______________ №________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1282e"/>
                </a:solidFill>
                <a:latin typeface="Arial Black"/>
              </a:rPr>
              <a:t>О РАБОТЕ ТЕЛЕФОНОВ «ГОРЯЧАЯ ЛИНИЯ»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ефоны для обращений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ОУ Гимназия №1: р/т 44-31-80 (с/т 89271523619), Вилкова Елена Юрьевна, заместитель директора по УВР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итет образования БМР: 44-03-81. Режим работы телефона "горячей линии": с понедельника по пятницу, с 08.00 до 12.00 и с 14.00 до 18.00. На вопросы будет отвечать Солдатова Екатерина Владимировна, заместитель председателя Комитета образова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ФИЦИАЛЬНЫЙ ИНФОРМАЦИОННЫЙ ПОРТАЛ ГОСУДАРСТВЕННОЙ ИТОГОВОЙ АТТЕСТАЦИИ. 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GIA.EDU.RU</a:t>
            </a:r>
            <a:r>
              <a:rPr b="0" lang="ru-RU" sz="16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/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ФИЦИАЛЬНЫЙ ИНФОРМАЦИОННЫЙ ПОРТАЛ ЕДИНОГО ГОСУДАРСТВЕННОГО ЭКЗАМЕНА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WWW.EGE.EDU.RU/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ЙТ ФЕДЕРАЛЬНОГО ИНСТИТУТА ПЕДАГОГИЧЕСКИХ ИЗМЕРЕНИЙ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WWW.FIPI.RU/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ФИЦИАЛЬНЫЙ САЙТ ФГБУ "ФЕДЕРАЛЬНЫЙ ЦЕНТР ТЕСТИРОВАНИЯ" (ОРГАНИЗАЦИОННО-ТЕХНОЛОГИЧЕСКОЕ СОПРОВОЖДЕНИЕ ЕДИНОГО ГОСУДАРСТВЕННОГО ЭКЗАМЕНА)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WWW.RUSTEST.RU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ФИЦИАЛЬНЫЙ САЙТ ГКУ "РЕГИОНАЛЬНЫЙ ЦЕНТР ОЦЕНКИ КАЧЕСТВА ОБРАЗОВАНИЯ" (РЦОКО)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SARRCOKO.RU/INDEX.PH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СТЕРСТВО ОБРАЗОВАНИЯ И НАУКИ РОССИЙСКОЙ ФЕДЕРАЦИИ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MON.GOV.RU/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СТЕРСТВО ОБРАЗОВАНИЯ САРАТОВСКОЙ ОБЛАСТИ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MINOBR.SARATOV.GOV.RU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ИТЕТ ОБРАЗОВАНИЯ БМР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XN----8SBACH7BEGXGB.XN--P1AI/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ОУ ГИМНАЗИЯ №1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WWW.GIMNAZI1.EDUSITE.RU/</a:t>
            </a:r>
            <a:endParaRPr b="0" lang="en-US" sz="1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d1282e"/>
                </a:solidFill>
                <a:latin typeface="Arial Black"/>
              </a:rPr>
              <a:t>ОБ ОФИЦИАЛЬНЫХ САЙТАХ В СЕТИ ИНТЕРНЕ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91520" cy="3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1282e"/>
                </a:solidFill>
                <a:latin typeface="Arial Black"/>
              </a:rPr>
              <a:t>О СИСТЕМЕ ОЦЕНИВАНИЯ В 2013 ГОДУ</a:t>
            </a:r>
            <a:endParaRPr b="0" lang="en-US" sz="2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62064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ПИ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екомендации по использованию и интерпретации результатов выполнения экзаменационных работ для проведения ГИА выпускников основной школы в новой форме в 2013 год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1484280"/>
          <a:ext cx="9036000" cy="5648400"/>
        </p:xfrm>
        <a:graphic>
          <a:graphicData uri="http://schemas.openxmlformats.org/drawingml/2006/table">
            <a:tbl>
              <a:tblPr/>
              <a:tblGrid>
                <a:gridCol w="1290600"/>
                <a:gridCol w="1290600"/>
                <a:gridCol w="1290600"/>
                <a:gridCol w="1290600"/>
                <a:gridCol w="1292400"/>
                <a:gridCol w="1289160"/>
                <a:gridCol w="1292040"/>
              </a:tblGrid>
              <a:tr h="107892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ксимальны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3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4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5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нимальный балл для отбора в профильные клас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136764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-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не менее 4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ов по критериям ГК1-ГК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-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не менее 6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ов по критериям ГК1-ГК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245160">
                <a:tc rowSpan="2"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-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-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 каждому из модулей должно быть набрано не менее 2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-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4588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-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24516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-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-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4624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-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49644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-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4516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-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-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24624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-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-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4516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-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-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-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49536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тика и И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9152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1282e"/>
                </a:solidFill>
                <a:latin typeface="Arial Black"/>
              </a:rPr>
              <a:t>О ДЕМОНСТРАЦИОННЫХ ВАРИАНТАХ КИМ</a:t>
            </a:r>
            <a:r>
              <a:rPr b="0" lang="ru-RU" sz="1800" spc="-1" strike="noStrike">
                <a:solidFill>
                  <a:srgbClr val="d1282e"/>
                </a:solidFill>
                <a:latin typeface="Arial Black"/>
              </a:rPr>
              <a:t>ОВ</a:t>
            </a:r>
            <a:r>
              <a:rPr b="0" lang="ru-RU" sz="2400" spc="-1" strike="noStrike">
                <a:solidFill>
                  <a:srgbClr val="d1282e"/>
                </a:solidFill>
                <a:latin typeface="Arial Black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d1282e"/>
                </a:solidFill>
                <a:latin typeface="Arial Black"/>
              </a:rPr>
              <a:t>В 2013ГОДУ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 КИМов: демоверсия, спецификация, кодификатор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 Демоверсия- пробный вариант с ответами и системой оценива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ецификация-распределение заданий по содержанию, видам умений и уровню сложности, время работы, система оценива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дификатор- перечень элементов содержания, проверяемого на ЕГЭ, перечень требований к уровню подготовк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4247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О ФОРМАХ И ПОРЯДКЕ ПРОВЕДЕНИЯ АТТЕСТА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752120"/>
            <a:ext cx="8362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ттестация  проводится  в  виде письменных экзаменов для всех обучающихс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ласс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Допуск до ГИ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бучающиеся имеющие не более одной неудовлетворительной годовой отметки, с обязательной сдачей экзамена по данному предмет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обучающихся, имеющих одну неудовлетворительную годовую отметку, по предметам по выбору министерством образования устанавливается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дополнительный (пятый) экзамен в резервные д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ающимся не допущенным к итоговой аттестации  выдаётся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правка об обучении в школе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шение о допуске к государственной (итоговой) аттестации принимается педагогическим советом образовательного учреждения и оформляется приказом не поздне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25 ма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кущего года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осударственная итоговая аттест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2052720" y="126828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7"/>
          <p:cNvGrpSpPr/>
          <p:nvPr/>
        </p:nvGrpSpPr>
        <p:grpSpPr>
          <a:xfrm>
            <a:off x="501480" y="763560"/>
            <a:ext cx="8641440" cy="5690520"/>
            <a:chOff x="501480" y="763560"/>
            <a:chExt cx="8641440" cy="5690520"/>
          </a:xfrm>
        </p:grpSpPr>
        <p:grpSp>
          <p:nvGrpSpPr>
            <p:cNvPr id="149" name="Group 28"/>
            <p:cNvGrpSpPr/>
            <p:nvPr/>
          </p:nvGrpSpPr>
          <p:grpSpPr>
            <a:xfrm>
              <a:off x="501480" y="763560"/>
              <a:ext cx="8641440" cy="5690520"/>
              <a:chOff x="501480" y="763560"/>
              <a:chExt cx="8641440" cy="5690520"/>
            </a:xfrm>
          </p:grpSpPr>
          <p:sp>
            <p:nvSpPr>
              <p:cNvPr id="150" name="AutoShape 29"/>
              <p:cNvSpPr/>
              <p:nvPr/>
            </p:nvSpPr>
            <p:spPr>
              <a:xfrm>
                <a:off x="7274160" y="4792680"/>
                <a:ext cx="1866600" cy="1661400"/>
              </a:xfrm>
              <a:prstGeom prst="roundRect">
                <a:avLst>
                  <a:gd name="adj" fmla="val 4917"/>
                </a:avLst>
              </a:prstGeom>
              <a:solidFill>
                <a:srgbClr val="ff6600">
                  <a:alpha val="1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000000"/>
                    </a:solidFill>
                    <a:latin typeface="Arial"/>
                  </a:rPr>
                  <a:t>Ины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000000"/>
                    </a:solidFill>
                    <a:latin typeface="Arial"/>
                  </a:rPr>
                  <a:t>форм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Group 30"/>
              <p:cNvGrpSpPr/>
              <p:nvPr/>
            </p:nvGrpSpPr>
            <p:grpSpPr>
              <a:xfrm>
                <a:off x="501480" y="763560"/>
                <a:ext cx="8641440" cy="3870000"/>
                <a:chOff x="501480" y="763560"/>
                <a:chExt cx="8641440" cy="3870000"/>
              </a:xfrm>
            </p:grpSpPr>
            <p:sp>
              <p:nvSpPr>
                <p:cNvPr id="152" name="Text Box 31"/>
                <p:cNvSpPr/>
                <p:nvPr/>
              </p:nvSpPr>
              <p:spPr>
                <a:xfrm>
                  <a:off x="703800" y="763560"/>
                  <a:ext cx="8233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Г  И  А     в независимой форме – 9 класс: 4 экзамен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AutoShape 32"/>
                <p:cNvSpPr/>
                <p:nvPr/>
              </p:nvSpPr>
              <p:spPr>
                <a:xfrm>
                  <a:off x="501480" y="1470960"/>
                  <a:ext cx="8641440" cy="3162600"/>
                </a:xfrm>
                <a:prstGeom prst="roundRect">
                  <a:avLst>
                    <a:gd name="adj" fmla="val 4917"/>
                  </a:avLst>
                </a:prstGeom>
                <a:solidFill>
                  <a:srgbClr val="7a7a7a">
                    <a:alpha val="27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Rectangle 33"/>
                <p:cNvSpPr/>
                <p:nvPr/>
              </p:nvSpPr>
              <p:spPr>
                <a:xfrm>
                  <a:off x="2720880" y="2182320"/>
                  <a:ext cx="1985040" cy="632880"/>
                </a:xfrm>
                <a:prstGeom prst="rect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c8c8b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ffffff"/>
                      </a:solidFill>
                      <a:latin typeface="Arial"/>
                    </a:rPr>
                    <a:t>русский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ffffff"/>
                      </a:solidFill>
                      <a:latin typeface="Arial"/>
                    </a:rPr>
                    <a:t>язык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Rectangle 34"/>
                <p:cNvSpPr/>
                <p:nvPr/>
              </p:nvSpPr>
              <p:spPr>
                <a:xfrm>
                  <a:off x="5290560" y="2182320"/>
                  <a:ext cx="2232720" cy="632880"/>
                </a:xfrm>
                <a:prstGeom prst="rect">
                  <a:avLst/>
                </a:prstGeom>
                <a:solidFill>
                  <a:srgbClr val="000000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c8c8b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ffffff"/>
                      </a:solidFill>
                      <a:latin typeface="Arial"/>
                    </a:rPr>
                    <a:t>математик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35"/>
                <p:cNvSpPr/>
                <p:nvPr/>
              </p:nvSpPr>
              <p:spPr>
                <a:xfrm>
                  <a:off x="3225960" y="1654200"/>
                  <a:ext cx="3557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ОБЯЗАТЕЛЬНЫЕ ПРЕДМЕТ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Text Box 36"/>
                <p:cNvSpPr/>
                <p:nvPr/>
              </p:nvSpPr>
              <p:spPr>
                <a:xfrm>
                  <a:off x="2538000" y="3002040"/>
                  <a:ext cx="4714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ПРЕДМЕТЫ ПО ВЫБОРУ ВЫПУСКНИК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37"/>
                <p:cNvSpPr/>
                <p:nvPr/>
              </p:nvSpPr>
              <p:spPr>
                <a:xfrm>
                  <a:off x="1317600" y="3448440"/>
                  <a:ext cx="816120" cy="39564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c8c8b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333300"/>
                      </a:solidFill>
                      <a:latin typeface="Arial"/>
                    </a:rPr>
                    <a:t>ИНО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38"/>
                <p:cNvSpPr/>
                <p:nvPr/>
              </p:nvSpPr>
              <p:spPr>
                <a:xfrm>
                  <a:off x="2249640" y="3448440"/>
                  <a:ext cx="1050840" cy="39564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c8c8b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333300"/>
                      </a:solidFill>
                      <a:latin typeface="Arial"/>
                    </a:rPr>
                    <a:t>хими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Rectangle 39"/>
                <p:cNvSpPr/>
                <p:nvPr/>
              </p:nvSpPr>
              <p:spPr>
                <a:xfrm>
                  <a:off x="3416400" y="3448440"/>
                  <a:ext cx="1168920" cy="39564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c8c8b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333300"/>
                      </a:solidFill>
                      <a:latin typeface="Arial"/>
                    </a:rPr>
                    <a:t>физик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40"/>
                <p:cNvSpPr/>
                <p:nvPr/>
              </p:nvSpPr>
              <p:spPr>
                <a:xfrm>
                  <a:off x="4700880" y="3448440"/>
                  <a:ext cx="1635480" cy="39564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c8c8b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333300"/>
                      </a:solidFill>
                      <a:latin typeface="Arial"/>
                    </a:rPr>
                    <a:t>литератур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41"/>
                <p:cNvSpPr/>
                <p:nvPr/>
              </p:nvSpPr>
              <p:spPr>
                <a:xfrm>
                  <a:off x="1317600" y="3922560"/>
                  <a:ext cx="1402920" cy="39564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c8c8b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333300"/>
                      </a:solidFill>
                      <a:latin typeface="Arial"/>
                    </a:rPr>
                    <a:t>биологи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42"/>
                <p:cNvSpPr/>
                <p:nvPr/>
              </p:nvSpPr>
              <p:spPr>
                <a:xfrm>
                  <a:off x="2833920" y="3922560"/>
                  <a:ext cx="1403640" cy="39564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c8c8b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333300"/>
                      </a:solidFill>
                      <a:latin typeface="Arial"/>
                    </a:rPr>
                    <a:t>географи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43"/>
                <p:cNvSpPr/>
                <p:nvPr/>
              </p:nvSpPr>
              <p:spPr>
                <a:xfrm>
                  <a:off x="4353480" y="3922560"/>
                  <a:ext cx="1402920" cy="39564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c8c8b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333300"/>
                      </a:solidFill>
                      <a:latin typeface="Arial"/>
                    </a:rPr>
                    <a:t>истори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Rectangle 44"/>
                <p:cNvSpPr/>
                <p:nvPr/>
              </p:nvSpPr>
              <p:spPr>
                <a:xfrm>
                  <a:off x="5873040" y="3922560"/>
                  <a:ext cx="2335680" cy="39564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c8c8b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333300"/>
                      </a:solidFill>
                      <a:latin typeface="Arial"/>
                    </a:rPr>
                    <a:t>обществознание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45"/>
                <p:cNvSpPr/>
                <p:nvPr/>
              </p:nvSpPr>
              <p:spPr>
                <a:xfrm>
                  <a:off x="6455160" y="3448440"/>
                  <a:ext cx="1753200" cy="39564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c8c8b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333300"/>
                      </a:solidFill>
                      <a:latin typeface="Arial"/>
                    </a:rPr>
                    <a:t>информатик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7" name="Text Box 46"/>
            <p:cNvSpPr/>
            <p:nvPr/>
          </p:nvSpPr>
          <p:spPr>
            <a:xfrm>
              <a:off x="7475400" y="5427720"/>
              <a:ext cx="1489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9900"/>
                  </a:solidFill>
                  <a:latin typeface="Arial"/>
                </a:rPr>
                <a:t>Щадящи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9900"/>
                  </a:solidFill>
                  <a:latin typeface="Arial"/>
                </a:rPr>
                <a:t>режи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2:41:04Z</dcterms:created>
  <dc:creator>Skiff</dc:creator>
  <dc:description/>
  <dc:language>en-US</dc:language>
  <cp:lastModifiedBy>user</cp:lastModifiedBy>
  <cp:lastPrinted>2012-12-13T12:37:56Z</cp:lastPrinted>
  <dcterms:modified xsi:type="dcterms:W3CDTF">2013-03-01T09:45:09Z</dcterms:modified>
  <cp:revision>99</cp:revision>
  <dc:subject/>
  <dc:title>Государственная (итоговая) аттестация в XI и XII классах в 2009 году</dc:title>
</cp:coreProperties>
</file>