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8CF-8F1E-4542-A7E6-62291C91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4FE-3354-49D7-AFD4-BCD2C93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CB5-B455-43F7-9AA5-C805C34A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6A4-97CE-4B30-8678-E6A3B327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4DC-F5D0-4A7C-A547-E7F3BF9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3F7-E0EA-4990-9D69-EBCBED7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047-7D3D-4DFE-B735-03CC3AC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6AA-D3C5-48B3-A6BC-0DE5B621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704-A37E-4F0E-9FED-ABB7AEE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CF4-B1B6-4EA2-B6FC-D7587C8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7E2-8E85-467D-9DE0-73750797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0DE-35A7-431E-9496-AC0F062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C0A-8637-4018-B383-53B3474C45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ukat.ua/" TargetMode="External"/><Relationship Id="rId2" Type="http://schemas.openxmlformats.org/officeDocument/2006/relationships/hyperlink" Target="http://www.familyhome.ru/" TargetMode="External"/><Relationship Id="rId3" Type="http://schemas.openxmlformats.org/officeDocument/2006/relationships/hyperlink" Target="http://www.kanstovary.ru/published/publicdata/KANS/attachments/SC/products_pictures/963101a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игиена жилищ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4868640"/>
            <a:ext cx="3203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ec000"/>
              </a:solidFill>
              <a:latin typeface="Tahoma"/>
            </a:endParaRPr>
          </a:p>
        </p:txBody>
      </p:sp>
      <p:pic>
        <p:nvPicPr>
          <p:cNvPr id="43" name="Picture 14" descr="p0104"/>
          <p:cNvPicPr/>
          <p:nvPr/>
        </p:nvPicPr>
        <p:blipFill>
          <a:blip r:embed="rId1"/>
          <a:stretch/>
        </p:blipFill>
        <p:spPr>
          <a:xfrm>
            <a:off x="5867280" y="4599000"/>
            <a:ext cx="2556000" cy="225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c8defe0c42fb8f3c58b5ef23f68494df"/>
          <p:cNvPicPr/>
          <p:nvPr/>
        </p:nvPicPr>
        <p:blipFill>
          <a:blip r:embed="rId1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628"/>
          <p:cNvPicPr/>
          <p:nvPr/>
        </p:nvPicPr>
        <p:blipFill>
          <a:blip r:embed="rId2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22"/>
          <p:cNvPicPr/>
          <p:nvPr/>
        </p:nvPicPr>
        <p:blipFill>
          <a:blip r:embed="rId3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klin2"/>
          <p:cNvPicPr/>
          <p:nvPr/>
        </p:nvPicPr>
        <p:blipFill>
          <a:blip r:embed="rId4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31-1877"/>
          <p:cNvPicPr/>
          <p:nvPr/>
        </p:nvPicPr>
        <p:blipFill>
          <a:blip r:embed="rId5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indow7"/>
          <p:cNvPicPr/>
          <p:nvPr/>
        </p:nvPicPr>
        <p:blipFill>
          <a:blip r:embed="rId6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 ванны, раковины, унитаз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снимите с полочек все баночки с кремом, тюбики и флакончики - их можно сложить в раковину или в пластиковую ми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рите шкафчики, полочки и зеркало. Поставьте ваши баночки обратно, предварительно вытирая их чистой влажной тряпоч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енько выполощите все тряпочки и губки, которыми вы пользовались во время уборки, вымойте ведро и налейте туда чистой воды - это нужно для мытья пола в ванной в конце убор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ее, если необходимо, протрите кафель специальным средством, которое не оставляет разводов, почистите ванну, раковину, натрите к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мойте пол, выполощите тряпку и вылейте воду в туа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почистите туалет дезинфицирующими средств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ambo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Средства для мытья сантех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thumbnail"/>
          <p:cNvPicPr/>
          <p:nvPr/>
        </p:nvPicPr>
        <p:blipFill>
          <a:blip r:embed="rId1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5b00"/>
                </a:solidFill>
                <a:latin typeface="Tahoma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963101a"/>
          <p:cNvPicPr/>
          <p:nvPr/>
        </p:nvPicPr>
        <p:blipFill>
          <a:blip r:embed="rId2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ubka_seitz"/>
          <p:cNvPicPr/>
          <p:nvPr/>
        </p:nvPicPr>
        <p:blipFill>
          <a:blip r:embed="rId3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anteh-1"/>
          <p:cNvPicPr/>
          <p:nvPr/>
        </p:nvPicPr>
        <p:blipFill>
          <a:blip r:embed="rId4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18"/>
          <p:cNvGrpSpPr/>
          <p:nvPr/>
        </p:nvGrpSpPr>
        <p:grpSpPr>
          <a:xfrm>
            <a:off x="0" y="189000"/>
            <a:ext cx="9142920" cy="6667200"/>
            <a:chOff x="0" y="189000"/>
            <a:chExt cx="9142920" cy="6667200"/>
          </a:xfrm>
        </p:grpSpPr>
        <p:cxnSp>
          <p:nvCxnSpPr>
            <p:cNvPr id="84" name="_s2052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35400" y="2291400"/>
              <a:ext cx="1334160" cy="24616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53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673720" y="2291040"/>
              <a:ext cx="1334160" cy="2462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4"/>
            <p:cNvSpPr/>
            <p:nvPr/>
          </p:nvSpPr>
          <p:spPr>
            <a:xfrm>
              <a:off x="2462040" y="18900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икроклимата в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жилых помещения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оздухоувлажнител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2056"/>
            <p:cNvSpPr/>
            <p:nvPr/>
          </p:nvSpPr>
          <p:spPr>
            <a:xfrm>
              <a:off x="492300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ондиционе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ВЛАЖНИ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9" descr="_________________4f7c0a92eef28"/>
          <p:cNvPicPr/>
          <p:nvPr/>
        </p:nvPicPr>
        <p:blipFill>
          <a:blip r:embed="rId1"/>
          <a:stretch/>
        </p:blipFill>
        <p:spPr>
          <a:xfrm>
            <a:off x="0" y="177336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52e5b57434ce8daf2df77e94acbf0a0"/>
          <p:cNvPicPr/>
          <p:nvPr/>
        </p:nvPicPr>
        <p:blipFill>
          <a:blip r:embed="rId2"/>
          <a:stretch/>
        </p:blipFill>
        <p:spPr>
          <a:xfrm>
            <a:off x="6588000" y="177336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feb79cdefb32f0f230bfa400ce2a171"/>
          <p:cNvPicPr/>
          <p:nvPr/>
        </p:nvPicPr>
        <p:blipFill>
          <a:blip r:embed="rId3"/>
          <a:stretch/>
        </p:blipFill>
        <p:spPr>
          <a:xfrm>
            <a:off x="0" y="4229280"/>
            <a:ext cx="2484360" cy="26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2752"/>
          <p:cNvPicPr/>
          <p:nvPr/>
        </p:nvPicPr>
        <p:blipFill>
          <a:blip r:embed="rId4"/>
          <a:stretch/>
        </p:blipFill>
        <p:spPr>
          <a:xfrm>
            <a:off x="6588000" y="4221000"/>
            <a:ext cx="255600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3072040"/>
          <p:cNvPicPr/>
          <p:nvPr/>
        </p:nvPicPr>
        <p:blipFill>
          <a:blip r:embed="rId5"/>
          <a:stretch/>
        </p:blipFill>
        <p:spPr>
          <a:xfrm>
            <a:off x="2484360" y="1773360"/>
            <a:ext cx="4103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ДИЦИОНЕ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9" descr="6ee0175459de"/>
          <p:cNvPicPr/>
          <p:nvPr/>
        </p:nvPicPr>
        <p:blipFill>
          <a:blip r:embed="rId1"/>
          <a:stretch/>
        </p:blipFill>
        <p:spPr>
          <a:xfrm>
            <a:off x="1116000" y="1773360"/>
            <a:ext cx="266400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10754-1"/>
          <p:cNvPicPr/>
          <p:nvPr/>
        </p:nvPicPr>
        <p:blipFill>
          <a:blip r:embed="rId2"/>
          <a:stretch/>
        </p:blipFill>
        <p:spPr>
          <a:xfrm>
            <a:off x="684360" y="4481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tim_fr_sd"/>
          <p:cNvPicPr/>
          <p:nvPr/>
        </p:nvPicPr>
        <p:blipFill>
          <a:blip r:embed="rId3"/>
          <a:stretch/>
        </p:blipFill>
        <p:spPr>
          <a:xfrm>
            <a:off x="5580000" y="1773360"/>
            <a:ext cx="2295720" cy="256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92"/>
          <p:cNvPicPr/>
          <p:nvPr/>
        </p:nvPicPr>
        <p:blipFill>
          <a:blip r:embed="rId4"/>
          <a:stretch/>
        </p:blipFill>
        <p:spPr>
          <a:xfrm>
            <a:off x="5003640" y="4437000"/>
            <a:ext cx="338472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ечатные источ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ехнология. Обслуживающий труд» 6 класс, учебник для учащихся общеобразовательных учреждений, Ю. В. Крупская, О. А. Кожина, Н. В. Синица ,под редакцией В.Д. Симоненко, Москва, Вентана – Граф, 2011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рнет-ресурс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ww.artclining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klimats-control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dukat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eco-tov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forum.0day.kiev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familyhome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ртинк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kanstovary.ru/published/publicdata/KANS/attachments/SC/products_pictures/963101a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charufa.ru/products_pictures/santeh-1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files.storeland.ru/web/upload/sitefiles/1/83/82562/%D0%B3%D1%83%D0%B1%D0%BA%D0%B0%20%D0%97%D0%BE%D0%BB%D1%83%D1%88%D0%BA%D0%B0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dukat.ua/img/Z/A/ZA0100_b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arbc.ru/img/enterprise/29448/gen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bis.marimedia.ru/media/photos/17053/4351e3611d1502952c7b6325df16870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ibmedport.ru/media/1252089518_1251794858_c26-0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uborkadom.ru/assets/images/uborka-ofisnyj-pomeschenie-ezhednevnyj-kompleksnyj-biznes-centr-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ponedelnik.info/resources/filesDb/b/32/b321663c9cf250c5d103b1740185b705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troka.info/userfiles/board/large/000082666-20120226161031-XhotT4ibrOTm2hZ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pec-yborka.ru/gallery/lambo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писок использованных ресурс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6"/>
          <p:cNvGrpSpPr/>
          <p:nvPr/>
        </p:nvGrpSpPr>
        <p:grpSpPr>
          <a:xfrm>
            <a:off x="582480" y="480960"/>
            <a:ext cx="7909920" cy="5586120"/>
            <a:chOff x="582480" y="480960"/>
            <a:chExt cx="7909920" cy="558612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362560" y="188892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7440" y="2714760"/>
              <a:ext cx="3600" cy="111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594160" y="188928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50880" y="4809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5824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508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1964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три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пос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п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жная уборка пола в кух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унитаза дезинфициру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жедневн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41927_1"/>
          <p:cNvPicPr/>
          <p:nvPr/>
        </p:nvPicPr>
        <p:blipFill>
          <a:blip r:embed="rId1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n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uborka-ofisnyj-pomeschenie-ezhednevnyj-kompleksnyj-biznes-centr-1"/>
          <p:cNvPicPr/>
          <p:nvPr/>
        </p:nvPicPr>
        <p:blipFill>
          <a:blip r:embed="rId3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321663c9cf250c5d103b1740185b705"/>
          <p:cNvPicPr/>
          <p:nvPr/>
        </p:nvPicPr>
        <p:blipFill>
          <a:blip r:embed="rId4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даление пыли с любой поверхности, ламп, торшеров, светильников, приборах ночного видения.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сантехники, мойка ванной и туалетных комнат, протирка кухонных гарнитуров, вытяжек, кулеров, микроволновых печь, газовых пли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коридоров, прихожих,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тье полов (паркет, ламинат, линолеум, плитка, дерево и т.д.), мытье натяжных потол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ковролина, ковров и всевозможных ковровых покрыт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мягкой  меб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чистка кондиционеров, радиаторов, батарей отопления.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0082666-20120226161031-XhotT4ibrOTm2h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c000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252089518_1251794858_c26-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Генераль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ление пыли мягкой тряпкой со стек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рамы и подоконников теплой водой с мо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стекол специальным моющим средством с одной стороны по горизонтали, а с другой по вертик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оласкивание стекол холодно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стекол салфеткой из нетка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351e3611d1502952c7b6325df1687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80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ahoma"/>
              </a:rPr>
              <a:t>Средства для мытья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серега</cp:lastModifiedBy>
  <dcterms:modified xsi:type="dcterms:W3CDTF">2013-03-11T17:52:34Z</dcterms:modified>
  <cp:revision>10</cp:revision>
  <dc:subject/>
  <dc:title>Гигиена жилища</dc:title>
</cp:coreProperties>
</file>