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59C031-DDE9-47AD-8235-A56C978DB262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0;&#1103;&#1079;&#1099;&#1084;&#1073;&#1077;&#1090;&#1086;&#1074;,_&#1040;&#1076;&#1080;&#1083;&#1100;&#1073;&#1077;&#1082;_&#1057;&#1072;&#1073;&#1080;&#1090;&#1086;&#1074;&#1080;&#1095;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ru.wikipedia.org/wiki/&#1041;&#1086;&#1082;&#1089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76;&#1078;&#1080;&#1077;&#1074;,_&#1044;&#1072;&#1085;&#1080;&#1103;&#1083;_&#1052;&#1072;&#1075;&#1086;&#1084;&#1077;&#1076;&#1086;&#1074;&#1080;&#1095;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u.wikipedia.org/wiki/&#1041;&#1086;&#1088;&#1100;&#1073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85;&#1086;&#1074;&#1072;,_&#1052;&#1072;&#1088;&#1080;&#1085;&#1072;_&#1048;&#1074;&#1072;&#1085;&#1086;&#1074;&#1085;&#1072;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ru.wikipedia.org/wiki/&#1041;&#1086;&#1082;&#1089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5;&#1102;&#1088;&#1086;&#1074;&#1072;,_&#1043;&#1102;&#1079;&#1077;&#1083;&#1100;_&#1058;&#1072;&#1075;&#1080;&#1088;&#1086;&#1074;&#1085;&#1072;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u.wikipedia.org/wiki/&#1041;&#1086;&#1088;&#1100;&#1073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99;&#1095;&#1082;&#1086;,_&#1048;&#1074;&#1072;&#1085;_&#1060;&#1105;&#1076;&#1086;&#1088;&#1086;&#1074;&#1080;&#1095;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0;&#1085;&#1086;&#1082;&#1091;&#1088;&#1086;&#1074;,_&#1040;&#1083;&#1077;&#1082;&#1089;&#1072;&#1085;&#1076;&#1088;_&#1053;&#1080;&#1082;&#1086;&#1083;&#1072;&#1077;&#1074;&#1080;&#1095;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ru.wikipedia.org/wiki/&#1042;&#1077;&#1083;&#1086;&#1089;&#1087;&#1086;&#1088;&#1090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80;&#1085;&#1096;&#1072;&#1085;&#1083;&#1086;,_&#1047;&#1091;&#1083;&#1100;&#1092;&#1080;&#1103;_&#1057;&#1072;&#1083;&#1072;&#1093;&#1072;&#1088;&#1086;&#1074;&#1085;&#1072;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5;&#1077;&#1079;&#1072;,_&#1052;&#1072;&#1081;&#1103;_&#1057;&#1072;&#1083;&#1072;&#1093;&#1072;&#1088;&#1086;&#1074;&#1085;&#1072;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6;&#1086;&#1073;&#1077;&#1076;&#1086;&#1074;&#1072;,_&#1057;&#1074;&#1077;&#1090;&#1083;&#1072;&#1085;&#1072;_&#1053;&#1080;&#1082;&#1086;&#1083;&#1072;&#1077;&#1074;&#1085;&#1072;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3;&#1100;&#1080;&#1085;,_&#1048;&#1083;&#1100;&#1103;_&#1040;&#1083;&#1077;&#1082;&#1089;&#1072;&#1085;&#1076;&#1088;&#1086;&#1074;&#1080;&#1095;_(&#1090;&#1103;&#1078;&#1077;&#1083;&#1086;&#1072;&#1090;&#1083;&#1077;&#1090;)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5" Type="http://schemas.openxmlformats.org/officeDocument/2006/relationships/hyperlink" Target="http://ru.wikipedia.org/wiki/&#1058;&#1103;&#1078;&#1105;&#1083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7;&#1072;&#1082;&#1086;&#1074;&#1072;,_&#1054;&#1083;&#1100;&#1075;&#1072;_&#1057;&#1077;&#1088;&#1075;&#1077;&#1077;&#1074;&#1085;&#1072;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&#1051;&#1105;&#1075;&#1082;&#1072;&#1103;_&#1072;&#1090;&#1083;&#1077;&#1090;&#1080;&#1082;&#1072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7;&#1080;&#1077;&#1074;,_&#1057;&#1077;&#1088;&#1080;&#1082;_&#1046;&#1091;&#1084;&#1072;&#1085;&#1075;&#1072;&#1083;&#1080;&#1077;&#1074;&#1080;&#1095;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41;&#1086;&#1082;&#1089;_&#1085;&#1072;_&#1083;&#1077;&#1090;&#1085;&#1080;&#1093;_&#1054;&#1083;&#1080;&#1084;&#1087;&#1080;&#1081;&#1089;&#1082;&#1080;&#1093;_&#1080;&#1075;&#1088;&#1072;&#1093;_201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468360" y="2631960"/>
            <a:ext cx="8207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Verdana"/>
              </a:rPr>
              <a:t>Классный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дильбек Ниязымб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3" descr="Ниязымбетов.jpg"/>
          <p:cNvPicPr/>
          <p:nvPr/>
        </p:nvPicPr>
        <p:blipFill>
          <a:blip r:embed="rId2"/>
          <a:stretch/>
        </p:blipFill>
        <p:spPr>
          <a:xfrm>
            <a:off x="514440" y="1857240"/>
            <a:ext cx="6653160" cy="4429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7715160" y="50720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аниял Гаджи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Гаджиев.jpg"/>
          <p:cNvPicPr/>
          <p:nvPr/>
        </p:nvPicPr>
        <p:blipFill>
          <a:blip r:embed="rId2"/>
          <a:stretch/>
        </p:blipFill>
        <p:spPr>
          <a:xfrm>
            <a:off x="500040" y="1928880"/>
            <a:ext cx="6215040" cy="4667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7858080" y="49291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рина Воль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Вольнова.jpg"/>
          <p:cNvPicPr/>
          <p:nvPr/>
        </p:nvPicPr>
        <p:blipFill>
          <a:blip r:embed="rId2"/>
          <a:stretch/>
        </p:blipFill>
        <p:spPr>
          <a:xfrm>
            <a:off x="239760" y="1928880"/>
            <a:ext cx="5832360" cy="4357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6929280" y="485784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юзель Маню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3" descr="Манюрова.jpg"/>
          <p:cNvPicPr/>
          <p:nvPr/>
        </p:nvPicPr>
        <p:blipFill>
          <a:blip r:embed="rId2"/>
          <a:stretch/>
        </p:blipFill>
        <p:spPr>
          <a:xfrm>
            <a:off x="365040" y="2071800"/>
            <a:ext cx="6316920" cy="4214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7572240" y="56437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ван Ды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Дычко.jpg"/>
          <p:cNvPicPr/>
          <p:nvPr/>
        </p:nvPicPr>
        <p:blipFill>
          <a:blip r:embed="rId2"/>
          <a:stretch/>
        </p:blipFill>
        <p:spPr>
          <a:xfrm>
            <a:off x="642960" y="2000160"/>
            <a:ext cx="600084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7221600" y="47149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журек Танат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Танатаров.jpg"/>
          <p:cNvPicPr/>
          <p:nvPr/>
        </p:nvPicPr>
        <p:blipFill>
          <a:blip r:embed="rId1"/>
          <a:stretch/>
        </p:blipFill>
        <p:spPr>
          <a:xfrm>
            <a:off x="571680" y="2209680"/>
            <a:ext cx="5929200" cy="44341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7291080" y="514368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захстанские победители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Лондонской олимпиады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Содержимое 3" descr="3.jpg"/>
          <p:cNvPicPr/>
          <p:nvPr/>
        </p:nvPicPr>
        <p:blipFill>
          <a:blip r:embed="rId1"/>
          <a:stretch/>
        </p:blipFill>
        <p:spPr>
          <a:xfrm>
            <a:off x="1857240" y="3786120"/>
            <a:ext cx="4286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лександр Винок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3" descr="Винокуров.jpg"/>
          <p:cNvPicPr/>
          <p:nvPr/>
        </p:nvPicPr>
        <p:blipFill>
          <a:blip r:embed="rId2"/>
          <a:stretch/>
        </p:blipFill>
        <p:spPr>
          <a:xfrm>
            <a:off x="571680" y="1940040"/>
            <a:ext cx="5857560" cy="4346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7429680" y="53578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ело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D:\Гульжахан\гулина\Анимационные картинки для презентаций. Часть 2\Спорт\1.gif"/>
          <p:cNvPicPr/>
          <p:nvPr/>
        </p:nvPicPr>
        <p:blipFill>
          <a:blip r:embed="rId4"/>
          <a:stretch/>
        </p:blipFill>
        <p:spPr>
          <a:xfrm>
            <a:off x="7143840" y="2786040"/>
            <a:ext cx="1000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Зульфия Чиншан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Чиншанло.jpg"/>
          <p:cNvPicPr/>
          <p:nvPr/>
        </p:nvPicPr>
        <p:blipFill>
          <a:blip r:embed="rId2"/>
          <a:stretch/>
        </p:blipFill>
        <p:spPr>
          <a:xfrm>
            <a:off x="555480" y="1600200"/>
            <a:ext cx="803304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712920" y="50720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яжё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йя Ман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3" descr="Манеза.jpg"/>
          <p:cNvPicPr/>
          <p:nvPr/>
        </p:nvPicPr>
        <p:blipFill>
          <a:blip r:embed="rId2"/>
          <a:stretch/>
        </p:blipFill>
        <p:spPr>
          <a:xfrm>
            <a:off x="228600" y="2000160"/>
            <a:ext cx="6534000" cy="4545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6072120" y="5643720"/>
            <a:ext cx="33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яжё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ветлана Подобед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Подобедова.jpg"/>
          <p:cNvPicPr/>
          <p:nvPr/>
        </p:nvPicPr>
        <p:blipFill>
          <a:blip r:embed="rId2"/>
          <a:stretch/>
        </p:blipFill>
        <p:spPr>
          <a:xfrm>
            <a:off x="928800" y="2054160"/>
            <a:ext cx="5357880" cy="40179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6498720" y="52149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яжё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лья Иль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Ильин.jpg"/>
          <p:cNvPicPr/>
          <p:nvPr/>
        </p:nvPicPr>
        <p:blipFill>
          <a:blip r:embed="rId2"/>
          <a:stretch/>
        </p:blipFill>
        <p:spPr>
          <a:xfrm>
            <a:off x="642960" y="1928880"/>
            <a:ext cx="6281640" cy="4138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855840" y="5429160"/>
            <a:ext cx="21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я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жё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льга Рыпа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Рыпакова.jpg"/>
          <p:cNvPicPr/>
          <p:nvPr/>
        </p:nvPicPr>
        <p:blipFill>
          <a:blip r:embed="rId2"/>
          <a:stretch/>
        </p:blipFill>
        <p:spPr>
          <a:xfrm>
            <a:off x="198360" y="2143080"/>
            <a:ext cx="7445520" cy="4286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6643800" y="571500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ёгк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ерик Сапи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Сапиев.jpg"/>
          <p:cNvPicPr/>
          <p:nvPr/>
        </p:nvPicPr>
        <p:blipFill>
          <a:blip r:embed="rId2"/>
          <a:stretch/>
        </p:blipFill>
        <p:spPr>
          <a:xfrm>
            <a:off x="357120" y="2071800"/>
            <a:ext cx="6211800" cy="45464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7500960" y="4929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User</cp:lastModifiedBy>
  <dcterms:modified xsi:type="dcterms:W3CDTF">2013-03-11T14:35:04Z</dcterms:modified>
  <cp:revision>54</cp:revision>
  <dc:subject/>
  <dc:title>Colorful Spring Flowers</dc:title>
</cp:coreProperties>
</file>