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86A-5553-4EB0-9BA3-EEAA756B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B4A-8575-48DC-A305-50430681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884-4282-4EA7-84DF-12005BB2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535-5916-44C6-8E8E-AA617F91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378B-3E30-43B1-9064-29173205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5DC-01E1-449A-B356-ABA8335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D03A-0808-43FB-B2C0-B6292161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370E-AB8C-4D4D-AEB5-67B375B8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DD18-DC06-4C9B-8A4B-1DD4A993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29B-A887-4BD3-95EF-EA7D95E9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C8D3-6EDE-4682-8300-89130B85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55F-B6C7-4AA3-BB81-8C8299AB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184D-BA99-441B-8FCB-8BC43667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8328-0AD7-43C1-8A94-2F0ABF05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AFDF-6472-483F-BC6C-B65C2E17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7FA2-33BB-4FCE-86CB-CC49F8AB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24AB-84BE-4B96-B27B-DEEB1193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9F2-11E4-490A-B978-F74E626B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AB7-DFAD-47B9-8375-A2B127FC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2D6-6ED8-40D3-9688-6E6C076A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499-BA07-4C39-B5FD-947B7C1E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330-AB94-464A-B519-1C6B57A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D7A-31E9-46B4-9B27-E18EDE0B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340-2A96-415F-ACAE-E16F7878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8C0-DC4B-4417-9C1E-83CC4943CF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4E65-98C2-4F98-ABFF-61697054DA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pload.wikimedia.org/wikipedia/uk/a/a7/Jan_Zeh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Старинная керосиновая лампа"/>
          <p:cNvPicPr/>
          <p:nvPr/>
        </p:nvPicPr>
        <p:blipFill>
          <a:blip r:embed="rId2"/>
          <a:stretch/>
        </p:blipFill>
        <p:spPr>
          <a:xfrm>
            <a:off x="1763640" y="1844640"/>
            <a:ext cx="5545080" cy="4078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8900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Муниципальное автономное 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начальная общеобразовательная школа</a:t>
            </a: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1800"/>
                </a:solidFill>
                <a:latin typeface="Arial"/>
              </a:rPr>
              <a:t>№</a:t>
            </a:r>
            <a:r>
              <a:rPr b="1" lang="en-US" sz="1600" spc="-1" strike="noStrike">
                <a:solidFill>
                  <a:srgbClr val="001800"/>
                </a:solidFill>
                <a:latin typeface="Tahoma"/>
              </a:rPr>
              <a:t> 5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4149720"/>
            <a:ext cx="208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оверила преподаватель: Белова О.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ченицы 3 «А»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арабанько Пол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9079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РОСИНОВАЯ ЛАМ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4880" y="630864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лининград, 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6920" y="1341360"/>
            <a:ext cx="63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тересные факты из истории керосиновой лам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2592720" cy="431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87280" y="692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ероси́новая ла́м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981000"/>
            <a:ext cx="42228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етильник на основ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9600" y="22766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у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4520" y="263700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го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8520" y="2997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ф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2680" y="184464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горания керосин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2160" y="3573360"/>
            <a:ext cx="25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кономич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90480" y="4221000"/>
            <a:ext cx="42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че горит, чем свеч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3240" y="4869000"/>
            <a:ext cx="33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ючие для н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деше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860640"/>
            <a:ext cx="2087640" cy="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860640"/>
            <a:ext cx="1079280" cy="64800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3860640"/>
            <a:ext cx="1366920" cy="136872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8520" y="5803920"/>
            <a:ext cx="34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илась в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861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860640"/>
            <a:ext cx="934920" cy="2089440"/>
          </a:xfrm>
          <a:prstGeom prst="line">
            <a:avLst/>
          </a:prstGeom>
          <a:ln w="442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5805000"/>
            <a:ext cx="2962440" cy="623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Georgia"/>
              </a:rPr>
              <a:t>Игнаций Лукасевич</a:t>
            </a: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(1822-1882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384360" cy="4416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6120" y="281160"/>
            <a:ext cx="5465880" cy="520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1853 году в городе Львов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3840" y="6021360"/>
            <a:ext cx="1570680" cy="70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н Зе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7-189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1700280"/>
            <a:ext cx="222084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обрели керосиновую лампу, которая чуть ли не столетие обслуживала человечество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Файл:Jan Zeh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1628640"/>
            <a:ext cx="3311640" cy="4348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6320" y="836640"/>
            <a:ext cx="35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льские аптек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724000" y="476280"/>
            <a:ext cx="2962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мориальная композиция в честь создателей керосиновой лампы в городе Льво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00720" cy="6524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5229360"/>
            <a:ext cx="2675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скульптора Владимира Цисарыка. 2008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4508640"/>
            <a:ext cx="46083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натий Лукасеви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572000" cy="378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4572000" cy="4149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28720" y="17074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н Зе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00720" y="907560"/>
            <a:ext cx="4186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еконструкция первой керосиновой лампы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53080" cy="6480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522936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кспонат аптеки-музея во Льво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47960" y="62366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птека № 24 (2009 г.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г. Ль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80" y="404640"/>
            <a:ext cx="80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В этой аптеке была изобретена керосиновая лам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8:26:19Z</dcterms:created>
  <dc:creator>александр</dc:creator>
  <dc:description/>
  <dc:language>en-US</dc:language>
  <cp:lastModifiedBy>александр</cp:lastModifiedBy>
  <dcterms:modified xsi:type="dcterms:W3CDTF">2013-02-26T09:34:59Z</dcterms:modified>
  <cp:revision>6</cp:revision>
  <dc:subject/>
  <dc:title>Слайд 1</dc:title>
</cp:coreProperties>
</file>