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E62-D037-4CB9-B25A-99024463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9DFD-3516-4C53-B016-E9F7B24E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0A92-06DB-4402-9BD4-3A231ED3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E9F-8168-4AF4-B527-66ACC2C6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C691-879F-44F6-85D9-FE132DDC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7A21-1B01-43C9-8B53-D2E6EB75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9498-BD8A-4088-826E-B12B4AB8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E4F0-34D9-45F8-B712-4B9475CE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A63F-1CA8-4BFE-9F1D-851BEBFF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84FD-AA4C-4D0F-B53D-AD2359AE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33D9-6FBB-4D9F-8600-EC126B5E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F98-F921-4F38-9A31-90F0B220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58BD-1D76-417E-AEDF-97D2D961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FCE0-AA6A-4FD5-8DE1-E1AF8407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0270-574A-4A22-BD09-6252126E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4F31-5950-482A-9648-A45F04D7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65FC-91F1-4BE8-8D80-829AB895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E159-9AEC-4277-9CB6-4ED1CEA1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9026-E0FA-4B77-AE15-55E7D887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0ADB-DFB1-48C6-980E-618F4F34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B9B4-58C2-4F0B-8BAE-CCC52558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47CF-9713-49A2-92FF-BB52AF74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A3F7-04F9-4B7F-83CB-18C54424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12FA-AA18-434D-8BE0-4F77E837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F491-3480-46C1-AB85-E72AA0DA7A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357D-7B56-4A4C-B216-7DEF403E0D7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upload.wikimedia.org/wikipedia/uk/a/a7/Jan_Zeh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Старинная керосиновая лампа"/>
          <p:cNvPicPr/>
          <p:nvPr/>
        </p:nvPicPr>
        <p:blipFill>
          <a:blip r:embed="rId2"/>
          <a:stretch/>
        </p:blipFill>
        <p:spPr>
          <a:xfrm>
            <a:off x="1763640" y="1844640"/>
            <a:ext cx="5545080" cy="4078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11280" y="18900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800"/>
                </a:solidFill>
                <a:latin typeface="Arial"/>
              </a:rPr>
              <a:t>Муниципальное автономное образовательное учрежд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8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1800"/>
                </a:solidFill>
                <a:latin typeface="Arial"/>
              </a:rPr>
              <a:t>начальная общеобразовательная школа</a:t>
            </a:r>
            <a:r>
              <a:rPr b="1" lang="en-US" sz="1600" spc="-1" strike="noStrike">
                <a:solidFill>
                  <a:srgbClr val="0018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1800"/>
                </a:solidFill>
                <a:latin typeface="Arial"/>
              </a:rPr>
              <a:t>№</a:t>
            </a:r>
            <a:r>
              <a:rPr b="1" lang="en-US" sz="1600" spc="-1" strike="noStrike">
                <a:solidFill>
                  <a:srgbClr val="001800"/>
                </a:solidFill>
                <a:latin typeface="Tahoma"/>
              </a:rPr>
              <a:t> 5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4149720"/>
            <a:ext cx="208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роверила преподаватель: Белова О.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ченицы 3 «А» клас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Тарабанько Поли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90792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ЕРОСИНОВАЯ ЛАМ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4880" y="630864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лининград, 2012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6920" y="1341360"/>
            <a:ext cx="637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нтересные факты из истории керосиновой лам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26920" y="2205000"/>
            <a:ext cx="2592720" cy="4319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87280" y="6922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ероси́новая ла́мп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981000"/>
            <a:ext cx="422280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етильник на основ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9600" y="227664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ду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4520" y="2637000"/>
            <a:ext cx="19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го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58520" y="299736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ф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92680" y="1844640"/>
            <a:ext cx="37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горания керосина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22160" y="3573360"/>
            <a:ext cx="258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кономич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90480" y="4221000"/>
            <a:ext cx="42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рче горит, чем свеч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3240" y="4869000"/>
            <a:ext cx="337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рючие для не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ло дешев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3640" y="3860640"/>
            <a:ext cx="2087640" cy="0"/>
          </a:xfrm>
          <a:prstGeom prst="line">
            <a:avLst/>
          </a:prstGeom>
          <a:ln w="442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3860640"/>
            <a:ext cx="1079280" cy="648000"/>
          </a:xfrm>
          <a:prstGeom prst="line">
            <a:avLst/>
          </a:prstGeom>
          <a:ln w="442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3640" y="3860640"/>
            <a:ext cx="1366920" cy="1368720"/>
          </a:xfrm>
          <a:prstGeom prst="line">
            <a:avLst/>
          </a:prstGeom>
          <a:ln w="442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88520" y="5803920"/>
            <a:ext cx="347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явилась в Росс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861 го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3860640"/>
            <a:ext cx="934920" cy="2089440"/>
          </a:xfrm>
          <a:prstGeom prst="line">
            <a:avLst/>
          </a:prstGeom>
          <a:ln w="442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5805000"/>
            <a:ext cx="2962440" cy="6238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66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Georgia"/>
              </a:rPr>
              <a:t>Игнаций Лукасевич</a:t>
            </a:r>
            <a:r>
              <a:rPr b="0" lang="ru-RU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ffffb7"/>
                </a:solidFill>
                <a:latin typeface="Arial Black"/>
              </a:rPr>
              <a:t>(1822-1882)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384360" cy="4416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6120" y="281160"/>
            <a:ext cx="5465880" cy="520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1853 году в городе Львов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93840" y="6021360"/>
            <a:ext cx="1570680" cy="703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н Зе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7-189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32720" y="1700280"/>
            <a:ext cx="2220840" cy="41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зобрели керосиновую лампу, которая чуть ли не столетие обслуживала человечество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Файл:Jan Zeh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1628640"/>
            <a:ext cx="3311640" cy="4348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6320" y="836640"/>
            <a:ext cx="35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льские аптека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724000" y="476280"/>
            <a:ext cx="29624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мориальная композиция в честь создателей керосиновой лампы в городе Льво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400720" cy="6524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84720" y="5229360"/>
            <a:ext cx="2675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а скульптора Владимира Цисарыка. 2008г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50560" y="4508640"/>
            <a:ext cx="460836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гнатий Лукасевич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4572000" cy="3789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84720" y="2492280"/>
            <a:ext cx="4572000" cy="4149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228720" y="1707480"/>
            <a:ext cx="170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Ян Зе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00720" y="907560"/>
            <a:ext cx="41860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Реконструкция первой керосиновой лампы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753080" cy="6480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292720" y="5229360"/>
            <a:ext cx="26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Экспонат аптеки-музея во Льво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47960" y="623664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птека № 24 (2009 г.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г. Льв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1080" y="404640"/>
            <a:ext cx="80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В этой аптеке была изобретена керосиновая лам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8:26:19Z</dcterms:created>
  <dc:creator>александр</dc:creator>
  <dc:description/>
  <dc:language>en-US</dc:language>
  <cp:lastModifiedBy>александр</cp:lastModifiedBy>
  <dcterms:modified xsi:type="dcterms:W3CDTF">2013-02-26T09:34:59Z</dcterms:modified>
  <cp:revision>6</cp:revision>
  <dc:subject/>
  <dc:title>Слайд 1</dc:title>
</cp:coreProperties>
</file>