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3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7962-AA77-40DB-9BB6-754818329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33C8-D22D-45C9-881D-A2AC27FC0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B145-FE58-4D09-9244-EF556FB91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E993-0814-4AE1-917B-AD2CDFAD7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1EB46-900D-4E90-9A63-511B7030E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B4AA2-8A46-413E-A30E-0C6642BF6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47931-B90B-47A0-8093-663B35EDB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31E2E-92D6-48CC-9D6E-2317A293B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1E37F-2A84-4856-98E2-C0662D9FE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E15D3-C164-42DC-95FF-292F8E2AB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D1E9E-7757-40B0-8451-BAFA124F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8B62-B453-45B0-AEF5-D15BD16AF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EE991-C43F-48C3-9D5F-31A187E6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9AC80-FED9-4CD5-9596-20673490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9F7A9-D1D9-4571-92D5-0F8D5A95A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C674B-BE5A-4AD0-B629-4F8400269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27F2C-5F5F-4C8B-9F50-4A7D08793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7FB9-CFAE-417A-918B-B7A6E9F85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904A-4258-4DE3-82DC-001537273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011A-3FF8-4191-BBA5-7C250B8B5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0CED-E7F0-42B7-A4F8-FD560FE6A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DB4F-3CB8-4FAF-A992-A363D626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8566-1CAD-4533-8B0A-956B297B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615D-9213-4721-B7BB-4C276E73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2CB5F-FF4D-4C61-9B97-99BDD18BABC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739F7-246F-473D-9538-5E723C3CBBE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hyperlink" Target="http://www.modellmix.su/_images/photos/products/102/1.jpg" TargetMode="External"/><Relationship Id="rId7" Type="http://schemas.openxmlformats.org/officeDocument/2006/relationships/image" Target="../media/image8.jpeg"/><Relationship Id="rId8" Type="http://schemas.openxmlformats.org/officeDocument/2006/relationships/hyperlink" Target="http://www.zhaba.ru/_pics/s50ve1q6ciplekq6.jpg" TargetMode="External"/><Relationship Id="rId9" Type="http://schemas.openxmlformats.org/officeDocument/2006/relationships/image" Target="../media/image9.jpe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4284720" cy="4275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427640" y="549360"/>
            <a:ext cx="367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Юбилейна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57080" y="1314360"/>
            <a:ext cx="216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моне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99640" y="4724280"/>
            <a:ext cx="259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 150-лети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28720" y="5300640"/>
            <a:ext cx="26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нефтяног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28720" y="5950080"/>
            <a:ext cx="266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ромысл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40360" y="2637000"/>
            <a:ext cx="4321080" cy="4057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58920" y="244440"/>
            <a:ext cx="6842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Современные керосиновые     лампы,</a:t>
            </a: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300720" y="1341360"/>
            <a:ext cx="26892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2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торые используются,в основном в российской глубинке, где часто отключают электричество, а также дачниками и туристам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купают и собирают коллекционер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http://www.zhaba.ru/_pics/1cvg0b74ktwl6sw5.jpg"/>
          <p:cNvPicPr/>
          <p:nvPr/>
        </p:nvPicPr>
        <p:blipFill>
          <a:blip r:embed="rId1"/>
          <a:stretch/>
        </p:blipFill>
        <p:spPr>
          <a:xfrm>
            <a:off x="0" y="836640"/>
            <a:ext cx="2200320" cy="42861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http://i.i.ua/photo/images/pic/6/7/5599176_e2002843.jpg"/>
          <p:cNvPicPr/>
          <p:nvPr/>
        </p:nvPicPr>
        <p:blipFill>
          <a:blip r:embed="rId2"/>
          <a:stretch/>
        </p:blipFill>
        <p:spPr>
          <a:xfrm>
            <a:off x="179280" y="836640"/>
            <a:ext cx="3024360" cy="4653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http://s005.radikal.ru/i211/1009/e1/32f8b8dd8751.jpg"/>
          <p:cNvPicPr/>
          <p:nvPr/>
        </p:nvPicPr>
        <p:blipFill>
          <a:blip r:embed="rId3"/>
          <a:stretch/>
        </p:blipFill>
        <p:spPr>
          <a:xfrm>
            <a:off x="395280" y="836640"/>
            <a:ext cx="3867120" cy="51433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http://s52.radikal.ru/i135/1009/87/ca157cd46b56.jpg"/>
          <p:cNvPicPr/>
          <p:nvPr/>
        </p:nvPicPr>
        <p:blipFill>
          <a:blip r:embed="rId4"/>
          <a:stretch/>
        </p:blipFill>
        <p:spPr>
          <a:xfrm>
            <a:off x="684360" y="836640"/>
            <a:ext cx="3867120" cy="51433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http://www.russian-souvenirs.ru/foto/product/foto803.jpg"/>
          <p:cNvPicPr/>
          <p:nvPr/>
        </p:nvPicPr>
        <p:blipFill>
          <a:blip r:embed="rId5"/>
          <a:stretch/>
        </p:blipFill>
        <p:spPr>
          <a:xfrm>
            <a:off x="1042920" y="907920"/>
            <a:ext cx="3995640" cy="4869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332000" y="907920"/>
            <a:ext cx="3816360" cy="4653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692360" y="907920"/>
            <a:ext cx="3744720" cy="4437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0"/>
          <a:stretch/>
        </p:blipFill>
        <p:spPr>
          <a:xfrm>
            <a:off x="1908000" y="1989000"/>
            <a:ext cx="3672000" cy="4869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1"/>
          <a:stretch/>
        </p:blipFill>
        <p:spPr>
          <a:xfrm>
            <a:off x="2050920" y="1989000"/>
            <a:ext cx="3745080" cy="4869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2"/>
          <a:stretch/>
        </p:blipFill>
        <p:spPr>
          <a:xfrm>
            <a:off x="2268360" y="1989000"/>
            <a:ext cx="4104000" cy="4869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3"/>
          <a:stretch/>
        </p:blipFill>
        <p:spPr>
          <a:xfrm>
            <a:off x="2484360" y="1989000"/>
            <a:ext cx="4094280" cy="4869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4"/>
          <a:stretch/>
        </p:blipFill>
        <p:spPr>
          <a:xfrm>
            <a:off x="2843280" y="1989000"/>
            <a:ext cx="3738600" cy="4869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6000"/>
                            </p:stCondLst>
                            <p:childTnLst>
                              <p:par>
                                <p:cTn id="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8000"/>
                            </p:stCondLst>
                            <p:childTnLst>
                              <p:par>
                                <p:cTn id="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4000"/>
                            </p:stCondLst>
                            <p:childTnLst>
                              <p:par>
                                <p:cTn id="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60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800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2000"/>
                            </p:stCondLst>
                            <p:childTnLst>
                              <p:par>
                                <p:cTn id="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4000"/>
                            </p:stCondLst>
                            <p:childTnLst>
                              <p:par>
                                <p:cTn id="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6000"/>
                            </p:stCondLst>
                            <p:childTnLst>
                              <p:par>
                                <p:cTn id="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84360" y="836640"/>
            <a:ext cx="7570800" cy="407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4360" y="836640"/>
            <a:ext cx="7570800" cy="407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zoom dir="ou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6000"/>
                            </p:stCondLst>
                            <p:childTnLst>
                              <p:par>
                                <p:cTn id="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0T18:26:19Z</dcterms:created>
  <dc:creator>александр</dc:creator>
  <dc:description/>
  <dc:language>en-US</dc:language>
  <cp:lastModifiedBy>александр</cp:lastModifiedBy>
  <dcterms:modified xsi:type="dcterms:W3CDTF">2013-02-26T09:36:17Z</dcterms:modified>
  <cp:revision>6</cp:revision>
  <dc:subject/>
  <dc:title>Слайд 1</dc:title>
</cp:coreProperties>
</file>