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6F00-264E-41CA-B21A-BC639BCC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EF35-092C-4D0C-9A73-C16185BA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2B67-445D-4D1C-AD8D-C4544674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CD06-4D3A-40ED-BD28-734428581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514E-881E-4A86-94A0-21BC47F4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4121-DFA8-4FA3-A194-2D1DDD17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994B-8EF4-4B07-940A-131B2300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C0CA-1911-4C0D-8941-5039DE44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20F3-6B45-4E1D-9DE3-46246CB4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0F16-5594-45DE-8049-A362C138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B4A4-776D-4BAF-B09E-B1683DBB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619B-4B29-48DE-8B9B-93FAC97F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B42D-E29B-4923-B1D4-B99535DA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053A-74C4-4774-A79F-C60DF35E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25C4-FACE-474A-BF95-45F78EC1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48CC-B8B1-422A-A19A-19FA3A0E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B32B-5FDE-4A54-9B06-97315E93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13BE-1B63-42E2-8D5A-ACF5B9D2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0FE2-9736-47E5-B4BC-2E94F391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D898-A88D-4BAA-AD92-84121584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1E46-0751-4D45-A481-9CFA398A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7088-3AA6-4C5E-A6AD-A71258D2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AFEE-5C22-45EA-BC98-31BA4EED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F183-6441-481A-BB45-0C2B6A0C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E056-CA68-45BB-8967-FBBEF7BD862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D7BA-3679-489D-B00B-08D58FFE03C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hyperlink" Target="http://www.modellmix.su/_images/photos/products/102/1.jpg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www.zhaba.ru/_pics/s50ve1q6ciplekq6.jpg" TargetMode="External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284720" cy="4275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27640" y="549360"/>
            <a:ext cx="367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Юбилей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7080" y="1314360"/>
            <a:ext cx="216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оне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99640" y="4724280"/>
            <a:ext cx="25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 150-лет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8720" y="5300640"/>
            <a:ext cx="26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ефтяног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8720" y="5950080"/>
            <a:ext cx="266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мыс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40360" y="2637000"/>
            <a:ext cx="4321080" cy="4057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920" y="244440"/>
            <a:ext cx="6842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Современные керосиновые     лампы,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00720" y="1341360"/>
            <a:ext cx="26892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торые используются,в основном в российской глубинке, где часто отключают электричество, а также дачниками и туристам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купают и собирают коллекционе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http://www.zhaba.ru/_pics/1cvg0b74ktwl6sw5.jpg"/>
          <p:cNvPicPr/>
          <p:nvPr/>
        </p:nvPicPr>
        <p:blipFill>
          <a:blip r:embed="rId1"/>
          <a:stretch/>
        </p:blipFill>
        <p:spPr>
          <a:xfrm>
            <a:off x="0" y="836640"/>
            <a:ext cx="2200320" cy="4286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http://i.i.ua/photo/images/pic/6/7/5599176_e2002843.jpg"/>
          <p:cNvPicPr/>
          <p:nvPr/>
        </p:nvPicPr>
        <p:blipFill>
          <a:blip r:embed="rId2"/>
          <a:stretch/>
        </p:blipFill>
        <p:spPr>
          <a:xfrm>
            <a:off x="179280" y="836640"/>
            <a:ext cx="3024360" cy="4653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http://s005.radikal.ru/i211/1009/e1/32f8b8dd8751.jpg"/>
          <p:cNvPicPr/>
          <p:nvPr/>
        </p:nvPicPr>
        <p:blipFill>
          <a:blip r:embed="rId3"/>
          <a:stretch/>
        </p:blipFill>
        <p:spPr>
          <a:xfrm>
            <a:off x="395280" y="836640"/>
            <a:ext cx="3867120" cy="5143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http://s52.radikal.ru/i135/1009/87/ca157cd46b56.jpg"/>
          <p:cNvPicPr/>
          <p:nvPr/>
        </p:nvPicPr>
        <p:blipFill>
          <a:blip r:embed="rId4"/>
          <a:stretch/>
        </p:blipFill>
        <p:spPr>
          <a:xfrm>
            <a:off x="684360" y="836640"/>
            <a:ext cx="3867120" cy="5143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http://www.russian-souvenirs.ru/foto/product/foto803.jpg"/>
          <p:cNvPicPr/>
          <p:nvPr/>
        </p:nvPicPr>
        <p:blipFill>
          <a:blip r:embed="rId5"/>
          <a:stretch/>
        </p:blipFill>
        <p:spPr>
          <a:xfrm>
            <a:off x="1042920" y="907920"/>
            <a:ext cx="3995640" cy="4869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332000" y="907920"/>
            <a:ext cx="3816360" cy="4653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692360" y="907920"/>
            <a:ext cx="3744720" cy="4437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0"/>
          <a:stretch/>
        </p:blipFill>
        <p:spPr>
          <a:xfrm>
            <a:off x="1908000" y="1989000"/>
            <a:ext cx="3672000" cy="4869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1"/>
          <a:stretch/>
        </p:blipFill>
        <p:spPr>
          <a:xfrm>
            <a:off x="2050920" y="1989000"/>
            <a:ext cx="3745080" cy="4869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2"/>
          <a:stretch/>
        </p:blipFill>
        <p:spPr>
          <a:xfrm>
            <a:off x="2268360" y="1989000"/>
            <a:ext cx="4104000" cy="4869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3"/>
          <a:stretch/>
        </p:blipFill>
        <p:spPr>
          <a:xfrm>
            <a:off x="2484360" y="1989000"/>
            <a:ext cx="4094280" cy="4869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4"/>
          <a:stretch/>
        </p:blipFill>
        <p:spPr>
          <a:xfrm>
            <a:off x="2843280" y="1989000"/>
            <a:ext cx="3738600" cy="486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8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2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4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60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84360" y="836640"/>
            <a:ext cx="7570800" cy="40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4360" y="836640"/>
            <a:ext cx="7570800" cy="40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8:26:19Z</dcterms:created>
  <dc:creator>александр</dc:creator>
  <dc:description/>
  <dc:language>en-US</dc:language>
  <cp:lastModifiedBy>александр</cp:lastModifiedBy>
  <dcterms:modified xsi:type="dcterms:W3CDTF">2013-02-26T09:36:17Z</dcterms:modified>
  <cp:revision>6</cp:revision>
  <dc:subject/>
  <dc:title>Слайд 1</dc:title>
</cp:coreProperties>
</file>