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030-9EAD-4379-ACDA-73BE79F92D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B7C-3DD4-4969-986B-AA498892DDD5}" type="slidenum">
              <a:rPr b="0" lang="ru-RU" sz="1200" spc="-1" strike="noStrike">
                <a:solidFill>
                  <a:srgbClr val="0101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02F8-49AC-4722-A718-D5A65E505965}" type="slidenum">
              <a:rPr b="0" lang="ru-RU" sz="1200" spc="-1" strike="noStrike">
                <a:solidFill>
                  <a:srgbClr val="0101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87A-5DB6-4C25-BA3F-B918BF0D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14F-6A94-4A96-BAC2-7605C63F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85C-8220-453A-9564-84A7391E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568-5A4C-4B17-8C7C-C061B6A0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2B12B-66D5-4B29-B09D-2F6358C6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6D240-0DCE-4DB5-90C7-6D7C667D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6A5B3-A16B-4A41-B0B9-894895F4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E3AD7-6E95-4158-AA92-6BC601D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0C8AE-55D0-4BA0-A959-E99C2B58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E06D1-F81B-4D15-AF32-A7E9AE65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A842-3E52-4C83-A346-7EB5C82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D95-CC03-44FA-9701-3928DFBF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C0BD-BD04-4915-A7C1-E2AA316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C1D8E-1120-4277-9D5C-4C89AD5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4DCEB-5111-4EE6-ACBB-09D2BF5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21D92-868A-4962-9DFA-88A9E2F7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1D67-459E-453A-AD22-AC06C6FE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BFC-9086-40D5-A4F1-1327A64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101-E032-46C2-96AE-060309DD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DAA-5A36-41AC-9005-01BFFA8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471-C467-41C9-8C8E-130EE460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DA8-C50F-4B4F-A120-7C1D5F1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EB9-A9CA-45A1-B579-6EB5758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611-C3C9-4225-BCED-B6FE1753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3E2-2921-44EC-88DF-E5EFC536E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101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821B-BB54-40CB-B400-FE8C9B5FE799}" type="slidenum">
              <a:rPr b="0" lang="ru-RU" sz="14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7" descr=""/>
          <p:cNvPicPr/>
          <p:nvPr/>
        </p:nvPicPr>
        <p:blipFill>
          <a:blip r:embed="rId1"/>
          <a:stretch/>
        </p:blipFill>
        <p:spPr>
          <a:xfrm>
            <a:off x="493560" y="1206360"/>
            <a:ext cx="8229600" cy="181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497400" y="4572000"/>
            <a:ext cx="508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Методическая разработка классного часа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по теме толерантных отношений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Авторы  Овчарова О.Э. и учащиеся 9а класса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ГОУ СОШ № 466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10199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366360" y="602136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анкт-Петербург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357200" y="1071720"/>
            <a:ext cx="6000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Истинность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Честн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Искренность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праведливость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оспитанн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ежлив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Желание делиться с другими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Бесстрашие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Забота о других 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Терпение…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386080" y="21420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оциальные ценности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0" y="285840"/>
            <a:ext cx="93726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Разные религии говорят на «одном языке» о том,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ак надо относиться к другому, отличному от нас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Христианство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Во всём, как хотите, чтобы с вами поступали люди, так 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оступайте и вы с ними».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0" y="228600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Буддизм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Человек может выразить своё отношение к друзьям пятью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способами: великодушием, учтивостью,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доброжелательностью, отношением к ним, как к себе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и верности своему слову».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Конфуцианство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Не делай другим того, чего не хотел бы от других».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Индуизм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Не делай другим того, от чего больно тебе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Ислам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«Никто из нас не станет верующим, пока не полюбит своего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брата, как себя самого».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5362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  <a:ea typeface="Times New Roman"/>
              </a:rPr>
              <a:t>Джайнизм:</a:t>
            </a:r>
            <a:r>
              <a:rPr b="1" lang="ru-RU" sz="1800" spc="-1" strike="noStrike">
                <a:solidFill>
                  <a:srgbClr val="8c8cfe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  <a:ea typeface="Times New Roman"/>
              </a:rPr>
              <a:t>«В счастье и страдании, в радости и в горе мы должны относиться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  <a:ea typeface="Times New Roman"/>
              </a:rPr>
              <a:t>ко всем существам как относимся к самим себе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2920" y="6075720"/>
            <a:ext cx="90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  <a:ea typeface="Times New Roman"/>
              </a:rPr>
              <a:t>Даосизм: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 «Считай успех соседа своим успехом, 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imes New Roman"/>
              </a:rPr>
              <a:t>а потерю соседа своей потерей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11280" y="981000"/>
            <a:ext cx="791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Живи с другими людьми так,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чтобы твои друзья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не стали недругами,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а недруги стали друзьями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ahoma"/>
              </a:rPr>
              <a:t>Пифагор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582200" y="189000"/>
            <a:ext cx="48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Уверены ли вы в себе ?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836640"/>
            <a:ext cx="914868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7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Могут ли несколько последовавших одна за другой неудач заставить вас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усомниться в своих способностях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Испытываете ли вы чувство страха, оказавшись в плотной толпе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ледуете ли вы моде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Часто ли смотритесь в зеркало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утулитесь ли в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читаете ли вы, что люди злословят в ваш адрес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Волнуетесь ли вы, когда вам приходится бывать в учреждениях, улаживая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какие-либо неприятные вопрос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Возникает ли у вас временами такое ощущение, будто за вами кто-то следит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Легко ли вы решаетесь провести свои каникулы в новом для вас месте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Чувствуете ли вы себя свободно, оказавшись в незнакомой компании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Снятся ли вам кошмар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Предпочитаете ли вы без обсуждения решать свои проблемы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Уверены ли вы в том, что ваши друзья любят вас?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Часто ли окружающие обращаются к вам за советом</a:t>
            </a: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0073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9280" y="907920"/>
          <a:ext cx="8640720" cy="4846680"/>
        </p:xfrm>
        <a:graphic>
          <a:graphicData uri="http://schemas.openxmlformats.org/drawingml/2006/table">
            <a:tbl>
              <a:tblPr/>
              <a:tblGrid>
                <a:gridCol w="814320"/>
                <a:gridCol w="441360"/>
                <a:gridCol w="417600"/>
                <a:gridCol w="555840"/>
                <a:gridCol w="558720"/>
                <a:gridCol w="558720"/>
                <a:gridCol w="555480"/>
                <a:gridCol w="559080"/>
                <a:gridCol w="555480"/>
                <a:gridCol w="558720"/>
                <a:gridCol w="655560"/>
                <a:gridCol w="584280"/>
                <a:gridCol w="658800"/>
                <a:gridCol w="585720"/>
                <a:gridCol w="5810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74"/>
          <p:cNvSpPr/>
          <p:nvPr/>
        </p:nvSpPr>
        <p:spPr>
          <a:xfrm>
            <a:off x="1974600" y="33012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УВЕРЕНЫ ЛИ ВЫ В СЕБЕ ?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38" name="Text Box 97"/>
          <p:cNvSpPr/>
          <p:nvPr/>
        </p:nvSpPr>
        <p:spPr>
          <a:xfrm>
            <a:off x="925200" y="5950080"/>
            <a:ext cx="62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ваш ответ совпадает с табличным – балл «2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не совпадает – балл «0»</a:t>
            </a: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2560320" y="203040"/>
            <a:ext cx="38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0101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484280"/>
          <a:ext cx="8085240" cy="4660920"/>
        </p:xfrm>
        <a:graphic>
          <a:graphicData uri="http://schemas.openxmlformats.org/drawingml/2006/table">
            <a:tbl>
              <a:tblPr/>
              <a:tblGrid>
                <a:gridCol w="2158920"/>
                <a:gridCol w="59263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- 28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а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всегда уверены в себе и в своих способностях, окружающие обращаются к вам за советами, некоторые считают вас тщеславным, надменным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– 20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уверены в себе, хотя иногда проявляете нерешительность.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– 10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не уверены в себе, необщительны, и не принимаете самостоятельно важные решения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м наш совет «ЗАДУМАЙТЕСЬ!!!!»</a:t>
                      </a:r>
                      <a:endParaRPr b="0" lang="en-US" sz="20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57120" y="357120"/>
            <a:ext cx="8082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ahoma"/>
              </a:rPr>
              <a:t>«Чтобы изменить общество, нужно воспитать другого человека.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ahoma"/>
              </a:rPr>
              <a:t>Чтобы воспитать другого человека, нужно изменить общество»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ahoma"/>
              </a:rPr>
              <a:t>Э.Фромм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73"/>
                </a:solidFill>
                <a:latin typeface="Tahoma"/>
              </a:rPr>
              <a:t>НАЧАТЬ НУЖНО С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ОНИМАНИЯ И ПРИНЯТИЯ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ЛЮДЕЙ ТАКИМИ,КАК ОНИ ЕСТЬ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Documents and Settings\Ольга.HAUSE-6A72764E1\Рабочий стол\ирония.jpg"/>
          <p:cNvPicPr/>
          <p:nvPr/>
        </p:nvPicPr>
        <p:blipFill>
          <a:blip r:embed="rId1"/>
          <a:stretch/>
        </p:blipFill>
        <p:spPr>
          <a:xfrm>
            <a:off x="285840" y="428760"/>
            <a:ext cx="274644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Ольга.HAUSE-6A72764E1\Рабочий стол\недовольство.jpg"/>
          <p:cNvPicPr/>
          <p:nvPr/>
        </p:nvPicPr>
        <p:blipFill>
          <a:blip r:embed="rId2"/>
          <a:stretch/>
        </p:blipFill>
        <p:spPr>
          <a:xfrm>
            <a:off x="3571920" y="4143240"/>
            <a:ext cx="1928880" cy="189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Ольга.HAUSE-6A72764E1\Рабочий стол\неудовольствие.jpg"/>
          <p:cNvPicPr/>
          <p:nvPr/>
        </p:nvPicPr>
        <p:blipFill>
          <a:blip r:embed="rId3"/>
          <a:stretch/>
        </p:blipFill>
        <p:spPr>
          <a:xfrm>
            <a:off x="214200" y="3711600"/>
            <a:ext cx="3071880" cy="271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Ольга.HAUSE-6A72764E1\Рабочий стол\эгоцентрзм.jpg"/>
          <p:cNvPicPr/>
          <p:nvPr/>
        </p:nvPicPr>
        <p:blipFill>
          <a:blip r:embed="rId4"/>
          <a:stretch/>
        </p:blipFill>
        <p:spPr>
          <a:xfrm>
            <a:off x="6215040" y="285840"/>
            <a:ext cx="265104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Ольга.HAUSE-6A72764E1\Рабочий стол\упрямство.jpg"/>
          <p:cNvPicPr/>
          <p:nvPr/>
        </p:nvPicPr>
        <p:blipFill>
          <a:blip r:embed="rId5"/>
          <a:stretch/>
        </p:blipFill>
        <p:spPr>
          <a:xfrm>
            <a:off x="6215040" y="3500280"/>
            <a:ext cx="2600280" cy="27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Ольга.HAUSE-6A72764E1\Рабочий стол\агрессия.jpg"/>
          <p:cNvPicPr/>
          <p:nvPr/>
        </p:nvPicPr>
        <p:blipFill>
          <a:blip r:embed="rId6"/>
          <a:stretch/>
        </p:blipFill>
        <p:spPr>
          <a:xfrm>
            <a:off x="3357720" y="345960"/>
            <a:ext cx="25621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96840" y="1828800"/>
            <a:ext cx="8553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ятно 2 7"/>
          <p:cNvSpPr/>
          <p:nvPr/>
        </p:nvSpPr>
        <p:spPr>
          <a:xfrm>
            <a:off x="4429080" y="214200"/>
            <a:ext cx="4714920" cy="228600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1" name="Пятно 2 8"/>
          <p:cNvSpPr/>
          <p:nvPr/>
        </p:nvSpPr>
        <p:spPr>
          <a:xfrm>
            <a:off x="4429080" y="4143240"/>
            <a:ext cx="5214960" cy="234324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2" name="Пятно 2 6"/>
          <p:cNvSpPr/>
          <p:nvPr/>
        </p:nvSpPr>
        <p:spPr>
          <a:xfrm>
            <a:off x="-428760" y="714240"/>
            <a:ext cx="5214960" cy="234324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33080" y="1504800"/>
            <a:ext cx="32727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Противоречия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5729760" y="5000760"/>
            <a:ext cx="27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Разногласия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941720" y="1000080"/>
            <a:ext cx="34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Нетерпимость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6" name="Пятно 2 9"/>
          <p:cNvSpPr/>
          <p:nvPr/>
        </p:nvSpPr>
        <p:spPr>
          <a:xfrm>
            <a:off x="-357120" y="4286160"/>
            <a:ext cx="5214960" cy="234324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785880" y="52862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Arial"/>
                <a:ea typeface="Times New Roman"/>
              </a:rPr>
              <a:t>Конфликты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42960" y="221472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ТАК НЕ ДАЛЕКО</a:t>
            </a:r>
            <a:endParaRPr b="0" lang="en-US" sz="66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И ДО ВОЙНЫ!!!!</a:t>
            </a:r>
            <a:endParaRPr b="0" lang="en-US" sz="6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488240" y="333360"/>
            <a:ext cx="5696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2bfe"/>
                </a:solidFill>
                <a:latin typeface="Times New Roman"/>
              </a:rPr>
              <a:t>БАЛЛ ПО ПОВЕДЕНИЮ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101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110016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Оставляю за собой последнее слово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Нередко в разговоре перебиваю собеседника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Меня легко рассердить 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Люблю делать замечания другим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Хочу быть авторитетом для окружающих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Не довольствуюсь малым в достижении какой-либо цели,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хочу добиться наилучшего результата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7. Когда разгневаюсь, плохо себя сдерживаю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едпочитаю руководить, а не подчиняться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У меня резкая, грубоватая жестикуляция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buClr>
                <a:srgbClr val="00206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Я мстителен(льна)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10480" y="26028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2bfe"/>
                </a:solidFill>
                <a:latin typeface="Tahoma"/>
              </a:rPr>
              <a:t>Варианты предпочитаемого вами поведения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125360"/>
          <a:ext cx="8229600" cy="5394600"/>
        </p:xfrm>
        <a:graphic>
          <a:graphicData uri="http://schemas.openxmlformats.org/drawingml/2006/table">
            <a:tbl>
              <a:tblPr/>
              <a:tblGrid>
                <a:gridCol w="1800360"/>
                <a:gridCol w="64292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Более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 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аша манера поведения неприятна окружающим и вызвана скорее всего вашим недоброжелательным отношением к людям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1368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3 – 7 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аше поведение достаточно разнообразно и отношение к вам зависит, скорее, от вашего поведения в целом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5760">
                      <a:solidFill>
                        <a:srgbClr val="010199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 – 2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балла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10199"/>
                      </a:solidFill>
                    </a:lnL>
                    <a:lnR w="576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ы стараетесь избегать конфликтов и споров, но это может быть связано с нежеланием сделать неприятное другим</a:t>
                      </a:r>
                      <a:endParaRPr b="0" lang="en-US" sz="2800" spc="-1" strike="noStrike">
                        <a:solidFill>
                          <a:srgbClr val="010199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199"/>
                      </a:solidFill>
                    </a:lnL>
                    <a:lnR w="13680">
                      <a:solidFill>
                        <a:srgbClr val="010199"/>
                      </a:solidFill>
                    </a:lnR>
                    <a:lnT w="5760">
                      <a:solidFill>
                        <a:srgbClr val="010199"/>
                      </a:solidFill>
                    </a:lnT>
                    <a:lnB w="13680">
                      <a:solidFill>
                        <a:srgbClr val="0101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16 ноября</a:t>
            </a: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 1995 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года ЮНЕСКО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была  утверждена  </a:t>
            </a:r>
            <a:r>
              <a:rPr b="0" lang="ru-RU" sz="3600" spc="-1" strike="noStrike" u="sng">
                <a:solidFill>
                  <a:srgbClr val="000066"/>
                </a:solidFill>
                <a:uFillTx/>
                <a:latin typeface="Tahoma"/>
              </a:rPr>
              <a:t>декларация принципов  толерантности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Толерантность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000066"/>
                </a:solidFill>
                <a:latin typeface="Tahoma"/>
              </a:rPr>
              <a:t>означает  </a:t>
            </a: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Tahoma"/>
              </a:rPr>
              <a:t>уважение</a:t>
            </a:r>
            <a:r>
              <a:rPr b="0" i="1" lang="ru-RU" sz="3600" spc="-1" strike="noStrike">
                <a:solidFill>
                  <a:srgbClr val="000066"/>
                </a:solidFill>
                <a:latin typeface="Tahoma"/>
              </a:rPr>
              <a:t>, принятие  и  правильное  понимание богатого  многообразия  культур нашего  мира,  форм  самовыражения  и  способов  проявления  человеческой индивидуальности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ятно 2 6"/>
          <p:cNvSpPr/>
          <p:nvPr/>
        </p:nvSpPr>
        <p:spPr>
          <a:xfrm>
            <a:off x="214200" y="500040"/>
            <a:ext cx="3643560" cy="228600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6" name="Пятно 2 7"/>
          <p:cNvSpPr/>
          <p:nvPr/>
        </p:nvSpPr>
        <p:spPr>
          <a:xfrm>
            <a:off x="-214200" y="4071960"/>
            <a:ext cx="4071960" cy="242892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7" name="Пятно 2 9"/>
          <p:cNvSpPr/>
          <p:nvPr/>
        </p:nvSpPr>
        <p:spPr>
          <a:xfrm>
            <a:off x="4071960" y="0"/>
            <a:ext cx="5214960" cy="228600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285920" y="117072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Зло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435280" y="714240"/>
            <a:ext cx="22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Безобразия,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хулиганство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658440" y="49291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Аморальность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1" name="Пятно 2 8"/>
          <p:cNvSpPr/>
          <p:nvPr/>
        </p:nvSpPr>
        <p:spPr>
          <a:xfrm>
            <a:off x="3571920" y="2500200"/>
            <a:ext cx="3571920" cy="177192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2" name="Пятно 2 10"/>
          <p:cNvSpPr/>
          <p:nvPr/>
        </p:nvSpPr>
        <p:spPr>
          <a:xfrm>
            <a:off x="4286160" y="4143240"/>
            <a:ext cx="5072040" cy="2271960"/>
          </a:xfrm>
          <a:prstGeom prst="irregularSeal2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5013720" y="500076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Отсутствие понятия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запрета….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4647240" y="31431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Arial"/>
                <a:ea typeface="Times New Roman"/>
              </a:rPr>
              <a:t>Ложь</a:t>
            </a:r>
            <a:endParaRPr b="0" lang="en-US" sz="24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2071800" y="10000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Любовь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Чистота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Доброжелательность Понимание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отрудничество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Чувство ответственности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острадание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рощение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Самоуважение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Уважение к другим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Обходительность 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Культура речи…..</a:t>
            </a:r>
            <a:endParaRPr b="0" lang="en-US" sz="28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1885680" y="21420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щечеловеческие ценности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101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59:59Z</dcterms:created>
  <dc:creator>User</dc:creator>
  <dc:description/>
  <dc:language>en-US</dc:language>
  <cp:lastModifiedBy>ОЛЬГА</cp:lastModifiedBy>
  <dcterms:modified xsi:type="dcterms:W3CDTF">2011-01-26T21:26:50Z</dcterms:modified>
  <cp:revision>26</cp:revision>
  <dc:subject/>
  <dc:title>Слайд 1</dc:title>
</cp:coreProperties>
</file>