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FEE4-13E8-43D9-AA7F-96D1790712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A0C8-9522-4343-A0E8-47B484EB71F6}" type="slidenum">
              <a:rPr b="0" lang="ru-RU" sz="1200" spc="-1" strike="noStrike">
                <a:solidFill>
                  <a:srgbClr val="0101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25AF-E67D-4A79-8EC4-EA1237AEFAA8}" type="slidenum">
              <a:rPr b="0" lang="ru-RU" sz="1200" spc="-1" strike="noStrike">
                <a:solidFill>
                  <a:srgbClr val="0101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3B2-4760-4AB8-ABB4-1FC765A0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1FC-F698-45D5-BF63-94C6773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AB6-482C-4D43-AC24-AD160991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057-F8FF-4B2F-869E-E3E6A700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45AAC-4299-42CF-8A01-C8430E44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004F5-4648-41F8-9860-F2113B25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A5C66-78A3-4C72-96A0-B5B147ED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52023-9F0A-41B9-BBA9-A3C3E0C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36128-929A-4569-BA63-EEEDE961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5E64E-B8FC-4076-A437-46828AE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B130-1C77-4F24-B6E0-AA9EFAE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F24-90ED-4EED-817B-C98CDD9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E1F2-D361-48FF-B657-40E78467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E496C-37A9-44B7-9F86-2E3F3E8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9A5BB-3933-4FB7-8386-247D0DF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5E3F4-D1B6-4800-AB77-3AA5FD4B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DE4E5-F1D2-4A51-BE03-018278E6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E12-AA92-47A2-9529-ED533867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D0F-C052-458A-B18C-252B0D1C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238-FCD4-453D-B755-94B408EE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791-453D-4473-9778-E287DC3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AEA-CF05-451F-AFDB-D4A5FC47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FA0-F775-4224-9ABB-84E4E08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B9E-1B14-4C4F-BDF4-985B601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3C2D-7821-41AE-A0E5-141AA727D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101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9469-F78B-4353-B14B-993C1BD46DFC}" type="slidenum">
              <a:rPr b="0" lang="ru-RU" sz="14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7" descr=""/>
          <p:cNvPicPr/>
          <p:nvPr/>
        </p:nvPicPr>
        <p:blipFill>
          <a:blip r:embed="rId1"/>
          <a:stretch/>
        </p:blipFill>
        <p:spPr>
          <a:xfrm>
            <a:off x="493560" y="1206360"/>
            <a:ext cx="8229600" cy="181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497400" y="4572000"/>
            <a:ext cx="508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Методическая разработка классного часа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по теме толерантных отношений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Авторы  Овчарова О.Э. и учащиеся 9а класса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ГОУ СОШ № 466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366360" y="602136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анкт-Петербург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357200" y="1071720"/>
            <a:ext cx="6000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Истинность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Честн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Искренность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праведливость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оспитанн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ежлив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Желание делиться с другими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Бесстрашие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Забота о других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Терпение…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386080" y="21420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оциальные ценности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0" y="285840"/>
            <a:ext cx="93726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Разные религии говорят на «одном языке» о том,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ак надо относиться к другому, отличному от нас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Христианство</a:t>
            </a: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Во всём, как хотите, чтобы с вами поступали люди, так 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оступайте и вы с ними».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0" y="228600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Буддизм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Человек может выразить своё отношение к друзьям пятью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способами: великодушием, учтивостью,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доброжелательностью, отношением к ним, как к себе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и верности своему слову».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Конфуцианство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Не делай другим того, чего не хотел бы от других».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Индуизм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Не делай другим того, от чего больно тебе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Ислам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Никто из нас не станет верующим, пока не полюбит своего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брата, как себя самого».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5362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  <a:ea typeface="Times New Roman"/>
              </a:rPr>
              <a:t>Джайнизм:</a:t>
            </a:r>
            <a:r>
              <a:rPr b="1" lang="ru-RU" sz="1800" spc="-1" strike="noStrike">
                <a:solidFill>
                  <a:srgbClr val="8c8cfe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  <a:ea typeface="Times New Roman"/>
              </a:rPr>
              <a:t>«В счастье и страдании, в радости и в горе мы должны относиться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  <a:ea typeface="Times New Roman"/>
              </a:rPr>
              <a:t>ко всем существам как относимся к самим себе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2920" y="6075720"/>
            <a:ext cx="90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  <a:ea typeface="Times New Roman"/>
              </a:rPr>
              <a:t>Даосизм: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imes New Roman"/>
              </a:rPr>
              <a:t> «Считай успех соседа своим успехом,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imes New Roman"/>
              </a:rPr>
              <a:t>а потерю соседа своей потерей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11280" y="981000"/>
            <a:ext cx="791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Живи с другими людьми так,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чтобы твои друзья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не стали недругами,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а недруги стали друзьями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Пифагор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582200" y="189000"/>
            <a:ext cx="48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Уверены ли вы в себе ?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0" y="836640"/>
            <a:ext cx="9148680" cy="68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7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Могут ли несколько последовавших одна за другой неудач заставить вас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усомниться в своих способностях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Испытываете ли вы чувство страха, оказавшись в плотной толпе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ледуете ли вы моде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Часто ли смотритесь в зеркало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утулитесь ли в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читаете ли вы, что люди злословят в ваш адрес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Волнуетесь ли вы, когда вам приходится бывать в учреждениях, улаживая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какие-либо неприятные вопрос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Возникает ли у вас временами такое ощущение, будто за вами кто-то следит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Легко ли вы решаетесь провести свои каникулы в новом для вас месте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Чувствуете ли вы себя свободно, оказавшись в незнакомой компании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нятся ли вам кошмар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Предпочитаете ли вы без обсуждения решать свои проблем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Уверены ли вы в том, что ваши друзья любят вас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Часто ли окружающие обращаются к вам за советом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79280" y="907920"/>
          <a:ext cx="8640720" cy="4846680"/>
        </p:xfrm>
        <a:graphic>
          <a:graphicData uri="http://schemas.openxmlformats.org/drawingml/2006/table">
            <a:tbl>
              <a:tblPr/>
              <a:tblGrid>
                <a:gridCol w="814320"/>
                <a:gridCol w="441360"/>
                <a:gridCol w="417600"/>
                <a:gridCol w="555840"/>
                <a:gridCol w="558720"/>
                <a:gridCol w="558720"/>
                <a:gridCol w="555480"/>
                <a:gridCol w="559080"/>
                <a:gridCol w="555480"/>
                <a:gridCol w="558720"/>
                <a:gridCol w="655560"/>
                <a:gridCol w="584280"/>
                <a:gridCol w="658800"/>
                <a:gridCol w="585720"/>
                <a:gridCol w="5810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74"/>
          <p:cNvSpPr/>
          <p:nvPr/>
        </p:nvSpPr>
        <p:spPr>
          <a:xfrm>
            <a:off x="1974600" y="33012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УВЕРЕНЫ ЛИ ВЫ В СЕБЕ ?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8" name="Text Box 97"/>
          <p:cNvSpPr/>
          <p:nvPr/>
        </p:nvSpPr>
        <p:spPr>
          <a:xfrm>
            <a:off x="925200" y="5950080"/>
            <a:ext cx="62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ваш ответ совпадает с табличным – балл «2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не совпадает – балл «0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2560320" y="203040"/>
            <a:ext cx="38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ПРОВЕРЬ СЕБЯ</a:t>
            </a:r>
            <a:endParaRPr b="0" lang="en-US" sz="4000" spc="-1" strike="noStrike">
              <a:solidFill>
                <a:srgbClr val="0101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484280"/>
          <a:ext cx="8085240" cy="4660920"/>
        </p:xfrm>
        <a:graphic>
          <a:graphicData uri="http://schemas.openxmlformats.org/drawingml/2006/table">
            <a:tbl>
              <a:tblPr/>
              <a:tblGrid>
                <a:gridCol w="2158920"/>
                <a:gridCol w="59263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- 28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а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всегда уверены в себе и в своих способностях, окружающие обращаются к вам за советами, некоторые считают вас тщеславным, надменным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– 20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уверены в себе, хотя иногда проявляете нерешительность.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– 10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не уверены в себе, необщительны, и не принимаете самостоятельно важные решения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м наш совет «ЗАДУМАЙТЕСЬ!!!!»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57120" y="357120"/>
            <a:ext cx="8082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ahoma"/>
              </a:rPr>
              <a:t>«Чтобы изменить общество, нужно воспитать другого человека.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ahoma"/>
              </a:rPr>
              <a:t>Чтобы воспитать другого человека, нужно изменить общество»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ahoma"/>
              </a:rPr>
              <a:t>Э.Фромм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73"/>
                </a:solidFill>
                <a:latin typeface="Tahoma"/>
              </a:rPr>
              <a:t>НАЧАТЬ НУЖНО С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ОНИМАНИЯ И ПРИНЯТИЯ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ЛЮДЕЙ ТАКИМИ,КАК ОНИ ЕСТЬ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Documents and Settings\Ольга.HAUSE-6A72764E1\Рабочий стол\ирония.jpg"/>
          <p:cNvPicPr/>
          <p:nvPr/>
        </p:nvPicPr>
        <p:blipFill>
          <a:blip r:embed="rId1"/>
          <a:stretch/>
        </p:blipFill>
        <p:spPr>
          <a:xfrm>
            <a:off x="285840" y="428760"/>
            <a:ext cx="274644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Ольга.HAUSE-6A72764E1\Рабочий стол\недовольство.jpg"/>
          <p:cNvPicPr/>
          <p:nvPr/>
        </p:nvPicPr>
        <p:blipFill>
          <a:blip r:embed="rId2"/>
          <a:stretch/>
        </p:blipFill>
        <p:spPr>
          <a:xfrm>
            <a:off x="3571920" y="4143240"/>
            <a:ext cx="1928880" cy="189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Ольга.HAUSE-6A72764E1\Рабочий стол\неудовольствие.jpg"/>
          <p:cNvPicPr/>
          <p:nvPr/>
        </p:nvPicPr>
        <p:blipFill>
          <a:blip r:embed="rId3"/>
          <a:stretch/>
        </p:blipFill>
        <p:spPr>
          <a:xfrm>
            <a:off x="214200" y="3711600"/>
            <a:ext cx="3071880" cy="271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Ольга.HAUSE-6A72764E1\Рабочий стол\эгоцентрзм.jpg"/>
          <p:cNvPicPr/>
          <p:nvPr/>
        </p:nvPicPr>
        <p:blipFill>
          <a:blip r:embed="rId4"/>
          <a:stretch/>
        </p:blipFill>
        <p:spPr>
          <a:xfrm>
            <a:off x="6215040" y="285840"/>
            <a:ext cx="265104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Ольга.HAUSE-6A72764E1\Рабочий стол\упрямство.jpg"/>
          <p:cNvPicPr/>
          <p:nvPr/>
        </p:nvPicPr>
        <p:blipFill>
          <a:blip r:embed="rId5"/>
          <a:stretch/>
        </p:blipFill>
        <p:spPr>
          <a:xfrm>
            <a:off x="6215040" y="3500280"/>
            <a:ext cx="2600280" cy="273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Ольга.HAUSE-6A72764E1\Рабочий стол\агрессия.jpg"/>
          <p:cNvPicPr/>
          <p:nvPr/>
        </p:nvPicPr>
        <p:blipFill>
          <a:blip r:embed="rId6"/>
          <a:stretch/>
        </p:blipFill>
        <p:spPr>
          <a:xfrm>
            <a:off x="3357720" y="345960"/>
            <a:ext cx="25621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96840" y="1828800"/>
            <a:ext cx="85536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ятно 2 7"/>
          <p:cNvSpPr/>
          <p:nvPr/>
        </p:nvSpPr>
        <p:spPr>
          <a:xfrm>
            <a:off x="4429080" y="214200"/>
            <a:ext cx="4714920" cy="228600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1" name="Пятно 2 8"/>
          <p:cNvSpPr/>
          <p:nvPr/>
        </p:nvSpPr>
        <p:spPr>
          <a:xfrm>
            <a:off x="4429080" y="4143240"/>
            <a:ext cx="5214960" cy="234324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2" name="Пятно 2 6"/>
          <p:cNvSpPr/>
          <p:nvPr/>
        </p:nvSpPr>
        <p:spPr>
          <a:xfrm>
            <a:off x="-428760" y="714240"/>
            <a:ext cx="5214960" cy="234324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33080" y="1504800"/>
            <a:ext cx="32727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Противоречия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5729760" y="5000760"/>
            <a:ext cx="27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Разногласия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941720" y="1000080"/>
            <a:ext cx="34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Нетерпим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6" name="Пятно 2 9"/>
          <p:cNvSpPr/>
          <p:nvPr/>
        </p:nvSpPr>
        <p:spPr>
          <a:xfrm>
            <a:off x="-357120" y="4286160"/>
            <a:ext cx="5214960" cy="234324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785880" y="52862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Конфликты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42960" y="221472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ТАК НЕ ДАЛЕКО</a:t>
            </a:r>
            <a:endParaRPr b="0" lang="en-US" sz="6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И ДО ВОЙНЫ!!!!</a:t>
            </a:r>
            <a:endParaRPr b="0" lang="en-US" sz="6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488240" y="333360"/>
            <a:ext cx="56962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2bfe"/>
                </a:solidFill>
                <a:latin typeface="Times New Roman"/>
              </a:rPr>
              <a:t>БАЛЛ ПО ПОВЕДЕНИЮ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101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110016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Оставляю за собой последнее слово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Нередко в разговоре перебиваю собеседника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Меня легко рассердить 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Люблю делать замечания другим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Хочу быть авторитетом для окружающих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Не довольствуюсь малым в достижении какой-либо цели,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хочу добиться наилучшего результата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7. Когда разгневаюсь, плохо себя сдерживаю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едпочитаю руководить, а не подчиняться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У меня резкая, грубоватая жестикуляция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Я мстителен(льна)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10480" y="26028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2bfe"/>
                </a:solidFill>
                <a:latin typeface="Tahoma"/>
              </a:rPr>
              <a:t>Варианты предпочитаемого вами поведения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125360"/>
          <a:ext cx="8229600" cy="5394600"/>
        </p:xfrm>
        <a:graphic>
          <a:graphicData uri="http://schemas.openxmlformats.org/drawingml/2006/table">
            <a:tbl>
              <a:tblPr/>
              <a:tblGrid>
                <a:gridCol w="1800360"/>
                <a:gridCol w="64292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Более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 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аша манера поведения неприятна окружающим и вызвана скорее всего вашим недоброжелательным отношением к людям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3 – 7 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аше поведение достаточно разнообразно и отношение к вам зависит, скорее, от вашего поведения в целом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 – 2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балла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ы стараетесь избегать конфликтов и споров, но это может быть связано с нежеланием сделать неприятное другим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16 ноября</a:t>
            </a: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 1995 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года ЮНЕСКО</a:t>
            </a: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 была  утверждена  </a:t>
            </a:r>
            <a:r>
              <a:rPr b="0" lang="ru-RU" sz="3600" spc="-1" strike="noStrike" u="sng">
                <a:solidFill>
                  <a:srgbClr val="000066"/>
                </a:solidFill>
                <a:uFillTx/>
                <a:latin typeface="Tahoma"/>
              </a:rPr>
              <a:t>декларация принципов  толерантности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ahoma"/>
              </a:rPr>
              <a:t>Толерантность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000066"/>
                </a:solidFill>
                <a:latin typeface="Tahoma"/>
              </a:rPr>
              <a:t>означает  </a:t>
            </a: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Tahoma"/>
              </a:rPr>
              <a:t>уважение</a:t>
            </a:r>
            <a:r>
              <a:rPr b="0" i="1" lang="ru-RU" sz="3600" spc="-1" strike="noStrike">
                <a:solidFill>
                  <a:srgbClr val="000066"/>
                </a:solidFill>
                <a:latin typeface="Tahoma"/>
              </a:rPr>
              <a:t>, принятие  и  правильное  понимание богатого  многообразия  культур нашего  мира,  форм  самовыражения  и  способов  проявления  человеческой индивидуальности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ятно 2 6"/>
          <p:cNvSpPr/>
          <p:nvPr/>
        </p:nvSpPr>
        <p:spPr>
          <a:xfrm>
            <a:off x="214200" y="500040"/>
            <a:ext cx="3643560" cy="228600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6" name="Пятно 2 7"/>
          <p:cNvSpPr/>
          <p:nvPr/>
        </p:nvSpPr>
        <p:spPr>
          <a:xfrm>
            <a:off x="-214200" y="4071960"/>
            <a:ext cx="4071960" cy="242892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7" name="Пятно 2 9"/>
          <p:cNvSpPr/>
          <p:nvPr/>
        </p:nvSpPr>
        <p:spPr>
          <a:xfrm>
            <a:off x="4071960" y="0"/>
            <a:ext cx="5214960" cy="228600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285920" y="117072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Зло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5435280" y="714240"/>
            <a:ext cx="22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Безобразия,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хулиганство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658440" y="49291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Аморальность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1" name="Пятно 2 8"/>
          <p:cNvSpPr/>
          <p:nvPr/>
        </p:nvSpPr>
        <p:spPr>
          <a:xfrm>
            <a:off x="3571920" y="2500200"/>
            <a:ext cx="3571920" cy="177192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2" name="Пятно 2 10"/>
          <p:cNvSpPr/>
          <p:nvPr/>
        </p:nvSpPr>
        <p:spPr>
          <a:xfrm>
            <a:off x="4286160" y="4143240"/>
            <a:ext cx="5072040" cy="227196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5013720" y="500076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Отсутствие понятия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запрета….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4647240" y="31431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Ложь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2071800" y="10000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Любовь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Чистота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Доброжелательность Понимание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Сотрудничество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Чувство ответственности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Сострадание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рощение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Самоуважение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Уважение к другим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Обходительность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Культура речи…..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1885680" y="21420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Общечеловеческие ценности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59:59Z</dcterms:created>
  <dc:creator>User</dc:creator>
  <dc:description/>
  <dc:language>en-US</dc:language>
  <cp:lastModifiedBy>ОЛЬГА</cp:lastModifiedBy>
  <dcterms:modified xsi:type="dcterms:W3CDTF">2011-01-26T21:26:50Z</dcterms:modified>
  <cp:revision>26</cp:revision>
  <dc:subject/>
  <dc:title>Слайд 1</dc:title>
</cp:coreProperties>
</file>