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png" ContentType="image/pn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AFACC-F363-412A-B695-8270D478A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406B5-8532-44FA-860C-48C6999C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A92D0-E058-4AB6-9D94-DBBD169EC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AE7C8-6258-455B-BC42-8895E36B1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5B21C-D84E-4E36-A3B7-DB1A82EDA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DD154-414F-43D1-AE9A-C3A311D94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ED9DF-17BF-4484-9D59-776FDECD2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8FDE2-AF78-4093-9080-F0F98BB70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EA1AC-AA87-4F07-96BF-440B8ABD9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EC4F4-3304-4214-B093-C211AF743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8EA4D-353F-419A-A47E-E058AC1AC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4DAC3-88CD-4C32-BA55-20AB500D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FB1C2-F389-4B55-80CE-CE05714D7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B3546-5DF3-4F7E-9053-20FDB364A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48B37-705C-4421-98AF-E3B2F6EDB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EEAC0-CE21-407B-A057-743EDC235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1C977-EC86-4312-92BD-5FCDC8C16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5439D-7370-4C36-842D-E801605B4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65043-6E2F-44D0-B63D-57C8C388A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E65E8-E70A-41A7-806C-59119C79C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D3325-73BA-47D0-B07F-A2D2E7200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F499-5008-438C-BAAA-925028BE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7F69-C5AD-4043-B30A-B7AED813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8DE5-0A7D-4D16-B88C-AFF2385CD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E8A2-2118-4FC3-97D8-84F6E31D04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1206-2EE4-4C00-9D25-2BA1688BE9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Пресс-конференция</a:t>
            </a:r>
            <a:endParaRPr b="1" lang="en-US" sz="3600" spc="-1" strike="noStrike">
              <a:solidFill>
                <a:srgbClr val="ffffb7"/>
              </a:solidFill>
              <a:latin typeface="Arial Black"/>
            </a:endParaRPr>
          </a:p>
        </p:txBody>
      </p:sp>
      <p:sp>
        <p:nvSpPr>
          <p:cNvPr id="9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О лесной </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промышленности </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России</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1). Лесозаготовки: валка леса, вывоз его к транспортным магистралям и доставка к центрам переработки.</a:t>
            </a:r>
            <a:endParaRPr b="1" lang="en-US" sz="2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 descr=""/>
          <p:cNvPicPr/>
          <p:nvPr/>
        </p:nvPicPr>
        <p:blipFill>
          <a:blip r:embed="rId1"/>
          <a:stretch/>
        </p:blipFill>
        <p:spPr>
          <a:xfrm>
            <a:off x="457200" y="1676520"/>
            <a:ext cx="7924680" cy="48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 </a:t>
            </a:r>
            <a:r>
              <a:rPr b="1" lang="en-US" sz="4000" spc="-1" strike="noStrike">
                <a:solidFill>
                  <a:srgbClr val="ffffb7"/>
                </a:solidFill>
                <a:latin typeface="Arial Black"/>
              </a:rPr>
              <a:t>2) Химическая переработка древесины или лесохимия. </a:t>
            </a:r>
            <a:endParaRPr b="1" lang="en-US" sz="40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
          <p:cNvPicPr/>
          <p:nvPr/>
        </p:nvPicPr>
        <p:blipFill>
          <a:blip r:embed="rId1"/>
          <a:stretch/>
        </p:blipFill>
        <p:spPr>
          <a:xfrm>
            <a:off x="762120" y="1981080"/>
            <a:ext cx="777240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380520"/>
            <a:ext cx="800748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Это производство бумаги, картона, скипидара, канифоли, кормовых дрожжей. Продукция одного производства служит сырьем для другого. Поэтому выгодно создать лесохимические комбинаты. Такие комбинаты есть на севере европейской части России, на Урале. Предприятия лесной промышленности, которые расположены близко друг от друга и имеют тесные производственные связи, основанные на совместном использовании сырья, энергии, транспорта и полной переработки отходов, называются лесопромышленными комплексами. Крупный лесопромышленный комплекс находится в Восточной Сибири - г. Братск. Такие комплексы экономически очень выгодны.</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рабочего-леспромхоза.</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Я работаю в леспромхозе, т.е. предприятии, которое осуществляет лесозаготовку. Перед валкой древесины массив леса делится на лесосечные участки. Затем в каждом участке ведутся работы.</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8" name="" descr=""/>
          <p:cNvPicPr/>
          <p:nvPr/>
        </p:nvPicPr>
        <p:blipFill>
          <a:blip r:embed="rId1"/>
          <a:stretch/>
        </p:blipFill>
        <p:spPr>
          <a:xfrm>
            <a:off x="304920" y="3429000"/>
            <a:ext cx="3962160" cy="3238560"/>
          </a:xfrm>
          <a:prstGeom prst="rect">
            <a:avLst/>
          </a:prstGeom>
          <a:ln w="0">
            <a:noFill/>
          </a:ln>
        </p:spPr>
      </p:pic>
      <p:pic>
        <p:nvPicPr>
          <p:cNvPr id="129" name="" descr=""/>
          <p:cNvPicPr/>
          <p:nvPr/>
        </p:nvPicPr>
        <p:blipFill>
          <a:blip r:embed="rId2"/>
          <a:stretch/>
        </p:blipFill>
        <p:spPr>
          <a:xfrm>
            <a:off x="5257800" y="3276720"/>
            <a:ext cx="3048120" cy="33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ейчас  используется сплошная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валка  древесины, до революци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была выборочная. Наш труд</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механизирован. Мы пользуемс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бензопилами, лесопилам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рубленные деревья от сучьев,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они называются хлыстами.</a:t>
            </a:r>
            <a:endParaRPr b="0" lang="en-US" sz="2000" spc="-1" strike="noStrike">
              <a:solidFill>
                <a:srgbClr val="ffffff"/>
              </a:solidFill>
              <a:latin typeface="Arial"/>
            </a:endParaRPr>
          </a:p>
        </p:txBody>
      </p:sp>
      <p:pic>
        <p:nvPicPr>
          <p:cNvPr id="132" name="" descr=""/>
          <p:cNvPicPr/>
          <p:nvPr/>
        </p:nvPicPr>
        <p:blipFill>
          <a:blip r:embed="rId1"/>
          <a:stretch/>
        </p:blipFill>
        <p:spPr>
          <a:xfrm>
            <a:off x="228600" y="1752480"/>
            <a:ext cx="4286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После этого хлысты вывозят на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нижние склады. Вывоз осуществляетс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 основном с помощью трелевочных</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тракторов, которые выволакиваю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деревья. Это операция называетс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трелевкой.</a:t>
            </a:r>
            <a:endParaRPr b="0" lang="en-US" sz="1800" spc="-1" strike="noStrike">
              <a:solidFill>
                <a:srgbClr val="ffffff"/>
              </a:solidFill>
              <a:latin typeface="Arial"/>
            </a:endParaRPr>
          </a:p>
        </p:txBody>
      </p:sp>
      <p:pic>
        <p:nvPicPr>
          <p:cNvPr id="135" name="" descr=""/>
          <p:cNvPicPr/>
          <p:nvPr/>
        </p:nvPicPr>
        <p:blipFill>
          <a:blip r:embed="rId1"/>
          <a:stretch/>
        </p:blipFill>
        <p:spPr>
          <a:xfrm>
            <a:off x="0" y="152280"/>
            <a:ext cx="4572000" cy="32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верхних складах</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оисходит сортировк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ревесины по порода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размерам. А затем продукция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тправляется на склад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торые размещают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железных дорог и рек.</a:t>
            </a:r>
            <a:endParaRPr b="0" lang="en-US" sz="2400" spc="-1" strike="noStrike">
              <a:solidFill>
                <a:srgbClr val="ffffff"/>
              </a:solidFill>
              <a:latin typeface="Arial"/>
            </a:endParaRPr>
          </a:p>
        </p:txBody>
      </p:sp>
      <p:pic>
        <p:nvPicPr>
          <p:cNvPr id="138" name="" descr=""/>
          <p:cNvPicPr/>
          <p:nvPr/>
        </p:nvPicPr>
        <p:blipFill>
          <a:blip r:embed="rId1"/>
          <a:stretch/>
        </p:blipFill>
        <p:spPr>
          <a:xfrm>
            <a:off x="4343400" y="3505320"/>
            <a:ext cx="4286160" cy="284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 болотах создаютс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ециальные лежневые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ороги, в горной местност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спользуются подвесны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дороги. По небольшим</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ечкам древесину отправляю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оссыпью, а по судоходной</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еке сплавляют плотами</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 descr=""/>
          <p:cNvPicPr/>
          <p:nvPr/>
        </p:nvPicPr>
        <p:blipFill>
          <a:blip r:embed="rId1"/>
          <a:stretch/>
        </p:blipFill>
        <p:spPr>
          <a:xfrm>
            <a:off x="4648320" y="0"/>
            <a:ext cx="4495680" cy="419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директора спичечной фабрики.</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Для производства спич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используется древесина сосн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начала  древесину распиливаю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а чурки и пропаривают для</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того, чтобы снять с них кор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Затем на специальном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борудовании получаю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ревесную ленту, котору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елят на спичечную соломк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оломку нужно пропитать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раствором фосфорной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кислоты, чтобы исключить</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тление.</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44" name="" descr=""/>
          <p:cNvPicPr/>
          <p:nvPr/>
        </p:nvPicPr>
        <p:blipFill>
          <a:blip r:embed="rId1"/>
          <a:stretch/>
        </p:blipFill>
        <p:spPr>
          <a:xfrm>
            <a:off x="1143000" y="1676520"/>
            <a:ext cx="292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46" name="PlaceHolder 2"/>
          <p:cNvSpPr>
            <a:spLocks noGrp="1"/>
          </p:cNvSpPr>
          <p:nvPr>
            <p:ph/>
          </p:nvPr>
        </p:nvSpPr>
        <p:spPr>
          <a:xfrm>
            <a:off x="228600" y="380520"/>
            <a:ext cx="861696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оломку сортируют, шлифую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 только после этого делаю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ичечную головку, обмакива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дин конец в зажигательную смесь</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ера, бертолетова соль).</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ичечный коробок делаетс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з обрезков ленты.</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состав зажигательной смеси на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робке входит красный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фосфор и стеклянный порошо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 помощью автомата спичк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ключаются в коробок 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клеивают этикетки. Готовые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ички укладываются в тару 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ступают на склад. </a:t>
            </a:r>
            <a:endParaRPr b="0" lang="en-US" sz="2000" spc="-1" strike="noStrike">
              <a:solidFill>
                <a:srgbClr val="ffffff"/>
              </a:solidFill>
              <a:latin typeface="Arial"/>
            </a:endParaRPr>
          </a:p>
        </p:txBody>
      </p:sp>
      <p:pic>
        <p:nvPicPr>
          <p:cNvPr id="147" name="" descr=""/>
          <p:cNvPicPr/>
          <p:nvPr/>
        </p:nvPicPr>
        <p:blipFill>
          <a:blip r:embed="rId1"/>
          <a:stretch/>
        </p:blipFill>
        <p:spPr>
          <a:xfrm>
            <a:off x="4572000" y="533520"/>
            <a:ext cx="4572000" cy="396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Участники пресс-              конференции</a:t>
            </a: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Работники лесной промышленности: </a:t>
            </a:r>
            <a:br>
              <a:rPr sz="3200"/>
            </a:br>
            <a:r>
              <a:rPr b="0" lang="en-US" sz="3200" spc="-1" strike="noStrike">
                <a:solidFill>
                  <a:srgbClr val="ffffff"/>
                </a:solidFill>
                <a:latin typeface="Arial"/>
              </a:rPr>
              <a:t>- Представитель министра лесной промышленности; </a:t>
            </a:r>
            <a:br>
              <a:rPr sz="3200"/>
            </a:br>
            <a:r>
              <a:rPr b="0" lang="en-US" sz="3200" spc="-1" strike="noStrike">
                <a:solidFill>
                  <a:srgbClr val="ffffff"/>
                </a:solidFill>
                <a:latin typeface="Arial"/>
              </a:rPr>
              <a:t>- Инженер; </a:t>
            </a:r>
            <a:br>
              <a:rPr sz="3200"/>
            </a:br>
            <a:r>
              <a:rPr b="0" lang="en-US" sz="3200" spc="-1" strike="noStrike">
                <a:solidFill>
                  <a:srgbClr val="ffffff"/>
                </a:solidFill>
                <a:latin typeface="Arial"/>
              </a:rPr>
              <a:t>- Директор спичечной фабрики; </a:t>
            </a:r>
            <a:br>
              <a:rPr sz="3200"/>
            </a:br>
            <a:r>
              <a:rPr b="0" lang="en-US" sz="3200" spc="-1" strike="noStrike">
                <a:solidFill>
                  <a:srgbClr val="ffffff"/>
                </a:solidFill>
                <a:latin typeface="Arial"/>
              </a:rPr>
              <a:t>- Директор ЦБК; </a:t>
            </a:r>
            <a:br>
              <a:rPr sz="3200"/>
            </a:br>
            <a:r>
              <a:rPr b="0" lang="en-US" sz="3200" spc="-1" strike="noStrike">
                <a:solidFill>
                  <a:srgbClr val="ffffff"/>
                </a:solidFill>
                <a:latin typeface="Arial"/>
              </a:rPr>
              <a:t>- Лесник; </a:t>
            </a:r>
            <a:br>
              <a:rPr sz="3200"/>
            </a:br>
            <a:r>
              <a:rPr b="0" lang="en-US" sz="3200" spc="-1" strike="noStrike">
                <a:solidFill>
                  <a:srgbClr val="ffffff"/>
                </a:solidFill>
                <a:latin typeface="Arial"/>
              </a:rPr>
              <a:t>- Рабочий леспромхоз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Этимология и история  слова</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ово «спичка» является производным от старорусского слова «спички» — множественной несчётной формы слова «спица» (заострённая деревянная палочка, заноза). Первоначально это слово обозначало деревянные гвозди, которые использовались при изготовлении обуви (для крепления подошвы к головке). В таком значении слово и посейчас используется в ряде регионов России. Первоначально для обозначения спичек в современном понимании использовалось словосочетание «зажигательные (или самогарные) спички» и только с повсеместным распространением спичек первое слово стало опускаться, а потом и вовсе исчезло из обиход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 name="PlaceHolder 2"/>
          <p:cNvSpPr>
            <a:spLocks noGrp="1"/>
          </p:cNvSpPr>
          <p:nvPr>
            <p:ph/>
          </p:nvPr>
        </p:nvSpPr>
        <p:spPr>
          <a:xfrm>
            <a:off x="837720" y="380520"/>
            <a:ext cx="800748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a:t>
            </a:r>
            <a:r>
              <a:rPr b="0" i="1" lang="ru-RU" sz="1600" spc="-1" strike="noStrike">
                <a:solidFill>
                  <a:srgbClr val="ffffff"/>
                </a:solidFill>
                <a:latin typeface="Arial"/>
              </a:rPr>
              <a:t>Ранние упаковки                           коробок российских дореволюционных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a:t>
            </a:r>
            <a:r>
              <a:rPr b="0" i="1" lang="ru-RU" sz="1600" spc="-1" strike="noStrike">
                <a:solidFill>
                  <a:srgbClr val="ffffff"/>
                </a:solidFill>
                <a:latin typeface="Arial"/>
              </a:rPr>
              <a:t>спичек                                       спичек  фабрики «Балканская звезд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52" name="" descr=""/>
          <p:cNvPicPr/>
          <p:nvPr/>
        </p:nvPicPr>
        <p:blipFill>
          <a:blip r:embed="rId1"/>
          <a:stretch/>
        </p:blipFill>
        <p:spPr>
          <a:xfrm>
            <a:off x="609480" y="1371600"/>
            <a:ext cx="3886200" cy="3809880"/>
          </a:xfrm>
          <a:prstGeom prst="rect">
            <a:avLst/>
          </a:prstGeom>
          <a:ln w="0">
            <a:noFill/>
          </a:ln>
        </p:spPr>
      </p:pic>
      <p:pic>
        <p:nvPicPr>
          <p:cNvPr id="153" name="" descr=""/>
          <p:cNvPicPr/>
          <p:nvPr/>
        </p:nvPicPr>
        <p:blipFill>
          <a:blip r:embed="rId2"/>
          <a:stretch/>
        </p:blipFill>
        <p:spPr>
          <a:xfrm>
            <a:off x="487692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Специальные спички</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Штормовые (охотничьи) — горящие на ветру, в сырости и под дождём. Термические — развивающие при горении более высокую температуру и дающие при сгорании головки большее количество тепла. Сигнальные — дающие при горении цветное пламя. Фотографические — дающие мгновенную яркую вспышку, используемую при фотографировании. Каминные — на очень длинной палочке, чтобы зажигать камины. Газовые — чуть более короткие чем каминные, чтобы зажигать газовые горел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Выступление директора целлюлозно-бумажного комбината</a:t>
            </a:r>
            <a:endParaRPr b="1" lang="en-US" sz="2400" spc="-1" strike="noStrike">
              <a:solidFill>
                <a:srgbClr val="ffffb7"/>
              </a:solidFill>
              <a:latin typeface="Arial Black"/>
            </a:endParaRPr>
          </a:p>
        </p:txBody>
      </p:sp>
      <p:sp>
        <p:nvSpPr>
          <p:cNvPr id="157" name="PlaceHolder 2"/>
          <p:cNvSpPr>
            <a:spLocks noGrp="1"/>
          </p:cNvSpPr>
          <p:nvPr>
            <p:ph/>
          </p:nvPr>
        </p:nvSpPr>
        <p:spPr>
          <a:xfrm>
            <a:off x="-360" y="1295280"/>
            <a:ext cx="8845560" cy="556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ЦБК выпускает сотни различных</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идов бумаги и картона (до 600)-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писчая, рисовальная, чертежна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опировальная, калька, наждачна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оберточная, газетная и др.</a:t>
            </a:r>
            <a:endParaRPr b="0" lang="en-US" sz="1800" spc="-1" strike="noStrike">
              <a:solidFill>
                <a:srgbClr val="ffffff"/>
              </a:solidFill>
              <a:latin typeface="Arial"/>
            </a:endParaRPr>
          </a:p>
        </p:txBody>
      </p:sp>
      <p:pic>
        <p:nvPicPr>
          <p:cNvPr id="158" name="" descr=""/>
          <p:cNvPicPr/>
          <p:nvPr/>
        </p:nvPicPr>
        <p:blipFill>
          <a:blip r:embed="rId1"/>
          <a:stretch/>
        </p:blipFill>
        <p:spPr>
          <a:xfrm>
            <a:off x="304920" y="2971800"/>
            <a:ext cx="5256000" cy="345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готовление бумаги в прошлом.</a:t>
            </a:r>
            <a:endParaRPr b="1" lang="en-US" sz="4400" spc="-1" strike="noStrike">
              <a:solidFill>
                <a:srgbClr val="ffffb7"/>
              </a:solidFill>
              <a:latin typeface="Arial Black"/>
            </a:endParaRPr>
          </a:p>
        </p:txBody>
      </p:sp>
      <p:pic>
        <p:nvPicPr>
          <p:cNvPr id="160" name="" descr=""/>
          <p:cNvPicPr/>
          <p:nvPr/>
        </p:nvPicPr>
        <p:blipFill>
          <a:blip r:embed="rId1"/>
          <a:stretch/>
        </p:blipFill>
        <p:spPr>
          <a:xfrm>
            <a:off x="380880" y="1905120"/>
            <a:ext cx="8077320" cy="465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 name="PlaceHolder 2"/>
          <p:cNvSpPr>
            <a:spLocks noGrp="1"/>
          </p:cNvSpPr>
          <p:nvPr>
            <p:ph/>
          </p:nvPr>
        </p:nvSpPr>
        <p:spPr>
          <a:xfrm>
            <a:off x="304920" y="380520"/>
            <a:ext cx="8540640" cy="6248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Для производства бумаги нужно очень много воды, поэтому ЦБК строятся на берегах больших рек. Эта же река приносит и сырье к комбинату. Когда бревна доходят до завода, в дело вступают сильные окорочные машины, снимающие со стволов кору. Круглые пилы режут очищенные бревна на гладкие, ровные чурбаки одинаковой длины – балан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 name="PlaceHolder 2"/>
          <p:cNvSpPr>
            <a:spLocks noGrp="1"/>
          </p:cNvSpPr>
          <p:nvPr>
            <p:ph/>
          </p:nvPr>
        </p:nvSpPr>
        <p:spPr>
          <a:xfrm>
            <a:off x="228600" y="304560"/>
            <a:ext cx="8616960" cy="6553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я производства бумаги нуж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чень много воды, поэтому ЦБ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роят на берегах больших</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ек. Эта же река приносит 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ырье к комбинату. Когд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ревна доходят до завода, в дел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упают сильные окорочные машины,</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нимающие со стволов кору. Круглы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илы режут очищенные бревна н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ладкие, ровные чурбаки одинаковой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ины – балансы.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65" name="" descr=""/>
          <p:cNvPicPr/>
          <p:nvPr/>
        </p:nvPicPr>
        <p:blipFill>
          <a:blip r:embed="rId1"/>
          <a:stretch/>
        </p:blipFill>
        <p:spPr>
          <a:xfrm>
            <a:off x="4419720" y="3886200"/>
            <a:ext cx="454824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 name="PlaceHolder 2"/>
          <p:cNvSpPr>
            <a:spLocks noGrp="1"/>
          </p:cNvSpPr>
          <p:nvPr>
            <p:ph/>
          </p:nvPr>
        </p:nvSpPr>
        <p:spPr>
          <a:xfrm>
            <a:off x="304920" y="380520"/>
            <a:ext cx="8540640" cy="6172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ефибрер шершавой поверхностью огромного камня сдирает с чурочки слой за слоем древесину, превращая ее в рыхлую волокнистую массу. Измельченная древесина поступает в щеполовку, где масса очищается от щепок. Сита очистительной машины превращают древесную массу в однородную. В больших котлах масса варится с кислотой под большим давлением до получения целлюлозы. В специальных мельницах целлюлозу размалывают в более тонкие волоконца. В эту смесь добавляют клей, чтобы на бумаге не расплывались чернила, каолин - делает бумагу более плотной - и красители. Далее эта масса попадает в бумагоделательную машину. Удаляется лишняя влага, сушитс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9" name="" descr=""/>
          <p:cNvPicPr/>
          <p:nvPr/>
        </p:nvPicPr>
        <p:blipFill>
          <a:blip r:embed="rId1"/>
          <a:stretch/>
        </p:blipFill>
        <p:spPr>
          <a:xfrm>
            <a:off x="0" y="4572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 name="PlaceHolder 2"/>
          <p:cNvSpPr>
            <a:spLocks noGrp="1"/>
          </p:cNvSpPr>
          <p:nvPr>
            <p:ph/>
          </p:nvPr>
        </p:nvSpPr>
        <p:spPr>
          <a:xfrm>
            <a:off x="837720" y="304920"/>
            <a:ext cx="8007480" cy="57909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После этого подсохшее бумажное полотно сдавливается между валами и выходит ровным, плотным, гладким. В конце оно сматывается в огромный рулон. Бумага готова.</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1447920" y="1981080"/>
            <a:ext cx="6867360" cy="461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Выступление представителя министра лесной промышленности</a:t>
            </a:r>
            <a:endParaRPr b="1" lang="en-US" sz="4000" spc="-1" strike="noStrike">
              <a:solidFill>
                <a:srgbClr val="ffffb7"/>
              </a:solidFill>
              <a:latin typeface="Arial Black"/>
            </a:endParaRPr>
          </a:p>
        </p:txBody>
      </p:sp>
      <p:sp>
        <p:nvSpPr>
          <p:cNvPr id="102"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Наша страна действительно самая большая в мире и лес - это национальное богатство нашей Родины. Общая площадь российских лесов и запас древесины в них составляет    22 %  мировых. Значит, 22% древесины всего мира находится в нашей стране. Для учета лесных богатств используют экономический термин - лесистость. Лесистость - это отношение всей лесопокрытой площади ко всей площади района. Большая лесистость за Уралом - 75% древесины находится там, в Западной зоне - 25 %. Западная и Восточная Сибирь называются лесоизбыточными. В них ведется основная заготовка древесины. Лесная промышленность сконцентрирована в четырех основных базах: Северо-Европейской,  Центральной,  Волго-Уральской и Сибирск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бъемы потребления разных сортов бумаг.</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 descr=""/>
          <p:cNvPicPr/>
          <p:nvPr/>
        </p:nvPicPr>
        <p:blipFill>
          <a:blip r:embed="rId1"/>
          <a:stretch/>
        </p:blipFill>
        <p:spPr>
          <a:xfrm>
            <a:off x="228600" y="1986120"/>
            <a:ext cx="8915400" cy="46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ctr">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Использование спичек</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 descr=""/>
          <p:cNvPicPr/>
          <p:nvPr/>
        </p:nvPicPr>
        <p:blipFill>
          <a:blip r:embed="rId1"/>
          <a:stretch/>
        </p:blipFill>
        <p:spPr>
          <a:xfrm>
            <a:off x="304920" y="304920"/>
            <a:ext cx="8458200" cy="58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3" name="" descr=""/>
          <p:cNvPicPr/>
          <p:nvPr/>
        </p:nvPicPr>
        <p:blipFill>
          <a:blip r:embed="rId1"/>
          <a:stretch/>
        </p:blipFill>
        <p:spPr>
          <a:xfrm>
            <a:off x="685800" y="228600"/>
            <a:ext cx="807732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6" name="" descr=""/>
          <p:cNvPicPr/>
          <p:nvPr/>
        </p:nvPicPr>
        <p:blipFill>
          <a:blip r:embed="rId1"/>
          <a:stretch/>
        </p:blipFill>
        <p:spPr>
          <a:xfrm>
            <a:off x="533520" y="380880"/>
            <a:ext cx="8305560" cy="6019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9" name="" descr=""/>
          <p:cNvPicPr/>
          <p:nvPr/>
        </p:nvPicPr>
        <p:blipFill>
          <a:blip r:embed="rId1"/>
          <a:stretch/>
        </p:blipFill>
        <p:spPr>
          <a:xfrm>
            <a:off x="457200" y="30492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 descr=""/>
          <p:cNvPicPr/>
          <p:nvPr/>
        </p:nvPicPr>
        <p:blipFill>
          <a:blip r:embed="rId1"/>
          <a:stretch/>
        </p:blipFill>
        <p:spPr>
          <a:xfrm>
            <a:off x="380880" y="380880"/>
            <a:ext cx="830592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 descr=""/>
          <p:cNvPicPr/>
          <p:nvPr/>
        </p:nvPicPr>
        <p:blipFill>
          <a:blip r:embed="rId1"/>
          <a:stretch/>
        </p:blipFill>
        <p:spPr>
          <a:xfrm>
            <a:off x="685800" y="533520"/>
            <a:ext cx="7772400" cy="594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8" name="" descr=""/>
          <p:cNvPicPr/>
          <p:nvPr/>
        </p:nvPicPr>
        <p:blipFill>
          <a:blip r:embed="rId1"/>
          <a:stretch/>
        </p:blipFill>
        <p:spPr>
          <a:xfrm>
            <a:off x="685800" y="609480"/>
            <a:ext cx="75438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 descr=""/>
          <p:cNvPicPr/>
          <p:nvPr/>
        </p:nvPicPr>
        <p:blipFill>
          <a:blip r:embed="rId1"/>
          <a:stretch/>
        </p:blipFill>
        <p:spPr>
          <a:xfrm>
            <a:off x="609480" y="457200"/>
            <a:ext cx="8077320" cy="581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инженера:</a:t>
            </a:r>
            <a:endParaRPr b="1" lang="en-US" sz="4400" spc="-1" strike="noStrike">
              <a:solidFill>
                <a:srgbClr val="ffffb7"/>
              </a:solidFill>
              <a:latin typeface="Arial Black"/>
            </a:endParaRPr>
          </a:p>
        </p:txBody>
      </p:sp>
      <p:sp>
        <p:nvSpPr>
          <p:cNvPr id="104" name="PlaceHolder 2"/>
          <p:cNvSpPr>
            <a:spLocks noGrp="1"/>
          </p:cNvSpPr>
          <p:nvPr>
            <p:ph/>
          </p:nvPr>
        </p:nvSpPr>
        <p:spPr>
          <a:xfrm>
            <a:off x="762120" y="1447920"/>
            <a:ext cx="800712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Лесная промышленность - одна из старейших отраслей в хозяйстве нашей страны. Лес не только промышленное сырьё. Он защищает почву от водной и ветровой эрозии, сберегает влагу земли, сдерживает разливы рек, охраняет поля от губительных суховеев. Важнейший продукт жизнедеятельности леса - кислород! </a:t>
            </a:r>
            <a:br>
              <a:rPr sz="2000"/>
            </a:br>
            <a:r>
              <a:rPr b="0" lang="en-US" sz="2000" spc="-1" strike="noStrike">
                <a:solidFill>
                  <a:srgbClr val="ffffff"/>
                </a:solidFill>
                <a:latin typeface="Arial"/>
              </a:rPr>
              <a:t>  Лесная    промышленность  даёт  стройматериалы,  бумагу, искусственное   волокно,  спирт. Технический прогресс вытесняет древесину из традиционных областей её применения - топливной промышленности  и  отчасти  строительства,  заменяя  нефтью  и  газом, бетоном и стеклом.      Потребители продукции лесной промышленности - машиностроение, лёгкая промышленность, транспорт, связь, строительство. В то же время лесная промышленность получает от других отраслей лаки, краски, соду, натрий, автомашины, трактора, станки. Иначе говоря, лесная промышленность имеет широкие межотраслевые связи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 descr=""/>
          <p:cNvPicPr/>
          <p:nvPr/>
        </p:nvPicPr>
        <p:blipFill>
          <a:blip r:embed="rId1"/>
          <a:stretch/>
        </p:blipFill>
        <p:spPr>
          <a:xfrm>
            <a:off x="609480" y="304920"/>
            <a:ext cx="8153640" cy="617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 descr=""/>
          <p:cNvPicPr/>
          <p:nvPr/>
        </p:nvPicPr>
        <p:blipFill>
          <a:blip r:embed="rId1"/>
          <a:stretch/>
        </p:blipFill>
        <p:spPr>
          <a:xfrm>
            <a:off x="533520" y="304920"/>
            <a:ext cx="8076960" cy="62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1"/>
          <a:stretch/>
        </p:blipFill>
        <p:spPr>
          <a:xfrm>
            <a:off x="380880" y="68580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лесничего</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 descr=""/>
          <p:cNvPicPr/>
          <p:nvPr/>
        </p:nvPicPr>
        <p:blipFill>
          <a:blip r:embed="rId1"/>
          <a:stretch/>
        </p:blipFill>
        <p:spPr>
          <a:xfrm>
            <a:off x="533520" y="1371600"/>
            <a:ext cx="8610480" cy="51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 name="PlaceHolder 2"/>
          <p:cNvSpPr>
            <a:spLocks noGrp="1"/>
          </p:cNvSpPr>
          <p:nvPr>
            <p:ph/>
          </p:nvPr>
        </p:nvSpPr>
        <p:spPr>
          <a:xfrm>
            <a:off x="304920" y="228240"/>
            <a:ext cx="854064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чество лесных ресурсов зависит от состава древесных пород. В промышленности широко используются хвойные породы деревьев: ель, пихта, сосна, лиственница, кедр и другие. Сосна - ценная хвойная порода, идет на получение строительного материала, производство канифоли, скипидара, в медицине используются хвоинки, почки. Пихта и ель - основной ценный материал для получения высококачественных сортов бумаги. Лиственница ценится своей прочной древесиной, которая слабо поддается гниению. </a:t>
            </a:r>
            <a:br>
              <a:rPr sz="2000"/>
            </a:br>
            <a:r>
              <a:rPr b="0" lang="en-US" sz="2000" spc="-1" strike="noStrike">
                <a:solidFill>
                  <a:srgbClr val="ffffff"/>
                </a:solidFill>
                <a:latin typeface="Arial"/>
              </a:rPr>
              <a:t>  Кедр используется в мебельной промышленности, для изготовления музыкальных инструментов, лыж, карандашей. Кедровые орехи идут в маслобойное производство. Промышленность использует и лиственные породы - березу, ольху, осину и другие. Береза идет в фанерное производство, почки используются в медицине. Всем вам известен березовый сок, а березовые веники издавна славились лечебными свойствами. Дуб, липа, клен, ясень - это широколиственные деревья - используются в мебельной промышленности, производстве музыкальных инструментов, а отходы идут в химическую промышленность. Все эти породы деревьев произрастают в наших лесах.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Древесное сырье</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914400" y="1905120"/>
            <a:ext cx="723888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Выступление представителя министра лесной промышленности</a:t>
            </a:r>
            <a:endParaRPr b="1" lang="en-US" sz="40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6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Структура </a:t>
            </a:r>
            <a:endParaRPr b="0" lang="en-US" sz="66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r>
              <a:rPr b="0" lang="en-US" sz="6600" spc="-1" strike="noStrike">
                <a:solidFill>
                  <a:srgbClr val="ffffff"/>
                </a:solidFill>
                <a:latin typeface="Arial"/>
              </a:rPr>
              <a:t>лесной </a:t>
            </a:r>
            <a:endParaRPr b="0" lang="en-US" sz="66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r>
              <a:rPr b="0" lang="en-US" sz="6600" spc="-1" strike="noStrike">
                <a:solidFill>
                  <a:srgbClr val="ffffff"/>
                </a:solidFill>
                <a:latin typeface="Arial"/>
              </a:rPr>
              <a:t>промышленности</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кбук</cp:lastModifiedBy>
  <dcterms:modified xsi:type="dcterms:W3CDTF">2013-03-11T17:19:30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