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6E5F-27DE-44AE-8FCD-AB474468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5A8-5560-414F-97ED-C073B5C9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4A4C-96D1-48E1-A7C1-861328FD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9F1-C763-41D7-A549-FA50F096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1945-DEA5-4A66-B925-A1297772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C868-2165-45DF-93B2-EFE26B5F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9C44-3573-4D06-893A-6F8D8991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C253-58FD-41CE-B576-AF27D5F2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28CC-50E2-460F-9CFC-EEC2FFCA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B433-A160-4247-8E0F-3AF25490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F485-4E63-4942-9718-B18213F2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BE90-3518-4353-91B6-4AA67727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3D89-427E-4366-A2F4-2C8955AF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2667-9077-4722-A419-3CB2702A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A417-77AE-4E49-AF2C-1264FF5B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B458-E42D-44A1-8102-565BCDFB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5D9A-85D6-4278-B208-3BA79669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E71-A22E-437A-9195-0AEDB878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7DC-2446-423A-8AAB-494054D1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506-9C11-45BB-A55E-C8FA873F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F6FA-DB96-42B5-A4AB-50E3E8B5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E249-D989-49C5-AD34-36453649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715-FB1B-4C2C-9BFD-C11DB8CE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658C-F65C-40CD-B4E9-1E3FA274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D6F7-4D75-4CF9-858E-BFBE4418BC5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67ED-1478-4409-A33C-2F99941BC374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260&amp;cf=277&amp;is=0&amp;type=al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probnaya-vypivka-privodit-detej-k-alkogolizmu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0&amp;cf=1&amp;is=0&amp;type=al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60&amp;cf=61&amp;is=0&amp;type=al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Современный подросток во власти привычки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Picture 4" descr="00000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2852640"/>
            <a:ext cx="2306880" cy="180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ascadeFoto"/>
          <p:cNvPicPr/>
          <p:nvPr/>
        </p:nvPicPr>
        <p:blipFill>
          <a:blip r:embed="rId3"/>
          <a:stretch/>
        </p:blipFill>
        <p:spPr>
          <a:xfrm>
            <a:off x="1476360" y="328464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2060"/>
                </a:solidFill>
                <a:latin typeface="Verdana"/>
              </a:rPr>
              <a:t>Курение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5256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 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вдыхание дыма препаратов, преимущественно растительного происхождения, тлеющих в потоке вдыхаемого воздуха, с целью насыщения организма содержащимися в них активными веществами путём их возгонки и последующего всасывания в лёгких и дыхательных путях. Как правило, применяется для употребления курительных смесей, обладающих наркотическими свойствами (табак, гашиш, марихуана, опиум, крэк и т. п.) благодаря быстрому поступлению насыщенной психоактивными веществами крови в головной моз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Picture 19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19969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Алкогол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Verdana"/>
              </a:rPr>
              <a:t>Причины, по которым подросток впервые попробовал алкоголь, могут быть разными: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с подачи родителей</a:t>
            </a:r>
            <a:r>
              <a:rPr b="1" i="1" lang="ru-RU" sz="1900" spc="-1" strike="noStrike">
                <a:solidFill>
                  <a:srgbClr val="002060"/>
                </a:solidFill>
                <a:latin typeface="Verdana"/>
              </a:rPr>
              <a:t> или в компании сверстников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2060"/>
                </a:solidFill>
                <a:latin typeface="Verdana"/>
              </a:rPr>
              <a:t>Но не стоит недооценивать вред алкоголя для молодого организма, даже если он пока ограничивается только пивом или баночными коктейлями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5" descr="Вред алкоголя для  молодого организма"/>
          <p:cNvPicPr/>
          <p:nvPr/>
        </p:nvPicPr>
        <p:blipFill>
          <a:blip r:embed="rId2"/>
          <a:stretch/>
        </p:blipFill>
        <p:spPr>
          <a:xfrm>
            <a:off x="3780000" y="378936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5759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Verdana"/>
              </a:rPr>
              <a:t>Как не попасться под влияние вредных привычек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1. Составь режим дня и строго выполняй его.  </a:t>
            </a: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2. Приучи себя доводить начатое дело до конца. </a:t>
            </a: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3. Каждое дело выполняй качественно, относись  добросовестно к выполнению любого поручения. </a:t>
            </a: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4. Научись самообладанию, установи самоконтроль за своими мыслями, действиями и поступками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5. Всегда имей своё личное мнение!!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Picture 19" descr="52079108_1260103944_y"/>
          <p:cNvPicPr/>
          <p:nvPr/>
        </p:nvPicPr>
        <p:blipFill>
          <a:blip r:embed="rId1"/>
          <a:stretch/>
        </p:blipFill>
        <p:spPr>
          <a:xfrm>
            <a:off x="7236000" y="189000"/>
            <a:ext cx="1523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Содержимое 3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001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Verdana"/>
                <a:ea typeface="Arial"/>
              </a:rPr>
              <a:t>Помните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Verdana"/>
                <a:ea typeface="Arial"/>
              </a:rPr>
              <a:t>здоровье – самое ценное, что есть у человека, берегите его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Verdana"/>
                <a:ea typeface="Arial"/>
              </a:rPr>
              <a:t>помните – вам жить и творить в </a:t>
            </a:r>
            <a:r>
              <a:rPr b="1" i="1" lang="en-US" sz="3200" spc="-1" strike="noStrike" u="sng">
                <a:solidFill>
                  <a:srgbClr val="002060"/>
                </a:solidFill>
                <a:uFillTx/>
                <a:latin typeface="Verdana"/>
                <a:ea typeface="Arial"/>
              </a:rPr>
              <a:t>XXI 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Verdana"/>
                <a:ea typeface="Arial"/>
              </a:rPr>
              <a:t>веке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Verdana"/>
                <a:ea typeface="Arial"/>
              </a:rPr>
              <a:t>от Вас зависит будущее нашей планеты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0000034"/>
          <p:cNvPicPr/>
          <p:nvPr/>
        </p:nvPicPr>
        <p:blipFill>
          <a:blip r:embed="rId1"/>
          <a:stretch/>
        </p:blipFill>
        <p:spPr>
          <a:xfrm>
            <a:off x="6156360" y="260280"/>
            <a:ext cx="2346120" cy="1833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2479680" cy="20494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Твоя жизнь…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22" descr=""/>
          <p:cNvPicPr/>
          <p:nvPr/>
        </p:nvPicPr>
        <p:blipFill>
          <a:blip r:embed="rId3"/>
          <a:stretch/>
        </p:blipFill>
        <p:spPr>
          <a:xfrm>
            <a:off x="1547640" y="4076640"/>
            <a:ext cx="2713320" cy="2043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4" descr=""/>
          <p:cNvPicPr/>
          <p:nvPr/>
        </p:nvPicPr>
        <p:blipFill>
          <a:blip r:embed="rId4"/>
          <a:stretch/>
        </p:blipFill>
        <p:spPr>
          <a:xfrm>
            <a:off x="3492360" y="1844640"/>
            <a:ext cx="2156040" cy="1625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5" descr=""/>
          <p:cNvPicPr/>
          <p:nvPr/>
        </p:nvPicPr>
        <p:blipFill>
          <a:blip r:embed="rId5"/>
          <a:stretch/>
        </p:blipFill>
        <p:spPr>
          <a:xfrm>
            <a:off x="5651640" y="3645000"/>
            <a:ext cx="25873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-3222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3640" y="475920"/>
            <a:ext cx="8243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Проблема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данного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исследования заключается</a:t>
            </a:r>
            <a:r>
              <a:rPr b="0" lang="en-US" sz="2400" spc="-1" strike="noStrike">
                <a:solidFill>
                  <a:srgbClr val="002060"/>
                </a:solidFill>
                <a:latin typeface="Verdana"/>
              </a:rPr>
              <a:t> </a:t>
            </a:r>
            <a:r>
              <a:rPr b="0" i="1" lang="en-US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в изучении распространения алкоголя и табакокурения в жизни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современной молодёжи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Цель исследования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– выявить состояние этой проблемы на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данный момент времени среди подростков школьников нашей школы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Задачи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исследования:</a:t>
            </a:r>
            <a:br>
              <a:rPr sz="2400"/>
            </a:br>
            <a:r>
              <a:rPr b="0" lang="en-US" sz="2400" spc="-1" strike="noStrike">
                <a:solidFill>
                  <a:srgbClr val="002060"/>
                </a:solidFill>
                <a:latin typeface="Verdana"/>
              </a:rPr>
              <a:t> 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1. выявление отношения подростков к курению, употреблению алкогольных напитк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2. определение степени вовлеченности подростков в употребление психоактивных вещест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3. определение  степени привыкания к «вредным привычкам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-26892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620640"/>
            <a:ext cx="8001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Методы исследов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сбор информации из научной литератур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поиск информации в сети Интернет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информация и помощь взрослых, анкетирование учащихся клас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сравнение полученных результат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выво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Гипотеза исследования: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мы считаем, что   уровень зависимости от вредных привычек у подростков тем ниже, чем они становятся старш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2060"/>
                </a:solidFill>
                <a:latin typeface="Verdana"/>
              </a:rPr>
              <a:t>Что такое привычка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</a:rPr>
              <a:t>Привычка — это приобретённая манера. Она имеет пассивный характер и возникает в результате повторения действий, которые постепенно становятся бессознательными и механическими. Чтобы возникла привычка, важна заинтересованность личности: мы никогда не привыкаем полностью к неприятной нам вещи, но зато охотно привыкаем к вещи приятной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66280" y="259920"/>
            <a:ext cx="8001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ru-RU" sz="2600" spc="-1" strike="noStrike">
                <a:solidFill>
                  <a:srgbClr val="002060"/>
                </a:solidFill>
                <a:latin typeface="Times New Roman"/>
              </a:rPr>
              <a:t>Привычки формируются в повседневной жизни и разрушаются с большим трудом. Постоянное повторение некоторых действий становится для человека потребностью, и он уже не представляет себя без этой привычки.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•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Привычка — вторая натура (Аристотель); </a:t>
            </a: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• Ничто так не нуждается в исправлении, как чужие привычки (Марк Твен); </a:t>
            </a: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• Чем больше привычек, тем меньше свободы (Эммануил Кант); </a:t>
            </a: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• Привычка есть привычка, её не выбросишь за окошко, а можно только вежливенько, со ступеньки на ступеньку, свести с лестницы (Марк Твен). 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Picture 5" descr="pivichki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1916280"/>
            <a:ext cx="1523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2060"/>
                </a:solidFill>
                <a:latin typeface="Verdana"/>
              </a:rPr>
              <a:t>Какие бывают привычки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2060"/>
                </a:solidFill>
                <a:latin typeface="Verdana"/>
              </a:rPr>
              <a:t>Привычки бывают полезными и вредными, положительными и отрицательными, нейтральными, неприятными, пагубными, надоедливыми, просто раздражающими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305080" cy="2108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6588000" y="549360"/>
            <a:ext cx="2000520" cy="3011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276720" y="333360"/>
            <a:ext cx="2800080" cy="2109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468360" y="3500280"/>
            <a:ext cx="2673360" cy="2013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3492360" y="2781360"/>
            <a:ext cx="2533680" cy="190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5724360" y="4437000"/>
            <a:ext cx="283212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2060"/>
                </a:solidFill>
                <a:latin typeface="Verdana"/>
              </a:rPr>
              <a:t>Вредные привычки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Привычка — это характерная форма поведения человека, которая в определённых условиях приобретает характер потребности. Если привычка оказывает негативное воздействие на организм человека, на его здоровье, разрушает его жизнь — это вредная привычка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Picture 4" descr="1236090889_Obama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797360"/>
            <a:ext cx="20113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Verdana"/>
              </a:rPr>
              <a:t>Почему сохраняются</a:t>
            </a:r>
            <a:br>
              <a:rPr sz="3400"/>
            </a:br>
            <a:r>
              <a:rPr b="0" lang="ru-RU" sz="3400" spc="-1" strike="noStrike">
                <a:solidFill>
                  <a:srgbClr val="002060"/>
                </a:solidFill>
                <a:latin typeface="Verdana"/>
              </a:rPr>
              <a:t> привычки?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Многие вредные привычки имеют характер зависимости, то есть человек знает о вреде привычки, но не может от неё избавиться из-за того, что она приносит кратковременное удовольствие или облегчение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Некоторые вредные привычки сохраняются, потому что человек не подозревает о своей привычке либо не считает её вредной (во всяком случае, для себя)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03688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34:28Z</dcterms:created>
  <dc:creator>User</dc:creator>
  <dc:description/>
  <dc:language>en-US</dc:language>
  <cp:lastModifiedBy>Ирина Сергеевна</cp:lastModifiedBy>
  <dcterms:modified xsi:type="dcterms:W3CDTF">2013-03-11T06:07:51Z</dcterms:modified>
  <cp:revision>16</cp:revision>
  <dc:subject/>
  <dc:title>Хорошие и плохие привычки</dc:title>
</cp:coreProperties>
</file>