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B887-634F-44B9-AD96-5EB9B961B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D936-B542-4592-AA33-35BC07BD5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2475-8E60-4F7D-9CA2-C2E5577AF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9FA6-6878-4F33-A69A-B4BAB290E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8C689-0F97-4AE8-ABC6-A4FE6E534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9B807-E46F-4423-9E36-2A369F255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51F96-1F2D-4738-88F0-F6A6A56DC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984C0-6241-4793-86D5-DFFD327B4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09304-483F-45A6-A98A-55B74D717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38FF4-53B3-4C75-B52B-D77C3E0FE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AEA5D-7372-4F5B-8308-5A13E5F10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E850-7EED-48FF-9ECC-BCAEB4D39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041EB-1FF1-4D74-A38D-6DBD8E42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158F6-540F-4880-89A7-D0913386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F3BCD-C45D-429F-B1E7-5B34510A8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9FEAC-BCE8-41BA-A14B-19B87776B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33397-D99B-480E-97FF-A134777DB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6C5B-060C-49E1-B414-1AD55A61D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01DC-F2D3-4C50-86E6-B8EA97D47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3F5E-DF57-4AA9-96ED-061A8EDF7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1B20-5E4F-4ACD-BA2C-C223F9052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CB39-D927-4628-A48F-BCF521D8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1AC1-3408-4954-BD4A-DF6FF28D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2FB0-019F-4EB6-A66F-E010905D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99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99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99cc00"/>
          </a:soli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F11A8-7A7C-4D0F-9543-BE0D8BB32CC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99cc00"/>
          </a:soli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99cc00"/>
          </a:soli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99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99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9F2F3-CC5E-467B-9CFE-A91C86FCA57A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.mail.ru/frame.html?q=%F5%EE%F0%EE%F8%E8%E5%20%E8%20%E2%F0%E5%E4%ED%FB%E5%20%EF%F0%E8%E2%FB%F7%EA%E8&amp;rch=e&amp;jsa=1&amp;sf=260&amp;cf=277&amp;is=0&amp;type=all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takzdorovo.ru/privychki/probnaya-vypivka-privodit-detej-k-alkogolizmu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go.mail.ru/frame.html?q=%F5%EE%F0%EE%F8%E8%E5%20%E8%20%E2%F0%E5%E4%ED%FB%E5%20%EF%F0%E8%E2%FB%F7%EA%E8&amp;rch=e&amp;jsa=1&amp;sf=0&amp;cf=1&amp;is=0&amp;type=al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go.mail.ru/frame.html?q=%F5%EE%F0%EE%F8%E8%E5%20%E8%20%E2%F0%E5%E4%ED%FB%E5%20%EF%F0%E8%E2%FB%F7%EA%E8&amp;rch=e&amp;jsa=1&amp;sf=60&amp;cf=61&amp;is=0&amp;type=all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Современный подросток во власти привычки…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9" name="Picture 4" descr="000003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24360" y="2852640"/>
            <a:ext cx="2306880" cy="1801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CascadeFoto"/>
          <p:cNvPicPr/>
          <p:nvPr/>
        </p:nvPicPr>
        <p:blipFill>
          <a:blip r:embed="rId3"/>
          <a:stretch/>
        </p:blipFill>
        <p:spPr>
          <a:xfrm>
            <a:off x="1476360" y="328464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2060"/>
                </a:solidFill>
                <a:latin typeface="Verdana"/>
              </a:rPr>
              <a:t>Курение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52560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 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— 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вдыхание дыма препаратов, преимущественно растительного происхождения, тлеющих в потоке вдыхаемого воздуха, с целью насыщения организма содержащимися в них активными веществами путём их возгонки и последующего всасывания в лёгких и дыхательных путях. Как правило, применяется для употребления курительных смесей, обладающих наркотическими свойствами (табак, гашиш, марихуана, опиум, крэк и т. п.) благодаря быстрому поступлению насыщенной психоактивными веществами крови в головной мозг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5" name="Picture 19" descr=""/>
          <p:cNvPicPr/>
          <p:nvPr/>
        </p:nvPicPr>
        <p:blipFill>
          <a:blip r:embed="rId1"/>
          <a:stretch/>
        </p:blipFill>
        <p:spPr>
          <a:xfrm>
            <a:off x="6156360" y="2421000"/>
            <a:ext cx="199692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Verdana"/>
              </a:rPr>
              <a:t>Алкогол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76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2060"/>
                </a:solidFill>
                <a:latin typeface="Verdana"/>
              </a:rPr>
              <a:t>Причины, по которым подросток впервые попробовал алкоголь, могут быть разными: </a:t>
            </a:r>
            <a:r>
              <a:rPr b="0" lang="ru-RU" sz="1900" spc="-1" strike="noStrike" u="sng">
                <a:solidFill>
                  <a:srgbClr val="ffcc00"/>
                </a:solidFill>
                <a:uFillTx/>
                <a:latin typeface="Verdana"/>
                <a:hlinkClick r:id="rId1"/>
              </a:rPr>
              <a:t>с подачи родителей</a:t>
            </a:r>
            <a:r>
              <a:rPr b="1" i="1" lang="ru-RU" sz="1900" spc="-1" strike="noStrike">
                <a:solidFill>
                  <a:srgbClr val="002060"/>
                </a:solidFill>
                <a:latin typeface="Verdana"/>
              </a:rPr>
              <a:t> или в компании сверстников. 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2060"/>
                </a:solidFill>
                <a:latin typeface="Verdana"/>
              </a:rPr>
              <a:t>Но не стоит недооценивать вред алкоголя для молодого организма, даже если он пока ограничивается только пивом или баночными коктейлями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8" name="Picture 5" descr="Вред алкоголя для  молодого организма"/>
          <p:cNvPicPr/>
          <p:nvPr/>
        </p:nvPicPr>
        <p:blipFill>
          <a:blip r:embed="rId2"/>
          <a:stretch/>
        </p:blipFill>
        <p:spPr>
          <a:xfrm>
            <a:off x="3780000" y="378936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57592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2060"/>
                </a:solidFill>
                <a:latin typeface="Verdana"/>
              </a:rPr>
              <a:t>Как не попасться под влияние вредных привычек?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Verdana"/>
              </a:rPr>
              <a:t>1. Составь режим дня и строго выполняй его.  </a:t>
            </a:r>
            <a:br>
              <a:rPr sz="2600"/>
            </a:br>
            <a:r>
              <a:rPr b="0" lang="ru-RU" sz="2600" spc="-1" strike="noStrike">
                <a:solidFill>
                  <a:srgbClr val="002060"/>
                </a:solidFill>
                <a:latin typeface="Verdana"/>
              </a:rPr>
              <a:t>2. Приучи себя доводить начатое дело до конца. </a:t>
            </a:r>
            <a:br>
              <a:rPr sz="2600"/>
            </a:br>
            <a:r>
              <a:rPr b="0" lang="ru-RU" sz="2600" spc="-1" strike="noStrike">
                <a:solidFill>
                  <a:srgbClr val="002060"/>
                </a:solidFill>
                <a:latin typeface="Verdana"/>
              </a:rPr>
              <a:t>3. Каждое дело выполняй качественно, относись  добросовестно к выполнению любого поручения. </a:t>
            </a:r>
            <a:br>
              <a:rPr sz="2600"/>
            </a:br>
            <a:r>
              <a:rPr b="0" lang="ru-RU" sz="2600" spc="-1" strike="noStrike">
                <a:solidFill>
                  <a:srgbClr val="002060"/>
                </a:solidFill>
                <a:latin typeface="Verdana"/>
              </a:rPr>
              <a:t>4. Научись самообладанию, установи самоконтроль за своими мыслями, действиями и поступками.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Verdana"/>
              </a:rPr>
              <a:t>5. Всегда имей своё личное мнение!!!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1" name="Picture 19" descr="52079108_1260103944_y"/>
          <p:cNvPicPr/>
          <p:nvPr/>
        </p:nvPicPr>
        <p:blipFill>
          <a:blip r:embed="rId1"/>
          <a:stretch/>
        </p:blipFill>
        <p:spPr>
          <a:xfrm>
            <a:off x="7236000" y="189000"/>
            <a:ext cx="152388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3" name="Содержимое 3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8001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2060"/>
                </a:solidFill>
                <a:uFillTx/>
                <a:latin typeface="Verdana"/>
                <a:ea typeface="Arial"/>
              </a:rPr>
              <a:t>Помните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2060"/>
                </a:solidFill>
                <a:uFillTx/>
                <a:latin typeface="Verdana"/>
                <a:ea typeface="Arial"/>
              </a:rPr>
              <a:t>здоровье – самое ценное, что есть у человека, берегите его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2060"/>
                </a:solidFill>
                <a:uFillTx/>
                <a:latin typeface="Verdana"/>
                <a:ea typeface="Arial"/>
              </a:rPr>
              <a:t>помните – вам жить и творить в </a:t>
            </a:r>
            <a:r>
              <a:rPr b="1" i="1" lang="en-US" sz="3200" spc="-1" strike="noStrike" u="sng">
                <a:solidFill>
                  <a:srgbClr val="002060"/>
                </a:solidFill>
                <a:uFillTx/>
                <a:latin typeface="Verdana"/>
                <a:ea typeface="Arial"/>
              </a:rPr>
              <a:t>XXI </a:t>
            </a:r>
            <a:r>
              <a:rPr b="1" i="1" lang="ru-RU" sz="3200" spc="-1" strike="noStrike" u="sng">
                <a:solidFill>
                  <a:srgbClr val="002060"/>
                </a:solidFill>
                <a:uFillTx/>
                <a:latin typeface="Verdana"/>
                <a:ea typeface="Arial"/>
              </a:rPr>
              <a:t>веке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2060"/>
                </a:solidFill>
                <a:uFillTx/>
                <a:latin typeface="Verdana"/>
                <a:ea typeface="Arial"/>
              </a:rPr>
              <a:t>от Вас зависит будущее нашей планеты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8" descr="0000034"/>
          <p:cNvPicPr/>
          <p:nvPr/>
        </p:nvPicPr>
        <p:blipFill>
          <a:blip r:embed="rId1"/>
          <a:stretch/>
        </p:blipFill>
        <p:spPr>
          <a:xfrm>
            <a:off x="6156360" y="260280"/>
            <a:ext cx="2346120" cy="18334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0" descr=""/>
          <p:cNvPicPr/>
          <p:nvPr/>
        </p:nvPicPr>
        <p:blipFill>
          <a:blip r:embed="rId2"/>
          <a:stretch/>
        </p:blipFill>
        <p:spPr>
          <a:xfrm>
            <a:off x="250920" y="1844640"/>
            <a:ext cx="2479680" cy="20494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</a:rPr>
              <a:t>Твоя жизнь…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9" name="Picture 22" descr=""/>
          <p:cNvPicPr/>
          <p:nvPr/>
        </p:nvPicPr>
        <p:blipFill>
          <a:blip r:embed="rId3"/>
          <a:stretch/>
        </p:blipFill>
        <p:spPr>
          <a:xfrm>
            <a:off x="1547640" y="4076640"/>
            <a:ext cx="2713320" cy="2043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4" descr=""/>
          <p:cNvPicPr/>
          <p:nvPr/>
        </p:nvPicPr>
        <p:blipFill>
          <a:blip r:embed="rId4"/>
          <a:stretch/>
        </p:blipFill>
        <p:spPr>
          <a:xfrm>
            <a:off x="3492360" y="1844640"/>
            <a:ext cx="2156040" cy="16257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5" descr=""/>
          <p:cNvPicPr/>
          <p:nvPr/>
        </p:nvPicPr>
        <p:blipFill>
          <a:blip r:embed="rId5"/>
          <a:stretch/>
        </p:blipFill>
        <p:spPr>
          <a:xfrm>
            <a:off x="5651640" y="3645000"/>
            <a:ext cx="258732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-32220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23640" y="475920"/>
            <a:ext cx="82436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Проблема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 данного</a:t>
            </a:r>
            <a:r>
              <a:rPr b="0" i="1" lang="ru-RU" sz="24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исследования заключается</a:t>
            </a:r>
            <a:r>
              <a:rPr b="0" lang="en-US" sz="2400" spc="-1" strike="noStrike">
                <a:solidFill>
                  <a:srgbClr val="002060"/>
                </a:solidFill>
                <a:latin typeface="Verdana"/>
              </a:rPr>
              <a:t> </a:t>
            </a:r>
            <a:r>
              <a:rPr b="0" i="1" lang="en-US" sz="24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в изучении распространения алкоголя и табакокурения в жизни</a:t>
            </a:r>
            <a:r>
              <a:rPr b="0" i="1" lang="ru-RU" sz="24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современной молодёжи.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Цель исследования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 – выявить состояние этой проблемы на</a:t>
            </a:r>
            <a:r>
              <a:rPr b="0" i="1" lang="ru-RU" sz="24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данный момент времени среди подростков школьников нашей школы.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Задачи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исследования:</a:t>
            </a:r>
            <a:br>
              <a:rPr sz="2400"/>
            </a:br>
            <a:r>
              <a:rPr b="0" lang="en-US" sz="2400" spc="-1" strike="noStrike">
                <a:solidFill>
                  <a:srgbClr val="002060"/>
                </a:solidFill>
                <a:latin typeface="Verdana"/>
              </a:rPr>
              <a:t> 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1. выявление отношения подростков к курению, употреблению алкогольных напитков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2. определение степени вовлеченности подростков в употребление психоактивных веществ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3. определение  степени привыкания к «вредным привычкам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-26892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66280" y="620640"/>
            <a:ext cx="800100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Методы исследован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сбор информации из научной литературы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поиск информации в сети Интернет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информация и помощь взрослых, анкетирование учащихся класса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сравнение полученных результатов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вывод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Гипотеза исследования: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 мы считаем, что   уровень зависимости от вредных привычек у подростков тем ниже, чем они становятся старш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2060"/>
                </a:solidFill>
                <a:latin typeface="Verdana"/>
              </a:rPr>
              <a:t>Что такое привычка?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imes New Roman"/>
              </a:rPr>
              <a:t>     </a:t>
            </a:r>
            <a:r>
              <a:rPr b="1" lang="ru-RU" sz="3000" spc="-1" strike="noStrike">
                <a:solidFill>
                  <a:srgbClr val="002060"/>
                </a:solidFill>
                <a:latin typeface="Times New Roman"/>
              </a:rPr>
              <a:t>Привычка — это приобретённая манера. Она имеет пассивный характер и возникает в результате повторения действий, которые постепенно становятся бессознательными и механическими. Чтобы возникла привычка, важна заинтересованность личности: мы никогда не привыкаем полностью к неприятной нам вещи, но зато охотно привыкаем к вещи приятной</a:t>
            </a:r>
            <a:r>
              <a:rPr b="0" lang="ru-RU" sz="30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566280" y="259920"/>
            <a:ext cx="8001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i="1" lang="ru-RU" sz="2600" spc="-1" strike="noStrike">
                <a:solidFill>
                  <a:srgbClr val="002060"/>
                </a:solidFill>
                <a:latin typeface="Times New Roman"/>
              </a:rPr>
              <a:t>Привычки формируются в повседневной жизни и разрушаются с большим трудом. Постоянное повторение некоторых действий становится для человека потребностью, и он уже не представляет себя без этой привычки. 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600" spc="-1" strike="noStrike">
                <a:solidFill>
                  <a:srgbClr val="002060"/>
                </a:solidFill>
                <a:latin typeface="Times New Roman"/>
              </a:rPr>
              <a:t>• </a:t>
            </a:r>
            <a:r>
              <a:rPr b="0" lang="ru-RU" sz="2600" spc="-1" strike="noStrike">
                <a:solidFill>
                  <a:srgbClr val="002060"/>
                </a:solidFill>
                <a:latin typeface="Times New Roman"/>
              </a:rPr>
              <a:t>Привычка — вторая натура (Аристотель); </a:t>
            </a:r>
            <a:br>
              <a:rPr sz="2600"/>
            </a:br>
            <a:r>
              <a:rPr b="0" lang="ru-RU" sz="2600" spc="-1" strike="noStrike">
                <a:solidFill>
                  <a:srgbClr val="002060"/>
                </a:solidFill>
                <a:latin typeface="Times New Roman"/>
              </a:rPr>
              <a:t>• Ничто так не нуждается в исправлении, как чужие привычки (Марк Твен); </a:t>
            </a:r>
            <a:br>
              <a:rPr sz="2600"/>
            </a:br>
            <a:r>
              <a:rPr b="0" lang="ru-RU" sz="2600" spc="-1" strike="noStrike">
                <a:solidFill>
                  <a:srgbClr val="002060"/>
                </a:solidFill>
                <a:latin typeface="Times New Roman"/>
              </a:rPr>
              <a:t>• Чем больше привычек, тем меньше свободы (Эммануил Кант); </a:t>
            </a:r>
            <a:br>
              <a:rPr sz="2600"/>
            </a:br>
            <a:r>
              <a:rPr b="0" lang="ru-RU" sz="2600" spc="-1" strike="noStrike">
                <a:solidFill>
                  <a:srgbClr val="002060"/>
                </a:solidFill>
                <a:latin typeface="Times New Roman"/>
              </a:rPr>
              <a:t>• Привычка есть привычка, её не выбросишь за окошко, а можно только вежливенько, со ступеньки на ступеньку, свести с лестницы (Марк Твен). 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8" name="Picture 5" descr="pivichki-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20000" y="1916280"/>
            <a:ext cx="152388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2060"/>
                </a:solidFill>
                <a:latin typeface="Verdana"/>
              </a:rPr>
              <a:t>Какие бывают привычки?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Verdana"/>
              </a:rPr>
              <a:t>   </a:t>
            </a:r>
            <a:r>
              <a:rPr b="0" lang="ru-RU" sz="3000" spc="-1" strike="noStrike">
                <a:solidFill>
                  <a:srgbClr val="002060"/>
                </a:solidFill>
                <a:latin typeface="Verdana"/>
              </a:rPr>
              <a:t>Привычки бывают полезными и вредными, положительными и отрицательными, нейтральными, неприятными, пагубными, надоедливыми, просто раздражающими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2305080" cy="2108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6588000" y="549360"/>
            <a:ext cx="2000520" cy="3011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276720" y="333360"/>
            <a:ext cx="2800080" cy="2109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468360" y="3500280"/>
            <a:ext cx="2673360" cy="2013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3492360" y="2781360"/>
            <a:ext cx="2533680" cy="1908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5724360" y="4437000"/>
            <a:ext cx="2832120" cy="20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2060"/>
                </a:solidFill>
                <a:latin typeface="Verdana"/>
              </a:rPr>
              <a:t>Вредные привычки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Verdana"/>
              </a:rPr>
              <a:t>Привычка — это характерная форма поведения человека, которая в определённых условиях приобретает характер потребности. Если привычка оказывает негативное воздействие на организм человека, на его здоровье, разрушает его жизнь — это вредная привычка.</a:t>
            </a:r>
            <a:br>
              <a:rPr sz="2600"/>
            </a:br>
            <a:br>
              <a:rPr sz="2600"/>
            </a:br>
            <a:r>
              <a:rPr b="0" lang="ru-RU" sz="26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9" name="Picture 4" descr="1236090889_Obama_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67280" y="4797360"/>
            <a:ext cx="2011320" cy="16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280" y="549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2060"/>
                </a:solidFill>
                <a:latin typeface="Verdana"/>
              </a:rPr>
              <a:t>Почему сохраняются</a:t>
            </a:r>
            <a:br>
              <a:rPr sz="3400"/>
            </a:br>
            <a:r>
              <a:rPr b="0" lang="ru-RU" sz="3400" spc="-1" strike="noStrike">
                <a:solidFill>
                  <a:srgbClr val="002060"/>
                </a:solidFill>
                <a:latin typeface="Verdana"/>
              </a:rPr>
              <a:t> привычки?</a:t>
            </a:r>
            <a:br>
              <a:rPr sz="3400"/>
            </a:b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99cc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Verdana"/>
              </a:rPr>
              <a:t>Многие вредные привычки имеют характер зависимости, то есть человек знает о вреде привычки, но не может от неё избавиться из-за того, что она приносит кратковременное удовольствие или облегчение.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99cc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Verdana"/>
              </a:rPr>
              <a:t>Некоторые вредные привычки сохраняются, потому что человек не подозревает о своей привычке либо не считает её вредной (во всяком случае, для себя)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036880" cy="16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16:34:28Z</dcterms:created>
  <dc:creator>User</dc:creator>
  <dc:description/>
  <dc:language>en-US</dc:language>
  <cp:lastModifiedBy>Ирина Сергеевна</cp:lastModifiedBy>
  <dcterms:modified xsi:type="dcterms:W3CDTF">2013-03-11T06:07:51Z</dcterms:modified>
  <cp:revision>16</cp:revision>
  <dc:subject/>
  <dc:title>Хорошие и плохие привычки</dc:title>
</cp:coreProperties>
</file>