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AED-C0C2-415F-99F9-CB188036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D02-71B4-42E9-BDF9-D107BA22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0D2-EDB4-44D2-A7D1-D4526D8C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2A7-0BDC-41BF-97B0-C3D263D1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9CE3-D235-4F18-B2E2-F5A39D3D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5CCB-0E07-468E-9B21-1CA97874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4BD2-E791-409F-990F-13830DB0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00EE-8E93-4E9C-9006-109DA518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1C62-FA6F-4AB5-B54C-DE324410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5E98-6629-4E78-BD51-E73ABC2D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1089-A55F-45C6-8B7C-91A337C9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96B-5791-40C8-8686-A40E612E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4B66-73BA-4260-894B-E2A931F5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B526-E6AF-4385-A2A8-0E1649B1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07D4-D186-4A0D-92A0-619BD62E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7C41-3C83-4538-867F-9F094675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A0F6-9E1F-4F8B-BE71-2AC1F3DD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B90E-19F9-467D-A7AF-09FEE701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7E428-B9CF-4B9D-B075-2D6CD8CA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323E-A714-43A8-B46B-C17BBA9B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6C361-E955-4250-9564-22A2FA49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6A9F3-59F4-41DC-AC98-B90312E9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1CB-B45B-48E0-8D8C-F1118AA7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79EAC-8637-4650-BAFB-0F5EA964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90B0-9738-4224-B438-94F9BD98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C8FC-1E5D-4C91-8224-49635C7B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E6C46-9B04-4C9F-9579-EAACBE4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821E-1EF6-470D-9F3C-6D3EB670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7BE8-0514-469A-9280-6387F663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4CA69-B536-4212-9B1F-16385CAB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DB792-6CC9-4B7D-87D6-DEFCA304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20C6B-ACD1-4C64-A200-258DBCC7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DCFA-750A-4E7F-A78F-D4405F3B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398-D464-4CA4-B3CE-D0D4B80D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E464E-FDEE-4ED3-AF6B-00233C01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AFB0A-8265-486D-A06A-1244A9A5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E81AB-68FB-4B96-A519-482B41E5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50626-0794-4FD9-ABDD-E6D69678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9DF24-0858-47F0-8120-0FAC7207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84744-36A0-44B0-8C69-AB4A7015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2A99-93DD-48B0-AE27-FBE6FC21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AF83-3E0A-4416-AD5C-975B0726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0B9E-C42A-47B7-8076-72BE1056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D5FBE-8866-418B-8100-DC2C5693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599-28E1-4323-AEE7-EF7A1B55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44490-BFB1-4B61-8DC5-7FAC2AA7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96E36-2FC3-4BFA-956D-7B60C112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22FB5-240F-4FED-8AE8-A04749D3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5D1BD-0298-4873-82E6-1358EFDC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1491-D62A-4C5E-8C25-6C7AE508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C7EB6-9A13-4E08-944C-878575B8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EB818-95F9-4D86-928E-99E0AB42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CE5EB-21AB-4273-B79E-A0005A79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150D2-5C99-4710-9F35-B65ACBD8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77843-1D51-4120-A6F3-0A9E3EAB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E96-97E0-42BF-889E-A1C460D2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39D80-1DAB-4428-BE9E-F5F26858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D6150-3B83-49A5-A1FB-098F9810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81958-0AE8-4340-BF69-A31A8C74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6D8A5-D2B6-424A-8F6D-2A8F58CC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3574F-88F2-447D-84A6-59AE7226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FC55B-2A53-46AD-9A4B-A2A2A002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CAE02-14A1-4328-B4B9-E3CEBD7D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9E231-B68C-4CC6-947D-F90DF2BA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ACFB5-137B-4FB4-B58B-36139325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94356-00A3-4E28-850A-9D855C46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96E-BDC6-4E18-8268-EC8C4353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B0789-0E14-4FBC-99E4-BC5C86A8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480B-2796-45C6-A1D5-56305AE0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39F93-B2BE-4236-9531-474F1602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B0E72-3E46-46E4-89E2-E4BCE933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E1011-A469-4AEA-819A-6F861166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22585-ADA8-4349-9134-E5CC9FD4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AD857-0C73-4DFF-AEAF-18E30A80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EB1B5-D63F-4697-9C4A-9E408718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2D76B-C873-44CF-81F3-2D5C7491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BA288-7F82-452B-B381-1D0BA29B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D17-E723-47AE-9E24-ED17F5B3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D04DF-610F-438E-A8AE-2C9BB708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517B8-BDE7-46A1-A9D1-485454FC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C75F0-54B2-4D2E-9F7F-38DE8436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4AC67-27D6-41AE-88E4-E9AFA473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F6153-F492-437F-A107-645C8126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1B4-CCC0-4785-A716-1CCD8EC2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9EBD-DEC4-4C74-8F78-11BF7B9E2D1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75E9-D247-4C77-A3A1-34EB9ECC9A9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6E0E-4611-48F2-A298-5A4D73EE6F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2DA8-9736-427E-A9DF-BC339F0BAAF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CE8D-3D72-45AD-8D7A-76764E8D324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41BB-D1D3-4204-8BDF-D3059732B11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08B2-0715-4A00-97E6-0CB661B5A15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023840" y="-219240"/>
            <a:ext cx="7912080" cy="1773360"/>
          </a:xfrm>
          <a:prstGeom prst="rect">
            <a:avLst/>
          </a:prstGeom>
          <a:ln w="0">
            <a:noFill/>
          </a:ln>
        </p:spPr>
      </p:pic>
      <p:pic>
        <p:nvPicPr>
          <p:cNvPr id="319" name="Объект 2" descr=""/>
          <p:cNvPicPr/>
          <p:nvPr/>
        </p:nvPicPr>
        <p:blipFill>
          <a:blip r:embed="rId2"/>
          <a:stretch/>
        </p:blipFill>
        <p:spPr>
          <a:xfrm>
            <a:off x="1328760" y="1359000"/>
            <a:ext cx="75042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1438200" y="133200"/>
            <a:ext cx="7497720" cy="1317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C:\Users\Наталья\Desktop\Красногвард\i (1).jpg"/>
          <p:cNvPicPr/>
          <p:nvPr/>
        </p:nvPicPr>
        <p:blipFill>
          <a:blip r:embed="rId2"/>
          <a:stretch/>
        </p:blipFill>
        <p:spPr>
          <a:xfrm>
            <a:off x="1619280" y="1457280"/>
            <a:ext cx="2592360" cy="26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2" name="Picture 3" descr="C:\Users\Наталья\Desktop\Красногвард\i.jpg"/>
          <p:cNvPicPr/>
          <p:nvPr/>
        </p:nvPicPr>
        <p:blipFill>
          <a:blip r:embed="rId3"/>
          <a:stretch/>
        </p:blipFill>
        <p:spPr>
          <a:xfrm>
            <a:off x="5292720" y="1436760"/>
            <a:ext cx="2664000" cy="26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1219320" y="176040"/>
            <a:ext cx="7716600" cy="14637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276880" y="1523880"/>
            <a:ext cx="3657600" cy="4664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Users\Наталья\Documents\достопримечательности села\9b01110877d830f8fe6ce88dea3726ec.jpg"/>
          <p:cNvPicPr/>
          <p:nvPr/>
        </p:nvPicPr>
        <p:blipFill>
          <a:blip r:embed="rId3"/>
          <a:stretch/>
        </p:blipFill>
        <p:spPr>
          <a:xfrm>
            <a:off x="3492360" y="1989000"/>
            <a:ext cx="3276720" cy="2697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26" name=""/>
          <p:cNvSpPr txBox="1"/>
          <p:nvPr/>
        </p:nvSpPr>
        <p:spPr>
          <a:xfrm>
            <a:off x="2484000" y="3933720"/>
            <a:ext cx="2608200" cy="22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60280"/>
            <a:ext cx="7499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1c4853"/>
                </a:solidFill>
                <a:latin typeface="Corbel"/>
              </a:rPr>
              <a:t>Храмы сел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C:\Users\Наталья\Documents\достопримечательности села\251ea09a4924e3267e696268b4fef630.jpg"/>
          <p:cNvPicPr/>
          <p:nvPr/>
        </p:nvPicPr>
        <p:blipFill>
          <a:blip r:embed="rId1"/>
          <a:stretch/>
        </p:blipFill>
        <p:spPr>
          <a:xfrm>
            <a:off x="1763640" y="1644480"/>
            <a:ext cx="3024360" cy="235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9" name="Picture 3" descr="C:\Users\Наталья\Documents\достопримечательности села\8e4b68b4b90882a60cc21bae0971f9aa.jpg"/>
          <p:cNvPicPr/>
          <p:nvPr/>
        </p:nvPicPr>
        <p:blipFill>
          <a:blip r:embed="rId2"/>
          <a:stretch/>
        </p:blipFill>
        <p:spPr>
          <a:xfrm>
            <a:off x="5940360" y="4076640"/>
            <a:ext cx="2951280" cy="25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139760" y="274680"/>
            <a:ext cx="7821720" cy="12985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7740720" y="5589720"/>
            <a:ext cx="119376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2" descr="C:\Users\Наталья\Documents\достопримечательности села\12eb11557a8382cca3744017da1d11df.jpg"/>
          <p:cNvPicPr/>
          <p:nvPr/>
        </p:nvPicPr>
        <p:blipFill>
          <a:blip r:embed="rId2"/>
          <a:stretch/>
        </p:blipFill>
        <p:spPr>
          <a:xfrm>
            <a:off x="1835280" y="1747800"/>
            <a:ext cx="3241440" cy="215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3" name="Picture 2" descr="C:\Users\Наталья\Documents\достопримечательности села\e5a2270ac56d9fa3d1d56780bee2f75d.JPG"/>
          <p:cNvPicPr/>
          <p:nvPr/>
        </p:nvPicPr>
        <p:blipFill>
          <a:blip r:embed="rId3"/>
          <a:stretch/>
        </p:blipFill>
        <p:spPr>
          <a:xfrm>
            <a:off x="5651640" y="3813120"/>
            <a:ext cx="3227400" cy="263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9:17:29Z</dcterms:created>
  <dc:creator>Наталья</dc:creator>
  <dc:description/>
  <dc:language>en-US</dc:language>
  <cp:lastModifiedBy>BEST</cp:lastModifiedBy>
  <dcterms:modified xsi:type="dcterms:W3CDTF">2013-03-11T18:17:22Z</dcterms:modified>
  <cp:revision>46</cp:revision>
  <dc:subject/>
  <dc:title>Моя малая родина</dc:title>
</cp:coreProperties>
</file>