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DD8-325E-4B1B-A77D-2DF9B363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7BD-558B-4023-B670-156989C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AF8-5F78-4AD4-8C5B-4969585C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637-1D1F-49DB-9762-3A1EC640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5147-3C65-437D-B7D5-6E29C4E7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88C0-ED65-49E8-86B4-20D99291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DCCC-1A5C-4F25-A25D-FE87B512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392E-ACF8-440E-ABA4-028F359F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E2C8-5B11-4D2A-A07E-F44F3B26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8F3D-D4BA-4E7E-8422-860DEAC5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5974-04FA-46D2-9B54-E83006F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967-BC6F-45C4-99AA-4D9637A8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E739-159E-455A-A34C-BFF17338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ABAD-CD49-4BA4-829A-296F4C90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4993-E401-4B94-AFD8-C2139823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70BE-3946-4195-B4B9-38F8BD94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2BCF-4722-4A06-9B32-9AD40161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64A7E-D520-47F6-BE22-11F81916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6CE3-894E-49C5-BFA3-DC0BA81B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C9B45-08C2-46A6-A8E2-5856243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604F-99A1-46D1-99AB-05BC2FF7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20DCA-C068-45C2-915B-8E908265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A7A-C256-401D-AC7C-6F3D0F8A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39A3-78A6-46E4-86F5-51C041C5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3636-64A5-4D41-A5E3-89401125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9164-6FCB-43F8-821E-A1EF932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CCEB-4171-4838-BCEC-F3BC19D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6916-E43C-44FD-AB1A-4560B874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933E6-261D-4F09-B1C3-0F6058DB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7FCF-C92C-4665-B775-28EF5781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25B9A-BC50-47D2-A5F1-6384A646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9CDB-BB98-4C5B-AB27-1C21ED9A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592C8-1F46-4CFF-B25C-03D5553B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A02-AC91-4C95-8F32-74576D8B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06206-4B1C-4CE8-961F-104D1714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90960-FA44-4036-8A2E-339A22F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505E1-4069-4CB0-ADAE-C593E571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14AFC-2AB5-45A4-82FB-390D406C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998B-5664-44B3-BA29-D9123DC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BE56-1825-4C81-903D-DA0A00A7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3ED5-F3F6-4F3B-99CE-CCFBFE2E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B109-49D5-40AE-9E0A-5636C81A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D9C38-DAE8-46A7-88BC-0C9B0799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44E6B-43B6-4709-907E-77C1715C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792-4CD4-46A6-A7AC-C26A0AF0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96A38-C555-40C3-9260-2602BD1D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F9594-10AB-47FB-B4EB-2167258A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EC3F-60AC-4D4E-B586-6E845855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518B3-8E49-4667-BE62-FE67FE98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E0981-F29C-4C30-A9D0-211DD525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8F40F-AE13-4F9E-A2D4-BA6228A2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2829-38E6-4614-A8F3-0F2ECC3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BA91-0880-4ED9-8515-86AABC8A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30B4-0C0E-449A-B42F-2485F976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C4325-2977-49AC-9C57-BFD39D76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97B-F810-4B96-8870-75E0C8C9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F115F-6460-46A1-A5B7-BD907539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B1232-0D9F-4BEE-8B79-823FA47B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E2799-77A5-419D-8358-9CFE1CEE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BA72-E8E9-4A5A-84C6-FE8DBF09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560A2-3D08-477E-92BA-FB584F10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338E3-78A8-471B-891A-6EA529C4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6075E-5911-474B-9BA7-93BE4DBF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04DF3-9C6C-4CA8-9DA8-D31A08EA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3CEC-7D47-4442-BA2B-282D68D4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7E7B5-6B4E-4F3A-A94F-E664FF7E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EA1-A8B1-4DF8-8CD2-D7415D6D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2EA4-7C90-406E-87AA-CA71C43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D9157-50E5-4401-95D1-294E3E5A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E0CB9-78EA-4078-9463-92B035FA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3FDB7-08C8-4B15-B640-A71D51B0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6E2FF-7316-4C79-B821-416EA82F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960E-09CE-473F-9BAB-F42AD95C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9094E-DEAA-4B4E-ADB1-31FA30C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27F2E-1753-44FE-95DB-FEF02E55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0EFAE-1000-400F-9190-74131D75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89A72-1E31-4193-9341-027DC50D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5D1-EF0D-47F3-8A9A-CB9E94D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C3EB6-0E1B-4E36-B278-C9CD96CD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8E9E6-8C7E-4C2B-8A55-FD4938C6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B9D39-4EAD-407A-8861-F630BE77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FAB76-5C62-4CB4-B51D-5443F144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20331-A9DA-4AB5-ADBC-DB4D415B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724-1910-40F4-9518-269B1BE8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0FBB-1131-46DE-9462-723A5A9ACB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7BD6-E5A0-4A33-8DF4-FCF5B52753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F10E-A2E3-4F6B-B16C-5043C1F5C8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7B94-9747-4D20-94BE-CC3F256EBF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84C2-4DB5-4DE8-B40C-4C041BBF957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CA93-40A7-4FD6-AB21-37FEF849C9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000E-65C7-45C6-8BF5-2B1842BD4C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023840" y="-219240"/>
            <a:ext cx="7912080" cy="1773360"/>
          </a:xfrm>
          <a:prstGeom prst="rect">
            <a:avLst/>
          </a:prstGeom>
          <a:ln w="0">
            <a:noFill/>
          </a:ln>
        </p:spPr>
      </p:pic>
      <p:pic>
        <p:nvPicPr>
          <p:cNvPr id="319" name="Объект 2" descr=""/>
          <p:cNvPicPr/>
          <p:nvPr/>
        </p:nvPicPr>
        <p:blipFill>
          <a:blip r:embed="rId2"/>
          <a:stretch/>
        </p:blipFill>
        <p:spPr>
          <a:xfrm>
            <a:off x="1328760" y="1359000"/>
            <a:ext cx="75042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1438200" y="133200"/>
            <a:ext cx="7497720" cy="1317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C:\Users\Наталья\Desktop\Красногвард\i (1).jpg"/>
          <p:cNvPicPr/>
          <p:nvPr/>
        </p:nvPicPr>
        <p:blipFill>
          <a:blip r:embed="rId2"/>
          <a:stretch/>
        </p:blipFill>
        <p:spPr>
          <a:xfrm>
            <a:off x="1619280" y="1457280"/>
            <a:ext cx="2592360" cy="26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2" name="Picture 3" descr="C:\Users\Наталья\Desktop\Красногвард\i.jpg"/>
          <p:cNvPicPr/>
          <p:nvPr/>
        </p:nvPicPr>
        <p:blipFill>
          <a:blip r:embed="rId3"/>
          <a:stretch/>
        </p:blipFill>
        <p:spPr>
          <a:xfrm>
            <a:off x="5292720" y="1436760"/>
            <a:ext cx="2664000" cy="26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1219320" y="176040"/>
            <a:ext cx="7716600" cy="14637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276880" y="1523880"/>
            <a:ext cx="3657600" cy="4664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Users\Наталья\Documents\достопримечательности села\9b01110877d830f8fe6ce88dea3726ec.jpg"/>
          <p:cNvPicPr/>
          <p:nvPr/>
        </p:nvPicPr>
        <p:blipFill>
          <a:blip r:embed="rId3"/>
          <a:stretch/>
        </p:blipFill>
        <p:spPr>
          <a:xfrm>
            <a:off x="3492360" y="1989000"/>
            <a:ext cx="3276720" cy="2697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26" name=""/>
          <p:cNvSpPr txBox="1"/>
          <p:nvPr/>
        </p:nvSpPr>
        <p:spPr>
          <a:xfrm>
            <a:off x="2484000" y="3933720"/>
            <a:ext cx="2608200" cy="22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60280"/>
            <a:ext cx="7499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1c4853"/>
                </a:solidFill>
                <a:latin typeface="Corbel"/>
              </a:rPr>
              <a:t>Храмы сел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C:\Users\Наталья\Documents\достопримечательности села\251ea09a4924e3267e696268b4fef630.jpg"/>
          <p:cNvPicPr/>
          <p:nvPr/>
        </p:nvPicPr>
        <p:blipFill>
          <a:blip r:embed="rId1"/>
          <a:stretch/>
        </p:blipFill>
        <p:spPr>
          <a:xfrm>
            <a:off x="1763640" y="1644480"/>
            <a:ext cx="3024360" cy="235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9" name="Picture 3" descr="C:\Users\Наталья\Documents\достопримечательности села\8e4b68b4b90882a60cc21bae0971f9aa.jpg"/>
          <p:cNvPicPr/>
          <p:nvPr/>
        </p:nvPicPr>
        <p:blipFill>
          <a:blip r:embed="rId2"/>
          <a:stretch/>
        </p:blipFill>
        <p:spPr>
          <a:xfrm>
            <a:off x="5940360" y="4076640"/>
            <a:ext cx="295128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139760" y="274680"/>
            <a:ext cx="7821720" cy="12985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7740720" y="5589720"/>
            <a:ext cx="119376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C:\Users\Наталья\Documents\достопримечательности села\12eb11557a8382cca3744017da1d11df.jpg"/>
          <p:cNvPicPr/>
          <p:nvPr/>
        </p:nvPicPr>
        <p:blipFill>
          <a:blip r:embed="rId2"/>
          <a:stretch/>
        </p:blipFill>
        <p:spPr>
          <a:xfrm>
            <a:off x="1835280" y="1747800"/>
            <a:ext cx="3241440" cy="215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3" name="Picture 2" descr="C:\Users\Наталья\Documents\достопримечательности села\e5a2270ac56d9fa3d1d56780bee2f75d.JPG"/>
          <p:cNvPicPr/>
          <p:nvPr/>
        </p:nvPicPr>
        <p:blipFill>
          <a:blip r:embed="rId3"/>
          <a:stretch/>
        </p:blipFill>
        <p:spPr>
          <a:xfrm>
            <a:off x="5651640" y="3813120"/>
            <a:ext cx="3227400" cy="263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9:17:29Z</dcterms:created>
  <dc:creator>Наталья</dc:creator>
  <dc:description/>
  <dc:language>en-US</dc:language>
  <cp:lastModifiedBy>BEST</cp:lastModifiedBy>
  <dcterms:modified xsi:type="dcterms:W3CDTF">2013-03-11T18:17:22Z</dcterms:modified>
  <cp:revision>46</cp:revision>
  <dc:subject/>
  <dc:title>Моя малая родина</dc:title>
</cp:coreProperties>
</file>