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4AC-9A75-4A3D-9078-EDCB57CE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B10-A98E-4C39-81E9-BB4D6DBE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43F-C8CD-4991-9909-EE31354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EF0-8C8E-42AB-A9C9-B86575BD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0F1F-2C40-477E-B0AA-35814225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998-42DE-4022-9DE8-CB9A4C98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6F1-AD6B-468A-9B51-8DF98C10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B00B-1F7D-40AB-90C6-1A60D22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28A6-F15D-4280-B0E9-215CE18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0167-EA49-4BA5-BA65-B94B5D07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4F38-F081-4099-B246-4F3437C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FF8-E0BC-4BE5-B6E2-6ECD80E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5E46-03B4-4206-AD25-D678331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DC78-0D5D-4E5D-8E41-6E396256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FA11-405A-4397-A29B-66C763E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585-DD3B-443E-B55E-C5BA1C61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A5FC-BAE9-4BF7-9331-6FAA400A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D81F-D831-49D1-8068-3CD933E9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BD14-C634-4117-9BDD-7FDCB11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7177-B597-41BE-B43E-E23B6556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7ECF-CBDB-4175-B3F6-3424AFD4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E73B-36DF-4C44-9CBC-B64E96C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1A2-0329-4F96-908E-DA8CDC6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93FE-0706-438F-86C1-0D94D58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1827-AA4D-4D6A-8B50-F105B35A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EDCD-CFA8-4163-A778-A1D7CD4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5837-4E16-4A55-93AA-63D39FD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A3BF-B2A4-4399-A1E0-303D5BEA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EC60-BFD1-44BE-A383-0CCFE411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8D24-752E-40F0-8C57-37178B51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6D40-658C-496E-8D89-A2C30649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BE98-A909-4D8A-B9A1-29B4693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DCE8-BB6C-46AA-9A23-70D8494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287-FB38-46A9-9E33-A7CE9054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1EBF-13D8-41DC-BAA8-08EC65BD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80AA-F1F4-481D-A497-C30BD8F5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66EB8-9822-44DB-887B-78681E2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BCE3-2E14-4475-B409-5D7D658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AAA0-F074-4053-A2F8-EA10D2D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FC56-F9A5-4E5E-B956-BFEC4FD7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B97B-5071-4C2B-BD1E-55B009E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1F9D-8E23-44B4-A6A9-24D1A533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9AED-CC5A-4660-B447-A5745CDB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D217C-E8CD-4CB0-9A47-7A3E0B0F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9BD-D846-43E7-8F3F-466E535F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1B54-E1BF-4935-845F-35048782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2167-5900-498A-837E-13AF1D65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B7CB-132A-40E0-A164-41373829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3E3F-8AEB-4305-8D99-BAE6FAF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466F1-FA03-4B14-ACCF-112971C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0FA8-6C73-4B01-A0E3-C1FBEFBC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5FD6-72EF-48A4-89A4-5ABF8F2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6D2C-87B4-4438-90DE-B24AB63B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EE4C-89D6-463E-91AC-92E769CB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4A80-DA10-46CD-81C5-5EBFBFC4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7E8-8806-4D31-B8FA-13135772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0FF3-F6E2-446B-B9C7-01D5CC71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94D31-EA10-44F1-A7CC-A23DCC65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8142-75F9-4AA2-BA14-54CEA74F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8E93-95E7-4491-9B08-BDD8E489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B8866-0BCD-4C0F-A375-3939DC82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8E8CE-8F69-4BA6-AD99-29C80F5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F98D-6F1A-4C1F-841B-55CE6C37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FD81-559F-4B1C-87CC-1BA76F2A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2D11-C540-4118-80E0-CE7AA35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3D2E-81DE-4476-93C5-533C8DD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44F-CADF-4E85-8FB4-F9FA7AA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779C-E59F-456C-B140-2803D421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A7DC0-AB78-4FF3-AE08-39C353D4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7F29-492A-49FD-93C5-03092B80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DFFB-4491-47E0-B519-778E85CB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42C6-F1E8-4155-9300-FC6BF532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6438-12FB-4060-AB7C-2FD1BE0A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6E57-B45E-4788-B33F-AEDF6777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63DF6-BD4D-43E1-96B4-182394BA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A4134-2D18-4768-BE03-32C44A68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D38B-7A39-4888-BDCD-0A9B7C3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45D-66E0-4E54-A08D-2780A7B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792F-4D08-48D2-83B0-B1289EC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05AF-7553-4050-8EC5-A051990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B09C-31C3-4BA5-997C-8DCA7348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0601-3748-426C-84E5-C6F92EAD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5A5D-5D33-49BD-8E46-D451B53D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360-B964-48B5-872F-BC6382A9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3B3-BF7C-48C8-9199-6D0714669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477-E0FA-47B3-B019-BB5DEE3D51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5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BB96-AF2C-4CCD-A2E8-62164CC839D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B5DE-A8CB-4121-B7E0-7504D68754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04C-29A9-4343-A4F4-9C2DBDAB6F6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4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193-25E5-4A0C-BE55-6FDA23FC7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99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01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2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4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4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886-5A37-4E30-87D1-83D423C7587E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5"/>
          <p:cNvSpPr/>
          <p:nvPr/>
        </p:nvSpPr>
        <p:spPr>
          <a:xfrm>
            <a:off x="1116000" y="1557360"/>
            <a:ext cx="7632720" cy="320220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1ba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МУЗЫКАЛЬНО-ДИДАК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ИГРЫ КАК СРЕДСТВ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МУЗЫК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СПОСОБ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ДОШКОЛЬНИКОВ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Заголовок 1"/>
          <p:cNvSpPr/>
          <p:nvPr/>
        </p:nvSpPr>
        <p:spPr>
          <a:xfrm>
            <a:off x="826920" y="-17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дошко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 развития ребенка -  детский сад №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6051600" y="4869000"/>
            <a:ext cx="2841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узыкальный руководитель</a:t>
            </a: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АДОУ ЦРР </a:t>
            </a: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детского сада № 128</a:t>
            </a: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арабанько С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Заголовок 1"/>
          <p:cNvSpPr/>
          <p:nvPr/>
        </p:nvSpPr>
        <p:spPr>
          <a:xfrm>
            <a:off x="2771640" y="6093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Калининград, 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9" descr="1285899294_s250e"/>
          <p:cNvPicPr/>
          <p:nvPr/>
        </p:nvPicPr>
        <p:blipFill>
          <a:blip r:embed="rId2"/>
          <a:stretch/>
        </p:blipFill>
        <p:spPr>
          <a:xfrm>
            <a:off x="179280" y="3068640"/>
            <a:ext cx="2381400" cy="3591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0" descr="1568549-7164507064a06c37"/>
          <p:cNvPicPr/>
          <p:nvPr/>
        </p:nvPicPr>
        <p:blipFill>
          <a:blip r:embed="rId3"/>
          <a:stretch/>
        </p:blipFill>
        <p:spPr>
          <a:xfrm>
            <a:off x="539640" y="3213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1289447755_250"/>
          <p:cNvPicPr/>
          <p:nvPr/>
        </p:nvPicPr>
        <p:blipFill>
          <a:blip r:embed="rId4"/>
          <a:stretch/>
        </p:blipFill>
        <p:spPr>
          <a:xfrm>
            <a:off x="900000" y="3429000"/>
            <a:ext cx="215928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Рисунок1"/>
          <p:cNvPicPr/>
          <p:nvPr/>
        </p:nvPicPr>
        <p:blipFill>
          <a:blip r:embed="rId1"/>
          <a:stretch/>
        </p:blipFill>
        <p:spPr>
          <a:xfrm>
            <a:off x="-684360" y="0"/>
            <a:ext cx="10152360" cy="76057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5"/>
          <p:cNvSpPr/>
          <p:nvPr/>
        </p:nvSpPr>
        <p:spPr>
          <a:xfrm>
            <a:off x="611280" y="476280"/>
            <a:ext cx="7489800" cy="3141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Arial"/>
              </a:rPr>
              <a:t>Музыка –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одно из могучи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эстетического воспитания детей, воспроизводящее окружающую нас действительность в звуковых обра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4427640" y="3213000"/>
            <a:ext cx="38894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Arial"/>
              </a:rPr>
              <a:t>Г.А.Колодни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ff"/>
              </a:gs>
              <a:gs pos="100000">
                <a:srgbClr val="99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clip_image004"/>
          <p:cNvPicPr/>
          <p:nvPr/>
        </p:nvPicPr>
        <p:blipFill>
          <a:blip r:embed="rId1"/>
          <a:stretch/>
        </p:blipFill>
        <p:spPr>
          <a:xfrm rot="579000">
            <a:off x="-7920" y="5302080"/>
            <a:ext cx="5079960" cy="14925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-252360" y="189000"/>
            <a:ext cx="10080720" cy="14346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fda1d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З н а ч е н и е </a:t>
            </a:r>
            <a:br>
              <a:rPr sz="3200"/>
            </a:b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музыкально – дидактических игр и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Заголовок 1"/>
          <p:cNvSpPr/>
          <p:nvPr/>
        </p:nvSpPr>
        <p:spPr>
          <a:xfrm>
            <a:off x="1908000" y="1628640"/>
            <a:ext cx="6913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Развивать музыкальные способности детей посредством     музыкально - дидактических игр и пособий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пособствовать активному восприятию музыки дошкольниками, в доступной форме приобщать их к  основам музыкальн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1835280" y="2276640"/>
            <a:ext cx="684216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Приобщать детей к музыкальной культуре, расширять их музыкальный кругоз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Развивать музыкально-сенсорные способности, активизировать слуховое восприят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Формировать знания о средствах музыкальной выразительности и свойствах музыкального звука (высота, тембр, громкость, длительность), умение различать их в предлагаемых музыкальны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Прививать интерес к самостоятельной музыкальной деятельности (игровой, исследовательской, исполнительс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539640" y="1268280"/>
            <a:ext cx="1224000" cy="36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c007f"/>
                </a:solidFill>
                <a:uFillTx/>
                <a:latin typeface="Arial"/>
              </a:rPr>
              <a:t>Цель</a:t>
            </a:r>
            <a:r>
              <a:rPr b="1" lang="en-US" sz="2000" spc="-1" strike="noStrike" u="sng">
                <a:solidFill>
                  <a:srgbClr val="9c007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395280" y="2276640"/>
            <a:ext cx="1368360" cy="79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c007f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3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Различие между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музыкально-дидактическими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особиями и играми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39640" y="23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Музыкально-дидактическая игра имеет свой игровой сюжет, игровое действие, правила, которые необходимо соблюдать. Особенностью игр является то, что они могут использоваться детьми самостоятельно вне музыкальных зан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Музыкально-дидактическое пособие в качестве  учебного   применяется в основном на музыкальном занятии. Они включают зрительную наглядность (карточки, картинки с передвижными деталями).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3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ассификация музыкально-дидактических посо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68360" y="2492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 первой относятся игры, которые дают детям представление о характере музыки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 веселая, грустная), музыкальных жанрах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 песня, танец, марш)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1891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b2b2b2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 вторую включены игры, цель которых - дать представление о содержании музыки, о музыкальных обра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324000" y="522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ю группу составляют игры, которые формируют у детей представления о средствах музыкальной выразительности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324000" y="1484280"/>
            <a:ext cx="2087280" cy="43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И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3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4" descr="http://www.wpclipart.com/blanks/old_book.png"/>
          <p:cNvPicPr/>
          <p:nvPr/>
        </p:nvPicPr>
        <p:blipFill>
          <a:blip r:embed="rId1"/>
          <a:stretch/>
        </p:blipFill>
        <p:spPr>
          <a:xfrm>
            <a:off x="-541440" y="-243000"/>
            <a:ext cx="10223640" cy="7272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0_7c317_847e72a2_XL"/>
          <p:cNvPicPr/>
          <p:nvPr/>
        </p:nvPicPr>
        <p:blipFill>
          <a:blip r:embed="rId2"/>
          <a:stretch/>
        </p:blipFill>
        <p:spPr>
          <a:xfrm>
            <a:off x="395280" y="1773360"/>
            <a:ext cx="3995640" cy="4300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6"/>
          <p:cNvSpPr/>
          <p:nvPr/>
        </p:nvSpPr>
        <p:spPr>
          <a:xfrm>
            <a:off x="826920" y="549360"/>
            <a:ext cx="3529080" cy="204372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Georgia"/>
              </a:rPr>
              <a:t>Применение музыкально-дидактических игр и пособи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"/>
          <p:cNvSpPr/>
          <p:nvPr/>
        </p:nvSpPr>
        <p:spPr>
          <a:xfrm>
            <a:off x="4643280" y="475920"/>
            <a:ext cx="336564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п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4643280" y="1628280"/>
            <a:ext cx="404352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слушания муз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4211640" y="2852640"/>
            <a:ext cx="453708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743040" indent="-2858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ритмических дви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4643280" y="4223520"/>
            <a:ext cx="3751560" cy="180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игры на детских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20:10:10Z</dcterms:created>
  <dc:creator>александр</dc:creator>
  <dc:description/>
  <dc:language>en-US</dc:language>
  <cp:lastModifiedBy>александр</cp:lastModifiedBy>
  <dcterms:modified xsi:type="dcterms:W3CDTF">2013-03-10T21:35:27Z</dcterms:modified>
  <cp:revision>10</cp:revision>
  <dc:subject/>
  <dc:title>Слайд 1</dc:title>
</cp:coreProperties>
</file>