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gif" ContentType="image/gif"/>
  <Override PartName="/ppt/media/image1.wmf" ContentType="image/x-wmf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88D-304C-4BF4-9E0F-E548FB40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B04-BB9A-4D58-B926-6AFB32D8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E4E-9CD8-40F0-838C-34B24296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080-12F0-496B-9DC5-E11FADF1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BFAB-327B-4AAD-8187-D54A9774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4342-C0BC-4F0E-B221-C3F3AF28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8178-E596-4C1E-8C7D-8703E46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DD79-D234-4429-A80C-2A4B0F3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FAD8-9E88-474D-8FB4-34F0815C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A0B-AD4D-4F9B-94E9-0821F98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F3B3-D2C7-45A0-800E-4D94ECC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749-625A-414C-ADC7-85A5F9D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A6DF-4E60-4814-84B0-0223540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D8B2-A675-406D-B4E8-4A93FB7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6D39-0049-48DC-8653-DC85A64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5864-9768-40EF-A2A1-B65D0ACD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E9AB-7F57-4611-892C-64742A40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3C0C-F304-439C-BBFD-B0E8069F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F3CD-D2A2-44F0-9539-51DBB305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A9D5-CD62-41D6-91BC-2CDCF36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6CDD-E074-42EE-A1A0-FCF0A55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C8DA-8216-4169-B59A-4ED4053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3E7-9E4F-49D5-A8BC-6DFF2972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AC40-6907-448D-9CA7-9CC8962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FBFD-0F61-4C56-A3CE-4DD9F8D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F824-CE2B-480E-9C46-E2DAD3A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C053-FB38-4EDE-AC8D-9AFEAA5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E290-D593-44DE-9C6C-E36C8065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0D8A-D90F-46EC-9E16-59725E7B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41F2-3A55-4420-AB1F-4A4C8D4D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FF66-0AFD-4E5E-BB4E-3F25A96C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F82B-30FA-4A6A-BEE0-B2CE033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0C0F-5117-4A1D-B0C4-CE6ACF5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4E-48AF-443E-88A9-978204D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B07D2-8F9F-4F65-961C-641ADB8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2D7E-5F1E-4074-9A53-21248D7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9B89-B283-4B64-BD2E-45C0DF5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088B-BE43-4FEF-A837-D89EC1C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FAED-CBB6-483A-8693-4BEEACC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92F9-C03E-4752-8F84-E1A627B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BC38-C6AA-4D3F-B3AB-3277007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EF28-514D-41CB-A839-B359ECEB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228A-0D6E-4C32-A070-2E5742A1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7A72-9F7A-4BD1-AC5F-9C2EC2B7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27D-11C3-47AD-85F7-B3918E65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DB4F-777B-4AFA-9379-85DF1662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094B-B394-426C-8DEB-9F46AC87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75A2-0220-4345-82D6-B6BC4649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6E68-4254-403C-9DCF-37E3E1D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096A-23C9-48E9-B14F-48983A77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5B9F-C869-496E-9A70-0C617B5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EF45-EBA0-4585-8FD7-E187E33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D088-B42C-43BD-BEFD-7E8CE74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F39EA-1560-4994-B5D0-D03D81D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6DCE-3120-42C5-9841-24013814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180-EF6E-4DDA-A6A2-42B77ED8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A8D4-5550-4943-9802-A113C099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7FA3-5908-40CB-A1A8-72173ADA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C3F9B-025F-452E-ADC3-C41448C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037F-F58F-43D7-A4A0-7A0B8A6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A9757-262D-4C30-923A-5A743034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3F95-DBF1-4B91-9628-B5E93672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C7C9B-0763-44B6-9097-BAFB3856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C68D-8427-4C86-AC28-6F0A398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A76FA-BF67-47A7-B2DE-CF2190C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39B8-DB03-4E5B-A054-6D8C839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1C7-48AD-47FD-832C-2DEDC47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70F44-3948-45F7-9F57-4064E58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A7F4-24CA-4CE5-8555-5FBE8752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C4A0-C3AE-4961-A31A-CF951894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F7E2-1F15-488A-A1AA-22D3FA9C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8E2D-E053-42CC-9761-2E2F43B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2930-25BE-4F65-B828-F0B73D5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18B43-7502-4A59-8012-74D9325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5A12-A41C-44AC-9992-B9D3A06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81BA-1420-4DFC-93D7-3FE4AF3B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48BF-8D2D-48C0-83DF-AE01264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438-CFE2-4727-B069-B54EFFC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7535-B9F1-467A-87F0-70D7567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FF606-3E55-43A5-A7D3-F942536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1AD7-9648-44A9-A023-D190AFC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1761-150B-4A55-83CE-8127934C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159F-ACFD-479D-8BEF-0C535B3D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9F9-237E-4B64-B046-6F5AAAA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36E7-B3E4-4503-A146-18C4BE512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2B6-A9AA-446E-9757-F9196E7FCC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E557-5E74-4E5F-9AA8-FC32912661D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564-8CE2-447B-B339-44A8F18CEE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A80-0E37-444C-8F6F-F64ABFE14C9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2FC-6C9B-474C-A313-4366DFF15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99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01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2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4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4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323-8A3C-45E7-B591-F121C3C72E6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5"/>
          <p:cNvSpPr/>
          <p:nvPr/>
        </p:nvSpPr>
        <p:spPr>
          <a:xfrm>
            <a:off x="1116000" y="1557360"/>
            <a:ext cx="7632720" cy="3202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31ba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МУЗЫКАЛЬНО-ДИДАК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ИГРЫ КАК СРЕДСТВ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МУЗЫК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СПОСОБ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ДОШКОЛЬНИКОВ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826920" y="-17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 развития ребенка -  детский сад №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6051600" y="4869000"/>
            <a:ext cx="2841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узыкальный руководитель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АДОУ ЦРР 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етского сада № 128</a:t>
            </a: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рабанько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Заголовок 1"/>
          <p:cNvSpPr/>
          <p:nvPr/>
        </p:nvSpPr>
        <p:spPr>
          <a:xfrm>
            <a:off x="2771640" y="6093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Калининград, 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9" descr="1285899294_s250e"/>
          <p:cNvPicPr/>
          <p:nvPr/>
        </p:nvPicPr>
        <p:blipFill>
          <a:blip r:embed="rId2"/>
          <a:stretch/>
        </p:blipFill>
        <p:spPr>
          <a:xfrm>
            <a:off x="179280" y="3068640"/>
            <a:ext cx="2381400" cy="3591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1568549-7164507064a06c37"/>
          <p:cNvPicPr/>
          <p:nvPr/>
        </p:nvPicPr>
        <p:blipFill>
          <a:blip r:embed="rId3"/>
          <a:stretch/>
        </p:blipFill>
        <p:spPr>
          <a:xfrm>
            <a:off x="539640" y="3213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1289447755_250"/>
          <p:cNvPicPr/>
          <p:nvPr/>
        </p:nvPicPr>
        <p:blipFill>
          <a:blip r:embed="rId4"/>
          <a:stretch/>
        </p:blipFill>
        <p:spPr>
          <a:xfrm>
            <a:off x="900000" y="3429000"/>
            <a:ext cx="215928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Рисунок1"/>
          <p:cNvPicPr/>
          <p:nvPr/>
        </p:nvPicPr>
        <p:blipFill>
          <a:blip r:embed="rId1"/>
          <a:stretch/>
        </p:blipFill>
        <p:spPr>
          <a:xfrm>
            <a:off x="-684360" y="0"/>
            <a:ext cx="10152360" cy="760572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5"/>
          <p:cNvSpPr/>
          <p:nvPr/>
        </p:nvSpPr>
        <p:spPr>
          <a:xfrm>
            <a:off x="611280" y="476280"/>
            <a:ext cx="7489800" cy="3141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Arial"/>
              </a:rPr>
              <a:t>Музыка –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одно из могучи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эстетического воспитания детей, воспроизводящее окружающую нас действительность в звуковых обра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                                        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4427640" y="3213000"/>
            <a:ext cx="38894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Г.А.Колодни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ff"/>
              </a:gs>
              <a:gs pos="100000">
                <a:srgbClr val="99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clip_image004"/>
          <p:cNvPicPr/>
          <p:nvPr/>
        </p:nvPicPr>
        <p:blipFill>
          <a:blip r:embed="rId1"/>
          <a:stretch/>
        </p:blipFill>
        <p:spPr>
          <a:xfrm rot="579000">
            <a:off x="-7920" y="5302080"/>
            <a:ext cx="5079960" cy="14925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6"/>
          <p:cNvSpPr/>
          <p:nvPr/>
        </p:nvSpPr>
        <p:spPr>
          <a:xfrm>
            <a:off x="-252360" y="189000"/>
            <a:ext cx="10080720" cy="14346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fda1d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З н а ч е н и е </a:t>
            </a:r>
            <a:br>
              <a:rPr sz="32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музыкально – дидактических игр и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Заголовок 1"/>
          <p:cNvSpPr/>
          <p:nvPr/>
        </p:nvSpPr>
        <p:spPr>
          <a:xfrm>
            <a:off x="1908000" y="1628640"/>
            <a:ext cx="691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вивать музыкальные способности детей посредством     музыкально - дидактических игр и пособий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пособствовать активному восприятию музыки дошкольниками, в доступной форме приобщать их к  основам музыкаль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1835280" y="2276640"/>
            <a:ext cx="684216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Приобщать детей к музыкальной культуре, расширять их музыкальный кругоз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Развивать музыкально-сенсорные способности, активизировать слуховое восприяти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Формировать знания о средствах музыкальной выразительности и свойствах музыкального звука (высота, тембр, громкость, длительность), умение различать их в предлагаемых музыкальны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Прививать интерес к самостоятельной музыкальной деятельности (игровой, исследовательской, исполнительс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539640" y="1268280"/>
            <a:ext cx="1224000" cy="36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Цель</a:t>
            </a:r>
            <a:r>
              <a:rPr b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395280" y="2276640"/>
            <a:ext cx="1368360" cy="79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c007f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539640" y="47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Различие между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музыкально-дидактическими 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особиями и играми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23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Музыкально-дидактическая игра имеет свой игровой сюжет, игровое действие, правила, которые необходимо соблюдать. Особенностью игр является то, что они могут использоваться детьми самостоятельно вне музыкальных зан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Музыкально-дидактическое пособие в качестве  учебного   применяется в основном на музыкальном занятии. Они включают зрительную наглядность (карточки, картинки с передвижными деталями).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ассификация музыкально-дидактических посо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68360" y="2492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 первой относятся игры, которые дают детям представление о характере музыки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 веселая, грустная), музыкальных жанрах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 песня, танец, марш)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18916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b2b2b2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вторую включены игры, цель которых - дать представление о содержании музыки, о музыкальных обра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324000" y="522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ю группу составляют игры, которые формируют у детей представления о средствах музыкальной выразительности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324000" y="1484280"/>
            <a:ext cx="2087280" cy="43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И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4" descr="http://www.wpclipart.com/blanks/old_book.png"/>
          <p:cNvPicPr/>
          <p:nvPr/>
        </p:nvPicPr>
        <p:blipFill>
          <a:blip r:embed="rId1"/>
          <a:stretch/>
        </p:blipFill>
        <p:spPr>
          <a:xfrm>
            <a:off x="-541440" y="-243000"/>
            <a:ext cx="10223640" cy="7272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0_7c317_847e72a2_XL"/>
          <p:cNvPicPr/>
          <p:nvPr/>
        </p:nvPicPr>
        <p:blipFill>
          <a:blip r:embed="rId2"/>
          <a:stretch/>
        </p:blipFill>
        <p:spPr>
          <a:xfrm>
            <a:off x="395280" y="1773360"/>
            <a:ext cx="3995640" cy="4300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6"/>
          <p:cNvSpPr/>
          <p:nvPr/>
        </p:nvSpPr>
        <p:spPr>
          <a:xfrm>
            <a:off x="826920" y="549360"/>
            <a:ext cx="3529080" cy="204372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Georgia"/>
              </a:rPr>
              <a:t>Применение музыкально-дидактических игр и пособ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"/>
          <p:cNvSpPr/>
          <p:nvPr/>
        </p:nvSpPr>
        <p:spPr>
          <a:xfrm>
            <a:off x="4643280" y="475920"/>
            <a:ext cx="336564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п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4643280" y="1628280"/>
            <a:ext cx="404352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слушания муз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4211640" y="2852640"/>
            <a:ext cx="453708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2858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ритмических движ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643280" y="4223520"/>
            <a:ext cx="3751560" cy="180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в процессе игры на детских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20:10:10Z</dcterms:created>
  <dc:creator>александр</dc:creator>
  <dc:description/>
  <dc:language>en-US</dc:language>
  <cp:lastModifiedBy>александр</cp:lastModifiedBy>
  <dcterms:modified xsi:type="dcterms:W3CDTF">2013-03-10T21:35:27Z</dcterms:modified>
  <cp:revision>10</cp:revision>
  <dc:subject/>
  <dc:title>Слайд 1</dc:title>
</cp:coreProperties>
</file>