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33F-99AA-4C67-B75A-6284F145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407-9D38-4FFA-8AB9-46AE29C9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008-7BA5-4029-92ED-10C924BE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25B-84EA-40EF-8906-8EA34EF1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6C25-4C57-462D-A5C1-2CC0FA55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87C2-E5C6-446B-8F7D-1DB0C9C8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9DDE-CF57-47BF-BA3D-95574A1D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32B2-4DA8-418F-803F-3117496D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2494-19D7-4724-A9EE-399F1935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A56A-C5FB-498B-BAC1-49BD5208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21E9-A46F-42D3-9DC1-71967FE5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F8B-562F-464E-AC04-F0DD65A7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9448-A8FD-4095-95AC-2889C8D2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6831-0087-417C-A7F9-67648184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D8CA-72D8-4D9B-A19A-71A5C6E6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3B2D-2B0A-416F-80DF-FF150B0E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9A5A-37D2-4CD5-A64C-90B41FF1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46F90-78EA-4474-9296-8137FD5A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75397-2E30-4F96-B543-B6E5EAFC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25938-E7F4-479B-8905-C669FA35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7987D-1402-41F4-B5E6-B74C4206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365A8-864F-48A2-B2C7-10E30040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9C4-C0AB-4539-99EB-E0B8B759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398B-8DB6-4376-986F-B6C41B88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320A-4E07-4961-B0C5-DAEFBC31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3377-E255-4586-8EA3-422C2791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D1859-734C-48B8-85A7-04936831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0A2BB-9328-4AC1-AD45-ED9AC3DD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66A2D-E658-4D58-9C1E-9627D217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40F47-3212-4434-932C-3BFE01C0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CC544-48D9-465C-B809-38092A55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F85F6-0D02-44E4-AC74-43D408E2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3B892-0C96-4282-A497-A77014F9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43A-A25D-45FE-B336-A2F04A85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A2C54-8EA7-45EE-9394-6AE1915F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F6E4F-AB10-4F95-BA2B-57A0D54C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7D414-CB09-4116-8D90-DFFA9955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7DF69-59B2-4187-AC2B-B8D0B241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425A8-66EF-479F-AD81-D7CD6404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75EEF-97DC-473A-AA39-74D63519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40305-9171-46C2-A5C4-21F366D4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C2A13-C628-46EB-8676-FAADB006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C1116-2F62-41E5-BA42-A0FA611B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20362-A33A-41E5-B983-8096F245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299-1F07-49C4-B569-4CE8EC8D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2D869-AC0B-418E-A929-EAE251FD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FF455-2ADD-4F8B-86A4-34C1207D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A465E-6357-44CB-8891-A023BD05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E7A1A-8DC2-48C8-851D-3B2C588A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F262B-DB5A-4052-81A8-7BFF87DA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E6FEF-83F7-414E-9B98-6A68DBC1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6FFEF-61D9-4D64-B6AB-2AC4904C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178F3-789C-414D-8E8A-CA79711A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689BC-C83A-4684-A0EF-AC517C67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0BFBA-59AC-4C16-BDBB-4E5510CD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119-87B3-4DDA-BF1E-EE1C9E72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E0567-8EDD-46B5-8575-4717134A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69D11-B0EB-47FA-BF52-E45B6BB2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8DD86-E12F-4AAB-BE76-EA6EFC13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AB7F4-8F34-4AE9-A52E-E15ECF30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18A99-6312-4503-9182-A1CA1CF1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51D19-E012-4F97-8C82-D8B500BA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2BBFF-405E-4475-AC95-06881710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4B6C8-2A67-47F3-95A3-46173D6A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90DDD-35A8-4C73-AC39-061FC276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A66A5-2D12-458C-A9F9-BB60DC8A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AA05-E742-4949-9120-3E702934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5862C-3B82-4BC5-A04D-1402F7D3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35489-4EA1-4F74-A58F-85C72F22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5823D-3502-46D0-8833-F7426313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157-988A-4352-8F86-892354E3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AAF-05E0-4A22-9045-D8FA7F4F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A674-0719-4D9B-B7B9-947A2B93B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4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633C-1F05-4709-B986-A4E9836108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D59E-45AB-4E73-9F6D-D0343DD776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44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7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11B1-F177-4264-B1FD-B3AA80C72AF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24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A326-0872-4BDD-8B37-D50384B55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29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31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5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7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7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62A9-1D45-493E-85EC-6DF047CDC18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hyperlink" Target="http://us.123rf.com/400wm/400/400/lenm/lenm1008/lenm100800171/7615543-children-playing-with-musical-instruments.jpg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"/>
          <p:cNvSpPr/>
          <p:nvPr/>
        </p:nvSpPr>
        <p:spPr>
          <a:xfrm>
            <a:off x="826920" y="476280"/>
            <a:ext cx="3097440" cy="204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da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Тип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узыкально - дидак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иг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2"/>
          <p:cNvSpPr/>
          <p:nvPr/>
        </p:nvSpPr>
        <p:spPr>
          <a:xfrm>
            <a:off x="5221080" y="836640"/>
            <a:ext cx="267984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da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c00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007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подви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3"/>
          <p:cNvSpPr/>
          <p:nvPr/>
        </p:nvSpPr>
        <p:spPr>
          <a:xfrm>
            <a:off x="5148000" y="1628640"/>
            <a:ext cx="285516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da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c00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007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хороводн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4"/>
          <p:cNvSpPr/>
          <p:nvPr/>
        </p:nvSpPr>
        <p:spPr>
          <a:xfrm>
            <a:off x="5077440" y="2349360"/>
            <a:ext cx="275292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da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c00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007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наст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5"/>
          <p:cNvSpPr/>
          <p:nvPr/>
        </p:nvSpPr>
        <p:spPr>
          <a:xfrm>
            <a:off x="1042920" y="3141720"/>
            <a:ext cx="2881440" cy="2653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da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Ценным в этих играх является то, что в основу взят синтез музыки и дв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clip_image004"/>
          <p:cNvPicPr/>
          <p:nvPr/>
        </p:nvPicPr>
        <p:blipFill>
          <a:blip r:embed="rId2"/>
          <a:stretch/>
        </p:blipFill>
        <p:spPr>
          <a:xfrm rot="20516400">
            <a:off x="3850920" y="4365360"/>
            <a:ext cx="5079960" cy="149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downl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"/>
          <p:cNvSpPr/>
          <p:nvPr/>
        </p:nvSpPr>
        <p:spPr>
          <a:xfrm>
            <a:off x="108000" y="-3240"/>
            <a:ext cx="8697960" cy="173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Характерным для каждой дидактической       игры является наличие в н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2"/>
          <p:cNvSpPr/>
          <p:nvPr/>
        </p:nvSpPr>
        <p:spPr>
          <a:xfrm>
            <a:off x="2048400" y="1773360"/>
            <a:ext cx="4149000" cy="581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900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d31ba"/>
                </a:solidFill>
                <a:latin typeface="Times New Roman"/>
                <a:ea typeface="Times New Roman"/>
              </a:rPr>
              <a:t>обучающей зада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3"/>
          <p:cNvSpPr/>
          <p:nvPr/>
        </p:nvSpPr>
        <p:spPr>
          <a:xfrm>
            <a:off x="2772360" y="2492280"/>
            <a:ext cx="2874960" cy="581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900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d31ba"/>
                </a:solidFill>
                <a:latin typeface="Times New Roman"/>
                <a:ea typeface="Times New Roman"/>
              </a:rPr>
              <a:t>содерж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3276720" y="2968560"/>
            <a:ext cx="2447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cd31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31ba"/>
                </a:solidFill>
                <a:latin typeface="Times New Roman"/>
                <a:ea typeface="Times New Roman"/>
              </a:rPr>
              <a:t>прав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5"/>
          <p:cNvSpPr/>
          <p:nvPr/>
        </p:nvSpPr>
        <p:spPr>
          <a:xfrm>
            <a:off x="3851640" y="4005360"/>
            <a:ext cx="4037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900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006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d31ba"/>
                </a:solidFill>
                <a:latin typeface="Times New Roman"/>
              </a:rPr>
              <a:t>игровы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0_1e079_7856fba6_L"/>
          <p:cNvPicPr/>
          <p:nvPr/>
        </p:nvPicPr>
        <p:blipFill>
          <a:blip r:embed="rId2"/>
          <a:stretch/>
        </p:blipFill>
        <p:spPr>
          <a:xfrm rot="20940600">
            <a:off x="-455400" y="690480"/>
            <a:ext cx="4384800" cy="65152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5" descr="687037"/>
          <p:cNvPicPr/>
          <p:nvPr/>
        </p:nvPicPr>
        <p:blipFill>
          <a:blip r:embed="rId3"/>
          <a:stretch/>
        </p:blipFill>
        <p:spPr>
          <a:xfrm>
            <a:off x="3995640" y="4724280"/>
            <a:ext cx="2664000" cy="18813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7" descr="1303055471_prevyu"/>
          <p:cNvPicPr/>
          <p:nvPr/>
        </p:nvPicPr>
        <p:blipFill>
          <a:blip r:embed="rId4"/>
          <a:stretch/>
        </p:blipFill>
        <p:spPr>
          <a:xfrm>
            <a:off x="6227640" y="1844640"/>
            <a:ext cx="2627280" cy="205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3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3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desktop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Прямоугольник 1"/>
          <p:cNvSpPr/>
          <p:nvPr/>
        </p:nvSpPr>
        <p:spPr>
          <a:xfrm>
            <a:off x="250920" y="404640"/>
            <a:ext cx="8593200" cy="642600"/>
          </a:xfrm>
          <a:prstGeom prst="rect">
            <a:avLst/>
          </a:prstGeom>
          <a:noFill/>
          <a:ln w="0">
            <a:noFill/>
          </a:ln>
          <a:effectLst>
            <a:outerShdw dist="117181" dir="18638369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d1963"/>
                </a:solidFill>
                <a:latin typeface="Times New Roman"/>
                <a:ea typeface="Times New Roman"/>
              </a:rPr>
              <a:t>Виды музыкально-дидактических игр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5256360" cy="63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для развития высотного слуха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900000" y="1916280"/>
            <a:ext cx="4535640" cy="784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на развитие чувства рит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"/>
          <p:cNvSpPr/>
          <p:nvPr/>
        </p:nvSpPr>
        <p:spPr>
          <a:xfrm>
            <a:off x="1332000" y="2492280"/>
            <a:ext cx="5113080" cy="85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на развитие тембрового сл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1692360" y="3068640"/>
            <a:ext cx="5759280" cy="782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на развитие диатонического  сл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2"/>
          <p:cNvSpPr/>
          <p:nvPr/>
        </p:nvSpPr>
        <p:spPr>
          <a:xfrm>
            <a:off x="2124000" y="3716280"/>
            <a:ext cx="4967280" cy="784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на развитие памяти и сл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"/>
          <p:cNvSpPr/>
          <p:nvPr/>
        </p:nvSpPr>
        <p:spPr>
          <a:xfrm>
            <a:off x="2556000" y="4365720"/>
            <a:ext cx="5327640" cy="691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на развитие детского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Рисунок 1" descr="notyi .gif"/>
          <p:cNvPicPr/>
          <p:nvPr/>
        </p:nvPicPr>
        <p:blipFill>
          <a:blip r:embed="rId2"/>
          <a:stretch/>
        </p:blipFill>
        <p:spPr>
          <a:xfrm>
            <a:off x="395280" y="5157720"/>
            <a:ext cx="4537080" cy="15811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Картинка 13 из 2719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1197000"/>
            <a:ext cx="253980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4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ffff"/>
              </a:gs>
              <a:gs pos="100000">
                <a:srgbClr val="99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9900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2daf"/>
                </a:solidFill>
                <a:latin typeface="Arial"/>
              </a:rPr>
              <a:t>Ценность музыкально-дидактических пособий и игр состоит в том, что они 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воздействуют на ребенка комплексно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вызывают зрительную, слуховую и двигательную активность,</a:t>
            </a:r>
            <a:r>
              <a:rPr b="1" lang="en-US" sz="3200" spc="-1" strike="noStrike">
                <a:solidFill>
                  <a:srgbClr val="c12daf"/>
                </a:solidFill>
                <a:latin typeface="Arial"/>
              </a:rPr>
              <a:t> тем самым 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расширяя музыкальное восприятие в цело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539280" y="476280"/>
            <a:ext cx="2530440" cy="113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99"/>
            </a:outerShdw>
          </a:effectLst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Georgia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3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WordArt 6"/>
          <p:cNvSpPr txBox="1"/>
          <p:nvPr/>
        </p:nvSpPr>
        <p:spPr>
          <a:xfrm>
            <a:off x="1187280" y="2492280"/>
            <a:ext cx="7128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20:10:10Z</dcterms:created>
  <dc:creator>александр</dc:creator>
  <dc:description/>
  <dc:language>en-US</dc:language>
  <cp:lastModifiedBy>александр</cp:lastModifiedBy>
  <dcterms:modified xsi:type="dcterms:W3CDTF">2013-03-10T21:46:06Z</dcterms:modified>
  <cp:revision>13</cp:revision>
  <dc:subject/>
  <dc:title>Слайд 1</dc:title>
</cp:coreProperties>
</file>