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11.gif" ContentType="image/gif"/>
  <Override PartName="/ppt/media/image10.jpeg" ContentType="image/jpeg"/>
  <Override PartName="/ppt/media/image5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11BD-8261-4FD8-B11A-5C170DE64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FBD3-71A9-4B16-901C-CCD2B06B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BAE3-491D-4D8A-A7C8-08CB92672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2237-D534-4E48-9F5E-3C8CC5A4E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C7D1-7264-416B-9AE3-0B2346F85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5EC4-4571-410A-B91B-53FD41A1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438F-9453-4FEF-BF6C-5BC906F6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EF95-8083-4993-8B4C-ED5F038D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7F55-F3D7-42EA-90C5-990F94E0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25A2-2712-490A-B262-6113AFD6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6847-7C2E-437B-BA4A-3D592B45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2EBF-F215-45F9-A80B-98BECCC6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A07B-E135-4E2A-A66D-45B43B88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F182-53C2-455C-9292-DBB1B30A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3FE7-AD6D-4710-93F8-0813A3D0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F9AC-D73E-4309-937A-0FF0C4886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B9DC-7483-4CC0-8E9C-8A0920B68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676F2-4024-4D5D-9BB3-AF59F5EF5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7462B-D694-4893-9D7A-4D818F6B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1860A-261E-47C2-86C7-17BB6B61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C25B0-8EC9-4663-8324-357FC660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B618E-FAA8-412B-8CA3-FEACDC0A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83E5-073D-445D-94E8-C027AF9C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0EC4C-4C3C-4014-B5ED-694FBF57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EDC82-9C38-4A38-802E-730B15D9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3FF07-AB40-49BF-80DF-9EEB08AE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6661B-3A2C-421B-AC15-2CD468F9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C4225-3242-494E-B4BD-4C4D28A0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9B02F-2E34-46B5-9096-F8890CB3A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5BBBF-A27A-4E0B-BDB4-7A93E7998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D0B9C-15B7-4F15-ADC9-9775DC6B4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AE14B-D465-41B9-9F18-C65832DD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604D3-7A2D-4025-A3BD-AAA466F2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80DE-C986-40D9-B278-5B87D138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FD7B0-00AA-4550-A15E-021BDCB0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4265F-7B9E-4EB2-A0C1-C39CBCC8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8ABF2-3F6C-43C9-BBCB-996BE835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EEB4F-340C-479E-B042-B4C53D5D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569E0-0D1D-4481-B228-0B77E8F7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61207-3E45-4DD5-A1EE-0922C329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6B9B7-57EC-4941-98D9-4C6C1137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9168D-1062-4402-BDF3-4D6B15950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5307F-6C73-4384-BA4A-55FA733D6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C0F16-54B1-4E60-AC30-0AE206B44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FD30-3F7D-4CA8-A995-6568FA62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C9DB1-0499-4F31-B50E-040AC1E4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2B763-AA94-46E4-B352-429E5D17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57197-F5E6-44F7-ACD5-3387775C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83701-02B8-430C-8BA8-BEE9FCF7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11B07-C100-4BE1-9EBF-365146E7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5633E-88DE-4E0B-8051-EF1A3C15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FD35B-338A-4DA9-B819-CE0BF45B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64FCD-35AF-453C-920E-F1A599E1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A55E9-BAC5-4DE2-A5E3-3BD58083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03783-363B-46B5-8086-0BF6D2185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B44E-A95E-43B0-98C2-A86DDAF9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64DB7-7690-46F9-A0F4-A67C00C11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DD5D6-778B-4311-A7E5-15523ADB0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5EA76-7BE4-46F3-AF41-C33A27FF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457F3-38ED-4FDB-8B46-F6A42409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D2716-38E3-4F2B-857A-22C1C56C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DBEED-C22A-4684-A58B-594ED127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61C7F-A2BB-40EB-86D9-AECB3921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45B5C-4721-42EC-9892-6CCE0B34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6BB3D-C654-4A13-8CB1-EDBF4CF1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42972-B861-4B1E-8C4C-BC78CA0E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C11A-8767-4BE6-B27E-E7E10738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51CE4-F162-44C1-92C0-D4C0A193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A6C9F-6019-4ECB-A8FF-5D1434C81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431F5-C048-4FED-8D80-E7C6E4106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19B1-206D-407C-ADEA-C84B4C68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208D-DC91-48B4-8BB8-64B72CF3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2DD5-EE86-4C4E-B00B-E7363E13D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2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44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70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86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89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E09B-D63D-4AED-AB77-5518A2E3BA7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48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52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53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54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55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7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71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7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91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C0CE-81C2-41AF-90C6-0A43D03F10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44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57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D323-0847-4EF1-988D-CF0AAA9DDD5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24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5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26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38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7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75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2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83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E174-8185-4EB1-8CCD-847DD8D6C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29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431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457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2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73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5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76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5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16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17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5A20-0BD2-498A-BB32-07AEDD6A2B96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hyperlink" Target="http://us.123rf.com/400wm/400/400/lenm/lenm1008/lenm100800171/7615543-children-playing-with-musical-instruments.jpg" TargetMode="External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Прямоугольник 1"/>
          <p:cNvSpPr/>
          <p:nvPr/>
        </p:nvSpPr>
        <p:spPr>
          <a:xfrm>
            <a:off x="826920" y="476280"/>
            <a:ext cx="3097440" cy="2043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da1d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Тип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музыкально - дидактическ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иг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Прямоугольник 2"/>
          <p:cNvSpPr/>
          <p:nvPr/>
        </p:nvSpPr>
        <p:spPr>
          <a:xfrm>
            <a:off x="5221080" y="836640"/>
            <a:ext cx="2679840" cy="58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da1d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c00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c007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подви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Прямоугольник 3"/>
          <p:cNvSpPr/>
          <p:nvPr/>
        </p:nvSpPr>
        <p:spPr>
          <a:xfrm>
            <a:off x="5148000" y="1628640"/>
            <a:ext cx="2855160" cy="58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da1d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c00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c007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хороводны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Прямоугольник 4"/>
          <p:cNvSpPr/>
          <p:nvPr/>
        </p:nvSpPr>
        <p:spPr>
          <a:xfrm>
            <a:off x="5077440" y="2349360"/>
            <a:ext cx="2752920" cy="58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da1d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c00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c007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насто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Прямоугольник 5"/>
          <p:cNvSpPr/>
          <p:nvPr/>
        </p:nvSpPr>
        <p:spPr>
          <a:xfrm>
            <a:off x="1042920" y="3141720"/>
            <a:ext cx="2881440" cy="2653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da1d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Ценным в этих играх является то, что в основу взят синтез музыки и дви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5" descr="clip_image004"/>
          <p:cNvPicPr/>
          <p:nvPr/>
        </p:nvPicPr>
        <p:blipFill>
          <a:blip r:embed="rId2"/>
          <a:stretch/>
        </p:blipFill>
        <p:spPr>
          <a:xfrm rot="20516400">
            <a:off x="3850920" y="4365360"/>
            <a:ext cx="5079960" cy="1492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3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3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3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9000"/>
                            </p:stCondLst>
                            <p:childTnLst>
                              <p:par>
                                <p:cTn id="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3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4" descr="downloa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6" name="Rectangle 1"/>
          <p:cNvSpPr/>
          <p:nvPr/>
        </p:nvSpPr>
        <p:spPr>
          <a:xfrm>
            <a:off x="108000" y="-3240"/>
            <a:ext cx="8697960" cy="173988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Характерным для каждой дидактической       игры является наличие в не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Прямоугольник 2"/>
          <p:cNvSpPr/>
          <p:nvPr/>
        </p:nvSpPr>
        <p:spPr>
          <a:xfrm>
            <a:off x="2048400" y="1773360"/>
            <a:ext cx="4149000" cy="581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9006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cd31ba"/>
                </a:solidFill>
                <a:latin typeface="Times New Roman"/>
                <a:ea typeface="Times New Roman"/>
              </a:rPr>
              <a:t>обучающей задач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Прямоугольник 3"/>
          <p:cNvSpPr/>
          <p:nvPr/>
        </p:nvSpPr>
        <p:spPr>
          <a:xfrm>
            <a:off x="2772360" y="2492280"/>
            <a:ext cx="2874960" cy="5814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9006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cd31ba"/>
                </a:solidFill>
                <a:latin typeface="Times New Roman"/>
                <a:ea typeface="Times New Roman"/>
              </a:rPr>
              <a:t>содерж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2"/>
          <p:cNvSpPr/>
          <p:nvPr/>
        </p:nvSpPr>
        <p:spPr>
          <a:xfrm>
            <a:off x="3276720" y="2968560"/>
            <a:ext cx="24476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539640">
              <a:lnSpc>
                <a:spcPct val="100000"/>
              </a:lnSpc>
              <a:buClr>
                <a:srgbClr val="cd31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d31ba"/>
                </a:solidFill>
                <a:latin typeface="Times New Roman"/>
                <a:ea typeface="Times New Roman"/>
              </a:rPr>
              <a:t>прав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Прямоугольник 5"/>
          <p:cNvSpPr/>
          <p:nvPr/>
        </p:nvSpPr>
        <p:spPr>
          <a:xfrm>
            <a:off x="3851640" y="4005360"/>
            <a:ext cx="40377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9006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006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d31ba"/>
                </a:solidFill>
                <a:latin typeface="Times New Roman"/>
              </a:rPr>
              <a:t>игровых действ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3" descr="0_1e079_7856fba6_L"/>
          <p:cNvPicPr/>
          <p:nvPr/>
        </p:nvPicPr>
        <p:blipFill>
          <a:blip r:embed="rId2"/>
          <a:stretch/>
        </p:blipFill>
        <p:spPr>
          <a:xfrm rot="20940600">
            <a:off x="-455400" y="690480"/>
            <a:ext cx="4384800" cy="651528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15" descr="687037"/>
          <p:cNvPicPr/>
          <p:nvPr/>
        </p:nvPicPr>
        <p:blipFill>
          <a:blip r:embed="rId3"/>
          <a:stretch/>
        </p:blipFill>
        <p:spPr>
          <a:xfrm>
            <a:off x="3995640" y="4724280"/>
            <a:ext cx="2664000" cy="188136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17" descr="1303055471_prevyu"/>
          <p:cNvPicPr/>
          <p:nvPr/>
        </p:nvPicPr>
        <p:blipFill>
          <a:blip r:embed="rId4"/>
          <a:stretch/>
        </p:blipFill>
        <p:spPr>
          <a:xfrm>
            <a:off x="6227640" y="1844640"/>
            <a:ext cx="2627280" cy="2050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3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3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3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9000"/>
                            </p:stCondLst>
                            <p:childTnLst>
                              <p:par>
                                <p:cTn id="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3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6" descr="desktopwallpape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5" name="Прямоугольник 1"/>
          <p:cNvSpPr/>
          <p:nvPr/>
        </p:nvSpPr>
        <p:spPr>
          <a:xfrm>
            <a:off x="250920" y="404640"/>
            <a:ext cx="8593200" cy="642600"/>
          </a:xfrm>
          <a:prstGeom prst="rect">
            <a:avLst/>
          </a:prstGeom>
          <a:noFill/>
          <a:ln w="0">
            <a:noFill/>
          </a:ln>
          <a:effectLst>
            <a:outerShdw dist="117181" dir="18638369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6d1963"/>
                </a:solidFill>
                <a:latin typeface="Times New Roman"/>
                <a:ea typeface="Times New Roman"/>
              </a:rPr>
              <a:t>Виды музыкально-дидактических игр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94920" y="1267920"/>
            <a:ext cx="5256360" cy="639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для развития высотного слуха;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9"/>
          <p:cNvSpPr/>
          <p:nvPr/>
        </p:nvSpPr>
        <p:spPr>
          <a:xfrm>
            <a:off x="900000" y="1916280"/>
            <a:ext cx="4535640" cy="784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на развитие чувства ритм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0"/>
          <p:cNvSpPr/>
          <p:nvPr/>
        </p:nvSpPr>
        <p:spPr>
          <a:xfrm>
            <a:off x="1332000" y="2492280"/>
            <a:ext cx="5113080" cy="854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на развитие тембрового слух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1"/>
          <p:cNvSpPr/>
          <p:nvPr/>
        </p:nvSpPr>
        <p:spPr>
          <a:xfrm>
            <a:off x="1692360" y="3068640"/>
            <a:ext cx="5759280" cy="782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на развитие диатонического  слух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2"/>
          <p:cNvSpPr/>
          <p:nvPr/>
        </p:nvSpPr>
        <p:spPr>
          <a:xfrm>
            <a:off x="2124000" y="3716280"/>
            <a:ext cx="4967280" cy="784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на развитие памяти и слух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3"/>
          <p:cNvSpPr/>
          <p:nvPr/>
        </p:nvSpPr>
        <p:spPr>
          <a:xfrm>
            <a:off x="2556000" y="4365720"/>
            <a:ext cx="5327640" cy="691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на развитие детского твор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Рисунок 1" descr="notyi .gif"/>
          <p:cNvPicPr/>
          <p:nvPr/>
        </p:nvPicPr>
        <p:blipFill>
          <a:blip r:embed="rId2"/>
          <a:stretch/>
        </p:blipFill>
        <p:spPr>
          <a:xfrm>
            <a:off x="395280" y="5157720"/>
            <a:ext cx="4537080" cy="15811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4" descr="Картинка 13 из 2719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72360" y="1197000"/>
            <a:ext cx="2539800" cy="2090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900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AutoShape 4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ffffff"/>
              </a:gs>
              <a:gs pos="100000">
                <a:srgbClr val="99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50760" dir="0" blurRad="0" rotWithShape="0">
              <a:srgbClr val="9900ff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2daf"/>
                </a:solidFill>
                <a:latin typeface="Arial"/>
              </a:rPr>
              <a:t>Ценность музыкально-дидактических пособий и игр состоит в том, что они </a:t>
            </a: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воздействуют на ребенка комплексно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вызывают зрительную, слуховую и двигательную активность,</a:t>
            </a:r>
            <a:r>
              <a:rPr b="1" lang="en-US" sz="3200" spc="-1" strike="noStrike">
                <a:solidFill>
                  <a:srgbClr val="c12daf"/>
                </a:solidFill>
                <a:latin typeface="Arial"/>
              </a:rPr>
              <a:t> тем самым </a:t>
            </a: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расширяя музыкальное восприятие в целом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539280" y="476280"/>
            <a:ext cx="2530440" cy="1139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666699"/>
            </a:outerShdw>
          </a:effectLst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ff"/>
                </a:solidFill>
                <a:latin typeface="Georgia"/>
              </a:rPr>
              <a:t>Вывод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30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WordArt 6"/>
          <p:cNvSpPr txBox="1"/>
          <p:nvPr/>
        </p:nvSpPr>
        <p:spPr>
          <a:xfrm>
            <a:off x="1187280" y="2492280"/>
            <a:ext cx="712800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9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zoom dir="ou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7T20:10:10Z</dcterms:created>
  <dc:creator>александр</dc:creator>
  <dc:description/>
  <dc:language>en-US</dc:language>
  <cp:lastModifiedBy>александр</cp:lastModifiedBy>
  <dcterms:modified xsi:type="dcterms:W3CDTF">2013-03-10T21:46:06Z</dcterms:modified>
  <cp:revision>13</cp:revision>
  <dc:subject/>
  <dc:title>Слайд 1</dc:title>
</cp:coreProperties>
</file>