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741-D723-415A-9221-7A5E6CE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56A-6B34-4C7D-8B3B-819EBF22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04A-B8B4-42E8-B8F9-3E7B4DBA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102-2B58-4AFC-BD7B-974003E4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F0B-9816-455C-9B6C-A7F71E58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C59-0752-4CB4-BE46-1853E069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03C-C9DA-4944-A4A2-B3A6E344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58E-3A81-4AE9-856E-D56B8460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64B-0E83-4A5C-8463-E784FEB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6DC-7DCC-406D-A061-42AB0A8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AA6-F1F0-4CFD-97F3-861AE49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281-D5EA-48A2-9C6C-5F0F889A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1F8-F090-4C4B-9FC6-394389F9D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ЕКТ ПО РУССКОМУ ЯЗЫК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4320" y="5300280"/>
            <a:ext cx="57196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учащаяся 9 класса Иванова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учитель русского языка Орлова Наталья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18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 Филиал муниципального общеобразовательного учрежде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р.п.Татищево» д. Македо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292428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Лексикон учащихся моей школы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ностра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ы языка своего не знаем - это можно сказать, не брав греха на душу, а что еще хуже, и не хотим его узнать…Я смотрю на язык простонародный как на главный запас. Изучать надо нам народный язык: Мы не гоним все иностранные слова из русского языка, дурная привычка ходить за русскими словами во французский и немецкий словарь- это делает много зла… язык не пойдет в ногу со временем, если не дать ему выработаться на своих дрожж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И. 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46310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Владимир Иванович, прав не в том беда, что горсть- другая иноязычных слов вторгается в наш словарь, тут дело взаимное, всемирное. А страшно другое: умерщвляются, иссыхают силы русского словотворения - за ненадобностью!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920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ализ анкетирования показал, что немалая часть опрошенных, не может объяснить значение слов иностранного происхождения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данные слова, часто употребляются в речи 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95280" y="2276640"/>
          <a:ext cx="597708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597708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ое данное иностранное слово можно заменить русским. В результате, часть людей не понимает значение многих иностранных слов, а значит не понимает и происходящее вокруг. И родной язык умерщвляется, иссыхает.  К сожалению, мало кто об этом задумывается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360" y="277488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 согласна с мнением большинства и словами В. И. Даля: « Не в том беда, что горсть- другая иноязычных слов вторгается в наш словарь, тут дело взаимное, всемирное. А страшно другое: умерщвляются, иссыхают силы русского словотворения - за ненадобностью!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 ли то, что мы все чаще употребляем в речи слова иностранного происхож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веты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1484280"/>
          <a:ext cx="6193080" cy="4525920"/>
        </p:xfrm>
        <a:graphic>
          <a:graphicData uri="http://schemas.openxmlformats.org/drawingml/2006/table">
            <a:tbl>
              <a:tblPr/>
              <a:tblGrid>
                <a:gridCol w="3097440"/>
                <a:gridCol w="30956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яет кругозор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ем 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ит красиво и м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слова родного языка заменяем иностранными, теряя то, что создавалась ве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беречь и развивать свой родной язы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яз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 каждого из нас есть знакомый Вова, который после каждого простого, чистого слова вставляет «грязное» слово даже после «ой» и «ай». Если спросить Вову, зачем он так ругает жизнь, он скажет «Живу я неплохо, вполне упоительно, а матерюсь по привычке». Ни один Вова(хоть ему и 15 лет) никогда не признается, что ему большая лень думать, да еще подыскивать к своим серым мыслям чистые слова! Грязных слов не много, все умещаются на языке, все короткие. Вовочке удобно, быстро, но не удобно нам. Вовочке прекрасно, а нам  пречерно, прегрязно. Вовочка рот не закроет- приходится закрывать двери форточки, и голову закрывать подушками. Ведь эти слова служат для унижения любого, кто их слышит. У нас есть пес по имени Сэр. Сэр- то он спит, то облаивает всех идущих мимо двора. Когда нет прохожих Сэр облаивает мух, бабочек. Но однажды у нашей калитки остановились два парня- друга, они так обрадовались встрече друг друга. Парни долго громко разговаривали на своем удобном языке, можно сказать: мат на мате и через мат, а точнее мат на мате и еще раз на мат. Наш пес почему-то молчал…может понял, что этих друзей ему не перелаять. А нам было стыдно перед собакой за этих людей. Но люди ли это? Попробую доказать вам, что они не далеко ушли от соба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ак я представляю человека, который употребляет в речи «грязные»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502776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Цел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Изучить лексикон учащихся и выпускников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Пронаблюдать влияние ненормативной лексики на словарный запас человека и в целом на развитие родн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Провести опрос и составить по нему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) Проанализировать полученные результаты,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лан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Жаргонная лексика и сле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)Иностран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)Гряз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)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)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йчас часто бывает так, что человек не говорит, а «плюется словами».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ля каждого расхожего понятия  у него не обычные слова, а жаргонные 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24000" y="1351440"/>
            <a:ext cx="84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АРГО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чь, представляющая собой ответвление от общенародного языка и отличающаяся от него наличием специфических слов и выражений: условный язык, понятный только в определен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50920" y="270504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данном исследовани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рассматриваю школьный жаргон учащих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ргонным словам учащихся присуща яркая экспрессивная окраска, поэтому они легко могут переходить в разговорно-бытовую речь, в простореч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ще учащиеся широко употребляют искаженные или полностью переосмыслен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9200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основе анкетирования была составлена небольшая таблица (указано не всё) часто употребляемого жаргона учащимися мо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87280" y="1484280"/>
          <a:ext cx="6193080" cy="4751280"/>
        </p:xfrm>
        <a:graphic>
          <a:graphicData uri="http://schemas.openxmlformats.org/drawingml/2006/table">
            <a:tbl>
              <a:tblPr/>
              <a:tblGrid>
                <a:gridCol w="3097440"/>
                <a:gridCol w="309564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аргонная лекс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ки (род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г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виз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ч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дё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сто режет слух и русский молодёж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е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ЛЕНГ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лингвистический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феноме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который ограничен не только определенными возрастными рамками, но и социальными, временными рам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ФЕНОМЕ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исключительное, редкое, необычное я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нг  бытует в среде городской учащейся молодёжи. Создан молодёжью как языковой жест противостояния официальной </a:t>
            </a: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идеолог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ИДЕОЛОГ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система политических, правовых, философских, нравственных, религиозных взглядов, отражающих интересы определенн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основе анкетирования была составлена небольшая таблица (указано не всё) часто употребляемого сленга учащимися мо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076640"/>
                <a:gridCol w="41529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лодёжный сле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нь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да такой человек с его «словами-плевками» говорит, он хочет показать, что ему все нипочем, что он выше сильнее всех обстоятельств, умнее всех окружающих, над всеми смеется, ничего не бо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на самом деле он потому обзывает своими циничными выражениями и насмешливыми прозвищами те или иные предметы, людей, действия, что он трус, робок и неуверен в себе. Просто надо пронаблюдать послушать о чем такой «храбрец» и «мудрец» цинично отзывается, в каких случаях он обычно слова заменяет «словами-плевками»? сразу заметно, что это все то, что страшит, от чего он ждет неприятностей себе, что не в его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. С.Лихач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_2"/>
          <p:cNvPicPr/>
          <p:nvPr/>
        </p:nvPicPr>
        <p:blipFill>
          <a:blip r:embed="rId1"/>
          <a:stretch/>
        </p:blipFill>
        <p:spPr>
          <a:xfrm>
            <a:off x="5357880" y="3933720"/>
            <a:ext cx="2631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) Само выле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)Это м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) Не зн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) Потому, что я не знаю други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) Все так разговар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) Привы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189000"/>
            <a:ext cx="84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ему вы используете в речи слова ненормативной лексик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твет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19:24Z</dcterms:created>
  <dc:creator>home</dc:creator>
  <dc:description/>
  <dc:language>en-US</dc:language>
  <cp:lastModifiedBy>македоновка</cp:lastModifiedBy>
  <dcterms:modified xsi:type="dcterms:W3CDTF">2013-03-11T09:28:43Z</dcterms:modified>
  <cp:revision>4</cp:revision>
  <dc:subject/>
  <dc:title>ПРОЕКТ ПО РУССКОМУ ЯЗЫКУ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