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333-952E-44CA-89CE-BCC5A4D7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7E0C-5D1B-4346-B6D3-BE070607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E48F-9AB6-4832-9E50-543DC7E5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672-FA18-40C1-A49E-4E8A58A2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AA04-DD78-4580-8D28-7737402C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9E9F-50B6-4890-A044-1CDC04C1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D2A-983E-4928-82DB-7E2E0CB9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5A4-4EED-4C07-8BBA-E4CC9DD1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28E-016E-46EC-97D0-67E8D5B6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FA0-60FB-48DB-981C-8B6B5B30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C8F4-8A37-4088-95D1-105931EF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5685-5FA2-4120-9318-994A184D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BA9C-1B8A-4AE8-8643-E77B6CC1DA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ЕКТ ПО РУССКОМУ ЯЗЫКУ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4320" y="5300280"/>
            <a:ext cx="57196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: учащаяся 9 класса Иванова Надеж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: учитель русского языка Орлова Наталья Вячеслав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50920" y="188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 Филиал муниципального общеобразовательного учрежден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1 р.п.Татищево» д. Македо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68360" y="292428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«Лексикон учащихся моей школы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ностранны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ы языка своего не знаем - это можно сказать, не брав греха на душу, а что еще хуже, и не хотим его узнать…Я смотрю на язык простонародный как на главный запас. Изучать надо нам народный язык: Мы не гоним все иностранные слова из русского языка, дурная привычка ходить за русскими словами во французский и немецкий словарь- это делает много зла… язык не пойдет в ногу со временем, если не дать ему выработаться на своих дрожжа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И. Д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468360" y="4631040"/>
            <a:ext cx="842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Владимир Иванович, прав не в том беда, что горсть- другая иноязычных слов вторгается в наш словарь, тут дело взаимное, всемирное. А страшно другое: умерщвляются, иссыхают силы русского словотворения - за ненадобностью!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792000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нализ анкетирования показал, что немалая часть опрошенных, не может объяснить значение слов иностранного происхождения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о данные слова, часто употребляются в речи 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395280" y="2276640"/>
          <a:ext cx="5977080" cy="39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76640"/>
                    <a:ext cx="5977080" cy="39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ое данное иностранное слово можно заменить русским. В результате, часть людей не понимает значение многих иностранных слов, а значит не понимает и происходящее вокруг. И родной язык умерщвляется, иссыхает.  К сожалению, мало кто об этом задумывается.</a:t>
            </a:r>
            <a:br>
              <a:rPr sz="2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68360" y="277488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 согласна с мнением большинства и словами В. И. Даля: « Не в том беда, что горсть- другая иноязычных слов вторгается в наш словарь, тут дело взаимное, всемирное. А страшно другое: умерщвляются, иссыхают силы русского словотворения - за ненадобностью!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ьно ли то, что мы все чаще употребляем в речи слова иностранного происхожд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тветы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47640" y="1484280"/>
          <a:ext cx="6193080" cy="4525920"/>
        </p:xfrm>
        <a:graphic>
          <a:graphicData uri="http://schemas.openxmlformats.org/drawingml/2006/table">
            <a:tbl>
              <a:tblPr/>
              <a:tblGrid>
                <a:gridCol w="3097440"/>
                <a:gridCol w="309564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яет кругозор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ем родно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чит красиво и мод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 слова родного языка заменяем иностранными, теряя то, что создавалась ве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жно беречь и развивать свой родной язы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язны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 каждого из нас есть знакомый Вова, который после каждого простого, чистого слова вставляет «грязное» слово даже после «ой» и «ай». Если спросить Вову, зачем он так ругает жизнь, он скажет «Живу я неплохо, вполне упоительно, а матерюсь по привычке». Ни один Вова(хоть ему и 15 лет) никогда не признается, что ему большая лень думать, да еще подыскивать к своим серым мыслям чистые слова! Грязных слов не много, все умещаются на языке, все короткие. Вовочке удобно, быстро, но не удобно нам. Вовочке прекрасно, а нам  пречерно, прегрязно. Вовочка рот не закроет- приходится закрывать двери форточки, и голову закрывать подушками. Ведь эти слова служат для унижения любого, кто их слышит. У нас есть пес по имени Сэр. Сэр- то он спит, то облаивает всех идущих мимо двора. Когда нет прохожих Сэр облаивает мух, бабочек. Но однажды у нашей калитки остановились два парня- друга, они так обрадовались встрече друг друга. Парни долго громко разговаривали на своем удобном языке, можно сказать: мат на мате и через мат, а точнее мат на мате и еще раз на мат. Наш пес почему-то молчал…может понял, что этих друзей ему не перелаять. А нам было стыдно перед собакой за этих людей. Но люди ли это? Попробую доказать вам, что они не далеко ушли от соба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ак я представляю человека, который употребляет в речи «грязные»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785960" y="1785960"/>
            <a:ext cx="502776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Цель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)Изучить лексикон учащихся и выпускников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) Пронаблюдать влияние ненормативной лексики на словарный запас человека и в целом на развитие родн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) Провести опрос и составить по нему диа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) Проанализировать полученные результаты, с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План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)Жаргонная лексика и слен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)Иностранны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)Грязны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5)Результ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6)Вы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ейчас часто бывает так, что человек не говорит, а «плюется словами».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ля каждого расхожего понятия  у него не обычные слова, а жаргонные выраж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24000" y="1351440"/>
            <a:ext cx="845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ЖАРГОН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чь, представляющая собой ответвление от общенародного языка и отличающаяся от него наличием специфических слов и выражений: условный язык, понятный только в определенной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50920" y="2705040"/>
            <a:ext cx="86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данном исследовании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 рассматриваю школьный жаргон учащихс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аргонным словам учащихся присуща яркая экспрессивная окраска, поэтому они легко могут переходить в разговорно-бытовую речь, в просторечи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аще учащиеся широко употребляют искаженные или полностью переосмысленны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79200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основе анкетирования была составлена небольшая таблица (указано не всё) часто употребляемого жаргона учащимися моей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187280" y="1484280"/>
          <a:ext cx="6193080" cy="4751280"/>
        </p:xfrm>
        <a:graphic>
          <a:graphicData uri="http://schemas.openxmlformats.org/drawingml/2006/table">
            <a:tbl>
              <a:tblPr/>
              <a:tblGrid>
                <a:gridCol w="3097440"/>
                <a:gridCol w="309564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Жаргонная лекс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то означа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ки (родк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а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ега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виз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чи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дё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ел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асто режет слух и русский молодёжный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ен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ЛЕНГ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лингвистический 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феноме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который ограничен не только определенными возрастными рамками, но и социальными, временными рам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ФЕНОМЕ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– исключительное, редкое, необычное яв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енг  бытует в среде городской учащейся молодёжи. Создан молодёжью как языковой жест противостояния официальной </a:t>
            </a:r>
            <a:r>
              <a:rPr b="1" i="1" lang="ru-RU" sz="2400" spc="-1" strike="noStrike">
                <a:solidFill>
                  <a:srgbClr val="6600cc"/>
                </a:solidFill>
                <a:latin typeface="Arial"/>
              </a:rPr>
              <a:t>идеологи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</a:rPr>
              <a:t>ИДЕОЛОГИЯ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– система политических, правовых, философских, нравственных, религиозных взглядов, отражающих интересы определенного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основе анкетирования была составлена небольшая таблица (указано не всё) часто употребляемого сленга учащимися моей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076640"/>
                <a:gridCol w="415296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Молодёжный слен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Что означа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ству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ат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ш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нь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в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гда такой человек с его «словами-плевками» говорит, он хочет показать, что ему все нипочем, что он выше сильнее всех обстоятельств, умнее всех окружающих, над всеми смеется, ничего не бои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 на самом деле он потому обзывает своими циничными выражениями и насмешливыми прозвищами те или иные предметы, людей, действия, что он трус, робок и неуверен в себе. Просто надо пронаблюдать послушать о чем такой «храбрец» и «мудрец» цинично отзывается, в каких случаях он обычно слова заменяет «словами-плевками»? сразу заметно, что это все то, что страшит, от чего он ждет неприятностей себе, что не в его вл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. С.Лихачё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1_2"/>
          <p:cNvPicPr/>
          <p:nvPr/>
        </p:nvPicPr>
        <p:blipFill>
          <a:blip r:embed="rId1"/>
          <a:stretch/>
        </p:blipFill>
        <p:spPr>
          <a:xfrm>
            <a:off x="5357880" y="3933720"/>
            <a:ext cx="26319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) Само выле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)Это м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) Не зна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) Потому, что я не знаю других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) Все так разговари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6) Привы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79280" y="189000"/>
            <a:ext cx="849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чему вы используете в речи слова ненормативной лексики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тветы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3:19:24Z</dcterms:created>
  <dc:creator>home</dc:creator>
  <dc:description/>
  <dc:language>en-US</dc:language>
  <cp:lastModifiedBy>македоновка</cp:lastModifiedBy>
  <dcterms:modified xsi:type="dcterms:W3CDTF">2013-03-11T09:28:43Z</dcterms:modified>
  <cp:revision>4</cp:revision>
  <dc:subject/>
  <dc:title>ПРОЕКТ ПО РУССКОМУ ЯЗЫКУ: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