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F308A-8DF9-4D8A-80DE-5AEDC3F8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5915E-CE27-4B69-9CC9-B7B20BC3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ADADD-FFA5-475E-A789-5F7C3616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E04D2-DBD5-4AC1-BBC3-50404D48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327D-3891-44DC-8F18-949D7CBC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B005-E868-4E52-AC99-CAFE5E7C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5692-B625-46D5-A22D-11F6F449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8107-46F6-46C4-AA52-8520EE7C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A677-69AA-4014-88B3-085D7621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986A-2AA8-4E67-BB25-17902948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F559-A60E-475C-91A8-24D2B9F6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24D07-19D5-4DFC-95C9-D0AA851F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B80D-4F62-4321-BEB5-71A37F4C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B284-4B75-461D-9F56-53622E15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1D15-F5BF-4C61-B78B-86CAA1F7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F9BA-AC3B-4AF9-BFCF-0D49FAFA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C640-672C-4AD9-A7AF-89DF0214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36CB-7D9E-4039-AAA2-73C88103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34A7F-B44C-4F8A-B6C9-629EAA94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059A6-8CF8-4D7F-AA91-D087B62C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4CCD9-E575-46C2-A1C4-DE4B5712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A1BF9-5090-44C0-A80D-32DD0AA7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18CC6-F2C3-4CDB-A5D7-E852C44A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37C65-10F3-4644-947D-E460414A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78D6-FD8E-492F-8657-A7525C6F9E37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3698-9E40-4591-85AA-D5F58110111D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tihi.ru/avtor/poetttessa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ihi.ru/avtor/poetttessa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tihi.ru/avtor/poetttessa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ihi.ru/avtor/poetttessa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Остановись, мгновенье!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066920" y="18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00"/>
                </a:solidFill>
                <a:latin typeface="Arial"/>
              </a:rPr>
              <a:t>Надежда Андрейчик</a:t>
            </a:r>
            <a:endParaRPr b="0" lang="en-US" sz="3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5665680"/>
            <a:ext cx="532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Школа 36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Г.Владимир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050920" y="174600"/>
            <a:ext cx="662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ерестань моё сердце биться - 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Нет сердца взаимного тебе...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И любовь никогда не случится - 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Нет такого человека на Земле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Ты всё со временем забудешь.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Забудь про страдания и боль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И тот,которого любишь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Никогда не будет со мной..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ерестань моё сердце биться...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ерестань мучить меня и себя...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едь любовь всё равно не случится,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И по жилам заструится вода..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А любовь в тебе так же и зреет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Каждый день, каждый час, каждый миг...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Но тебя никто не согреет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едь любовь твоя - вечный тупик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ерестань любить и плакать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Горячими до боли слезами.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И пусть вся жизнь пролетает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еред нашими слепыми глазами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«Я не хочу без тебя ничего…»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03280" y="620640"/>
            <a:ext cx="734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не хочу без тебя ничего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овый день встречать нету смысла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Отчего то грущу? Отчего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ишина надо мною повисла?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не хочу без тебя ничего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дышать без тебя не в силах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Отчего я грущу? От того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Что люблю так, как еще не любила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Что теряю свою свободу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Разум мой бредит тобой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Ах, дайте вдохнуть кислорода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Верните мне мой покой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Отдаваться тебе без остатка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Любить, и дарить тепло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люблю тебя до припадков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люблю тебя всем назло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без тебя никто. Никак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не устану говорить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Мы проживем с тобою так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Что нас на небесах попросят повторить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3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Конец.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47640" y="692280"/>
            <a:ext cx="66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е напишу я больше ни строчки,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икогда не прочтете моих стихов..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Просто, я вовремя поставила точки,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Чтобы не слушать больше критичных слов..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е услышите вы от меня ни слова,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е услышите вы рифмы ни одной..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не надейтесь, не запишу я снова,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е буду делиться своей душой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Эти стихи есть последняя точка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Прощальное слово "поэта"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Скоро будет последняя строчка..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е захочу я услышать ответа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Письмо. </a:t>
            </a:r>
            <a:br>
              <a:rPr sz="4000"/>
            </a:b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© Copyright: </a:t>
            </a:r>
            <a:r>
              <a:rPr b="0" lang="ru-RU" sz="4000" spc="-1" strike="noStrike" u="sng">
                <a:solidFill>
                  <a:srgbClr val="333300"/>
                </a:solidFill>
                <a:uFillTx/>
                <a:latin typeface="Arial"/>
                <a:hlinkClick r:id="rId1"/>
              </a:rPr>
              <a:t>Надежда Андрейчик</a:t>
            </a: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, 2013</a:t>
            </a:r>
            <a:br>
              <a:rPr sz="4000"/>
            </a:b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Свидетельство о публикации №113020105186 </a:t>
            </a:r>
            <a:br>
              <a:rPr sz="4000"/>
            </a:b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24000" y="447840"/>
            <a:ext cx="500400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Пишу к тебе письмо я, дорогой мой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высказаться очень здесь хочу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Пойду к тебе намеченной тропой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Захочу сказать... но все же промолчу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ы знаешь, а ведь тебя я не забыла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все тебя по-прежнему люблю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где же это чувство раздобыла?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когда тебя я разлюблю?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Как все-таки хрупка душа поэта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хотела быть с тобою вечно я.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на коленях, плача горько у окна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Молила, чтоб вернулся, у Творца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наивно по-детски тебя любила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люблю я очень по сей час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Просто знай, что тебя не разлюбила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Просто мне нельзя с тобою быть сейчас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Любви твоей я не прошу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знаю - никогда ее не будет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Зачем я это все пишу?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адеюсь, сердце мое вскоре позабудет...</a:t>
            </a:r>
            <a:br>
              <a:rPr sz="1800"/>
            </a:b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63640" y="476280"/>
            <a:ext cx="590544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о рядом мне с тобою находиться сложно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Когда ты рядом - сердце бьется, как шальное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все ж забыть тебя ведь невозможно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А сердце, скажем, тяжело больное...                                                        Зачем судьба тебя в жизнь мою ввела?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Зачем тебя я встретила тогда?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понимаю... До тебя еще не доросла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о все же ... для меня это беда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Ведь это ты тогда во сне ко мне явился?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Ведь это ты мне говорил слова любви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А я надеюсь, что не просто ты там появился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меня на новые стихи ты вдохнови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Строки эти так наивны... Но наверно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ы все же их когда-нибудь прочтешь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скажу тебе я очень достоверно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меня ты правильно поймешь...</a:t>
            </a:r>
            <a:br>
              <a:rPr sz="1800"/>
            </a:b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не буду тебе это письмо отправлять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не хочу, чтобы ты видел этот мой позор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е хочу я тебя своей любовью утомлять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не хочу на себя обращать твой милый взор..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Светлая любовь. </a:t>
            </a:r>
            <a:br>
              <a:rPr sz="4000"/>
            </a:b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© Copyright: </a:t>
            </a:r>
            <a:r>
              <a:rPr b="0" lang="ru-RU" sz="4000" spc="-1" strike="noStrike" u="sng">
                <a:solidFill>
                  <a:srgbClr val="333300"/>
                </a:solidFill>
                <a:uFillTx/>
                <a:latin typeface="Arial"/>
                <a:hlinkClick r:id="rId1"/>
              </a:rPr>
              <a:t>Надежда Андрейчик</a:t>
            </a: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, 2013</a:t>
            </a:r>
            <a:br>
              <a:rPr sz="4000"/>
            </a:b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Свидетельство о публикации №113020609130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79640" y="446040"/>
            <a:ext cx="576108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Любовь в 15 лет безумна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Любовь в 15 лет грустна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Поступки дики и бездумны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А девушка влюбленная глупа.</a:t>
            </a:r>
            <a:br>
              <a:rPr sz="1800"/>
            </a:b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о тот порыв души не передать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не сравнить с любовью к маме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ак как ее нам словом не объять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у посудите сами.</a:t>
            </a:r>
            <a:br>
              <a:rPr sz="1800"/>
            </a:b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ет. Та любовь чиста и благосклонна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акая, что бывает лишь во снах.</a:t>
            </a:r>
            <a:br>
              <a:rPr sz="1800"/>
            </a:b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«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Любви все возрасты покорны»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о все ж пока вы молоды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Влюбляйтесь просто так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За мимолетную улыбку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гривый взгляд и полуслово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"Люблю" произносите как молитву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лишь тому, чье сердце к этому готово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«Мне не хватает твоих добрых глаз»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© Copyright: </a:t>
            </a:r>
            <a:r>
              <a:rPr b="0" lang="ru-RU" sz="4000" spc="-1" strike="noStrike" u="sng">
                <a:solidFill>
                  <a:srgbClr val="333300"/>
                </a:solidFill>
                <a:uFillTx/>
                <a:latin typeface="Arial"/>
                <a:hlinkClick r:id="rId1"/>
              </a:rPr>
              <a:t>Надежда Андрейчик</a:t>
            </a: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, 2013</a:t>
            </a:r>
            <a:br>
              <a:rPr sz="4000"/>
            </a:b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Свидетельство о публикации №113021407804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68360" y="476280"/>
            <a:ext cx="5399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ы знаешь... почему-то так случилось - 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Мне не хватает твоих добрых глаз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Улыбки, что мне ночью сниться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наших встреч и твоих нежных фраз..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Когда приходит время расставаться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ебя так не хочу я отпускать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о отпускаю, чтоб опять сознаться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Что буду с нетерпеньем встречи ждать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вот опять я задаюсь вопросом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Ответить не могу в который раз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ы знаешь, почему-то так случилось -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Мне не хватает твоих нежных глаз.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2852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Перестань.</a:t>
            </a:r>
            <a:br>
              <a:rPr sz="4000"/>
            </a:b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© Copyright: </a:t>
            </a:r>
            <a:r>
              <a:rPr b="0" lang="ru-RU" sz="4000" spc="-1" strike="noStrike" u="sng">
                <a:solidFill>
                  <a:srgbClr val="333300"/>
                </a:solidFill>
                <a:uFillTx/>
                <a:latin typeface="Arial"/>
                <a:hlinkClick r:id="rId1"/>
              </a:rPr>
              <a:t>Надежда Андрейчик</a:t>
            </a: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, 2013</a:t>
            </a:r>
            <a:br>
              <a:rPr sz="4000"/>
            </a:b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Свидетельство о публикации №113021407873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3:44:43Z</dcterms:created>
  <dc:creator>Надя</dc:creator>
  <dc:description/>
  <dc:language>en-US</dc:language>
  <cp:lastModifiedBy>Надя</cp:lastModifiedBy>
  <dcterms:modified xsi:type="dcterms:W3CDTF">2013-02-27T16:21:09Z</dcterms:modified>
  <cp:revision>5</cp:revision>
  <dc:subject/>
  <dc:title>Ждет критики непризнанный талант</dc:title>
</cp:coreProperties>
</file>