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40E9A-C6CD-472B-A65A-0111AE7A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5036-8366-4B2F-9972-3915A4C4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DF1DB-C887-4720-B570-50833899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FD17B-370E-4FFC-9A82-27F2EC6C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33B1-F046-4274-8A76-2F260F3B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BC89-F62F-4E45-9C07-272F5522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66F0-208A-469B-A15A-5AE8E234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8938-C9DD-4D0E-A49C-28F4CECD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C4CE-A13C-4105-88DF-E2C073CE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D146-BA04-42F9-BF5E-C93188FA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FC14-CEC8-4E9D-A4D4-68FC1927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8D0FE-30B5-4F53-A48F-80D12DC9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E71B-5644-4FDE-B0B6-D1960ABF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2975-2EDD-4AEB-A8F3-DE791E34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868D-8DCF-498B-8826-65239A29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FCE9-AC05-4B90-B57C-586F0938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BD4A-91B5-41E0-BCDD-10CA1717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57349-09F8-4A4C-8EB0-50D54BD8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2D8B6-D1DC-4268-959C-79718EA8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23D69-E06E-4D54-80FC-299F37F9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AC39F-C613-4853-9D2D-A5EE4551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10CC-9447-4C5F-85F9-8E3AF6BB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A5FB-72BE-4B55-BDE2-D2E6DD85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949D-A99A-4007-A66D-4308E8EA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D933-4DA6-4877-986D-0A354DAB3354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5584-E593-4849-A795-DBAF0FB8B7A1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ihi.ru/avtor/poetttessa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ihi.ru/avtor/poetttess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tihi.ru/avtor/poetttessa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ihi.ru/avtor/poetttess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Остановись, мгновенье!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066920" y="18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00"/>
                </a:solidFill>
                <a:latin typeface="Arial"/>
              </a:rPr>
              <a:t>Надежда Андрейчик</a:t>
            </a:r>
            <a:endParaRPr b="0" lang="en-US" sz="3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5665680"/>
            <a:ext cx="532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Школа 3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Г.Владимир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050920" y="174600"/>
            <a:ext cx="662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ерестань моё сердце биться - 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ет сердца взаимного тебе...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 любовь никогда не случится - 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ет такого человека на Земле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Ты всё со временем забудешь.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Забудь про страдания и боль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 тот,которого любишь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икогда не будет со мной..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ерестань моё сердце биться...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ерестань мучить меня и себя...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едь любовь всё равно не случится,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 по жилам заструится вода..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А любовь в тебе так же и зреет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Каждый день, каждый час, каждый миг...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о тебя никто не согреет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едь любовь твоя - вечный тупик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ерестань любить и плакать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Горячими до боли слезами.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 пусть вся жизнь пролетает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Перед нашими слепыми глазами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«Я не хочу без тебя ничего…»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03280" y="620640"/>
            <a:ext cx="734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не хочу без тебя ничего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овый день встречать нету смысла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Отчего то грущу? Отчего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ишина надо мною повисла?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не хочу без тебя ничего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дышать без тебя не в силах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Отчего я грущу? От того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Что люблю так, как еще не любила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Что теряю свою свободу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Разум мой бредит тобой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Ах, дайте вдохнуть кислорода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Верните мне мой покой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Отдаваться тебе без остатка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Любить, и дарить тепло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люблю тебя до припадков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люблю тебя всем назло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без тебя никто. Никак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не устану говорить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Мы проживем с тобою так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Что нас на небесах попросят повторить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Конец.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47640" y="692280"/>
            <a:ext cx="66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е напишу я больше ни строчки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икогда не прочтете моих стихов..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росто, я вовремя поставила точки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Чтобы не слушать больше критичных слов..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е услышите вы от меня ни слова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е услышите вы рифмы ни одной..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не надейтесь, не запишу я снова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е буду делиться своей душой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Эти стихи есть последняя точка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рощальное слово "поэта"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Скоро будет последняя строчка..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е захочу я услышать ответа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Письмо. </a:t>
            </a:r>
            <a:br>
              <a:rPr sz="4000"/>
            </a:b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© Copyright: </a:t>
            </a:r>
            <a:r>
              <a:rPr b="0" lang="ru-RU" sz="4000" spc="-1" strike="noStrike" u="sng">
                <a:solidFill>
                  <a:srgbClr val="333300"/>
                </a:solidFill>
                <a:uFillTx/>
                <a:latin typeface="Arial"/>
                <a:hlinkClick r:id="rId1"/>
              </a:rPr>
              <a:t>Надежда Андрейчик</a:t>
            </a: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, 2013</a:t>
            </a:r>
            <a:br>
              <a:rPr sz="4000"/>
            </a:b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Свидетельство о публикации №113020105186 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24000" y="447840"/>
            <a:ext cx="500400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ишу к тебе письмо я, дорогой мой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высказаться очень здесь хочу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ойду к тебе намеченной тропой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Захочу сказать... но все же промолчу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ы знаешь, а ведь тебя я не забыла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все тебя по-прежнему люблю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где же это чувство раздобыла?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когда тебя я разлюблю?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Как все-таки хрупка душа поэта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хотела быть с тобою вечно я.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на коленях, плача горько у окна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Молила, чтоб вернулся, у Творца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наивно по-детски тебя любила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люблю я очень по сей час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росто знай, что тебя не разлюбила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росто мне нельзя с тобою быть сейчас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Любви твоей я не прошу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знаю - никогда ее не будет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Зачем я это все пишу?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адеюсь, сердце мое вскоре позабудет...</a:t>
            </a:r>
            <a:br>
              <a:rPr sz="1800"/>
            </a:b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63640" y="476280"/>
            <a:ext cx="590544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о рядом мне с тобою находиться сложно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Когда ты рядом - сердце бьется, как шальное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все ж забыть тебя ведь невозможно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А сердце, скажем, тяжело больное...                                                        Зачем судьба тебя в жизнь мою ввела?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Зачем тебя я встретила тогда?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понимаю... До тебя еще не доросла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о все же ... для меня это беда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Ведь это ты тогда во сне ко мне явился?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Ведь это ты мне говорил слова любви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А я надеюсь, что не просто ты там появился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меня на новые стихи ты вдохнови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Строки эти так наивны... Но наверно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ы все же их когда-нибудь прочтешь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скажу тебе я очень достоверно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меня ты правильно поймешь...</a:t>
            </a:r>
            <a:br>
              <a:rPr sz="1800"/>
            </a:b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не буду тебе это письмо отправлять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Я не хочу, чтобы ты видел этот мой позор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е хочу я тебя своей любовью утомлять.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не хочу на себя обращать твой милый взор..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Светлая любовь. </a:t>
            </a:r>
            <a:br>
              <a:rPr sz="4000"/>
            </a:b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© Copyright: </a:t>
            </a:r>
            <a:r>
              <a:rPr b="0" lang="ru-RU" sz="4000" spc="-1" strike="noStrike" u="sng">
                <a:solidFill>
                  <a:srgbClr val="333300"/>
                </a:solidFill>
                <a:uFillTx/>
                <a:latin typeface="Arial"/>
                <a:hlinkClick r:id="rId1"/>
              </a:rPr>
              <a:t>Надежда Андрейчик</a:t>
            </a: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, 2013</a:t>
            </a:r>
            <a:br>
              <a:rPr sz="4000"/>
            </a:b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Свидетельство о публикации №113020609130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79640" y="446040"/>
            <a:ext cx="57610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Любовь в 15 лет безумна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Любовь в 15 лет грустна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оступки дики и бездумны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А девушка влюбленная глупа.</a:t>
            </a:r>
            <a:br>
              <a:rPr sz="1800"/>
            </a:b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о тот порыв души не передать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не сравнить с любовью к маме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ак как ее нам словом не объять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у посудите сами.</a:t>
            </a:r>
            <a:br>
              <a:rPr sz="1800"/>
            </a:b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ет. Та любовь чиста и благосклонна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акая, что бывает лишь во снах.</a:t>
            </a:r>
            <a:br>
              <a:rPr sz="1800"/>
            </a:b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«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Любви все возрасты покорны»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о все ж пока вы молоды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Влюбляйтесь просто так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За мимолетную улыбку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гривый взгляд и полуслово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"Люблю" произносите как молитву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лишь тому, чье сердце к этому готово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«Мне не хватает твоих добрых глаз»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© Copyright: </a:t>
            </a:r>
            <a:r>
              <a:rPr b="0" lang="ru-RU" sz="4000" spc="-1" strike="noStrike" u="sng">
                <a:solidFill>
                  <a:srgbClr val="333300"/>
                </a:solidFill>
                <a:uFillTx/>
                <a:latin typeface="Arial"/>
                <a:hlinkClick r:id="rId1"/>
              </a:rPr>
              <a:t>Надежда Андрейчик</a:t>
            </a: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, 2013</a:t>
            </a:r>
            <a:br>
              <a:rPr sz="4000"/>
            </a:b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Свидетельство о публикации №113021407804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68360" y="476280"/>
            <a:ext cx="5399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ы знаешь... почему-то так случилось - 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Мне не хватает твоих добрых глаз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Улыбки, что мне ночью сниться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наших встреч и твоих нежных фраз..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Когда приходит время расставаться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ебя так не хочу я отпускать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о отпускаю, чтоб опять сознаться,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Что буду с нетерпеньем встречи ждать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 вот опять я задаюсь вопросом.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Ответить не могу в который раз.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ы знаешь, почему-то так случилось -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Мне не хватает твоих нежных глаз.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Перестань.</a:t>
            </a:r>
            <a:br>
              <a:rPr sz="4000"/>
            </a:b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© Copyright: </a:t>
            </a:r>
            <a:r>
              <a:rPr b="0" lang="ru-RU" sz="4000" spc="-1" strike="noStrike" u="sng">
                <a:solidFill>
                  <a:srgbClr val="333300"/>
                </a:solidFill>
                <a:uFillTx/>
                <a:latin typeface="Arial"/>
                <a:hlinkClick r:id="rId1"/>
              </a:rPr>
              <a:t>Надежда Андрейчик</a:t>
            </a: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, 2013</a:t>
            </a:r>
            <a:br>
              <a:rPr sz="4000"/>
            </a:b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Свидетельство о публикации №113021407873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3:44:43Z</dcterms:created>
  <dc:creator>Надя</dc:creator>
  <dc:description/>
  <dc:language>en-US</dc:language>
  <cp:lastModifiedBy>Надя</cp:lastModifiedBy>
  <dcterms:modified xsi:type="dcterms:W3CDTF">2013-02-27T16:21:09Z</dcterms:modified>
  <cp:revision>5</cp:revision>
  <dc:subject/>
  <dc:title>Ждет критики непризнанный талант</dc:title>
</cp:coreProperties>
</file>