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1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8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0788-45EA-434E-A925-4FF88931C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23DC-C770-4E94-970B-F5018C2A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BCA6-0967-4B35-B946-C6FE1C63D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A640-0F21-466A-9D6E-A4A2902D4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A95C-B58C-48AA-AC72-96274BADE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65DC-C0B2-47E7-A77B-E42022DB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EEFF-BEC9-40A5-B7D7-55E6BFB9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465F-100E-4C33-B604-FF84FF66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E84A-DA25-449B-91C7-325C5A3A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1F36-F1E5-45AD-9A39-F2E0F0EB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2CB7-8D83-4114-BE08-9F39264E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41E9-1B21-4A65-A36E-86C54151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1BD53-DE94-4D33-88ED-917D243C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8FE5C-A137-4418-862B-4854C49A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8C78E-9FB0-42DA-B3AF-42339D45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4197-1072-4798-BFF1-F034E320F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9203-4A4B-4087-9428-A9219202F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4625-9EF5-4129-89ED-DD877670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88B3-549A-41F9-A430-AF3E3CB8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0D65-1063-44BD-8246-264B8D59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1403-BE01-4490-A0A6-10B4823D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1A90-9366-414A-9F6C-C0571E36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C194-E5B3-49D7-9658-1D434612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2320-03EB-460F-A0CC-4288EA8F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6144-3B23-4006-B47C-B6521C8778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1D3F-33CB-41E2-9AFA-922805A2F9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jpeg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Picture 6" descr="БОЙ ПОД МАЛОЯРОСЛАВЦЕМ"/>
          <p:cNvPicPr/>
          <p:nvPr/>
        </p:nvPicPr>
        <p:blipFill>
          <a:blip r:embed="rId2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193760" y="1844640"/>
            <a:ext cx="7950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5481"/>
                </a:solidFill>
                <a:latin typeface="Tahoma"/>
                <a:ea typeface="Arial"/>
              </a:rPr>
              <a:t>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Не пушки, не оружие стально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                                                  Нас делают отважней и сильней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                                                  Любовь к Отчизне создает героев,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                                                  С дней Марафоновых до наших дне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В.Брюс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учитель истории Романова О.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МБОУ СОШ № 20 о.Муро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Из-за неё русские солдаты убивали иногда своих же офицеров. Особенно ночью. Что это?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038240" cy="1333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47200" y="2269800"/>
            <a:ext cx="792972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В ХIХ веке в высшем обществе довольно часто встречались двойные фамилии. У М.И.Кутузова тоже была двойная фамилия.  Кака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1038240" cy="1333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звание, какого русского города звучит в почетном княжеском титуле фельдмаршала М.И.Кутузова?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1038240" cy="1333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Столица нашей Родины славится большим числом храмов. Один из них напрямую связан с историей Отечественной войны 1812 года и победой в этой войне. Что это за храм?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038240" cy="1333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полеону приписывают знаменитый афоризм: Каждый французский солдат носит в своем ранце маршальский жезл». Назовите известную русскую пословицу 19 века , которая передает смысл этого афоризм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9800" y="403200"/>
            <a:ext cx="1036800" cy="1332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нкетировани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Домашнее задание:</a:t>
            </a:r>
            <a:br>
              <a:rPr sz="36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98804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писать эссе на тему: « Великий подвиг русского народа, защищающего свою независимость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769400" y="90360"/>
            <a:ext cx="608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час испытаний поклонись Отчизне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-русски, в ноги и скажи ей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Мать! Ты жизнь моя!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ы мне дороже жизни!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 тобою - жить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 тобою - умирать!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удь верен ей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 как бы не был длинен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 тяжек день военной маяты, 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ль пахарь ты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дай ей все, как Минин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удь ей Суворовым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ль воин ты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юби ее, клянись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к наши деды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орой стояли за жизнь ее и честь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тобы сказать в желанный час ПОБЕДЫ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 моего здесь капля меда ЕС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До новых встреч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491760"/>
            <a:ext cx="777384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равила честной игры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2276640"/>
            <a:ext cx="813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1052640"/>
            <a:ext cx="8424720" cy="43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Играй честн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Обидно когда проигрываешь, но не злис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Не злорадствуй, когда другие проигрываю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Если выиграл – радуйся, но не зазнавайс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Научи других тому, что умеешь са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Будь стойким, не унывай при неудачах. Учись у други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 задани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 </a:t>
            </a:r>
            <a:br>
              <a:rPr sz="36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63640" y="764640"/>
            <a:ext cx="798984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"Разминка"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1065240" cy="1368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 задание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«Военная атрибутика»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384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лег вздремнуть я у 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лафета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 слышно было до рассвета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к ликовал француз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о тих был наш 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бивак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 открытый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то 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кивер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 чистил весь избитый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то штык точил, ворча сердито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усая длинный ус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1065240" cy="1368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798984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1065240" cy="1368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3 задание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«Узнай героя»</a:t>
            </a:r>
            <a:br>
              <a:rPr sz="36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1065240" cy="136836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3780000" y="1557360"/>
            <a:ext cx="2016000" cy="2376360"/>
            <a:chOff x="3780000" y="1557360"/>
            <a:chExt cx="2016000" cy="2376360"/>
          </a:xfrm>
        </p:grpSpPr>
        <p:pic>
          <p:nvPicPr>
            <p:cNvPr id="100" name="" descr=""/>
            <p:cNvPicPr/>
            <p:nvPr/>
          </p:nvPicPr>
          <p:blipFill>
            <a:blip r:embed="rId3"/>
            <a:stretch/>
          </p:blipFill>
          <p:spPr>
            <a:xfrm>
              <a:off x="3780000" y="1557360"/>
              <a:ext cx="201600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 txBox="1"/>
            <p:nvPr/>
          </p:nvSpPr>
          <p:spPr>
            <a:xfrm>
              <a:off x="3780000" y="1557360"/>
              <a:ext cx="2016000" cy="23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00cc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6300720" y="1557360"/>
            <a:ext cx="2016360" cy="2376360"/>
            <a:chOff x="6300720" y="1557360"/>
            <a:chExt cx="2016360" cy="2376360"/>
          </a:xfrm>
        </p:grpSpPr>
        <p:pic>
          <p:nvPicPr>
            <p:cNvPr id="103" name="" descr=""/>
            <p:cNvPicPr/>
            <p:nvPr/>
          </p:nvPicPr>
          <p:blipFill>
            <a:blip r:embed="rId4"/>
            <a:stretch/>
          </p:blipFill>
          <p:spPr>
            <a:xfrm>
              <a:off x="6300720" y="1557360"/>
              <a:ext cx="201636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 txBox="1"/>
            <p:nvPr/>
          </p:nvSpPr>
          <p:spPr>
            <a:xfrm>
              <a:off x="6300720" y="1557360"/>
              <a:ext cx="2016360" cy="23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cc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187280" y="4005360"/>
            <a:ext cx="2016360" cy="2448000"/>
            <a:chOff x="1187280" y="4005360"/>
            <a:chExt cx="2016360" cy="2448000"/>
          </a:xfrm>
        </p:grpSpPr>
        <p:pic>
          <p:nvPicPr>
            <p:cNvPr id="106" name="" descr=""/>
            <p:cNvPicPr/>
            <p:nvPr/>
          </p:nvPicPr>
          <p:blipFill>
            <a:blip r:embed="rId5"/>
            <a:stretch/>
          </p:blipFill>
          <p:spPr>
            <a:xfrm>
              <a:off x="1187280" y="4005360"/>
              <a:ext cx="2016360" cy="24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 txBox="1"/>
            <p:nvPr/>
          </p:nvSpPr>
          <p:spPr>
            <a:xfrm>
              <a:off x="1187280" y="4005360"/>
              <a:ext cx="2016360" cy="244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00cc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780000" y="4002120"/>
            <a:ext cx="2013840" cy="2855520"/>
            <a:chOff x="3780000" y="4002120"/>
            <a:chExt cx="2013840" cy="2855520"/>
          </a:xfrm>
        </p:grpSpPr>
        <p:pic>
          <p:nvPicPr>
            <p:cNvPr id="109" name="" descr=""/>
            <p:cNvPicPr/>
            <p:nvPr/>
          </p:nvPicPr>
          <p:blipFill>
            <a:blip r:embed="rId6"/>
            <a:stretch/>
          </p:blipFill>
          <p:spPr>
            <a:xfrm>
              <a:off x="3780000" y="4002120"/>
              <a:ext cx="2013840" cy="248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780000" y="6491520"/>
              <a:ext cx="2013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6300720" y="3978360"/>
            <a:ext cx="2016360" cy="2546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8"/>
          <a:srcRect l="0" t="0" r="-67" b="0"/>
          <a:stretch/>
        </p:blipFill>
        <p:spPr>
          <a:xfrm>
            <a:off x="1187280" y="1557360"/>
            <a:ext cx="2016360" cy="2376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9"/>
          <a:stretch/>
        </p:blipFill>
        <p:spPr>
          <a:xfrm>
            <a:off x="179280" y="333360"/>
            <a:ext cx="1065240" cy="1368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 задание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«Разминируй!» (Что или кто является лишним в ряду)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уководители партизанских отрядов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.Курин, Е. Четвертаков, П. Багратион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. Фигне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ста Бородинского сражен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Шевардинский редут, Дрисский лагерь, Багратионовы флеши, батарея Раевског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мандующие армиям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. Багратион, М. Барклай, А. Тормасов, Э. Тотлебе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1065240" cy="1368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 задание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«Расшифруй»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Переправа через р. Березин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Пожар Москв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Совет в Фил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Бородинское сраж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Тарутинский манев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1065240" cy="1368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ешающее сражение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« Битва капитанов»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Граф С.Р.воронцов, русский посол в Англии, в начале июня 1812 года пишет: «Если Наполеон будет нас преследовать, он погиб…он кончит тем, что будет истреблён нашей верной союзницей». О какой союзнице России идет речь?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1065240" cy="1368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2T11:32:57Z</dcterms:created>
  <dc:creator>Позднякова Н.А.</dc:creator>
  <dc:description/>
  <dc:language>en-US</dc:language>
  <cp:lastModifiedBy>Оксана</cp:lastModifiedBy>
  <dcterms:modified xsi:type="dcterms:W3CDTF">2013-03-11T14:31:39Z</dcterms:modified>
  <cp:revision>17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4130000000000010243100207f6000400038000</vt:lpwstr>
  </property>
</Properties>
</file>