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8EA-2214-4208-B8EF-9F658E95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117-48FF-4C67-ACC6-416FDB4B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C8F-5DF4-4C56-A515-C98859AD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261-069A-4AE9-9DC8-94B255D5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F9D5-16B9-4558-BB34-A10F86FE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149A-39EA-4D56-A8C6-B10A4599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4E1E-501F-408F-9648-FA6B8D6B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B80F-912F-45DB-A6E3-9F00C3E5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E233-E425-4B4B-BCB4-31666C8B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8FCA-FB0E-41FB-AED7-B34DC80B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88A9-5E98-4FD6-A39A-8B11D3CB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71F-E321-4CA2-99D7-FE1124C8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CCCA-38DC-4DEF-942F-5CB7B814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78F1-CD9B-40DB-939D-A72BD471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9FAE-D6C1-4076-A186-31B862E7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67CD-3169-4ED6-97FC-B7195B0A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0502-D85C-4128-972C-0853F17B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734-3BCB-461E-A9FB-B747C02C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F4D-25A5-47D6-A37A-32A1AE2A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D87-110A-4B11-A394-F77F87F1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BF5-64CC-452F-B0CF-040FE569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EE3-E784-41EB-A315-D97F0747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5C5-26A3-4804-9E99-08E55DE4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169-3F28-4D20-98BD-96D8F67C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E2A3-7F74-4339-870E-2BDB33FC89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57C1-8A24-488D-A8C7-61D733C9DF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6" descr="БОЙ ПОД МАЛОЯРОСЛАВЦЕМ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93760" y="1844640"/>
            <a:ext cx="795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ahoma"/>
                <a:ea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е пушки, не оружие сталь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           Нас делают отважней и сильней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           Любовь к Отчизне создает героев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           С дней Марафоновых до наших дн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В.Брюс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учитель истории Романова О.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МБОУ СОШ № 20 о.Мур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Из-за неё русские солдаты убивали иногда своих же офицеров. Особенно ночью. Что это?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47200" y="2269800"/>
            <a:ext cx="7929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В ХIХ веке в высшем обществе довольно часто встречались двойные фамилии. У М.И.Кутузова тоже была двойная фамилия.  Кака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вание, какого русского города звучит в почетном княжеском титуле фельдмаршала М.И.Кутузова?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Столица нашей Родины славится большим числом храмов. Один из них напрямую связан с историей Отечественной войны 1812 года и победой в этой войне. Что это за храм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полеону приписывают знаменитый афоризм: Каждый французский солдат носит в своем ранце маршальский жезл». Назовите известную русскую пословицу 19 века , которая передает смысл этого афор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9800" y="403200"/>
            <a:ext cx="1036800" cy="13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нкетиров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880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писать эссе на тему: « Великий подвиг русского народа, защищающего свою независимост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9400" y="90360"/>
            <a:ext cx="60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час испытаний поклонись Отчизн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-русски, в ноги и скажи ей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Мать! Ты жизнь моя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ы мне дороже жизни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тобою - жить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тобою - умирать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 верен ей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как бы не был длинен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тяжек день военной маяты, 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ь пахарь ты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дай ей все, как Минин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 ей Суворовым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ь воин ты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юби ее, клянись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ши деды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рой стояли за жизнь ее и чест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бы сказать в желанный час ПОБЕДЫ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моего здесь капля меда Е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До новых встре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491760"/>
            <a:ext cx="777384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авила честной игр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27664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052640"/>
            <a:ext cx="842472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Играй чест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Обидно когда проигрываешь, но не зли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Не злорадствуй, когда другие проигрыва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Если выиграл – радуйся, но не зазнавай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Научи других тому, что умеешь с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Будь стойким, не унывай при неудачах. Учись у друг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 задани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 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3640" y="764640"/>
            <a:ext cx="798984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"Разминка"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06524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 задание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«Военная атрибутика»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38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лег вздремнуть я у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лафета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слышно было до рассвета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ликовал француз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 тих был наш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ва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открытый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то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иве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чистил весь избитый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то штык точил, ворча сердито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усая длинный ус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6524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7989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65240" cy="1368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 задани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«Узнай героя»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652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3780000" y="1557360"/>
            <a:ext cx="2016000" cy="2376360"/>
            <a:chOff x="3780000" y="1557360"/>
            <a:chExt cx="2016000" cy="237636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3780000" y="1557360"/>
              <a:ext cx="20160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 txBox="1"/>
            <p:nvPr/>
          </p:nvSpPr>
          <p:spPr>
            <a:xfrm>
              <a:off x="3780000" y="1557360"/>
              <a:ext cx="2016000" cy="23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c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300720" y="1557360"/>
            <a:ext cx="2016360" cy="2376360"/>
            <a:chOff x="6300720" y="1557360"/>
            <a:chExt cx="2016360" cy="2376360"/>
          </a:xfrm>
        </p:grpSpPr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300720" y="1557360"/>
              <a:ext cx="20163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 txBox="1"/>
            <p:nvPr/>
          </p:nvSpPr>
          <p:spPr>
            <a:xfrm>
              <a:off x="6300720" y="1557360"/>
              <a:ext cx="2016360" cy="23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c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187280" y="4005360"/>
            <a:ext cx="2016360" cy="2448000"/>
            <a:chOff x="1187280" y="4005360"/>
            <a:chExt cx="2016360" cy="2448000"/>
          </a:xfrm>
        </p:grpSpPr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>
              <a:off x="1187280" y="4005360"/>
              <a:ext cx="2016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1187280" y="4005360"/>
              <a:ext cx="201636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c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780000" y="4002120"/>
            <a:ext cx="2013840" cy="2855520"/>
            <a:chOff x="3780000" y="4002120"/>
            <a:chExt cx="2013840" cy="2855520"/>
          </a:xfrm>
        </p:grpSpPr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3780000" y="4002120"/>
              <a:ext cx="201384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780000" y="6491520"/>
              <a:ext cx="2013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300720" y="3978360"/>
            <a:ext cx="2016360" cy="2546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rcRect l="0" t="0" r="-67" b="0"/>
          <a:stretch/>
        </p:blipFill>
        <p:spPr>
          <a:xfrm>
            <a:off x="1187280" y="1557360"/>
            <a:ext cx="2016360" cy="2376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179280" y="333360"/>
            <a:ext cx="106524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 задани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«Разминируй!» (Что или кто является лишним в ряду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уководители партизанских отряд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.Курин, Е. Четвертаков, П. Баграти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. Фигн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ста Бородинского сраж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евардинский редут, Дрисский лагерь, Багратионовы флеши, батарея Раевско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андующие армиям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. Багратион, М. Барклай, А. Тормасов, Э. Тотлеб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06524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 задани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«Расшифруй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ереправа через р. Берези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жар Моск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овет в Фил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Бородинское сра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Тарутинский манев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065240" cy="136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ешающее сражени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« Битва капитанов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Граф С.Р.воронцов, русский посол в Англии, в начале июня 1812 года пишет: «Если Наполеон будет нас преследовать, он погиб…он кончит тем, что будет истреблён нашей верной союзницей». О какой союзнице России идет речь?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65240" cy="136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Позднякова Н.А.</dc:creator>
  <dc:description/>
  <dc:language>en-US</dc:language>
  <cp:lastModifiedBy>Оксана</cp:lastModifiedBy>
  <dcterms:modified xsi:type="dcterms:W3CDTF">2013-03-11T14:31:39Z</dcterms:modified>
  <cp:revision>17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30000000000010243100207f6000400038000</vt:lpwstr>
  </property>
</Properties>
</file>