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4B6A-9803-43B3-9198-9FB539D8E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53A2-AF79-4CD4-9498-8E0B6BF3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0AB7-4FC3-42C2-99B1-A88870BC5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6323-B0CF-45BC-8ABB-48F737FB1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9393-D844-42A1-9A9C-9B8A48073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3ADA-E478-41C8-B109-149E2BE8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6AE8-4456-4749-86E4-E7606CDC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B8B9-2C29-48D2-BAE5-E527D9B1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B8080-B56D-499A-8F27-E7AE0A2B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096C-29B5-40C9-9A2E-7316D083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EC7E-A521-4FE9-8D1E-72CA57C4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EE5A-5304-411B-BDD6-E086FA37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73EC-E7A1-452A-BD53-184CEAF6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CAF1-8481-4B79-B788-14C415C9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B190-AC39-44E6-90D9-D5B6BA9C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0D19-E58C-4358-B748-AFB9A5DF6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3101-2397-4137-A7FF-246E16597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792F-64D4-47C5-9162-3EFE6AE9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ED07-87BA-4453-A020-FD5A817C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81D8-4C36-469C-832F-7FDE1BFF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7F65-1776-45A8-A706-C93E0DF5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52A4-1BBF-4E87-A2A2-448B9167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E33F-BEF3-4044-B450-75689927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4FD9-6553-4558-B94A-D01DFCB9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69DC-835A-4432-9D2D-5BB4026B8AA4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D498-4C64-4F9B-940E-A496CA3B3ADE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Оздоровительная методика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324000" y="2133720"/>
            <a:ext cx="640080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1311"/>
                </a:solidFill>
                <a:latin typeface="Arial"/>
              </a:rPr>
              <a:t>Ароматерапия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111560" y="3141720"/>
            <a:ext cx="3264120" cy="35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744516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Ароматерапия </a:t>
            </a:r>
            <a:r>
              <a:rPr b="0" lang="ru-RU" sz="4800" spc="-1" strike="noStrike">
                <a:solidFill>
                  <a:srgbClr val="f7d47d"/>
                </a:solidFill>
                <a:latin typeface="Arial"/>
              </a:rPr>
              <a:t>–</a:t>
            </a:r>
            <a:r>
              <a:rPr b="0" lang="ru-RU" sz="6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наука, изучающая  влияние запахов на состояние человека</a:t>
            </a:r>
            <a:br>
              <a:rPr sz="2000"/>
            </a:b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Древние египтяне, а затем римляне и греки ценили благовонья, как золото, серебро, специи, и считали их символами богатства, преподнося благовонья в качестве ценнейших подарков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564000" y="2924280"/>
            <a:ext cx="391464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7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Ароматы могут помочь восстановить ауру, обрести вкус к добру и справедливости, устранить комплексы и озлобленность.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692360" y="2205000"/>
            <a:ext cx="444348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7d47d"/>
                </a:solidFill>
                <a:latin typeface="Arial"/>
              </a:rPr>
              <a:t>Правила ароматерапии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никогда не наносите неразбавленное масло на кожу и слизистые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никогда не используйте эфирные масла в повышенных дозировках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ри первом применении данного эфирного масла, проведите аллергопробу: для этого нанесите на носовой платок 1 каплю масла, и иногда, в течение дня, подносите платок к носу; желательно эту пробу проводить хотя бы двое суток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начинайте использовать эфирные масла с минимальных дозировок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5724360" y="4149720"/>
            <a:ext cx="19782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8000"/>
                            </p:stCondLst>
                            <p:childTnLst>
                              <p:par>
                                <p:cTn id="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Существует условное деление эфирных масел на группы:</a:t>
            </a:r>
            <a:br>
              <a:rPr sz="2800"/>
            </a:br>
            <a:r>
              <a:rPr b="0" i="1" lang="en-US" sz="2800" spc="-1" strike="noStrike">
                <a:solidFill>
                  <a:srgbClr val="f7d47d"/>
                </a:solidFill>
                <a:latin typeface="Arial"/>
              </a:rPr>
              <a:t>по полу и возрасту: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f1311"/>
                </a:solidFill>
                <a:latin typeface="Arial"/>
              </a:rPr>
              <a:t>мужские - 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имбирь, лимон, листья бэй, эвкалипт, грейпфрут, мандарин, сосна, ель, кедр, лимонник китайский, майоран, шалфей, пачули, ладан, иссоп, корица, мирт, сандал, нарцисс, розмарин, можжевельник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f1311"/>
                </a:solidFill>
                <a:latin typeface="Arial"/>
              </a:rPr>
              <a:t>женские - 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роза, мелисса, сандал, бергамот, иланг-иланг, левзея, герань, каяпут, фенхель, жасмин, ромашка, лиметт, мускатный орех, мирра, гвоздика, нероли, кипарис, туя, вербена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f1311"/>
                </a:solidFill>
                <a:latin typeface="Arial"/>
              </a:rPr>
              <a:t>детские 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- апельсин, роза, мандарин, лимон, бергамот, иланг-иланг, вербена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f1311"/>
                </a:solidFill>
                <a:latin typeface="Arial"/>
              </a:rPr>
              <a:t>для пожилых 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- сандал, пачули, кедр, ель, лимон, розмарин, мята, герань, левзея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f1311"/>
                </a:solidFill>
                <a:latin typeface="Arial"/>
              </a:rPr>
              <a:t>по темпераменту: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f1311"/>
                </a:solidFill>
                <a:latin typeface="Arial"/>
              </a:rPr>
              <a:t>для спокойных людей — 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эвкалипт, герань, фенхель, лимон, апельсин, мандарин, имбирь, мускат, мирт, пачули, гвоздика розмарин, шалфей, туя, иланг-иланг, чабрец, иссоп, кедр, корица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f1311"/>
                </a:solidFill>
                <a:latin typeface="Arial"/>
              </a:rPr>
              <a:t>для возбудимых людей - 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каяпут, грейпфрут, бергамот, сандал, сосна, лаванда, лиметт, левзея, мята, роза, нероли, мелисса, майоран, лавр, розовое дерево, кипарис, вербена, мирра, ладан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500"/>
                            </p:stCondLst>
                            <p:childTnLst>
                              <p:par>
                                <p:cTn id="1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8500"/>
                            </p:stCondLst>
                            <p:childTnLst>
                              <p:par>
                                <p:cTn id="1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Все методы ароматерапии очень быстро вводят ароматы в систему кровообращения человека, которая разносит целебные молекулы по всему организму.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Ароматерапия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нормализует психическое состояние человека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улучшает циркуляцию крови и лимфатической жидкости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уравновешивает процессы, протекающие в организме, и тем самым повышают его сопротивляемость вредным внешним воздействиям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25621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042920" y="1844640"/>
            <a:ext cx="6381720" cy="183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Будьте здоровы!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Пользуйтесь методами ароматерапии!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971640" y="404640"/>
            <a:ext cx="498132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лагодарим за внимание!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3132000" y="3357720"/>
            <a:ext cx="4238640" cy="33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8:16:31Z</dcterms:created>
  <dc:creator>Андрей</dc:creator>
  <dc:description/>
  <dc:language>en-US</dc:language>
  <cp:lastModifiedBy>Андрей</cp:lastModifiedBy>
  <dcterms:modified xsi:type="dcterms:W3CDTF">2009-03-01T04:39:33Z</dcterms:modified>
  <cp:revision>6</cp:revision>
  <dc:subject/>
  <dc:title>Оздоровительная методика</dc:title>
</cp:coreProperties>
</file>