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500A-DD87-42DA-B54D-332221767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AE11-0560-44B1-9E64-6A3B5CCF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D087-AE69-43FB-95A8-9DE1B298D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6198-25B6-4448-A1B5-6D21CE636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1EC8-974C-4079-B23A-917A3C0B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E0BA-61E1-476A-B628-A0C54240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D4AD-305C-4067-AF46-E034B3E6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2D2E-0390-408A-AF15-37728C15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B471-72A3-4D65-A9D6-FC4613B2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C0C8-C320-4FD7-A3A0-A00AFA62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F7E9-6079-4E52-8260-CFDFDD94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686A-9A98-478E-AD63-733567F2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5211-D642-41F8-810B-66EF25A1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A398-FA5C-4D12-AFD7-18B9859C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DAB2-143B-494C-B42F-7BDCC343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823D-4322-4945-BFC4-FE9C7B7F3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BF6C-648F-4539-B416-4BB57501A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4946-903E-4D95-841F-7B6A5E7F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CB59-2081-40E0-8971-0CA07EDD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0CBA-850E-4492-B2BF-BD5CC4E1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F4A2-78FB-4E80-9501-8664F4AE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32B4-92BC-45BC-919D-35B08E29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9AD0-5438-4EC4-9628-20211EFB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DFF6-1AD2-42D2-B440-2F183689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7939-4F90-4008-B9FA-7C672233E7B7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262D-7C5A-4660-8DBF-3C11473D1D2B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Оздоровительная методика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324000" y="2133720"/>
            <a:ext cx="640080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1311"/>
                </a:solidFill>
                <a:latin typeface="Arial"/>
              </a:rPr>
              <a:t>Ароматерапия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111560" y="3141720"/>
            <a:ext cx="3264120" cy="35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744516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Ароматерапия </a:t>
            </a:r>
            <a:r>
              <a:rPr b="0" lang="ru-RU" sz="4800" spc="-1" strike="noStrike">
                <a:solidFill>
                  <a:srgbClr val="f7d47d"/>
                </a:solidFill>
                <a:latin typeface="Arial"/>
              </a:rPr>
              <a:t>–</a:t>
            </a:r>
            <a:r>
              <a:rPr b="0" lang="ru-RU" sz="6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наука, изучающая  влияние запахов на состояние человека</a:t>
            </a:r>
            <a:br>
              <a:rPr sz="2000"/>
            </a:b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Древние египтяне, а затем римляне и греки ценили благовонья, как золото, серебро, специи, и считали их символами богатства, преподнося благовонья в качестве ценнейших подарков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564000" y="2924280"/>
            <a:ext cx="391464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7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Ароматы могут помочь восстановить ауру, обрести вкус к добру и справедливости, устранить комплексы и озлобленность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692360" y="2205000"/>
            <a:ext cx="444348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7d47d"/>
                </a:solidFill>
                <a:latin typeface="Arial"/>
              </a:rPr>
              <a:t>Правила ароматерапии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никогда не наносите неразбавленное масло на кожу и слизистые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никогда не используйте эфирные масла в повышенных дозировках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ри первом применении данного эфирного масла, проведите аллергопробу: для этого нанесите на носовой платок 1 каплю масла, и иногда, в течение дня, подносите платок к носу; желательно эту пробу проводить хотя бы двое суток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начинайте использовать эфирные масла с минимальных дозировок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5724360" y="4149720"/>
            <a:ext cx="19782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0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Существует условное деление эфирных масел на группы:</a:t>
            </a:r>
            <a:br>
              <a:rPr sz="2800"/>
            </a:br>
            <a:r>
              <a:rPr b="0" i="1" lang="en-US" sz="2800" spc="-1" strike="noStrike">
                <a:solidFill>
                  <a:srgbClr val="f7d47d"/>
                </a:solidFill>
                <a:latin typeface="Arial"/>
              </a:rPr>
              <a:t>по полу и возрасту: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f1311"/>
                </a:solidFill>
                <a:latin typeface="Arial"/>
              </a:rPr>
              <a:t>мужские - 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имбирь, лимон, листья бэй, эвкалипт, грейпфрут, мандарин, сосна, ель, кедр, лимонник китайский, майоран, шалфей, пачули, ладан, иссоп, корица, мирт, сандал, нарцисс, розмарин, можжевельник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f1311"/>
                </a:solidFill>
                <a:latin typeface="Arial"/>
              </a:rPr>
              <a:t>женские - 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роза, мелисса, сандал, бергамот, иланг-иланг, левзея, герань, каяпут, фенхель, жасмин, ромашка, лиметт, мускатный орех, мирра, гвоздика, нероли, кипарис, туя, вербена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f1311"/>
                </a:solidFill>
                <a:latin typeface="Arial"/>
              </a:rPr>
              <a:t>детские 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- апельсин, роза, мандарин, лимон, бергамот, иланг-иланг, вербена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f1311"/>
                </a:solidFill>
                <a:latin typeface="Arial"/>
              </a:rPr>
              <a:t>для пожилых 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- сандал, пачули, кедр, ель, лимон, розмарин, мята, герань, левзея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f1311"/>
                </a:solidFill>
                <a:latin typeface="Arial"/>
              </a:rPr>
              <a:t>по темпераменту: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f1311"/>
                </a:solidFill>
                <a:latin typeface="Arial"/>
              </a:rPr>
              <a:t>для спокойных людей — 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эвкалипт, герань, фенхель, лимон, апельсин, мандарин, имбирь, мускат, мирт, пачули, гвоздика розмарин, шалфей, туя, иланг-иланг, чабрец, иссоп, кедр, корица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f1311"/>
                </a:solidFill>
                <a:latin typeface="Arial"/>
              </a:rPr>
              <a:t>для возбудимых людей - 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каяпут, грейпфрут, бергамот, сандал, сосна, лаванда, лиметт, левзея, мята, роза, нероли, мелисса, майоран, лавр, розовое дерево, кипарис, вербена, мирра, ладан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500"/>
                            </p:stCondLst>
                            <p:childTnLst>
                              <p:par>
                                <p:cTn id="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500"/>
                            </p:stCondLst>
                            <p:childTnLst>
                              <p:par>
                                <p:cTn id="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8500"/>
                            </p:stCondLst>
                            <p:childTnLst>
                              <p:par>
                                <p:cTn id="1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Все методы ароматерапии очень быстро вводят ароматы в систему кровообращения человека, которая разносит целебные молекулы по всему организму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Ароматерапия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нормализует психическое состояние человека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улучшает циркуляцию крови и лимфатической жидкости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уравновешивает процессы, протекающие в организме, и тем самым повышают его сопротивляемость вредным внешним воздействиям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25621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042920" y="1844640"/>
            <a:ext cx="6381720" cy="183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Будьте здоровы!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Пользуйтесь методами ароматерапии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971640" y="404640"/>
            <a:ext cx="49813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лагодарим за внимание!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3132000" y="3357720"/>
            <a:ext cx="423864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8:16:31Z</dcterms:created>
  <dc:creator>Андрей</dc:creator>
  <dc:description/>
  <dc:language>en-US</dc:language>
  <cp:lastModifiedBy>Андрей</cp:lastModifiedBy>
  <dcterms:modified xsi:type="dcterms:W3CDTF">2009-03-01T04:39:33Z</dcterms:modified>
  <cp:revision>6</cp:revision>
  <dc:subject/>
  <dc:title>Оздоровительная методика</dc:title>
</cp:coreProperties>
</file>