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3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A09-00AF-40B3-9E07-7D334F57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2A0-3B76-4EE4-A238-C019BC3B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37D-B797-44FA-BA9A-052CC39C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25F-3BB3-4ABF-9509-CD7229F7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E3C7-5B44-47EB-9A30-8D7EB108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51A3-EA0D-4928-9464-17681FFD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E9FA-C88C-405A-9B4F-44640728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337A-33E4-493B-BE20-1BB01D3E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1152-2C86-42C1-944A-7EE8BAC6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18A7-708D-4106-91FC-8FD1C46C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27C9-9342-4AD5-9491-E72A922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D80-2071-49BD-A151-587888B9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609E-DB33-4DFC-9547-C26E6025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D7BA-EE7A-4BA7-B207-0353C884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21DA-9758-4D98-926E-94674287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E1DD-6186-4C02-8E46-5B7B171D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EAD5-3F06-49B0-A7A2-EC090333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568-E6BF-4EF4-BA47-053E0363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98A-5CCB-4438-AF96-42433094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8AE-135D-45E3-96E1-2700AE40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17D-66BA-433B-9E49-5EF95F81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35F-3D91-41EA-AF4B-23130F6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274-79CB-4F5A-B52D-0379312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97B-50AE-4963-9FC2-90DFCBF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E507-CD0F-433A-86DB-9A88634DA32D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333333"/>
                </a:solidFill>
                <a:uFillTx/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D69-B202-43A2-A46B-C60E3FA814A9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3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wmf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wmf"/><Relationship Id="rId6" Type="http://schemas.openxmlformats.org/officeDocument/2006/relationships/image" Target="../media/image10.wmf"/><Relationship Id="rId7" Type="http://schemas.openxmlformats.org/officeDocument/2006/relationships/image" Target="../media/image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ee2504"/>
                </a:solidFill>
                <a:latin typeface="Arial"/>
              </a:rPr>
              <a:t>PERFEK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MCj04321650000[1]"/>
          <p:cNvPicPr/>
          <p:nvPr/>
        </p:nvPicPr>
        <p:blipFill>
          <a:blip r:embed="rId1"/>
          <a:stretch/>
        </p:blipFill>
        <p:spPr>
          <a:xfrm>
            <a:off x="4738680" y="3886200"/>
            <a:ext cx="782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Gestern spielen wir im Wa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572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Мы вчера в лесу играем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делали вчера, значит, совершили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значит, люди, мы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fekt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забыли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2879640" cy="4464000"/>
          </a:xfrm>
          <a:prstGeom prst="rect">
            <a:avLst/>
          </a:prstGeom>
          <a:ln w="9360">
            <a:solidFill>
              <a:srgbClr val="ae4828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2"/>
          <a:stretch/>
        </p:blipFill>
        <p:spPr>
          <a:xfrm rot="799200">
            <a:off x="7092720" y="5013000"/>
            <a:ext cx="1655640" cy="1360440"/>
          </a:xfrm>
          <a:prstGeom prst="rect">
            <a:avLst/>
          </a:prstGeom>
          <a:ln w="9360">
            <a:solidFill>
              <a:srgbClr val="ae4828"/>
            </a:solidFill>
            <a:miter/>
          </a:ln>
        </p:spPr>
      </p:pic>
      <p:pic>
        <p:nvPicPr>
          <p:cNvPr id="110" name="Picture 11" descr="бабочка 2"/>
          <p:cNvPicPr/>
          <p:nvPr/>
        </p:nvPicPr>
        <p:blipFill>
          <a:blip r:embed="rId3"/>
          <a:stretch/>
        </p:blipFill>
        <p:spPr>
          <a:xfrm rot="19503000">
            <a:off x="1258560" y="155700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MCj04324190000[1]"/>
          <p:cNvPicPr/>
          <p:nvPr/>
        </p:nvPicPr>
        <p:blipFill>
          <a:blip r:embed="rId4"/>
          <a:stretch/>
        </p:blipFill>
        <p:spPr>
          <a:xfrm>
            <a:off x="2411280" y="4869000"/>
            <a:ext cx="1297080" cy="1157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MCj04321650000[1]"/>
          <p:cNvPicPr/>
          <p:nvPr/>
        </p:nvPicPr>
        <p:blipFill>
          <a:blip r:embed="rId5"/>
          <a:stretch/>
        </p:blipFill>
        <p:spPr>
          <a:xfrm>
            <a:off x="1403280" y="4437000"/>
            <a:ext cx="82548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MCj04321610000[1]"/>
          <p:cNvPicPr/>
          <p:nvPr/>
        </p:nvPicPr>
        <p:blipFill>
          <a:blip r:embed="rId6"/>
          <a:stretch/>
        </p:blipFill>
        <p:spPr>
          <a:xfrm>
            <a:off x="3564000" y="4437000"/>
            <a:ext cx="1103400" cy="17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044 C -0.00642 -0.00625 -0.02066 0.20069 -0.01997 0.19815 C -0.02656 0.3669 -0.00156 0.44306 0.05226 0.46204 C 0.08003 0.46991 0.10903 0.45417 0.13628 0.42014 C 0.15503 0.39769 0.1743 0.38843 0.19236 0.39398 C 0.22656 0.40764 0.24548 0.47083 0.24184 0.55255 C 0.24236 0.54954 0.2375 0.64977 0.23767 0.64884 C 0.2375 0.64977 0.24913 0.4419 0.2493 0.44074 C 0.25486 0.27824 0.22969 0.20231 0.17743 0.18495 C 0.15 0.17454 0.11875 0.19097 0.09062 0.22569 C 0.07344 0.24745 0.05417 0.25509 0.03715 0.25162 C 0.00312 0.23819 -0.01597 0.17454 -0.01233 0.09444 C -0.01215 0.09329 -0.00677 -0.0044 -0.00642 -0.00625 Z"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3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1640" y="1773000"/>
            <a:ext cx="5185080" cy="533160"/>
          </a:xfrm>
          <a:prstGeom prst="rect">
            <a:avLst/>
          </a:prstGeom>
          <a:solidFill>
            <a:srgbClr val="fde6d1"/>
          </a:solidFill>
          <a:ln w="9360">
            <a:solidFill>
              <a:srgbClr val="e0914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Если мы к основе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-        spiel    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987640" y="2421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риставку     </a:t>
            </a:r>
            <a:r>
              <a:rPr b="0" lang="en-US" sz="2400" spc="-1" strike="noStrike" u="sng">
                <a:solidFill>
                  <a:srgbClr val="ee2504"/>
                </a:solidFill>
                <a:uFillTx/>
                <a:latin typeface="Arial"/>
              </a:rPr>
              <a:t>ge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 прибавим,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619280" y="3068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уффикс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ee2504"/>
                </a:solidFill>
                <a:uFillTx/>
                <a:latin typeface="Arial"/>
              </a:rPr>
              <a:t>t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,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конечно же, вот сюда поставим.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63640" y="3860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олучилась третья форма, форма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zip II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588000" y="981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2504"/>
                </a:solidFill>
                <a:latin typeface="Arial"/>
              </a:rPr>
              <a:t>gespielt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372360" y="1819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2504"/>
                </a:solidFill>
                <a:uFillTx/>
                <a:latin typeface="Arial"/>
              </a:rPr>
              <a:t>ge</a:t>
            </a:r>
            <a:r>
              <a:rPr b="0" lang="en-US" sz="2400" spc="-1" strike="noStrike">
                <a:solidFill>
                  <a:srgbClr val="ee2504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7413480" y="1800360"/>
            <a:ext cx="2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2504"/>
                </a:solidFill>
                <a:uFillTx/>
                <a:latin typeface="Arial"/>
              </a:rPr>
              <a:t>t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700360" y="98100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stern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… 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wir im Wald ….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22" name="Picture 16" descr="MCj04263660000[1]"/>
          <p:cNvPicPr/>
          <p:nvPr/>
        </p:nvPicPr>
        <p:blipFill>
          <a:blip r:embed="rId1"/>
          <a:stretch/>
        </p:blipFill>
        <p:spPr>
          <a:xfrm>
            <a:off x="1187280" y="404640"/>
            <a:ext cx="1430640" cy="180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MCj04321610000[1]"/>
          <p:cNvPicPr/>
          <p:nvPr/>
        </p:nvPicPr>
        <p:blipFill>
          <a:blip r:embed="rId2"/>
          <a:stretch/>
        </p:blipFill>
        <p:spPr>
          <a:xfrm>
            <a:off x="7253280" y="4797360"/>
            <a:ext cx="1103400" cy="1795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MCj01233210000[1]"/>
          <p:cNvPicPr/>
          <p:nvPr/>
        </p:nvPicPr>
        <p:blipFill>
          <a:blip r:embed="rId3"/>
          <a:stretch/>
        </p:blipFill>
        <p:spPr>
          <a:xfrm>
            <a:off x="2050920" y="4581360"/>
            <a:ext cx="1667160" cy="194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0"/>
          <p:cNvSpPr/>
          <p:nvPr/>
        </p:nvSpPr>
        <p:spPr>
          <a:xfrm>
            <a:off x="1476360" y="134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e2504"/>
                </a:solidFill>
                <a:latin typeface="Arial"/>
              </a:rPr>
              <a:t>PII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484360" y="198108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А теперь, любезная, помощницу выбира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Ей, помощничек мой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haben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спомогательный глагол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ы пойди, да встань на место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Чтобы знали, кто пришёл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" name="Picture 4" descr="MCj04321650000[1]"/>
          <p:cNvPicPr/>
          <p:nvPr/>
        </p:nvPicPr>
        <p:blipFill>
          <a:blip r:embed="rId1"/>
          <a:stretch/>
        </p:blipFill>
        <p:spPr>
          <a:xfrm>
            <a:off x="1187280" y="4508640"/>
            <a:ext cx="99864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MCj04263660000[1]"/>
          <p:cNvPicPr/>
          <p:nvPr/>
        </p:nvPicPr>
        <p:blipFill>
          <a:blip r:embed="rId2"/>
          <a:stretch/>
        </p:blipFill>
        <p:spPr>
          <a:xfrm>
            <a:off x="1332000" y="2565360"/>
            <a:ext cx="128880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1979640" y="5734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2504"/>
                </a:solidFill>
                <a:latin typeface="Arial"/>
              </a:rPr>
              <a:t>haben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2771640" y="1052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stern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….. 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      wir im Wald gespielt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31" name="Picture 15" descr="бабочка 2"/>
          <p:cNvPicPr/>
          <p:nvPr/>
        </p:nvPicPr>
        <p:blipFill>
          <a:blip r:embed="rId3"/>
          <a:stretch/>
        </p:blipFill>
        <p:spPr>
          <a:xfrm rot="19623600">
            <a:off x="7318080" y="1760400"/>
            <a:ext cx="1393920" cy="131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MCj04300050000[1]"/>
          <p:cNvPicPr/>
          <p:nvPr/>
        </p:nvPicPr>
        <p:blipFill>
          <a:blip r:embed="rId4"/>
          <a:stretch/>
        </p:blipFill>
        <p:spPr>
          <a:xfrm>
            <a:off x="7596360" y="5229360"/>
            <a:ext cx="1096920" cy="1369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0"/>
          <p:cNvSpPr/>
          <p:nvPr/>
        </p:nvSpPr>
        <p:spPr>
          <a:xfrm>
            <a:off x="1619280" y="342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e2504"/>
                </a:solidFill>
                <a:latin typeface="Arial"/>
              </a:rPr>
              <a:t>PII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5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325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425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225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5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800"/>
                            </p:stCondLst>
                            <p:childTnLst>
                              <p:par>
                                <p:cTn id="1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9236 C -0.0066 -0.0956 -0.00278 -0.09652 -0.00017 -0.10162 C 0.00052 -0.10231 0.00174 -0.103 0.00278 -0.10856 C 0.00538 -0.12963 0.00608 -0.15347 0.00868 -0.17523 C 0.00955 -0.18634 0.02101 -0.25254 0.02274 -0.25879 C 0.02517 -0.26365 0.02708 -0.26365 0.02917 -0.2662 C 0.04809 -0.26041 0.05104 -0.2537 0.07066 -0.2655 C 0.07899 -0.28564 0.06701 -0.25972 0.08299 -0.28101 C 0.08646 -0.28518 0.08906 -0.29097 0.09149 -0.29722 C 0.09323 -0.29953 0.09444 -0.30185 0.09583 -0.30439 C 0.0974 -0.3074 0.09965 -0.31273 0.09965 -0.31226 C 0.10399 -0.32916 0.10764 -0.34027 0.11111 -0.36203 C 0.11163 -0.36689 0.11372 -0.37824 0.11372 -0.3787 C 0.125 -0.38472 0.13611 -0.38125 0.14705 -0.38263 C 0.15122 -0.38518 0.15538 -0.37893 0.1592 -0.38981 C 0.16198 -0.39768 0.16215 -0.42546 0.1651 -0.43171 C 0.16615 -0.43425 0.16719 -0.43726 0.16823 -0.43981 C 0.17153 -0.4662 0.16927 -0.44768 0.175 -0.49328 C 0.17708 -0.5 0.17795 -0.51458 0.1783 -0.51365 C 0.18507 -0.578 0.18767 -0.6618 0.1974 -0.71064 C 0.20347 -0.74004 0.20781 -0.74745 0.21493 -0.76388 C 0.21667 -0.76805 0.22014 -0.77893 0.22014 -0.7787 C 0.22934 -0.77708 0.23802 -0.77685 0.24722 -0.77222 C 0.25035 -0.77152 0.24288 -0.77546 0.24063 -0.76898 C 0.2401 -0.7662 0.24236 -0.76157 0.24167 -0.75648 C 0.24045 -0.73842 0.23906 -0.71967 0.23802 -0.70162 E">
                                      <p:cBhvr>
                                        <p:cTn id="12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8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18519E-006 C -0.00504 -0.00117 -0.01042 -0.0014 -0.01528 -0.00371 C -0.02032 -0.00626 -0.02414 -0.01205 -0.02917 -0.01482 C -0.03577 -0.03242 -0.02726 -0.01436 -0.0375 -0.02408 C -0.03941 -0.02593 -0.04028 -0.02894 -0.04167 -0.03149 C -0.04219 -0.03404 -0.04237 -0.03658 -0.04306 -0.0389 C -0.04375 -0.04098 -0.04566 -0.04214 -0.04584 -0.04445 C -0.04723 -0.0764 -0.0382 -0.10904 -0.03473 -0.14075 C -0.0408 -0.15302 -0.05296 -0.14468 -0.05973 -0.13705 C -0.06164 -0.13473 -0.06303 -0.13126 -0.06528 -0.12964 C -0.06789 -0.12802 -0.07084 -0.12848 -0.07362 -0.12779 C -0.07587 -0.12593 -0.07813 -0.12385 -0.08056 -0.12223 C -0.08212 -0.12131 -0.08351 -0.12154 -0.0849 -0.12038 C -0.08612 -0.11899 -0.08629 -0.11644 -0.0875 -0.11482 C -0.08907 -0.11274 -0.09132 -0.11112 -0.09306 -0.10927 C -0.0941 -0.10556 -0.09428 -0.1014 -0.09584 -0.09816 C -0.10504 -0.0801 -0.09879 -0.10325 -0.10434 -0.08705 C -0.10921 -0.07269 -0.11094 -0.0558 -0.11945 -0.04445 C -0.12049 -0.04144 -0.12101 -0.03797 -0.12223 -0.03519 C -0.12396 -0.03172 -0.12639 -0.02941 -0.12796 -0.02593 C -0.13525 -0.00603 -0.11928 -0.02779 -0.1375 -0.00742 C -0.14219 0.00485 -0.14566 0.01411 -0.15556 0.01851 C -0.17153 0.01573 -0.18438 0.01319 -0.19862 0.00369 C -0.20209 -0.0058 -0.20747 -0.01251 -0.21112 -0.02223 C -0.21059 -0.03635 -0.21042 -0.0507 -0.20973 -0.06482 C -0.20921 -0.07293 -0.20643 -0.0808 -0.20556 -0.0889 C -0.20348 -0.10695 -0.20643 -0.09908 -0.20139 -0.10927 C -0.20226 -0.12339 -0.20087 -0.1382 -0.20417 -0.15186 C -0.20504 -0.15556 -0.20955 -0.15533 -0.2125 -0.15556 C -0.225 -0.15603 -0.2375 -0.15441 -0.25 -0.15371 C -0.25313 -0.15093 -0.25678 -0.14931 -0.25973 -0.14631 C -0.26181 -0.14422 -0.2632 -0.14098 -0.26528 -0.1389 C -0.26789 -0.13612 -0.27084 -0.13404 -0.27362 -0.13149 C -0.27605 -0.11806 -0.2816 -0.10973 -0.28889 -0.10001 C -0.29202 -0.08728 -0.29862 -0.07964 -0.30417 -0.06853 C -0.30365 -0.04746 -0.30348 -0.02663 -0.30278 -0.00556 C -0.30261 0.00254 -0.30209 0.01064 -0.30139 0.01851 C -0.3 0.03217 -0.29428 0.0692 -0.28334 0.07407 C -0.28039 0.09374 -0.28542 0.07522 -0.275 0.08518 C -0.27327 0.0868 -0.27344 0.0905 -0.27223 0.09258 C -0.2698 0.09675 -0.26563 0.09907 -0.26389 0.10369 C -0.25747 0.12082 -0.25417 0.13494 -0.25139 0.15369 C -0.25226 0.18633 -0.25243 0.2192 -0.25417 0.25184 C -0.25469 0.26203 -0.2599 0.27383 -0.2625 0.28332 C -0.26493 0.29235 -0.26893 0.31596 -0.27362 0.32221 C -0.28264 0.33425 -0.28907 0.34652 -0.29862 0.35925 C -0.30053 0.3618 -0.30087 0.36596 -0.30278 0.36851 C -0.30608 0.37291 -0.31667 0.37707 -0.32223 0.37962 C -0.32362 0.38147 -0.32466 0.38379 -0.32639 0.38518 C -0.32813 0.38633 -0.33039 0.38564 -0.33195 0.38703 C -0.33386 0.38888 -0.33403 0.39305 -0.33612 0.39444 C -0.34046 0.39698 -0.35 0.39814 -0.35 0.39814 C -0.35868 0.40601 -0.3507 0.39976 -0.36806 0.40555 C -0.3783 0.40902 -0.38803 0.41295 -0.39862 0.41481 C -0.41268 0.4243 -0.42431 0.42638 -0.44028 0.42962 C -0.46112 0.43888 -0.45643 0.43842 -0.49445 0.42962 C -0.49514 0.42939 -0.49879 0.41735 -0.5 0.41295 C -0.4941 0.38957 -0.48247 0.38726 -0.46528 0.38147 C -0.45313 0.37059 -0.43594 0.36758 -0.42223 0.3611 C -0.40469 0.35277 -0.38716 0.3449 -0.36945 0.33703 C -0.35868 0.33217 -0.34862 0.32592 -0.3375 0.32221 C -0.32882 0.31434 -0.3382 0.32198 -0.32223 0.31481 C -0.30921 0.30902 -0.29636 0.30207 -0.28334 0.29629 C -0.24636 0.27985 -0.21059 0.25902 -0.17362 0.24258 C -0.16789 0.23494 -0.16459 0.23217 -0.15695 0.22962 C -0.15504 0.22661 -0.15382 0.22268 -0.15139 0.22036 C -0.14827 0.21712 -0.14341 0.21805 -0.14046 0.21481 C -0.1382 0.21272 -0.13698 0.20948 -0.13473 0.2074 C -0.13039 0.203 -0.12865 0.20485 -0.125 0.19999 C -0.11476 0.18633 -0.12448 0.1942 -0.11407 0.18703 C -0.10851 0.17268 -0.11441 0.18587 -0.10278 0.17036 C -0.09254 0.1567 -0.08299 0.1405 -0.07084 0.12962 C -0.06563 0.11573 -0.05625 0.10323 -0.04584 0.09629 C -0.03872 0.07731 -0.02605 0.07082 -0.01389 0.05925 C -0.00018 0.04606 -0.02188 0.0618 -0.00278 0.04814 C 0.00086 0.04559 0.00538 0.04467 0.00833 0.04073 C 0.01562 0.03101 0.02465 0.02453 0.03333 0.01666 C 0.04947 0.01874 0.04722 0.01226 0.04722 0.02777 E">
                                      <p:cBhvr>
                                        <p:cTn id="13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800"/>
                            </p:stCondLst>
                            <p:childTnLst>
                              <p:par>
                                <p:cTn id="1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71240" y="2636640"/>
            <a:ext cx="72327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Вы запомните, друзья!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Прошу вас убедительно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торое место у меня в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atz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’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е утвердительном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Picture 5" descr="MCj04324670000[1]"/>
          <p:cNvPicPr/>
          <p:nvPr/>
        </p:nvPicPr>
        <p:blipFill>
          <a:blip r:embed="rId1"/>
          <a:stretch/>
        </p:blipFill>
        <p:spPr>
          <a:xfrm>
            <a:off x="6443640" y="5013360"/>
            <a:ext cx="182880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2987640" y="1052640"/>
            <a:ext cx="568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ff"/>
                </a:solidFill>
                <a:latin typeface="Arial"/>
              </a:rPr>
              <a:t>Gestern </a:t>
            </a:r>
            <a:r>
              <a:rPr b="0" lang="ru-RU" sz="2600" spc="-1" strike="noStrike">
                <a:solidFill>
                  <a:srgbClr val="6600ff"/>
                </a:solidFill>
                <a:latin typeface="Arial"/>
              </a:rPr>
              <a:t>…..  </a:t>
            </a:r>
            <a:r>
              <a:rPr b="0" lang="en-US" sz="2600" spc="-1" strike="noStrike">
                <a:solidFill>
                  <a:srgbClr val="6600ff"/>
                </a:solidFill>
                <a:latin typeface="Arial"/>
              </a:rPr>
              <a:t>      wir im Wald gespielt</a:t>
            </a:r>
            <a:endParaRPr b="0" lang="en-US" sz="26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37" name="Picture 8" descr="MCj04263660000[1]"/>
          <p:cNvPicPr/>
          <p:nvPr/>
        </p:nvPicPr>
        <p:blipFill>
          <a:blip r:embed="rId2"/>
          <a:stretch/>
        </p:blipFill>
        <p:spPr>
          <a:xfrm>
            <a:off x="1476360" y="549360"/>
            <a:ext cx="1430280" cy="180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7451640" y="4437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2504"/>
                </a:solidFill>
                <a:latin typeface="Arial"/>
              </a:rPr>
              <a:t>haben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39" name="Picture 11" descr="MCj01233210000[1]"/>
          <p:cNvPicPr/>
          <p:nvPr/>
        </p:nvPicPr>
        <p:blipFill>
          <a:blip r:embed="rId3"/>
          <a:stretch/>
        </p:blipFill>
        <p:spPr>
          <a:xfrm>
            <a:off x="6989760" y="1773360"/>
            <a:ext cx="166680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1816920" y="150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e2504"/>
                </a:solidFill>
                <a:latin typeface="Arial"/>
              </a:rPr>
              <a:t>PII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transition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35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7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99 -0.06551 C -0.03837 -0.07662 -0.04219 -0.08773 -0.04566 -0.1 C -0.04497 -0.11088 -0.04254 -0.14213 -0.03785 -0.1537 C -0.03559 -0.15903 -0.03194 -0.16342 -0.02969 -0.16875 C -0.02604 -0.17778 -0.02483 -0.18449 -0.01719 -0.18796 C -0.01424 -0.20023 -0.01788 -0.18935 -0.00938 -0.20092 C -0.00208 -0.21088 0.00278 -0.22477 0.01302 -0.22893 C 0.0151 -0.23125 0.01719 -0.2331 0.01927 -0.23541 C 0.02205 -0.23866 0.02413 -0.24282 0.02708 -0.24606 C 0.03003 -0.2493 0.03663 -0.25463 0.03663 -0.2544 C 0.04097 -0.26366 0.04427 -0.26991 0.05087 -0.27616 C 0.04983 -0.28171 0.04913 -0.28634 0.04774 -0.2912 C 0.0401 -0.31736 0.04913 -0.27453 0.04149 -0.30625 C 0.03542 -0.33102 0.04167 -0.31643 0.03507 -0.33009 C 0.03212 -0.34444 0.0276 -0.35393 0.0224 -0.36666 C 0.01788 -0.37708 0.01545 -0.38842 0.01128 -0.39884 C 0.0066 -0.40995 0.0033 -0.42037 -0.00608 -0.42453 C -0.01406 -0.43287 -0.02309 -0.43912 -0.03299 -0.4419 C -0.11163 -0.5125 -0.03872 -0.45046 -0.2908 -0.45463 C -0.29653 -0.45741 -0.3026 -0.45833 -0.30816 -0.46111 C -0.31615 -0.46528 -0.3224 -0.47245 -0.33038 -0.47616 C -0.33576 -0.48703 -0.33958 -0.49444 -0.34306 -0.50625 C -0.34254 -0.51342 -0.34236 -0.5206 -0.34149 -0.52778 C -0.34132 -0.53009 -0.33837 -0.5331 -0.33993 -0.53426 C -0.35035 -0.54166 -0.34792 -0.52592 -0.34792 -0.52129 E">
                                      <p:cBhvr>
                                        <p:cTn id="16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03280" y="2349000"/>
            <a:ext cx="633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месте мы и  это значит -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ействие совершено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значит, было оно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Что же тут остается добавить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- Надо точку на место поставит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Picture 4" descr="MCj04263660000[1]"/>
          <p:cNvPicPr/>
          <p:nvPr/>
        </p:nvPicPr>
        <p:blipFill>
          <a:blip r:embed="rId1"/>
          <a:stretch/>
        </p:blipFill>
        <p:spPr>
          <a:xfrm rot="1612800">
            <a:off x="1547640" y="475920"/>
            <a:ext cx="1409760" cy="1801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061800" y="1290600"/>
            <a:ext cx="58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stern haben wir im Wald gespielt</a:t>
            </a:r>
            <a:endParaRPr b="0" lang="en-US" sz="28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44" name="Picture 6" descr="MCj04324610000[1]"/>
          <p:cNvPicPr/>
          <p:nvPr/>
        </p:nvPicPr>
        <p:blipFill>
          <a:blip r:embed="rId2"/>
          <a:stretch/>
        </p:blipFill>
        <p:spPr>
          <a:xfrm rot="1485000">
            <a:off x="6803640" y="2276640"/>
            <a:ext cx="1978200" cy="1901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7149960" y="4451400"/>
            <a:ext cx="3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pic>
        <p:nvPicPr>
          <p:cNvPr id="146" name="Picture 10" descr="MCj04339110000[1]"/>
          <p:cNvPicPr/>
          <p:nvPr/>
        </p:nvPicPr>
        <p:blipFill>
          <a:blip r:embed="rId3"/>
          <a:stretch/>
        </p:blipFill>
        <p:spPr>
          <a:xfrm rot="3392400">
            <a:off x="7093080" y="508464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бабочка 2"/>
          <p:cNvPicPr/>
          <p:nvPr/>
        </p:nvPicPr>
        <p:blipFill>
          <a:blip r:embed="rId4"/>
          <a:stretch/>
        </p:blipFill>
        <p:spPr>
          <a:xfrm rot="20546400">
            <a:off x="1619280" y="508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3"/>
          <p:cNvSpPr/>
          <p:nvPr/>
        </p:nvSpPr>
        <p:spPr>
          <a:xfrm>
            <a:off x="3132000" y="83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Gestern spielen wir im Wald.</a:t>
            </a:r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3059280" y="1125360"/>
            <a:ext cx="4321080" cy="0"/>
          </a:xfrm>
          <a:prstGeom prst="line">
            <a:avLst/>
          </a:prstGeom>
          <a:ln w="57240">
            <a:solidFill>
              <a:srgbClr val="ee25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333333"/>
              </a:solidFill>
              <a:uFillTx/>
              <a:latin typeface="Arial"/>
            </a:endParaRPr>
          </a:p>
        </p:txBody>
      </p:sp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C -0.00486 -0.00648 -0.00972 -0.01042 -0.0125 -0.01852 C -0.01424 -0.02361 -0.01806 -0.03334 -0.01806 -0.03334 C -0.01754 -0.04074 -0.01875 -0.04861 -0.01667 -0.05556 C -0.01406 -0.06389 -0.00365 -0.06736 0.00139 -0.07222 C 0.00347 -0.07431 0.00451 -0.07847 0.00694 -0.07963 C 0.0158 -0.08403 0.03472 -0.08889 0.03472 -0.08889 C 0.11996 -0.08681 0.08923 -0.08843 0.13055 -0.08148 C 0.14097 -0.07222 0.12656 -0.0838 0.14305 -0.07593 C 0.15052 -0.07222 0.15712 -0.06296 0.16389 -0.05741 C 0.16701 -0.05232 0.17118 -0.04838 0.17361 -0.04259 C 0.17535 -0.03866 0.17482 -0.03357 0.17639 -0.02963 C 0.18177 -0.01528 0.17708 -0.03241 0.18055 -0.01852 C 0.18264 0.00139 0.18559 0.04375 0.20278 0.05185 C 0.20816 0.0544 0.21389 0.0544 0.21944 0.05555 C 0.23385 0.07477 0.296 0.06227 0.3125 0.06111 C 0.31302 0.0581 0.31371 0.05509 0.31389 0.05185 C 0.31458 0.04143 0.31406 0.03079 0.31528 0.02037 C 0.31545 0.01805 0.31736 0.0169 0.31805 0.01481 C 0.32066 0.00787 0.3184 0.00856 0.32083 2.22222E-006 C 0.32135 -0.00185 0.3276 -0.0125 0.32778 -0.01296 C 0.33125 -0.02685 0.34166 -0.02778 0.35 -0.03519 C 0.36545 -0.03403 0.37899 -0.03542 0.39305 -0.02778 C 0.39357 -0.02593 0.39375 -0.02408 0.39444 -0.02222 C 0.39514 -0.02014 0.3967 -0.01875 0.39722 -0.01667 C 0.39809 -0.01366 0.39757 -0.01019 0.39861 -0.00741 C 0.40052 -0.00232 0.40434 0.00092 0.40694 0.00555 C 0.41111 0.03287 0.40469 -0.000459999999999999 0.4125 0.02037 C 0.41354 0.02315 0.41285 0.02685 0.41389 0.02963 C 0.41597 0.03541 0.42413 0.04514 0.42778 0.05 C 0.42986 0.06134 0.43403 0.06898 0.44305 0.07222 C 0.44757 0.07384 0.45225 0.07477 0.45694 0.07592 C 0.4592 0.07662 0.46389 0.07778 0.46389 0.07778 C 0.46892 0.07662 0.47413 0.07569 0.47916 0.07407 C 0.4816 0.07338 0.48559 0.07361 0.48611 0.07037 C 0.48767 0.06018 0.48142 0.03449 0.475 0.02592 C 0.47222 0.02222 0.46805 0.02037 0.46528 0.01666 C 0.45764 0.00648 0.46493 0.01088 0.45694 0.00741 C 0.45364 0.00301 0.45052 -0.00116 0.44722 -0.00556 C 0.44618 -0.00695 0.44653 -0.00926 0.44583 -0.01111 C 0.44323 -0.01783 0.44166 -0.01759 0.4375 -0.02408 C 0.43646 -0.0257 0.43611 -0.02847 0.43472 -0.02963 C 0.43264 -0.03125 0.43003 -0.03079 0.42778 -0.03148 C 0.42639 -0.03403 0.42552 -0.03704 0.42361 -0.03889 C 0.42205 -0.04028 0.41979 -0.04005 0.41805 -0.04074 C 0.40416 -0.04699 0.41024 -0.04746 0.39166 -0.05185 C 0.37187 -0.06505 0.35382 -0.04954 0.34028 -0.03148 C 0.33194 -0.00371 0.325 0.02338 0.3125 0.04815 C 0.30937 0.0544 0.30833 0.06041 0.30278 0.06296 C 0.29861 0.0743 0.30121 0.07245 0.2875 0.07222 C 0.25139 0.07176 0.21528 0.06967 0.17916 0.06852 C 0.17205 0.06366 0.16337 0.06389 0.15694 0.05741 C 0.13698 0.0375 0.16649 0.06204 0.14444 0.04444 C 0.1434 0.0375 0.14062 0.03102 0.14028 0.02407 C 0.13993 0.01458 0.16076 -0.10139 0.12222 -0.11111 C 0.11406 -0.1132 0.10555 -0.11366 0.09722 -0.11482 C 0.07812 -0.13171 0.05191 -0.12431 0.03055 -0.11482 C 0.025 -0.10926 0.01962 -0.10764 0.01528 -0.1 C 0.00764 -0.08634 0.00416 -0.07107 -0.00278 -0.05741 C -0.00504 -0.04699 -0.01597 -0.00926 -0.00695 -0.00926 E">
                                      <p:cBhvr>
                                        <p:cTn id="18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900"/>
                            </p:stCondLst>
                            <p:childTnLst>
                              <p:par>
                                <p:cTn id="19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250"/>
                            </p:stCondLst>
                            <p:childTnLst>
                              <p:par>
                                <p:cTn id="2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600"/>
                            </p:stCondLst>
                            <p:childTnLst>
                              <p:par>
                                <p:cTn id="21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300"/>
                            </p:stCondLst>
                            <p:childTnLst>
                              <p:par>
                                <p:cTn id="2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5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55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0092 C -0.00035 -0.01088 -0.00451 -0.02246 -0.00955 -0.03357 C -0.0125 -0.04028 -0.01667 -0.04584 -0.01927 -0.05278 C -0.02517 -0.06806 -0.03142 -0.0838 -0.03872 -0.09792 C -0.04115 -0.10787 -0.04444 -0.11898 -0.04826 -0.12801 C -0.05208 -0.13704 -0.05174 -0.13241 -0.05486 -0.14306 C -0.05799 -0.15347 -0.06076 -0.16111 -0.06441 -0.17107 C -0.06632 -0.19653 -0.06632 -0.21806 -0.07569 -0.23982 C -0.07951 -0.24885 -0.08542 -0.26783 -0.08542 -0.2676 C -0.0849 -0.28218 -0.08663 -0.31945 -0.07569 -0.33449 C -0.07135 -0.34028 -0.06267 -0.34306 -0.05799 -0.34537 C -0.04635 -0.35116 -0.05625 -0.35047 -0.03872 -0.35394 C -0.02847 -0.35602 -0.01823 -0.35672 -0.00799 -0.3581 C 0.00122 -0.36273 0.0099 -0.36852 0.01944 -0.37107 C 0.02778 -0.37685 0.03628 -0.37778 0.04514 -0.38195 C 0.07951 -0.39838 0.09288 -0.39584 0.13872 -0.39908 C 0.1474 -0.40047 0.15608 -0.40116 0.16458 -0.40347 C 0.16684 -0.40417 0.16875 -0.40672 0.17101 -0.40764 C 0.17361 -0.4088 0.17639 -0.40903 0.17899 -0.40972 C 0.1842 -0.4132 0.18785 -0.41505 0.19201 -0.4206 C 0.19583 -0.4257 0.19705 -0.4338 0.2 -0.43982 C 0.18906 -0.44491 0.19688 -0.44213 0.17587 -0.44213 E">
                                      <p:cBhvr>
                                        <p:cTn id="23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55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305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5.55556E-006 C 0.0026 0.0118 0.00555 0.02431 0.00659 0.03959 C 0.00781 0.05672 0.0085 0.07686 0.00902 0.09677 C 0.01024 0.11714 0.00902 0.13357 0.0085 0.15255 C 0.00781 0.16968 0.00694 0.18774 0.00485 0.20302 C 0.00294 0.21876 -0.00035 0.23102 -0.00383 0.24028 C -0.00695 0.24954 -0.01077 0.25579 -0.01442 0.25903 C -0.01824 0.26227 -0.02206 0.26227 -0.0257 0.25903 C -0.02917 0.25579 -0.03282 0.24769 -0.0356 0.23565 C -0.03837 0.22477 -0.04081 0.21089 -0.04202 0.19399 C -0.04376 0.17848 -0.04428 0.15695 -0.04428 0.14005 C -0.0448 0.12315 -0.04428 0.10278 -0.04289 0.08612 C -0.04133 0.07061 -0.03837 0.05834 -0.03456 0.05186 C -0.03091 0.04746 -0.02692 0.05371 -0.02449 0.06436 C -0.02223 0.07477 -0.02049 0.09214 -0.02049 0.11227 C -0.02049 0.13218 -0.02049 0.15047 -0.02223 0.16621 C -0.02396 0.18172 -0.02344 0.1845 -0.02987 0.20487 C -0.0356 0.2264 -0.04133 0.22038 -0.0448 0.22177 C -0.04827 0.22177 -0.05087 0.21575 -0.05435 0.20927 C -0.05817 0.20163 -0.06146 0.18774 -0.06372 0.1757 C -0.06581 0.16343 -0.06685 0.14769 -0.06806 0.12315 C -0.06857 0.09815 -0.06857 0.08612 -0.06857 0.06737 C -0.06857 0.04885 -0.06857 0.03033 -0.06857 0.0118 E">
                                      <p:cBhvr>
                                        <p:cTn id="239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5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050"/>
                            </p:stCondLst>
                            <p:childTnLst>
                              <p:par>
                                <p:cTn id="2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050"/>
                            </p:stCondLst>
                            <p:childTnLst>
                              <p:par>
                                <p:cTn id="2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5184720" cy="5600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Cj04321650000[1]"/>
          <p:cNvPicPr/>
          <p:nvPr/>
        </p:nvPicPr>
        <p:blipFill>
          <a:blip r:embed="rId2"/>
          <a:stretch/>
        </p:blipFill>
        <p:spPr>
          <a:xfrm>
            <a:off x="2771640" y="2852640"/>
            <a:ext cx="8254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Cj04321610000[1]"/>
          <p:cNvPicPr/>
          <p:nvPr/>
        </p:nvPicPr>
        <p:blipFill>
          <a:blip r:embed="rId3"/>
          <a:stretch/>
        </p:blipFill>
        <p:spPr>
          <a:xfrm>
            <a:off x="6156360" y="2781360"/>
            <a:ext cx="831960" cy="1940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MCj04263660000[1]"/>
          <p:cNvPicPr/>
          <p:nvPr/>
        </p:nvPicPr>
        <p:blipFill>
          <a:blip r:embed="rId4"/>
          <a:stretch/>
        </p:blipFill>
        <p:spPr>
          <a:xfrm>
            <a:off x="1476360" y="476280"/>
            <a:ext cx="143028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MCj04105330000[1]"/>
          <p:cNvPicPr/>
          <p:nvPr/>
        </p:nvPicPr>
        <p:blipFill>
          <a:blip r:embed="rId5"/>
          <a:stretch/>
        </p:blipFill>
        <p:spPr>
          <a:xfrm>
            <a:off x="6696000" y="4600440"/>
            <a:ext cx="2448000" cy="2257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MCj01233210000[1]"/>
          <p:cNvPicPr/>
          <p:nvPr/>
        </p:nvPicPr>
        <p:blipFill>
          <a:blip r:embed="rId6"/>
          <a:stretch/>
        </p:blipFill>
        <p:spPr>
          <a:xfrm>
            <a:off x="2124000" y="4797360"/>
            <a:ext cx="1049400" cy="1224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MCj04324190000[1]"/>
          <p:cNvPicPr/>
          <p:nvPr/>
        </p:nvPicPr>
        <p:blipFill>
          <a:blip r:embed="rId7"/>
          <a:stretch/>
        </p:blipFill>
        <p:spPr>
          <a:xfrm rot="20499000">
            <a:off x="3314880" y="3871440"/>
            <a:ext cx="2230200" cy="198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MCj04298150000[1]"/>
          <p:cNvPicPr/>
          <p:nvPr/>
        </p:nvPicPr>
        <p:blipFill>
          <a:blip r:embed="rId8"/>
          <a:stretch/>
        </p:blipFill>
        <p:spPr>
          <a:xfrm>
            <a:off x="3851280" y="476280"/>
            <a:ext cx="1905120" cy="2019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3-03-10T18:51:55Z</dcterms:modified>
  <cp:revision>57</cp:revision>
  <dc:subject/>
  <dc:title>PowerPoint Presentation</dc:title>
</cp:coreProperties>
</file>