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851D-8C5C-4A00-BDC9-01554F17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13BC-F1DE-4FA6-B6C0-8EB10020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9A6B-EF82-4372-83E8-72D5C7B9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D69B-748F-4013-82E3-B9245FE5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10F1-0AE4-4FB1-B5F5-67C59533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4D02-A7F1-43EE-B6ED-FF7D821E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BA33-AB4E-4078-8985-9D9A52A2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D7BB-1AD6-469E-BFFA-B72B38FD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8707-5A51-4428-A6A3-F777657E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EFB1-26E2-49D2-B6AB-7E021D6A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B2EA-B09F-4C1C-B876-B3E69272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75F-0FE7-4836-94CA-534EFA7C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BAA3-08BA-4C07-B26B-009D5C11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FA84-D921-4C82-9B2B-3A88487E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10D2-035F-4526-97D1-5BC48C68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16C5-1515-4B2C-86E0-8019A270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B275-99FF-45D5-9963-B92B5CBF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8C27-E5ED-424E-817F-1F1EC728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078-57D6-48FB-A831-AF019133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97DF-89F1-4C27-B3EA-FED9FFAA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11F-5C56-4500-BAF1-27341726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0D6C-420D-4B52-A09C-061B6257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74F-BF2C-41CF-B934-AF9DBCE9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F26E-4062-4A4E-A37A-F1A91680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266B-9BD9-4668-9B44-B6DE1A40A1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EC38-6607-4764-AE02-E718CDB8C2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Родительское собрани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готовила: Борисова С.А., учитель начальных классов МКОУ ТС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.Тегульдет Том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к наказывают своих детей родители нашего класс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вят в угол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рет гулять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мень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раничение компьютера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смотр мультфильмов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гий разгов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Что думают наши дети о наказания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Наказание  несправедливое, когда на меня крич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е согласен с тем, что меня бьют ремнём за двой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Меня ставят в угол за дело, я понимаю за что и стараюсь этого больше не дел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Меня очень часто наказывают, но я почему- то не могу исправиться. Обманываю, потому что боюсь наказ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Воспитывать ребёнка – нелёгкое дело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0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всех трудных ситуаций, в которые дети нередко ставят своих родителей, нужно стараться выйти с уважением к их человеческому достоинству, без применения физических наказаний или словесных оскорбл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есные наказания и битьё детей абсолютно неприемлемы. Ребёнок, которого бьют, чувствует себя оскорблённым и униженным, он чувствует глубокую неприязнь к самому себе и окружающим. Его последующее поведение может быть продиктовано жаждой мести. Кроме того, его непрерывно мучает страх, что может оказаться губительным для е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ёнку трудно осознать, что он подвергся телесному наказанию из-за своего неверного поведения. Для него гораздо естественнее считать, что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акое наказ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оявление гнева или нелюбви со стороны того, кто его нача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нужно заметить, чт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ловесные оскорбл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бидные замечания, грубые слова, постоянные придирки, насме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могут оказаться не менее унизительными 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пособны причинить не меньший вред, чем рукоприклад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сновной принцип наказа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казание допустимо и оправдано, если оно логически вытекает из поступков ребёнка. Оно должно быть разумным и прямо связанным с содержанием поступ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казание будет эффективно тогда, когда есть поощ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лова поддерж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Зная тебя, я был уверен, что ты сделаешь хорош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тебя есть некоторые соображения по этому поводу, готов ли ты нач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ерьёзный вызов, но я уверен, что ты готов к н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ощрять можно и нужно все стороны поведения ребёнка. Особое внимание необходимо уделять похвале за совершённое ребёнком усилие. Очень хорошо, если поощрение подчёркивает и способность ребёнк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 усилиям по достижен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цели, и радость от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остигнутого успех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Анализ ответов родителей на вопросы анкеты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Часто ли родители нашего класса хвалят детей и как поощряют и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ждый день, редко, ча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яю просьбы по мере своих возможностей, словами, покупаю что-нибудь вкусненькое, разрешаю играть на компьютере, дарим подарки, покупаем что попросит, мороженое, даю немного денег на карманные расход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к хвалить, чтобы сохранить способность ребёнка радоваться самому делу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20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чёркивать радость ребёнка от преодоления труднос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 Ты можешь! Сегодня ты сумел подняться над собственной ленью, пассив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ы сумел, ты стал ещё сильнее, ты преодолел, ты победил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обходимо подмечать любые, даже самые незначительные успехи ребёнка на пути к самосовершенствов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абота в группах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судить в группах и записать советы родителям, как можно поощрять свои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оветую прочитат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С. Спиваковская «Как быть родителями» из серии «Педагогика – родителя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Поощрение и наказание в семь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Наказание – это причинение вреда причиняющему вред. Похвала – педагогический домкра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.Кро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2133720"/>
            <a:ext cx="77724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Спасибо за сотрудничество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и собра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судить с родителями проблему поощрения и наказания ребёнка в сем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ть у родителей культуру поощрения и наказания ребёнка в сем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облемные вопрос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жно ли наказывать де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да и как это 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ли испортить ребёнка похвал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что можно хвалить ребё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Говорят наши дети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(о поощрениях, которые получают от родителей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я хвалят, если я принесу домой пятёрку – 9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я хвалят, если я помогаю дома (хожу в магазин, прибираю в комнате, помогаю маме на кухне, мою посуду) – 10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я хвалят, если я сделаю уроки – 1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не дарят подарки, ес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меня день рождения – 7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получаю пятёрки – 2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ть праздник – 3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вый год – 2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рошо себя веду, слушаюсь – 3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жу в школу – 1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вно меня не видели – 2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не дарят деньги, ес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хотят -1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прошу – 2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меня день рождения – 5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езжает бабушка – 1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т подарка – 1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помогаю родным – 1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меня какой-нибудь праздник – 1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о что-нибудь купить, накопить для чего-нибудь -1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е не дарят деньги – 3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не разрешают ____ , если ____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улять на улице, если буду слушаться (приду рано, после школы, сделаю доброе дело, будет светло, сделаю домашнюю работу -2 че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рать на компьютере, если я выполню утренний режим дня (помогу по дому, уберусь, сделал домашнее задание, принесу домой «5», захочу, есть врем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ходить в цирк, если у мамы есть день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е разрешают, если на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отреть мультфильм, если буду лазить в под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ндивидуаль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ние родителям: поделить лист на две части и написать в одной из них слова, которыми вы поощряете , хвалите своих детей, а в другой – которыми руга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01:42:11Z</dcterms:created>
  <dc:creator>www.PHILka.RU</dc:creator>
  <dc:description/>
  <dc:language>en-US</dc:language>
  <cp:lastModifiedBy>Admin</cp:lastModifiedBy>
  <dcterms:modified xsi:type="dcterms:W3CDTF">2013-01-28T19:54:38Z</dcterms:modified>
  <cp:revision>5</cp:revision>
  <dc:subject/>
  <dc:title>Поощрение и наказание в семье</dc:title>
</cp:coreProperties>
</file>