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4D7-0131-41FE-9476-E059BDBC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462-C903-48D5-AA0E-44B21FE0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131-2445-45AF-9086-7E0A3308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FB8-6FEC-4C26-8697-D41BAC30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916A-025A-4311-A10C-865D9EEC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DD70-AF91-42DA-909C-895A716F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548B-F7EA-448E-AD1D-107ABD4A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6C99-E3EB-49F2-8F14-B444D551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8239-3C43-4E84-A587-DCB3DF21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AE2E-E250-4494-8591-EC9D0FBD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44A0-7B26-429A-B092-11E1F7C1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414-742C-410D-A245-C9AC3BDF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26C4-4B2E-4B8E-A4EE-1C6D9F96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95F5-6D43-4512-830E-58391C34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4CFA-1225-4CFE-837A-12EAD602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498E-03AE-4F90-8620-ABE51568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0D72-5F4C-4F57-94A7-400952FF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B74-BF1F-48FC-BED4-6ADFAFD7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E9B-A52A-44BE-A944-E2C042CD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24A-9BCC-453D-90C0-53F2E981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ED3-5048-4E08-B339-6A40BB08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302-5BFA-442B-986B-4794AF7E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257-6C24-4499-A733-27D90AF5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A52-D268-4307-92CF-E1CD2C7C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3932-DE10-453F-B64B-0C64D2163E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F57E-493E-4699-9186-3969E1D9A3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Родительское собрани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ила: Борисова С.А., учитель начальных классов МКОУ ТС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.Тегульдет Том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к наказывают своих детей родители нашего класс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вят в угол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рет гулять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мень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раничение компьютера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мотр мультфильмов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гий разгов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Что думают наши дети о наказания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Наказание  несправедливое, когда на меня крич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е согласен с тем, что меня бьют ремнём за дво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Меня ставят в угол за дело, я понимаю за что и стараюсь этого больше не дел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Меня очень часто наказывают, но я почему- то не могу исправиться. Обманываю, потому что боюсь наказ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оспитывать ребёнка – нелёгкое дело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0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х трудных ситуаций, в которые дети нередко ставят своих родителей, нужно стараться выйти с уважением к их человеческому достоинству, без применения физических наказаний или словесных оскорбл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есные наказания и битьё детей абсолютно неприемлемы. Ребёнок, которого бьют, чувствует себя оскорблённым и униженным, он чувствует глубокую неприязнь к самому себе и окружающим. Его последующее поведение может быть продиктовано жаждой мести. Кроме того, его непрерывно мучает страх, что может оказаться губительным для е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ёнку трудно осознать, что он подвергся телесному наказанию из-за своего неверного поведения. Для него гораздо естественнее считать, чт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акое наказ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оявление гнева или нелюбви со стороны того, кто его нача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нужно заметить, чт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ловесные оскорбл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бидные замечания, грубые слова, постоянные придирки, насме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могут оказаться не менее унизительными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ны причинить не меньший вред, чем рукоприкла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сновной принцип наказ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казание допустимо и оправдано, если оно логически вытекает из поступков ребёнка. Оно должно быть разумным и прямо связанным с содержанием поступ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казание будет эффективно тогда, когда есть поощ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лова поддерж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Зная тебя, я был уверен, что ты сделаешь хорош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ебя есть некоторые соображения по этому поводу, готов ли ты нач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ерьёзный вызов, но я уверен, что ты готов к н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ощрять можно и нужно все стороны поведения ребёнка. Особое внимание необходимо уделять похвале за совершённое ребёнком усилие. Очень хорошо, если поощрение подчёркивает и способность ребёнк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 усилиям по достиже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цели, и радость от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остигнутого успех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Анализ ответов родителей на вопросы анкеты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Часто ли родители нашего класса хвалят детей и как поощряют 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ый день, редко, ча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яю просьбы по мере своих возможностей, словами, покупаю что-нибудь вкусненькое, разрешаю играть на компьютере, дарим подарки, покупаем что попросит, мороженое, даю немного денег на карманные расход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к хвалить, чтобы сохранить способность ребёнка радоваться самому делу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чёркивать радость ребёнка от преодоления трудно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Ты можешь! Сегодня ты сумел подняться над собственной ленью, пассив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ы сумел, ты стал ещё сильнее, ты преодолел, ты победил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бходимо подмечать любые, даже самые незначительные успехи ребёнка на пути к самосовершенствов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абота в группах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удить в группах и записать советы родителям, как можно поощрять свои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оветую прочита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Спиваковская «Как быть родителями» из серии «Педагогика – родителя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Поощрение и наказание в семь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Наказание – это причинение вреда причиняющему вред. Похвала – педагогический домкра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.Кр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2133720"/>
            <a:ext cx="77724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Спасибо за сотрудничество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собр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удить с родителями проблему поощрения и наказания ребёнка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ть у родителей культуру поощрения и наказания ребёнка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блемные вопрос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жно ли наказывать де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и как это 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ли испортить ребёнка похвал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что можно хвалить ребё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Говорят наши дети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(о поощрениях, которые получают от родителей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я хвалят, если я принесу домой пятёрку – 9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я хвалят, если я помогаю дома (хожу в магазин, прибираю в комнате, помогаю маме на кухне, мою посуду) – 10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я хвалят, если я сделаю уроки – 1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не дарят подарки, ес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еня день рождения – 7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получаю пятёрки – 2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ь праздник – 3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ый год – 2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рошо себя веду, слушаюсь – 3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жу в школу – 1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вно меня не видели – 2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не дарят деньги, ес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хотят -1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рошу – 2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меня день рождения – 5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езжает бабушка – 1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т подарка – 1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помогаю родным – 1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меня какой-нибудь праздник – 1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о что-нибудь купить, накопить для чего-нибудь -1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е не дарят деньги – 3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не разрешают ____ , если ____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лять на улице, если буду слушаться (приду рано, после школы, сделаю доброе дело, будет светло, сделаю домашнюю работу -2 че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ать на компьютере, если я выполню утренний режим дня (помогу по дому, уберусь, сделал домашнее задание, принесу домой «5», захочу, есть 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ходить в цирк, если у мамы есть день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е разрешают, если 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отреть мультфильм, если буду лазить в под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ндивидуаль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ние родителям: поделить лист на две части и написать в одной из них слова, которыми вы поощряете , хвалите своих детей, а в другой – которыми руга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1:42:11Z</dcterms:created>
  <dc:creator>www.PHILka.RU</dc:creator>
  <dc:description/>
  <dc:language>en-US</dc:language>
  <cp:lastModifiedBy>Admin</cp:lastModifiedBy>
  <dcterms:modified xsi:type="dcterms:W3CDTF">2013-01-28T19:54:38Z</dcterms:modified>
  <cp:revision>5</cp:revision>
  <dc:subject/>
  <dc:title>Поощрение и наказание в семье</dc:title>
</cp:coreProperties>
</file>