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2338-30C7-4C5B-B3F0-75EDBA66A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4759-EB3D-4583-9470-8BE85568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4247-24D8-40C2-94E4-B9F797009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4AC0-A819-4E04-AFB6-C07A85A3C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256DB-CF63-4C63-98F0-6DA0515B6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FAFFB-8466-45A5-AC41-36F9CABE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2174-BFE7-4DE1-A3A2-5E9DEED0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9BA1-190E-4191-92E8-8A81CDDB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F2C4-D823-4F56-B951-9AC5D7B2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3D90-AB1B-4B56-84DD-B9D9EF40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8B64-AEE6-4FBD-B2AC-5613BA0D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6800-3BF1-4565-81A1-EC8C039A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3CC8-3DDC-43B7-8F57-6890D864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45C4-0386-47BA-8891-88828A36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E3A9-2B09-48F2-AEA8-ED3A85F6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F3449-ECD0-4950-AD9A-0F0C589C7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F5AC-4F2B-4052-9DBD-0C6892B93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496D-E348-4C1E-A2AE-15F17D6A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FAC8-A0FC-4044-8448-BAD01016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CE20-307B-4B3B-B467-6589F667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4090-5D27-4220-B897-A6964945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D8F7-EF5C-474C-AFDE-F3CA0A23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5383-F449-4AFA-B67B-42E914C2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7096-BF1D-4E42-AAB3-CCED0881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C434-7CFF-415A-928D-3B04D9CB42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A512-BE78-47C4-9595-2C8F790E23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Black"/>
              </a:rPr>
              <a:t>             </a:t>
            </a:r>
            <a:r>
              <a:rPr b="0" lang="en-US" sz="4600" spc="-1" strike="noStrike">
                <a:solidFill>
                  <a:srgbClr val="000000"/>
                </a:solidFill>
                <a:latin typeface="Arial Black"/>
              </a:rPr>
              <a:t>Проект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Arial Black"/>
              </a:rPr>
              <a:t>«Солнечный лучик»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ководитель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оспит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ладшей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нберг Ольга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РЕАЛИЗАЦИЯ ПРОЕКТА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 rot="21281400">
            <a:off x="539280" y="1915920"/>
            <a:ext cx="3889440" cy="2916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 rot="318000">
            <a:off x="4642920" y="1915920"/>
            <a:ext cx="388944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РЕАЛИЗАЦИЯ ПРОЕКТА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нятие рисование «Весенняя капе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 rot="21382200">
            <a:off x="611280" y="2923920"/>
            <a:ext cx="3744720" cy="2808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 rot="256200">
            <a:off x="4643280" y="2924280"/>
            <a:ext cx="3745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РЕАЛИЗАЦИЯ ПРОЕКТА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 rot="21333000">
            <a:off x="468360" y="134100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 rot="255000">
            <a:off x="4642920" y="134100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843280" y="3860640"/>
            <a:ext cx="36720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ЗАКЛЮЧИТЕЛЬНЫЙ ЭТАП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ведение итогов проек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готовка презентации по фотография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формление стенгазеты для родителей по итогам реализации прое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В ПЕРСПЕКТИВЕ –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сперимент с растениями «Растения и солнце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сперимент «Лед – вода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блюдения за сезонными изменениями природы, связанными с солнц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ирование у детей активного словаря через организацию разных видов деятельности: игровой (прежде всего); познавательной (наблюдения, художественное слово), продуктив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ть детям элементарные представления о природном объекте – солнце, его влиянии на окружающий ми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ировать познавательную активность детей при проведении наблюд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огатить словарный запас детей по данной т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крепить понятия «желтый», «круглый», «похоже», «не похож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ип проекта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информационно-исследовательск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частники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воспитатель группы, дети первой младшей группы, родит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лительность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2 недели с 9 по 20 апреля 2012 года (краткосрочны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ОЖИДАЕМЫЙ РЕЗУЛЬТАТ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обогащение активного и пассивного словаря детей за счет слов: «яркое», «светлое», «теплое», «светит», «улыбается», «греет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развитие у детей наблюда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РЕАЛИЗАЦИЯ ПРОЕКТА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изкультминутка – песня «Я на солнышке лежу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 rot="21168600">
            <a:off x="684000" y="2924280"/>
            <a:ext cx="3816360" cy="2862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 rot="325200">
            <a:off x="4642920" y="2852640"/>
            <a:ext cx="38181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гра-ситуация «Солнышко встае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 rot="21364800">
            <a:off x="539640" y="2565360"/>
            <a:ext cx="4032360" cy="3024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 rot="252600">
            <a:off x="4500360" y="2565000"/>
            <a:ext cx="4032000" cy="3022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08200" y="42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2000" y="333360"/>
            <a:ext cx="6785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РЕАЛИЗАЦИЯ ПРОЕКТ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25080" y="333360"/>
            <a:ext cx="6785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РЕАЛИЗАЦИЯ ПРОЕКТ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 rot="21048600">
            <a:off x="899640" y="2637000"/>
            <a:ext cx="3600720" cy="2700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076720" y="1773360"/>
            <a:ext cx="29718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РЕАЛИЗАЦИЯ ПРОЕКТА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нятие лепка «Солнышк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 rot="21279600">
            <a:off x="610920" y="2636640"/>
            <a:ext cx="3816360" cy="2862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 rot="381600">
            <a:off x="4642920" y="2636640"/>
            <a:ext cx="381636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07:55:09Z</dcterms:created>
  <dc:creator>ADMIN</dc:creator>
  <dc:description/>
  <dc:language>en-US</dc:language>
  <cp:lastModifiedBy>ADMIN</cp:lastModifiedBy>
  <dcterms:modified xsi:type="dcterms:W3CDTF">2013-03-11T04:18:49Z</dcterms:modified>
  <cp:revision>4</cp:revision>
  <dc:subject/>
  <dc:title>             Проект  «Солнечный лучик»</dc:title>
</cp:coreProperties>
</file>