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E88D-39EF-4A8D-9570-5570265B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5911-2CB3-4925-BE2C-D17A89E8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8B40-0161-4211-BF55-8F35081A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F788-DFA8-46EB-937C-30CAB432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3251-AC3B-4094-B04A-8CD7C123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B6EB-0120-44D3-8462-13AC531E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38C6-8180-48E7-8214-23BD8918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3AB5-CE30-4A6D-85CC-FB1DA16B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36E5-CDA2-4BBA-82C6-57277598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4C16-3BA2-4851-BFE9-EBD34518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9EE3-6CDC-4E64-995B-325867E4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AA79-C84C-4549-9DC0-9759A5B9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D285-D7FC-45B4-BEA9-5C2BB2A7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7B83-FCCD-4BDF-9855-5D2157B8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8BAD-357F-4DD3-A34C-0BEB1671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3D4E-16A8-4A29-8E2E-FFC5BB9A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BAD1-77B6-4472-A99C-A3E315B8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9C71-CE1D-4A10-A123-81D694EA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EA35-B76E-44E6-9471-6A717B63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84B0-199A-42B5-A7B0-E2635103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BA00-87CD-4AC5-85DC-B4AD74CC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0FE7-FAFB-4F9C-829F-07C58F8C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51B8-5F81-4B28-AD47-C3271BBE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C201-26E9-4639-A384-04C0BFC2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4522-FB66-494E-B71F-E563185F53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9DA1-88C9-41C0-AA5C-AA2564FDDA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Black"/>
              </a:rPr>
              <a:t>             </a:t>
            </a:r>
            <a:r>
              <a:rPr b="0" lang="en-US" sz="4600" spc="-1" strike="noStrike">
                <a:solidFill>
                  <a:srgbClr val="000000"/>
                </a:solidFill>
                <a:latin typeface="Arial Black"/>
              </a:rPr>
              <a:t>Проект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Arial Black"/>
              </a:rPr>
              <a:t>«Солнечный лучик»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спит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ладшей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нберг Ольг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РЕАЛИЗАЦИЯ ПРОЕКТ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 rot="21281400">
            <a:off x="539280" y="1915920"/>
            <a:ext cx="3889440" cy="291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 rot="318000">
            <a:off x="4642920" y="1915920"/>
            <a:ext cx="388944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РЕАЛИЗАЦИЯ ПРОЕКТ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нятие рисование «Весенняя кап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 rot="21382200">
            <a:off x="611280" y="292392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 rot="256200">
            <a:off x="4643280" y="292428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РЕАЛИЗАЦИЯ ПРОЕКТ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 rot="21333000">
            <a:off x="468360" y="134100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 rot="255000">
            <a:off x="4642920" y="134100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843280" y="3860640"/>
            <a:ext cx="36720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ЗАКЛЮЧИТЕЛЬНЫЙ ЭТАП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ведение итогов проек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ка презентации по фотографи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формление стенгазеты для родителей по итогам реализации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В ПЕРСПЕКТИВЕ –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сперимент с растениями «Растения и солнце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сперимент «Лед – вод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блюдения за сезонными изменениями природы, связанными с солнц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у детей активного словаря через организацию разных видов деятельности: игровой (прежде всего); познавательной (наблюдения, художественное слово), продуктив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ть детям элементарные представления о природном объекте – солнце, его влиянии на окружающий ми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ировать познавательную активность детей при проведении наблюд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огатить словарный запас детей по данной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репить понятия «желтый», «круглый», «похоже», «не похож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ип проекта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информационно-исследовательс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частники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воспитатель группы, дети первой младшей группы, род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лительность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2 недели с 9 по 20 апреля 2012 года (краткосрочны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ОЖИДАЕМЫЙ РЕЗУЛЬТАТ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обогащение активного и пассивного словаря детей за счет слов: «яркое», «светлое», «теплое», «светит», «улыбается», «греет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развитие у детей наблюда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РЕАЛИЗАЦИЯ ПРОЕКТ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изкультминутка – песня «Я на солнышке лежу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21168600">
            <a:off x="684000" y="292428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 rot="325200">
            <a:off x="4642920" y="2852640"/>
            <a:ext cx="38181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гра-ситуация «Солнышко вста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 rot="21364800">
            <a:off x="539640" y="256536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252600">
            <a:off x="4500360" y="2565000"/>
            <a:ext cx="4032000" cy="3022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08200" y="42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2000" y="333360"/>
            <a:ext cx="6785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РЕАЛИЗАЦИЯ ПРОЕКТ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5080" y="333360"/>
            <a:ext cx="6785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РЕАЛИЗАЦИЯ ПРОЕКТ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 rot="21048600">
            <a:off x="899640" y="2637000"/>
            <a:ext cx="3600720" cy="2700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076720" y="1773360"/>
            <a:ext cx="29718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РЕАЛИЗАЦИЯ ПРОЕКТ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нятие лепка «Солнышк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 rot="21279600">
            <a:off x="610920" y="263664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 rot="381600">
            <a:off x="4642920" y="2636640"/>
            <a:ext cx="381636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07:55:09Z</dcterms:created>
  <dc:creator>ADMIN</dc:creator>
  <dc:description/>
  <dc:language>en-US</dc:language>
  <cp:lastModifiedBy>ADMIN</cp:lastModifiedBy>
  <dcterms:modified xsi:type="dcterms:W3CDTF">2013-03-11T04:18:49Z</dcterms:modified>
  <cp:revision>4</cp:revision>
  <dc:subject/>
  <dc:title>             Проект  «Солнечный лучик»</dc:title>
</cp:coreProperties>
</file>