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37AB-FBDE-4C97-B3BA-E296D256A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E42D-B6C0-450E-895C-C4354D57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AA7F-8F59-4E50-8221-58BD76198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BBC0-BA91-411A-85FA-4D2295FF9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ED7F-B806-463B-919C-D4CB4158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1F43-36F3-4392-8A34-ABC419D2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BAA8-A563-43D9-A56C-D7146C87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F98A-8D75-4601-BC1A-8AA5094B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01DA-403E-4698-B7A6-0901E047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1F02-3C8A-4E60-AFBD-11D41A02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6237-01C8-4AD3-9747-1D00D0DE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C71D-C037-40A4-AA72-7498A3F5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F06D-ADD0-48FF-8D39-E0CFE0B6D8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User\Desktop\1304972175_2516.jpg"/>
          <p:cNvPicPr/>
          <p:nvPr/>
        </p:nvPicPr>
        <p:blipFill>
          <a:blip r:embed="rId1"/>
          <a:stretch/>
        </p:blipFill>
        <p:spPr>
          <a:xfrm>
            <a:off x="0" y="0"/>
            <a:ext cx="9586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Users\User\Desktop\desktopwallpapers.org.ua-140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User\Desktop\animals_240-1366x768.jpg"/>
          <p:cNvPicPr/>
          <p:nvPr/>
        </p:nvPicPr>
        <p:blipFill>
          <a:blip r:embed="rId1"/>
          <a:stretch/>
        </p:blipFill>
        <p:spPr>
          <a:xfrm>
            <a:off x="-324000" y="0"/>
            <a:ext cx="10374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Users\User\Desktop\1304972165_1108.jpg"/>
          <p:cNvPicPr/>
          <p:nvPr/>
        </p:nvPicPr>
        <p:blipFill>
          <a:blip r:embed="rId1"/>
          <a:stretch/>
        </p:blipFill>
        <p:spPr>
          <a:xfrm>
            <a:off x="2627280" y="0"/>
            <a:ext cx="471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Users\User\Desktop\162638_3000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User\Desktop\0_5c85b_3708d988_XL.jpg"/>
          <p:cNvPicPr/>
          <p:nvPr/>
        </p:nvPicPr>
        <p:blipFill>
          <a:blip r:embed="rId1"/>
          <a:stretch/>
        </p:blipFill>
        <p:spPr>
          <a:xfrm>
            <a:off x="0" y="765000"/>
            <a:ext cx="91216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C:\Users\User\Desktop\118833-1920x1200.jpg"/>
          <p:cNvPicPr/>
          <p:nvPr/>
        </p:nvPicPr>
        <p:blipFill>
          <a:blip r:embed="rId1"/>
          <a:stretch/>
        </p:blipFill>
        <p:spPr>
          <a:xfrm>
            <a:off x="0" y="0"/>
            <a:ext cx="951876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User\Desktop\1 (14).jpg"/>
          <p:cNvPicPr/>
          <p:nvPr/>
        </p:nvPicPr>
        <p:blipFill>
          <a:blip r:embed="rId1"/>
          <a:stretch/>
        </p:blipFill>
        <p:spPr>
          <a:xfrm>
            <a:off x="-123840" y="0"/>
            <a:ext cx="926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Users\User\Desktop\1337828584_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C:\Users\User\Desktop\91633026_large_8a9dee4d07cc_3.jpg"/>
          <p:cNvPicPr/>
          <p:nvPr/>
        </p:nvPicPr>
        <p:blipFill>
          <a:blip r:embed="rId1"/>
          <a:stretch/>
        </p:blipFill>
        <p:spPr>
          <a:xfrm>
            <a:off x="71280" y="351000"/>
            <a:ext cx="8964720" cy="59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6T20:12:49Z</dcterms:created>
  <dc:creator>User</dc:creator>
  <dc:description/>
  <dc:language>en-US</dc:language>
  <cp:lastModifiedBy>User</cp:lastModifiedBy>
  <dcterms:modified xsi:type="dcterms:W3CDTF">2013-02-28T19:27:37Z</dcterms:modified>
  <cp:revision>23</cp:revision>
  <dc:subject/>
  <dc:title>Слайд 1</dc:title>
</cp:coreProperties>
</file>