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58CB6-0BD6-495E-840C-148F573AD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47B34-BCDE-4C6D-9060-624B9A0D6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E62F5-F8FF-4301-A826-1A487525A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BBB3D-1601-4C70-BA9D-D1AB01C60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A9558B-CF8F-4612-9DD2-468F1731D0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810284-9A50-4BB7-8A0A-9D67E0D40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96AEE-18EC-4701-AF1B-EA1DFE08E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123A8D-0A66-4F55-A333-D36A1A1EC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2D04AD-35FA-487C-A3C1-2D76C6D1A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D5E9E-83D4-4399-833B-AB0BE5CDE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4B529-AFE7-432F-AD01-82ADD2685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50AFE-2531-47A9-A54E-4EE7491D4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663B1-BE53-4A06-88DD-FB6B68767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0D305-2DC1-470D-9FBD-6A02D75DD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7E1D52-C7E2-41BE-9B80-8E20B4760F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46DD78-6322-4E93-87C0-F80750E924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77EBFA-71D2-4494-94D3-1092C607F7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4E0F2-28F9-4DF5-B44A-2CC2D195B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3D245-AADC-4972-8997-B9898D73B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BD5ED-DEE0-45CC-97E2-1635B7CA3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FE619-D7EA-4419-9D1F-983F8AC31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6A704-3286-4357-BF88-68E6AE292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D0C76-27F9-4713-90B5-881AA7771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24300-1158-4B45-AA76-6CEAF9F7BE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7468A-596E-4221-971E-157394631658}"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ABBB-CB6E-41D5-A0B6-5B58D963A552}"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24000" y="1700280"/>
            <a:ext cx="7991280" cy="436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33cc"/>
                </a:solidFill>
                <a:latin typeface="Comic Sans MS"/>
              </a:rPr>
              <a:t>Нетрадиционные техники рисования с дошкольниками</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33cc"/>
                </a:solidFill>
                <a:latin typeface="Comic Sans MS"/>
              </a:rPr>
              <a:t>Подготовила:</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33cc"/>
                </a:solidFill>
                <a:latin typeface="Comic Sans MS"/>
              </a:rPr>
              <a:t>Воспитатель МАДОУ ЦРР</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33cc"/>
                </a:solidFill>
                <a:latin typeface="Comic Sans MS"/>
              </a:rPr>
              <a:t> </a:t>
            </a:r>
            <a:r>
              <a:rPr b="0" i="1" lang="ru-RU" sz="2000" spc="-1" strike="noStrike">
                <a:solidFill>
                  <a:srgbClr val="0033cc"/>
                </a:solidFill>
                <a:latin typeface="Comic Sans MS"/>
              </a:rPr>
              <a:t>детского сада №13 «Солнышко»</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33cc"/>
                </a:solidFill>
                <a:latin typeface="Comic Sans MS"/>
              </a:rPr>
              <a:t>Чекед Наталья Сергеевна</a:t>
            </a:r>
            <a:r>
              <a:rPr b="0" i="1" lang="ru-RU" sz="2000" spc="-1" strike="noStrike">
                <a:solidFill>
                  <a:srgbClr val="000000"/>
                </a:solidFill>
                <a:latin typeface="Comic Sans MS"/>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333000"/>
            <a:ext cx="68706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33cc"/>
                </a:solidFill>
                <a:latin typeface="Comic Sans MS"/>
              </a:rPr>
              <a:t>Шаблонография</a:t>
            </a:r>
            <a:r>
              <a:rPr b="0" lang="ru-RU"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557360"/>
            <a:ext cx="7696080" cy="3929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Чтобы нарисовать предмет, нужно представить, из каких геометрических форм он состоит. Дети с раннего возраста учатся узнавать  форму в игрушках, в предметах окружающей действительности. С возрастом  опыт ребенка становится шире, и он начинает понимать, что каждый сложный предмет можно изобразить с помощью простых составляющих: треугольников, квадратов, овалов, прямоугольников.</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Данная техника предполагает обрисовывание заранее приготовленных шаблонов – геометрических фигур – с целью составить и изобразить отдельный объект или сюжетную картинку.</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000" y="476280"/>
            <a:ext cx="6870600" cy="84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33cc"/>
                </a:solidFill>
                <a:latin typeface="Comic Sans MS"/>
              </a:rPr>
              <a:t>Граттаж </a:t>
            </a:r>
            <a:endParaRPr b="0" lang="en-US" sz="2800" spc="-1" strike="noStrike">
              <a:solidFill>
                <a:srgbClr val="000000"/>
              </a:solidFill>
              <a:latin typeface="Comic Sans MS"/>
            </a:endParaRPr>
          </a:p>
        </p:txBody>
      </p:sp>
      <p:sp>
        <p:nvSpPr>
          <p:cNvPr id="170" name="PlaceHolder 2"/>
          <p:cNvSpPr>
            <a:spLocks noGrp="1"/>
          </p:cNvSpPr>
          <p:nvPr>
            <p:ph/>
          </p:nvPr>
        </p:nvSpPr>
        <p:spPr>
          <a:xfrm>
            <a:off x="685800" y="1483920"/>
            <a:ext cx="7696080" cy="4002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Граттаж – способ выполнения рисунка путем процарапывания острым предметом. Плотный лист бумаги натирается свечой, по восковому слою наносится тушь или гуашь, в которую добавлено несколько капель жидкого мыла. Предварительно поверхность листа можно покрыть гуашью одного цвета или нанести пятна краски ярких цветов без просвета, тогда изображение будет цветным. Когда основа высохнет, заостренной палочкой рисунок процарапывается до слоя краски</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549360"/>
            <a:ext cx="6870600" cy="69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cc"/>
                </a:solidFill>
                <a:latin typeface="Comic Sans MS"/>
              </a:rPr>
              <a:t>Рисование пальчиками</a:t>
            </a:r>
            <a:endParaRPr b="0" lang="en-US" sz="2400" spc="-1" strike="noStrike">
              <a:solidFill>
                <a:srgbClr val="000000"/>
              </a:solidFill>
              <a:latin typeface="Comic Sans MS"/>
            </a:endParaRPr>
          </a:p>
        </p:txBody>
      </p:sp>
      <p:sp>
        <p:nvSpPr>
          <p:cNvPr id="172" name="PlaceHolder 2"/>
          <p:cNvSpPr>
            <a:spLocks noGrp="1"/>
          </p:cNvSpPr>
          <p:nvPr>
            <p:ph/>
          </p:nvPr>
        </p:nvSpPr>
        <p:spPr>
          <a:xfrm>
            <a:off x="323640" y="1412640"/>
            <a:ext cx="8057880" cy="4073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Этот способ рисования можно применять с детьми, начиная с двухлетнего возраста. Для проведения занятия понадобятся пальчиковые краски или гуашь, салфетки и плотная бумага небольшого размера с нанесенным на нее рисунком, так как дети младшего возраста могут лишь дополнить работу недостающими деталями. Ребенку предлагается опустить пальчик в краску и нанести точки, пятнышки на бумагу для завершения рисунка. Рисовать можно как одним цветом, так и несколькими, причем краски разного цвета можно набирать на разные пальчики.</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000" y="-4320"/>
            <a:ext cx="6870600" cy="337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33cc"/>
              </a:solidFill>
              <a:latin typeface="Comic Sans MS"/>
            </a:endParaRPr>
          </a:p>
        </p:txBody>
      </p:sp>
      <p:sp>
        <p:nvSpPr>
          <p:cNvPr id="152" name="PlaceHolder 2"/>
          <p:cNvSpPr>
            <a:spLocks noGrp="1"/>
          </p:cNvSpPr>
          <p:nvPr>
            <p:ph/>
          </p:nvPr>
        </p:nvSpPr>
        <p:spPr>
          <a:xfrm>
            <a:off x="178920" y="620280"/>
            <a:ext cx="8209080" cy="504036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Развитие творческого потенциала личности должно осуществляться с раннего детства, когда ребенок под руководством взрослых начинает овладевать различными видами деятельности, в том числе и художественной.  Большие возможности в развитии творчества заключает в себе изобразительная деятельность и, прежде всего рисование.</a:t>
            </a:r>
            <a:endParaRPr b="0" lang="en-US" sz="1400" spc="-1" strike="noStrike">
              <a:solidFill>
                <a:srgbClr val="000000"/>
              </a:solidFill>
              <a:latin typeface="Comic Sans M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Рисование является важным средством эстетического воспитания: оно позволяет детям выразить свое представление об окружающем мире, развивает фантазию, воображение, дает возможность закрепить знание о цвете, форме. В процессе рисования у ребенка совершенствуется наблюдательность, эстетическое восприятие, эстетические эмоции, художественный вкус, творческие способности, умение доступными средствами самостоятельно создавать красивое. Собственная художественная деятельность помогает детям постепенно подойти к пониманию произведений живописи, графики, скульптуры, декоративно-прикладного искусства. </a:t>
            </a:r>
            <a:endParaRPr b="0" lang="en-US" sz="1400" spc="-1" strike="noStrike">
              <a:solidFill>
                <a:srgbClr val="000000"/>
              </a:solidFill>
              <a:latin typeface="Comic Sans M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зображение в рисунках создается с помощью разнообразных материалов. Художники в своем творчестве используют различные материалы: разнообразные мелки, краски, уголь, сангину, пастель и многое другое. И в детское творчество так же необходимо включать различные краски, тушь, мелки, учить детей пользоваться этими изобразительными материалами в соотношении с их средствами выразительности.</a:t>
            </a:r>
            <a:endParaRPr b="0" lang="en-US" sz="1400" spc="-1" strike="noStrike">
              <a:solidFill>
                <a:srgbClr val="000000"/>
              </a:solidFill>
              <a:latin typeface="Comic Sans M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Нам взрослым, необходимо развить в ребенке чувство красоты. Именно от нас зависит, какой – богатой или бедной – будет его духовная жизнь. Чтобы привлечь любовь к изобразительному искусству, вызвать интерес к рисованию начиная с младшего возраста, надо использовать нетрадиционные способы изображения. Такое нетрадиционное рисование доставляет детям множество положительных эмоций, раскрывает возможность использования хорошо знакомых им предметов в качестве художественных материалов, удивляет своей непредсказуемостью.</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Comic Sans MS"/>
              </a:rPr>
              <a:t>Описание нетрадиционных техник рисования</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33cc"/>
                </a:solidFill>
                <a:latin typeface="Comic Sans MS"/>
              </a:rPr>
              <a:t>Рисование поролоном.</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Хорош для рисования кусочек поролоновой губки. Им можно как размазывать краску по бумаге, так и примакивать по поверхности листа. Этот вид техники очень подходит при изображении животных, так как передает фактурность пушистой поверхности объекта, а также для выполнения цветных фонов в разных композициях (изображение снежного покрова, водной поверхности, листопада и д.р)</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Comic Sans MS"/>
              </a:rPr>
              <a:t>Проступающий рисунок</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Это смешанная техника сочетает рисование разными материалами с целью ознакомления со свойствами и выразительными особенностями изобразительного материала. Задуманный сюжет выполняется восковым и карандашами (мелками), затем при помощи кисти поверх наносятся акварельные краски. Акварель скатывается с изображения, рисунок как бы проступает, проявляется.</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33cc"/>
                </a:solidFill>
                <a:latin typeface="Times New Roman"/>
              </a:rPr>
              <a:t>Кляксография</a:t>
            </a:r>
            <a:r>
              <a:rPr b="1" i="1" lang="ru-RU" sz="2400" spc="-1" strike="noStrike">
                <a:solidFill>
                  <a:srgbClr val="0033cc"/>
                </a:solidFill>
                <a:latin typeface="Comic Sans MS"/>
              </a:rPr>
              <a:t> </a:t>
            </a:r>
            <a:endParaRPr b="0" lang="en-US" sz="2400" spc="-1" strike="noStrike">
              <a:solidFill>
                <a:srgbClr val="000000"/>
              </a:solidFill>
              <a:latin typeface="Comic Sans MS"/>
            </a:endParaRPr>
          </a:p>
        </p:txBody>
      </p:sp>
      <p:sp>
        <p:nvSpPr>
          <p:cNvPr id="158" name="PlaceHolder 2"/>
          <p:cNvSpPr>
            <a:spLocks noGrp="1"/>
          </p:cNvSpPr>
          <p:nvPr>
            <p:ph/>
          </p:nvPr>
        </p:nvSpPr>
        <p:spPr>
          <a:xfrm>
            <a:off x="0" y="1828440"/>
            <a:ext cx="7696080" cy="3832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Основой данной техники рисования является клякса. В понимании многих клякса ассоциируется с неряшливостью, неаккуратностью. Поэтому задачей педагога является сделать кляксографию обучающим, развивающим средством в художественно- творческой  деятельности детей. Задачей данного вида рисования является понимание детьми симметричности – зеркального оттиска половинки рисуемого объекта. Если сложить лист пополам, на одну сторону накапать несколько капель жидкой краски и плотно прижать другую сторону, то получатся необычные, причудливые узоры. Можно постараться рассмотреть в них деревья, цветы, водоросли. Для начала необходимо попробывать работать с одной краской, потом с несколькими.</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cc"/>
                </a:solidFill>
                <a:latin typeface="Times New Roman"/>
              </a:rPr>
              <a:t>Техника выполнения витражей – клеевые картинки</a:t>
            </a:r>
            <a:endParaRPr b="0" lang="en-US" sz="2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Клеем ПВА (из флакона с дозированным носиком) на лист бумаги наносится контур будущего рисунка (можно предварительно сделать контур простым карандашом), дается  время для просыхания клеевой основы рисунка – витража, затем пространство между контурами раскрашивают яркими красками. Клеевые границы не позволяют краске растекаться и смешиваться.</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260280"/>
            <a:ext cx="6550200" cy="936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Comic Sans MS"/>
              </a:rPr>
              <a:t>Фотокопия – рисование свечой</a:t>
            </a:r>
            <a:r>
              <a:rPr b="0" lang="en-US"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267920"/>
            <a:ext cx="7696080" cy="4218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Данная техника называется «фотокопией». Рисунок наносится при помощи водоотталкивающего материала – свечки или сухого кусочка мыла, невидимые контуры не будут окрашиваться при нанесении поверх них акварельной краски, а будут проявляться, как это происходит при проявлении фотопленки.</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Comic Sans MS"/>
              </a:rPr>
              <a:t>Рисование музыки</a:t>
            </a:r>
            <a:endParaRPr b="0" lang="en-US" sz="28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если представить, что звукам соответствуют определенные цвета, а сочетание звуков – определенные пятна, то можно нарисовать музыку в виде свободного изображения линий, пятен, разнообразных узоров. При этом эстетические ощущения приблизят детей к миру музыки и научат их воспринимать и ощущать искусство изнутри.</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94920" y="549360"/>
            <a:ext cx="687060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33cc"/>
                </a:solidFill>
                <a:latin typeface="Comic Sans MS"/>
              </a:rPr>
              <a:t>Набрызги </a:t>
            </a:r>
            <a:endParaRPr b="0" lang="en-US" sz="2800" spc="-1" strike="noStrike">
              <a:solidFill>
                <a:srgbClr val="000000"/>
              </a:solidFill>
              <a:latin typeface="Comic Sans MS"/>
            </a:endParaRPr>
          </a:p>
        </p:txBody>
      </p:sp>
      <p:sp>
        <p:nvSpPr>
          <p:cNvPr id="166" name="PlaceHolder 2"/>
          <p:cNvSpPr>
            <a:spLocks noGrp="1"/>
          </p:cNvSpPr>
          <p:nvPr>
            <p:ph/>
          </p:nvPr>
        </p:nvSpPr>
        <p:spPr>
          <a:xfrm>
            <a:off x="685800" y="1412640"/>
            <a:ext cx="7696080" cy="4073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Для этого необходимо краски нужного цвета развести в блюдечке с водой, обмакнуть в краску старую зубную  щетку. Направить щетку на лист бумаги, резко провести по ней карандашом (палочкой) по направлению к себе, в этом случае краска будет брызгать на бумагу, а не на одежду.</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9T15:40:53Z</dcterms:created>
  <dc:creator>777</dc:creator>
  <dc:description/>
  <dc:language>en-US</dc:language>
  <cp:lastModifiedBy>777</cp:lastModifiedBy>
  <dcterms:modified xsi:type="dcterms:W3CDTF">2013-03-09T21:30:14Z</dcterms:modified>
  <cp:revision>4</cp:revision>
  <dc:subject/>
  <dc:title>Слайд 1</dc:title>
</cp:coreProperties>
</file>