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607DD-AF43-44B4-991F-551CDE2A6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CF0E-8923-4BCA-BB93-8ABE596EF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1C648-2C4A-472B-AB8D-D686F32C6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669D9-C80E-4028-9C11-92378C894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274D-6455-4603-9E12-17860BDE6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915B-C12F-4333-9DB5-44C86750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E5C0-FDD6-4572-8524-D04B0E05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81B62-EE92-4504-93E0-0A3FE4FE4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E89B5-7548-4E39-9CA3-8251A6C3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EA24-8A27-4F74-A751-4DD492ED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FA6A-6000-4DF5-BA48-26892BA8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EFDB-2523-453D-ADA5-0924BB321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D277-A70A-4474-8FB7-13FA44AF90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ru/imgres?q=&#1096;&#1086;&#1082;&#1086;&#1083;&#1072;&#1076;&amp;um=1&amp;hl=ru&amp;newwindow=1&amp;biw=1360&amp;bih=587&amp;tbm=isch&amp;tbnid=yPRMTz1iQPf4LM:&amp;imgrefurl=http://photocafe.ru/2010/02/hot-chocolate/&amp;docid=X4Nb1-JjR6qgnM&amp;imgurl=http://photocafe.ru/wp-content/uploads/2010/02/shokolad.jpg&amp;w=497&amp;h=1009&amp;ei=nPLVTqa8Coj44QSH993RAQ&amp;zoo"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yandex.ru/yandsearch?ed=1&amp;text=&#1096;&#1086;&#1082;&#1086;&#1083;&#1072;&#1076;&amp;img_url=static3.porjati.ru/uploads/posts/2011-06/thumbs/1308910729_29293.jpg&amp;rpt=simage&amp;p"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ru/imgres?q=&#1082;&#1072;&#1082;&#1072;&#1086;+&#1076;&#1077;&#1088;&#1077;&#1074;&#1086;&amp;um=1&amp;hl=ru&amp;newwindow=1&amp;biw=1360&amp;bih=587&amp;tbm=isch&amp;tbnid=vLRF33XNGeyUSM:&amp;imgrefurl=http://pomeniayka.com.ua/ru/node/41&amp;docid=hbboNsO2JGiLXM&amp;imgurl=http://pomeniayka.com.ua/sites/default/files/images/3-popup-low.jpg&amp;w=440&amp;h=296&amp;ei=Ie3VTtCZOqfk4QSmj-nAAQ&amp;zoo"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ru/imgres?q=&#1082;&#1072;&#1082;&#1072;&#1086;+&#1084;&#1072;&#1089;&#1083;&#1086;&amp;um=1&amp;hl=ru&amp;newwindow=1&amp;biw=1360&amp;bih=587&amp;tbm=isch&amp;tbnid=kdUMXz1CCV-olM:&amp;imgrefurl=http://www.cacaofamily.ru/?wpsc_product_category=&#1082;&#1072;&#1082;&#1072;&#1086;-&#1084;&#1072;&#1089;&#1083;&#1086;&amp;docid=qzRscox-n7PViM&amp;imgurl=http://www.cacaofamily.ru/wp-content/uploads/2011/09/-&#1084;&#1072;&#1089;&#1083;&#1086;.jpg&amp;w=400&amp;h=270&amp;ei=k_PVTrCBBemh4gSw2byVBg&amp;zoo"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g_hi" descr="http://t0.gstatic.com/images?q=tbn:ANd9GcTloQ_bhSvmxY1_Hv5qnPsH6kGCoJ9PTbIjC_EJbc86JeI_HK90">
            <a:hlinkClick r:id="rId1"/>
          </p:cNvPr>
          <p:cNvPicPr/>
          <p:nvPr/>
        </p:nvPicPr>
        <p:blipFill>
          <a:blip r:embed="rId2"/>
          <a:stretch/>
        </p:blipFill>
        <p:spPr>
          <a:xfrm>
            <a:off x="0" y="0"/>
            <a:ext cx="5256360" cy="6669000"/>
          </a:xfrm>
          <a:prstGeom prst="rect">
            <a:avLst/>
          </a:prstGeom>
          <a:ln w="0">
            <a:noFill/>
          </a:ln>
        </p:spPr>
      </p:pic>
      <p:sp>
        <p:nvSpPr>
          <p:cNvPr id="42" name="Text Box 5"/>
          <p:cNvSpPr/>
          <p:nvPr/>
        </p:nvSpPr>
        <p:spPr>
          <a:xfrm>
            <a:off x="5364000" y="11592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6"/>
          <p:cNvSpPr/>
          <p:nvPr/>
        </p:nvSpPr>
        <p:spPr>
          <a:xfrm>
            <a:off x="5364000" y="260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8"/>
          <p:cNvSpPr/>
          <p:nvPr/>
        </p:nvSpPr>
        <p:spPr>
          <a:xfrm>
            <a:off x="5435640" y="260280"/>
            <a:ext cx="34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292720" y="2923920"/>
            <a:ext cx="36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Учебный проект</a:t>
            </a:r>
            <a:br>
              <a:rPr sz="4000"/>
            </a:br>
            <a:r>
              <a:rPr b="1" i="1" lang="ru-RU" sz="4000" spc="-1" strike="noStrike">
                <a:solidFill>
                  <a:srgbClr val="000000"/>
                </a:solidFill>
                <a:latin typeface="Arial"/>
              </a:rPr>
              <a:t>Андреевой Анны, ученицы </a:t>
            </a:r>
            <a:r>
              <a:rPr b="1" i="1" lang="en-US" sz="4000" spc="-1" strike="noStrike">
                <a:solidFill>
                  <a:srgbClr val="000000"/>
                </a:solidFill>
                <a:latin typeface="Arial"/>
              </a:rPr>
              <a:t>5</a:t>
            </a:r>
            <a:r>
              <a:rPr b="1" i="1" lang="ru-RU" sz="4000" spc="-1" strike="noStrike">
                <a:solidFill>
                  <a:srgbClr val="000000"/>
                </a:solidFill>
                <a:latin typeface="Arial"/>
              </a:rPr>
              <a:t> класса ГБОУ СОШ</a:t>
            </a:r>
            <a:r>
              <a:rPr b="1" i="1" lang="en-US" sz="4000" spc="-1" strike="noStrike">
                <a:solidFill>
                  <a:srgbClr val="000000"/>
                </a:solidFill>
                <a:latin typeface="Arial"/>
              </a:rPr>
              <a:t> </a:t>
            </a:r>
            <a:r>
              <a:rPr b="1" i="1" lang="ru-RU" sz="4000" spc="-1" strike="noStrike">
                <a:solidFill>
                  <a:srgbClr val="000000"/>
                </a:solidFill>
                <a:latin typeface="Arial"/>
              </a:rPr>
              <a:t>№ 399</a:t>
            </a:r>
            <a:br>
              <a:rPr sz="4000"/>
            </a:br>
            <a:r>
              <a:rPr b="1" i="1" lang="en-US" sz="4000" spc="-1" strike="noStrike">
                <a:solidFill>
                  <a:srgbClr val="000000"/>
                </a:solidFill>
                <a:latin typeface="Arial"/>
              </a:rPr>
              <a:t>2012 </a:t>
            </a:r>
            <a:r>
              <a:rPr b="1" i="1" lang="ru-RU" sz="4000" spc="-1" strike="noStrike">
                <a:solidFill>
                  <a:srgbClr val="000000"/>
                </a:solidFill>
                <a:latin typeface="Arial"/>
              </a:rPr>
              <a:t>го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кастрюлю засыпала какао-порошок. После чего необходимо добавить сахар и ждать полного его растворения. Постепенно добавляя остальные составляющие.</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3" name="Рисунок 10" descr=""/>
          <p:cNvPicPr/>
          <p:nvPr/>
        </p:nvPicPr>
        <p:blipFill>
          <a:blip r:embed="rId1"/>
          <a:stretch/>
        </p:blipFill>
        <p:spPr>
          <a:xfrm>
            <a:off x="2916360" y="2852640"/>
            <a:ext cx="3384360" cy="22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Массу надо постоянно перемешивать и растирать. Если этого не делать, то не растворяется сахар и потом в шоколаде он будет крупинками, а это не очень вкусно.</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5" name="Рисунок 11" descr=""/>
          <p:cNvPicPr/>
          <p:nvPr/>
        </p:nvPicPr>
        <p:blipFill>
          <a:blip r:embed="rId1"/>
          <a:stretch/>
        </p:blipFill>
        <p:spPr>
          <a:xfrm>
            <a:off x="3132000" y="3424320"/>
            <a:ext cx="295272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Я добавила в формочки перед заливкой орешки и цукат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7" name="Рисунок 17" descr=""/>
          <p:cNvPicPr/>
          <p:nvPr/>
        </p:nvPicPr>
        <p:blipFill>
          <a:blip r:embed="rId1"/>
          <a:stretch/>
        </p:blipFill>
        <p:spPr>
          <a:xfrm>
            <a:off x="2670120" y="2852640"/>
            <a:ext cx="3430800" cy="27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06828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еперь можно смело разливать массу в формочки. Идеальным вариантом будут силиконовые, они могут быть разных форм, к тому же потом будет проще достать из них шоколад. Любителям полакомиться молочным шоколадом, потребуются еще и приготовленные заранее сливки.</a:t>
            </a:r>
            <a:br>
              <a:rPr sz="2400"/>
            </a:br>
            <a:endParaRPr b="0" lang="en-US" sz="2400" spc="-1" strike="noStrike">
              <a:solidFill>
                <a:srgbClr val="000000"/>
              </a:solidFill>
              <a:latin typeface="Arial"/>
            </a:endParaRPr>
          </a:p>
        </p:txBody>
      </p:sp>
      <p:pic>
        <p:nvPicPr>
          <p:cNvPr id="69" name="Рисунок 13" descr=""/>
          <p:cNvPicPr/>
          <p:nvPr/>
        </p:nvPicPr>
        <p:blipFill>
          <a:blip r:embed="rId1"/>
          <a:stretch/>
        </p:blipFill>
        <p:spPr>
          <a:xfrm>
            <a:off x="5219640" y="2205000"/>
            <a:ext cx="3170160" cy="21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852280"/>
            <a:ext cx="302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Хороший и вкусный шоколад получился у меня не сразу. Потребовалось 3 попытки, в ходе которых я поняла, как надо добавлять ингредиенты, как перемешивать и когда пора разливать шоколад по формочкам.</a:t>
            </a:r>
            <a:endParaRPr b="0" lang="en-US" sz="2400" spc="-1" strike="noStrike">
              <a:solidFill>
                <a:srgbClr val="000000"/>
              </a:solidFill>
              <a:latin typeface="Arial"/>
            </a:endParaRPr>
          </a:p>
        </p:txBody>
      </p:sp>
      <p:pic>
        <p:nvPicPr>
          <p:cNvPr id="71" name="Picture 11" descr="http://im4-tub-ru.yandex.net/i?id=314396668-25-72&amp;n=21"/>
          <p:cNvPicPr/>
          <p:nvPr/>
        </p:nvPicPr>
        <p:blipFill>
          <a:blip r:embed="rId1"/>
          <a:stretch/>
        </p:blipFill>
        <p:spPr>
          <a:xfrm>
            <a:off x="4427640" y="1700280"/>
            <a:ext cx="2665440" cy="25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иготовив шоколад дома, я поняла, что это очень трудоемкий и сложный процесс. В домашних условиях не получается так, как на производстве. Масло какао не может заменить сливочное масло. Для качества шоколада очень важно его достаточное присутствие в продукте.</a:t>
            </a:r>
            <a:endParaRPr b="0" lang="en-US" sz="2400" spc="-1" strike="noStrike">
              <a:solidFill>
                <a:srgbClr val="000000"/>
              </a:solidFill>
              <a:latin typeface="Arial"/>
            </a:endParaRPr>
          </a:p>
        </p:txBody>
      </p:sp>
      <p:pic>
        <p:nvPicPr>
          <p:cNvPr id="74" name="Picture 5" descr="chocolate-flavonoids-health-weight-loss-nutrition-diet"/>
          <p:cNvPicPr/>
          <p:nvPr/>
        </p:nvPicPr>
        <p:blipFill>
          <a:blip r:embed="rId1"/>
          <a:stretch/>
        </p:blipFill>
        <p:spPr>
          <a:xfrm>
            <a:off x="5219640" y="2500200"/>
            <a:ext cx="2305080" cy="23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27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ема моего проекта - шоколад</a:t>
            </a:r>
            <a:r>
              <a:rPr b="0" i="1" lang="ru-RU" sz="2800" spc="-1" strike="noStrike">
                <a:solidFill>
                  <a:srgbClr val="000000"/>
                </a:solidFill>
                <a:latin typeface="Arial"/>
              </a:rPr>
              <a:t>. Взрослые и дети любят шоколад. Меня очень заинтересовало, как из горьких плодов получается такая вкуснятина.</a:t>
            </a:r>
            <a:br>
              <a:rPr sz="2800"/>
            </a:br>
            <a:r>
              <a:rPr b="1" i="1" lang="ru-RU" sz="2800" spc="-1" strike="noStrike">
                <a:solidFill>
                  <a:srgbClr val="000000"/>
                </a:solidFill>
                <a:latin typeface="Arial"/>
              </a:rPr>
              <a:t>Цель моей работы</a:t>
            </a:r>
            <a:r>
              <a:rPr b="0" i="1" lang="ru-RU" sz="2800" spc="-1" strike="noStrike">
                <a:solidFill>
                  <a:srgbClr val="000000"/>
                </a:solidFill>
                <a:latin typeface="Arial"/>
              </a:rPr>
              <a:t> – приготовление шоколада в домашних условиях.</a:t>
            </a:r>
            <a:endParaRPr b="0" lang="en-US" sz="2800" spc="-1" strike="noStrike">
              <a:solidFill>
                <a:srgbClr val="000000"/>
              </a:solidFill>
              <a:latin typeface="Arial"/>
            </a:endParaRPr>
          </a:p>
        </p:txBody>
      </p:sp>
      <p:pic>
        <p:nvPicPr>
          <p:cNvPr id="47" name="Рисунок 16" descr="http://im6-tub-ru.yandex.net/i?id=462909571-29-72">
            <a:hlinkClick r:id="rId1"/>
          </p:cNvPr>
          <p:cNvPicPr/>
          <p:nvPr/>
        </p:nvPicPr>
        <p:blipFill>
          <a:blip r:embed="rId2"/>
          <a:stretch/>
        </p:blipFill>
        <p:spPr>
          <a:xfrm>
            <a:off x="2820960" y="3800520"/>
            <a:ext cx="2975040" cy="22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стория шоколада началась очень давно. Примерно 1500 лет до нашей эры в низменностях на берегу Мексиканского залива в Америке возникла цивилизация ольмеков. От их культуры осталось очень мало, но некоторые ученые полагают, что слово "какао" впервые прозвучало как "kakawa" примерно 1000 лет до нашей эры,в эпоху расцвета цивилизации ольмеков.</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9" name="il_fi" descr="http://www.tasse.ru/wp-content/uploads/quetzalcoatl.jpg"/>
          <p:cNvPicPr/>
          <p:nvPr/>
        </p:nvPicPr>
        <p:blipFill>
          <a:blip r:embed="rId1"/>
          <a:stretch/>
        </p:blipFill>
        <p:spPr>
          <a:xfrm>
            <a:off x="2843280" y="2852640"/>
            <a:ext cx="280836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19280" y="274680"/>
            <a:ext cx="346716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том были майя. Эти отличились тем, что побросали бобы какао на землю. Солнце подпалило их, и кто-то из бедняков собрал зерна и кинул в чашку с водой. Получился первый шоколад. Богачи подсмотрели, как бедняки пьют «какаву», и, возгоревшись завистью, отобрали чашку с «какавой» у бедняков. Они провозгласили напиток священным и объявили, что пить «какаву» простолюдинам – плохая примета. Для пущей убедительности своих слов они принесли в жертву пару храбрых воинов. Но и этого им было мало, они сделали шоколад деньгами, а в священности денег, а также в том, что иметь деньги простолюдинам – плохая примета, никто никогда не сомневался. Так шоколад переехал во дворцы правителей и страшно загордился.</a:t>
            </a:r>
            <a:endParaRPr b="0" lang="en-US" sz="1600" spc="-1" strike="noStrike">
              <a:solidFill>
                <a:srgbClr val="000000"/>
              </a:solidFill>
              <a:latin typeface="Arial"/>
            </a:endParaRPr>
          </a:p>
        </p:txBody>
      </p:sp>
      <p:pic>
        <p:nvPicPr>
          <p:cNvPr id="51" name="rg_hi" descr="http://t1.gstatic.com/images?q=tbn:ANd9GcSPqbVv5mfgL9wxi7nFS8rtz6sCxeS7EnNrzw601CTdVO1P0KuA">
            <a:hlinkClick r:id="rId1"/>
          </p:cNvPr>
          <p:cNvPicPr/>
          <p:nvPr/>
        </p:nvPicPr>
        <p:blipFill>
          <a:blip r:embed="rId2"/>
          <a:stretch/>
        </p:blipFill>
        <p:spPr>
          <a:xfrm>
            <a:off x="1763640" y="1773360"/>
            <a:ext cx="2303640" cy="32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0" y="29239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ервым европейцем, которому довелось попробовать шоколад, был </a:t>
            </a:r>
            <a:r>
              <a:rPr b="1" i="1" lang="ru-RU" sz="2000" spc="-1" strike="noStrike">
                <a:solidFill>
                  <a:srgbClr val="000000"/>
                </a:solidFill>
                <a:latin typeface="Arial"/>
              </a:rPr>
              <a:t>Христофор Колумб</a:t>
            </a:r>
            <a:r>
              <a:rPr b="0" i="1" lang="ru-RU" sz="2000" spc="-1" strike="noStrike">
                <a:solidFill>
                  <a:srgbClr val="000000"/>
                </a:solidFill>
                <a:latin typeface="Arial"/>
              </a:rPr>
              <a:t>. Случилось это в 1502 году, когда жители острова Гайана от всей души потчевали дорогого гостя напитком из какао-бобов. Говорят, что Колумб доставил загадочные зерна королю Фердинанду из своей четвертой экспедиции в Новый Свет, но никто так и не обратил на них внимания — слишком много других сокровищ привез мореплаватель.</a:t>
            </a:r>
            <a:endParaRPr b="0" lang="en-US" sz="2000" spc="-1" strike="noStrike">
              <a:solidFill>
                <a:srgbClr val="000000"/>
              </a:solidFill>
              <a:latin typeface="Arial"/>
            </a:endParaRPr>
          </a:p>
        </p:txBody>
      </p:sp>
      <p:pic>
        <p:nvPicPr>
          <p:cNvPr id="53" name="Picture 4" descr="http://vrednogo-net.ru/images/Tobacco.jpg"/>
          <p:cNvPicPr/>
          <p:nvPr/>
        </p:nvPicPr>
        <p:blipFill>
          <a:blip r:embed="rId1"/>
          <a:stretch/>
        </p:blipFill>
        <p:spPr>
          <a:xfrm>
            <a:off x="1908000" y="2276640"/>
            <a:ext cx="1440000" cy="230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707920"/>
            <a:ext cx="346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омышленное изготовление шоколада</a:t>
            </a:r>
            <a:br>
              <a:rPr sz="1400"/>
            </a:br>
            <a:r>
              <a:rPr b="0" i="1" lang="ru-RU" sz="1400" spc="-1" strike="noStrike">
                <a:solidFill>
                  <a:srgbClr val="000000"/>
                </a:solidFill>
                <a:latin typeface="Arial"/>
              </a:rPr>
              <a:t>Сортировка, очистка, обжарка, измельчение, перемалывание, конширование — вот только малая часть этапов производственного цикла, превращающего какао-бобы в шоколад, который мы едим. Шоколад поистине уникальный продукт — вкусный, высококалорийный (около 550 ккал на 100 граммов продукта), способный храниться годами без изменения свойств. В нем содержится 50-55% углеводов, 32-35% жира, 5-6% белков. А также дубильные вещества (4-5%), стимуляторы — теобромин и кофеин (1-1,5%), микроэлементы Na, K, Mg, P, Fe и витамины В1, В2 и РР</a:t>
            </a:r>
            <a:r>
              <a:rPr b="1" i="1" lang="ru-RU" sz="1400" spc="-1" strike="noStrike">
                <a:solidFill>
                  <a:srgbClr val="000000"/>
                </a:solidFill>
                <a:latin typeface="Arial"/>
              </a:rPr>
              <a:t>. В нем также присутствует около 40 летучих соединений, определяющих влекущий, ни с чем не сравнимый запах.</a:t>
            </a:r>
            <a:br>
              <a:rPr sz="1400"/>
            </a:br>
            <a:r>
              <a:rPr b="0" i="1" lang="ru-RU" sz="1400" spc="-1" strike="noStrike">
                <a:solidFill>
                  <a:srgbClr val="000000"/>
                </a:solidFill>
                <a:latin typeface="Arial"/>
              </a:rPr>
              <a:t> </a:t>
            </a:r>
            <a:r>
              <a:rPr b="1" lang="ru-RU" sz="1400" spc="-1" strike="noStrike" u="sng">
                <a:solidFill>
                  <a:srgbClr val="000000"/>
                </a:solidFill>
                <a:uFillTx/>
                <a:latin typeface="Arial"/>
              </a:rPr>
              <a:t>Кстати, ученые установили, что этот аромат благотворно действует на психику: снимает раздражение, умиротворяет.</a:t>
            </a:r>
            <a:endParaRPr b="0" lang="en-US" sz="1400" spc="-1" strike="noStrike">
              <a:solidFill>
                <a:srgbClr val="000000"/>
              </a:solidFill>
              <a:latin typeface="Arial"/>
            </a:endParaRPr>
          </a:p>
        </p:txBody>
      </p:sp>
      <p:pic>
        <p:nvPicPr>
          <p:cNvPr id="55" name="Picture 4" descr="http://www.shokoladnibym.com/files/proizvodstvo-shokolada/foto/2.jpg"/>
          <p:cNvPicPr/>
          <p:nvPr/>
        </p:nvPicPr>
        <p:blipFill>
          <a:blip r:embed="rId1"/>
          <a:stretch/>
        </p:blipFill>
        <p:spPr>
          <a:xfrm>
            <a:off x="3924360" y="1114560"/>
            <a:ext cx="4680000" cy="490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ногих, наверное, волновал вопрос</a:t>
            </a:r>
            <a:r>
              <a:rPr b="1" i="1" lang="ru-RU" sz="1800" spc="-1" strike="noStrike">
                <a:solidFill>
                  <a:srgbClr val="000000"/>
                </a:solidFill>
                <a:latin typeface="Arial"/>
              </a:rPr>
              <a:t>, почему шоколад бывает белого цвета</a:t>
            </a:r>
            <a:r>
              <a:rPr b="0" i="1" lang="ru-RU" sz="1800" spc="-1" strike="noStrike">
                <a:solidFill>
                  <a:srgbClr val="000000"/>
                </a:solidFill>
                <a:latin typeface="Arial"/>
              </a:rPr>
              <a:t>. Основой шоколадной плитки, заставляющей ее держать форму, является какао-масло, которое имеет белый цвет. Добавляем в него сухое молоко и сахарную пудру и получаем белый по цвету шоколад. Темный же шоколад — это тоже какао-масло плюс какао-порошок, который и придает плитке темный цвет.</a:t>
            </a:r>
            <a:endParaRPr b="0" lang="en-US" sz="1800" spc="-1" strike="noStrike">
              <a:solidFill>
                <a:srgbClr val="000000"/>
              </a:solidFill>
              <a:latin typeface="Arial"/>
            </a:endParaRPr>
          </a:p>
        </p:txBody>
      </p:sp>
      <p:pic>
        <p:nvPicPr>
          <p:cNvPr id="57" name="Picture 4" descr="http://demotivation.me/images/20081020/yuv9ofkz6eez.jpg"/>
          <p:cNvPicPr/>
          <p:nvPr/>
        </p:nvPicPr>
        <p:blipFill>
          <a:blip r:embed="rId1"/>
          <a:stretch/>
        </p:blipFill>
        <p:spPr>
          <a:xfrm>
            <a:off x="2968560" y="2708280"/>
            <a:ext cx="289872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к проверить шоколад "на полезность"? 25-30% содержания в плитке какао-бобов свидетелствует о достаточно низком качестве данного шоколада, 35-40% характеризует шоколад среднего качества,</a:t>
            </a:r>
            <a:br>
              <a:rPr sz="2000"/>
            </a:br>
            <a:r>
              <a:rPr b="0" i="1" lang="ru-RU" sz="2000" spc="-1" strike="noStrike">
                <a:solidFill>
                  <a:srgbClr val="000000"/>
                </a:solidFill>
                <a:latin typeface="Arial"/>
              </a:rPr>
              <a:t> 40-45% присутствует в продукте вполне хорошем, ну а содержание какао-бобов от 45 до 60% говорит само за себя — перед вами отличная шоколадка, которая пойдет вам на пользу.</a:t>
            </a:r>
            <a:endParaRPr b="0" lang="en-US" sz="2000" spc="-1" strike="noStrike">
              <a:solidFill>
                <a:srgbClr val="000000"/>
              </a:solidFill>
              <a:latin typeface="Arial"/>
            </a:endParaRPr>
          </a:p>
        </p:txBody>
      </p:sp>
      <p:pic>
        <p:nvPicPr>
          <p:cNvPr id="59" name="Picture 4" descr="http://t0.gstatic.com/images?q=tbn:ANd9GcQ32yr3iZ2rvXqlvFvlibquhtElmdM6VXMrpr5NA-pprnbJRkjTvg">
            <a:hlinkClick r:id="rId1"/>
          </p:cNvPr>
          <p:cNvPicPr/>
          <p:nvPr/>
        </p:nvPicPr>
        <p:blipFill>
          <a:blip r:embed="rId2"/>
          <a:stretch/>
        </p:blipFill>
        <p:spPr>
          <a:xfrm>
            <a:off x="2671920" y="3645000"/>
            <a:ext cx="3916080" cy="205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76720" y="2565360"/>
            <a:ext cx="361008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гредиенты для домашнего шоколада</a:t>
            </a:r>
            <a:r>
              <a:rPr b="0" i="1" lang="ru-RU" sz="1600" spc="-1" strike="noStrike">
                <a:solidFill>
                  <a:srgbClr val="000000"/>
                </a:solidFill>
                <a:latin typeface="Arial"/>
              </a:rPr>
              <a:t>:</a:t>
            </a:r>
            <a:br>
              <a:rPr sz="1600"/>
            </a:br>
            <a:r>
              <a:rPr b="0" i="1" lang="ru-RU" sz="1600" spc="-1" strike="noStrike">
                <a:solidFill>
                  <a:srgbClr val="000000"/>
                </a:solidFill>
                <a:latin typeface="Arial"/>
              </a:rPr>
              <a:t>Итак, для начала стоит рассказать о необходимых продуктах. В маминой книге рецептов было несколько вариантов приготовления. Я выбрала, как мне показалось, самый вкусный: </a:t>
            </a:r>
            <a:br>
              <a:rPr sz="1600"/>
            </a:br>
            <a:r>
              <a:rPr b="0" i="1" lang="ru-RU" sz="1600" spc="-1" strike="noStrike">
                <a:solidFill>
                  <a:srgbClr val="000000"/>
                </a:solidFill>
                <a:latin typeface="Arial"/>
              </a:rPr>
              <a:t>200 граммов тертого какао, плюс которого в том, что оно приготовлено без добавления всевозможных добавок. Если Вы не найдете подобный продукт, то его можно заменить порошком какао. </a:t>
            </a:r>
            <a:br>
              <a:rPr sz="1600"/>
            </a:br>
            <a:r>
              <a:rPr b="0" i="1" lang="ru-RU" sz="1600" spc="-1" strike="noStrike">
                <a:solidFill>
                  <a:srgbClr val="000000"/>
                </a:solidFill>
                <a:latin typeface="Arial"/>
              </a:rPr>
              <a:t>8 столовых ложек сахара. Заменить его можно пудрой – это облегчит процесс приготовления. </a:t>
            </a:r>
            <a:br>
              <a:rPr sz="1600"/>
            </a:br>
            <a:r>
              <a:rPr b="0" i="1" lang="ru-RU" sz="1600" spc="-1" strike="noStrike">
                <a:solidFill>
                  <a:srgbClr val="000000"/>
                </a:solidFill>
                <a:latin typeface="Arial"/>
              </a:rPr>
              <a:t>Не забудьте о 100 граммах обычного сливочного масла. Для любителей молочного шоколада понадобятся густые сливки.</a:t>
            </a:r>
            <a:br>
              <a:rPr sz="1600"/>
            </a:br>
            <a:r>
              <a:rPr b="0" i="1" lang="ru-RU" sz="1600" spc="-1" strike="noStrike">
                <a:solidFill>
                  <a:srgbClr val="000000"/>
                </a:solidFill>
                <a:latin typeface="Arial"/>
              </a:rPr>
              <a:t>1 столовая ложка муки</a:t>
            </a:r>
            <a:endParaRPr b="0" lang="en-US" sz="1600" spc="-1" strike="noStrike">
              <a:solidFill>
                <a:srgbClr val="000000"/>
              </a:solidFill>
              <a:latin typeface="Arial"/>
            </a:endParaRPr>
          </a:p>
        </p:txBody>
      </p:sp>
      <p:pic>
        <p:nvPicPr>
          <p:cNvPr id="61" name="Рисунок 9" descr=""/>
          <p:cNvPicPr/>
          <p:nvPr/>
        </p:nvPicPr>
        <p:blipFill>
          <a:blip r:embed="rId1"/>
          <a:stretch/>
        </p:blipFill>
        <p:spPr>
          <a:xfrm>
            <a:off x="1322280" y="3068640"/>
            <a:ext cx="3202200" cy="208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20:14:06Z</dcterms:created>
  <dc:creator>Admin</dc:creator>
  <dc:description/>
  <dc:language>en-US</dc:language>
  <cp:lastModifiedBy>Windows 7</cp:lastModifiedBy>
  <dcterms:modified xsi:type="dcterms:W3CDTF">2013-03-11T18:16:42Z</dcterms:modified>
  <cp:revision>8</cp:revision>
  <dc:subject/>
  <dc:title>Учебный проект Андреевой Анны, ученицы 4 «А» класса школы № 399</dc:title>
</cp:coreProperties>
</file>