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676-8C1C-4A2B-8DD4-46324488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5C9-56AD-4D3F-9DC7-114B682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2DA-3710-4D16-BB4D-0DCA2D22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EB3-8903-4B6B-9408-DE66D8E3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026-76D0-4DBC-A708-C9949E6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8A4-2E86-42B4-9EEA-62D13F0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F6A-C14E-41C5-B6DB-247F2FE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7F8-F5EF-4516-9C26-63AD065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618-A4AF-4286-9F56-501F05A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BF0-0407-40B4-A505-CF0A362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43B-0B74-4FD9-BA0D-76F3419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4E1-CF57-41BE-9100-DA0CDF7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3F9-379E-4D3C-8FB5-853FA0B1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shima.com/images/2500030207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«Школа 2100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19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хрушев А.А., Бурский О.В., Раутин А.С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ружающий мир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«Я и мир вокруг»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ебник для 1-го класса. В 2-х ч. - М.: , 2008. - Ч. 1 - 96 с., илл.; ч. 2 - 96 с., и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ая цель книги - показать всеобщую взаимосвязь маленького читателя со всей окружающей его действительностью. Важнейшее умение, которое получают ребята в 1-м классе - способность находить связь понятия с явлением и явлений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 Окружающий мир («Я и мир вокруг»). Учебник для 1-го класса "/>
          <p:cNvPicPr/>
          <p:nvPr/>
        </p:nvPicPr>
        <p:blipFill>
          <a:blip r:embed="rId1"/>
          <a:stretch/>
        </p:blipFill>
        <p:spPr>
          <a:xfrm>
            <a:off x="517680" y="1413000"/>
            <a:ext cx="262548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 Мои первые опыты. Учебное пособие к курсу «Окружающий мир» для 1–2-го классов "/>
          <p:cNvPicPr/>
          <p:nvPr/>
        </p:nvPicPr>
        <p:blipFill>
          <a:blip r:embed="rId1"/>
          <a:stretch/>
        </p:blipFill>
        <p:spPr>
          <a:xfrm>
            <a:off x="5076720" y="1268280"/>
            <a:ext cx="307188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3521160" cy="4542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80000" y="1268280"/>
            <a:ext cx="490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евина О.А., Лутцева Е.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чебник для 1-го класса («Прекрасное рядом с тобой»). - М.: 2008. - 144 с., ил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 направлен на формирование эстетического мышления учащихся на основе эстетических и художественных ценностей, на формирование технико-технологической культуры, на приобретение практических навы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 Технология («Прекрасное рядом с тобой»). Учебник для 1-го класса "/>
          <p:cNvPicPr/>
          <p:nvPr/>
        </p:nvPicPr>
        <p:blipFill>
          <a:blip r:embed="rId1"/>
          <a:stretch/>
        </p:blipFill>
        <p:spPr>
          <a:xfrm>
            <a:off x="712800" y="1628640"/>
            <a:ext cx="2354400" cy="2981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До новых встреч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Ждём Вас в нашей школ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КА  1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Г. Петерсон "Математика. 1 класс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части (3 книги, большой форм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 ориентирован на развитие мышления, творческих способностей ребенка, его интереса к математи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13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5179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Р.В. Бунеева Е.В. Пронина О.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я любимая Азбу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по обучению грамоте и чтению. Изд. 3-е, перераб. - М.: 2008. - 160 с., илл. (Серия «Свободный ум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5-85939-051-3"/>
          <p:cNvPicPr/>
          <p:nvPr/>
        </p:nvPicPr>
        <p:blipFill>
          <a:blip r:embed="rId1"/>
          <a:stretch/>
        </p:blipFill>
        <p:spPr>
          <a:xfrm>
            <a:off x="720720" y="1413000"/>
            <a:ext cx="309708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0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на О.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и волшебные пальчик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писи для первоклассников к «Букварю». В 5-ти тетрадях.  2002. Серия «Свободный у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на О.В., Лебедева Е.П., Мальцева О.Ю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традь для печата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 Мои волшебные пальчики. Прописи для первоклассников к «Букварю» "/>
          <p:cNvPicPr/>
          <p:nvPr/>
        </p:nvPicPr>
        <p:blipFill>
          <a:blip r:embed="rId1"/>
          <a:stretch/>
        </p:blipFill>
        <p:spPr>
          <a:xfrm>
            <a:off x="755640" y="260280"/>
            <a:ext cx="225108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978-5-85939-686-3"/>
          <p:cNvPicPr/>
          <p:nvPr/>
        </p:nvPicPr>
        <p:blipFill>
          <a:blip r:embed="rId2"/>
          <a:stretch/>
        </p:blipFill>
        <p:spPr>
          <a:xfrm>
            <a:off x="971640" y="3789360"/>
            <a:ext cx="2952720" cy="218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неев Р.Н.,Бунеева Е.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«Капельки солнца»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ик для 1-го класса. Изд. 3-е., перераб. - М.: 2001. - 208 с., илл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и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Литературное чтение» («Капельки солнца»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назначен для работы с первоклассниками после завершения курса обучения грамоте по учебнику «Букварь» авторов Р.Н. Бунеева, Е.В. Бунеевой, О.В. Прониной. Учебник развивает читательские умения детей, интерес к чтению, совершенствует технику чт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5-85939-262-1"/>
          <p:cNvPicPr/>
          <p:nvPr/>
        </p:nvPicPr>
        <p:blipFill>
          <a:blip r:embed="rId1"/>
          <a:stretch/>
        </p:blipFill>
        <p:spPr>
          <a:xfrm>
            <a:off x="958680" y="1413000"/>
            <a:ext cx="267660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11640" y="1268280"/>
            <a:ext cx="44956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 Р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еева Е.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ь по литературному чте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-й класс. - М.: 2001. - 64 с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чая тетрадь является приложением к учебнику «Литературное чтение» («Капельки солнца»), 1-й класс, и используется для работы с первоклассниками параллельно с учебником. Предназначена для совершенствования техники чтения, для развития умения понимать прочитанное, а также для выполнения творческих зад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 Тетрадь по литературному чтению к учебнику &quot;Капельки солнца&quot; "/>
          <p:cNvPicPr/>
          <p:nvPr/>
        </p:nvPicPr>
        <p:blipFill>
          <a:blip r:embed="rId1"/>
          <a:stretch/>
        </p:blipFill>
        <p:spPr>
          <a:xfrm>
            <a:off x="900000" y="1197000"/>
            <a:ext cx="2957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5-85939-103-X"/>
          <p:cNvPicPr/>
          <p:nvPr/>
        </p:nvPicPr>
        <p:blipFill>
          <a:blip r:embed="rId1"/>
          <a:stretch/>
        </p:blipFill>
        <p:spPr>
          <a:xfrm>
            <a:off x="588960" y="1197000"/>
            <a:ext cx="336708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7640" y="1341360"/>
            <a:ext cx="418608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неев Р.Н.,Бунеева Е.В , Пронина О.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ий язык (первые уроки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ое пособие для 1-го класса (1-4). Изд. 2-е, перераб. - М.: 2000. - 64 с., илл. (Серия «Свободный ум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назначено для работы с первоклассниками (1-4) в конце учебного года, после завершения курса обучения грамоте по учебнику «Букварь» и прописям «Мои волшебные пальч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обие в комплекте с рабочей тетрадью по русскому языку позволяе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вторить и обобщить знания и умения по русскому языку из курса обучения грамот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сформировать навыки работы с учебной книг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5-85939-236-2"/>
          <p:cNvPicPr/>
          <p:nvPr/>
        </p:nvPicPr>
        <p:blipFill>
          <a:blip r:embed="rId1"/>
          <a:stretch/>
        </p:blipFill>
        <p:spPr>
          <a:xfrm>
            <a:off x="601560" y="692280"/>
            <a:ext cx="3749760" cy="504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5-85939-215-X"/>
          <p:cNvPicPr/>
          <p:nvPr/>
        </p:nvPicPr>
        <p:blipFill>
          <a:blip r:embed="rId2"/>
          <a:stretch/>
        </p:blipFill>
        <p:spPr>
          <a:xfrm>
            <a:off x="4859280" y="692280"/>
            <a:ext cx="377028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cc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дыженская Т.А. и д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ая риторика в рисунках и рассказ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ая тетрадь для первоклассника. В 2-х ч. Изд. 2-е, перераб. - М.:, «Ювента», 1998. - Ч. 1 - 64 с., илл., ч. 2 - 64 с., ил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очное, занимательное учебное пособие для первоклассников позволяет учителю (родителям) ввести учеников в мир общения; показать значение речи в жизни человека; познакомить с некоторыми правилами вежливого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чебные пособия включены интересные задания, на основе которых формируются коммуникативные умения; рисунки и дидактический материал способствуют развитию творчес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пособностей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5-85429-083-9/5-85429-084-7/5-85939-113-7/5-85939-114-5"/>
          <p:cNvPicPr/>
          <p:nvPr/>
        </p:nvPicPr>
        <p:blipFill>
          <a:blip r:embed="rId1"/>
          <a:stretch/>
        </p:blipFill>
        <p:spPr>
          <a:xfrm>
            <a:off x="912960" y="692280"/>
            <a:ext cx="20253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5-85429-086-3"/>
          <p:cNvPicPr/>
          <p:nvPr/>
        </p:nvPicPr>
        <p:blipFill>
          <a:blip r:embed="rId2"/>
          <a:stretch/>
        </p:blipFill>
        <p:spPr>
          <a:xfrm>
            <a:off x="1042920" y="3789360"/>
            <a:ext cx="20052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0:39:06Z</dcterms:created>
  <dc:creator>Вера</dc:creator>
  <dc:description/>
  <dc:language>en-US</dc:language>
  <cp:lastModifiedBy>Вера</cp:lastModifiedBy>
  <dcterms:modified xsi:type="dcterms:W3CDTF">2009-03-14T10:41:51Z</dcterms:modified>
  <cp:revision>4</cp:revision>
  <dc:subject/>
  <dc:title>Программа  «Школа 2100»</dc:title>
</cp:coreProperties>
</file>