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EAFE-8DA6-466E-B261-A85EF18D7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816C-56B0-48A7-9907-8B8EEC302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1511-477E-49B1-92BC-2313C8280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5CA0-6BA8-471A-8547-4F156253A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7A16-A85B-412E-BC44-6D770C048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9AB7-F35D-449A-9ABC-58C32DAEB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F0A3-6D7F-40B1-A3B0-0D7E56A80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4C6F-EEBD-4DED-AA9E-5D3169D00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428D-C30D-432D-B25F-CFCDF991C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8A3F-E3FA-4363-8035-33CD482EA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E9D8-6B80-4D06-A88C-54B2B1D08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0C68-203D-460A-8CE2-EA6A7F8EB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50000">
              <a:srgbClr val="ccff99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0FBD9-4263-4A47-9AC6-7340C05980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neshima.com/images/25000302070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50000">
              <a:srgbClr val="ccff99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Программа</a:t>
            </a:r>
            <a:br>
              <a:rPr sz="8000"/>
            </a:b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 «Школа 2100»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Учебно-методически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омплек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50000">
              <a:srgbClr val="ccff99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КРУЖАЮЩИЙ МИ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067280" y="1413000"/>
            <a:ext cx="46195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ахрушев А.А., Бурский О.В., Раутин А.С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кружающий мир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«Я и мир вокруг»)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Учебник для 1-го класса. В 2-х ч. - М.: , 2008. - Ч. 1 - 96 с., илл.; ч. 2 - 96 с., ил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лавная цель книги - показать всеобщую взаимосвязь маленького читателя со всей окружающей его действительностью. Важнейшее умение, которое получают ребята в 1-м классе - способность находить связь понятия с явлением и явлений друг с друг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 Окружающий мир («Я и мир вокруг»). Учебник для 1-го класса "/>
          <p:cNvPicPr/>
          <p:nvPr/>
        </p:nvPicPr>
        <p:blipFill>
          <a:blip r:embed="rId1"/>
          <a:stretch/>
        </p:blipFill>
        <p:spPr>
          <a:xfrm>
            <a:off x="517680" y="1413000"/>
            <a:ext cx="2625480" cy="32828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50000">
              <a:srgbClr val="ccff99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 Мои первые опыты. Учебное пособие к курсу «Окружающий мир» для 1–2-го классов "/>
          <p:cNvPicPr/>
          <p:nvPr/>
        </p:nvPicPr>
        <p:blipFill>
          <a:blip r:embed="rId1"/>
          <a:stretch/>
        </p:blipFill>
        <p:spPr>
          <a:xfrm>
            <a:off x="5076720" y="1268280"/>
            <a:ext cx="3071880" cy="3889440"/>
          </a:xfrm>
          <a:prstGeom prst="rect">
            <a:avLst/>
          </a:prstGeom>
          <a:ln w="0">
            <a:noFill/>
          </a:ln>
        </p:spPr>
      </p:pic>
      <p:pic>
        <p:nvPicPr>
          <p:cNvPr id="70" name="pic" descr=""/>
          <p:cNvPicPr/>
          <p:nvPr/>
        </p:nvPicPr>
        <p:blipFill>
          <a:blip r:embed="rId2"/>
          <a:stretch/>
        </p:blipFill>
        <p:spPr>
          <a:xfrm>
            <a:off x="755640" y="907920"/>
            <a:ext cx="3521160" cy="45421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50000">
              <a:srgbClr val="ccff99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ЕХНОЛОГ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780000" y="1268280"/>
            <a:ext cx="4906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уревина О.А., Лутцева Е.А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ехнология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Учебник для 1-го класса («Прекрасное рядом с тобой»). - М.: 2008. - 144 с., ил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ебник направлен на формирование эстетического мышления учащихся на основе эстетических и художественных ценностей, на формирование технико-технологической культуры, на приобретение практических навык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 Технология («Прекрасное рядом с тобой»). Учебник для 1-го класса "/>
          <p:cNvPicPr/>
          <p:nvPr/>
        </p:nvPicPr>
        <p:blipFill>
          <a:blip r:embed="rId1"/>
          <a:stretch/>
        </p:blipFill>
        <p:spPr>
          <a:xfrm>
            <a:off x="712800" y="1628640"/>
            <a:ext cx="2354400" cy="29815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50000">
              <a:srgbClr val="ccff99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692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До новых встреч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Ждём Вас в нашей школ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0"/>
                            </p:stCondLst>
                            <p:childTnLst>
                              <p:par>
                                <p:cTn id="2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50000">
              <a:srgbClr val="ccff99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АТЕМАТИКА  1кла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.Г. Петерсон "Математика. 1 класс"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3 части (3 книги, большой форма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ебник ориентирован на развитие мышления, творческих способностей ребенка, его интереса к математике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i-main-pic" descr="Картинка 13 из 2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341360"/>
            <a:ext cx="3517920" cy="4680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50000">
              <a:srgbClr val="ccff99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БУЧЕНИЕ ГРАМОТ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унеевР.В. Бунеева Е.В. Пронина О.В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я любимая Азбу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ебник по обучению грамоте и чтению. Изд. 3-е, перераб. - М.: 2008. - 160 с., илл. (Серия «Свободный ум»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5-85939-051-3"/>
          <p:cNvPicPr/>
          <p:nvPr/>
        </p:nvPicPr>
        <p:blipFill>
          <a:blip r:embed="rId1"/>
          <a:stretch/>
        </p:blipFill>
        <p:spPr>
          <a:xfrm>
            <a:off x="720720" y="1413000"/>
            <a:ext cx="3097080" cy="43210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50000">
              <a:srgbClr val="ccff99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00" y="836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нина О.В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ои волшебные пальчики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Прописи для первоклассников к «Букварю». В 5-ти тетрадях.  2002. Серия «Свободный ум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нина О.В., Лебедева Е.П., Мальцева О.Ю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етрадь для печатания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-й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 Мои волшебные пальчики. Прописи для первоклассников к «Букварю» "/>
          <p:cNvPicPr/>
          <p:nvPr/>
        </p:nvPicPr>
        <p:blipFill>
          <a:blip r:embed="rId1"/>
          <a:stretch/>
        </p:blipFill>
        <p:spPr>
          <a:xfrm>
            <a:off x="755640" y="260280"/>
            <a:ext cx="2251080" cy="3095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978-5-85939-686-3"/>
          <p:cNvPicPr/>
          <p:nvPr/>
        </p:nvPicPr>
        <p:blipFill>
          <a:blip r:embed="rId2"/>
          <a:stretch/>
        </p:blipFill>
        <p:spPr>
          <a:xfrm>
            <a:off x="971640" y="3789360"/>
            <a:ext cx="2952720" cy="21844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50000">
              <a:srgbClr val="ccff99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ИТЕРАТУРНОЕ ЧТ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унеев Р.Н.,Бунеева Е.В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итературное чтение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«Капельки солнца»)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чебник для 1-го класса. Изд. 3-е., перераб. - М.: 2001. - 208 с., илл. (Серия «Свободный ум»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чебник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«Литературное чтение» («Капельки солнца»)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предназначен для работы с первоклассниками после завершения курса обучения грамоте по учебнику «Букварь» авторов Р.Н. Бунеева, Е.В. Бунеевой, О.В. Прониной. Учебник развивает читательские умения детей, интерес к чтению, совершенствует технику чтения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5-85939-262-1"/>
          <p:cNvPicPr/>
          <p:nvPr/>
        </p:nvPicPr>
        <p:blipFill>
          <a:blip r:embed="rId1"/>
          <a:stretch/>
        </p:blipFill>
        <p:spPr>
          <a:xfrm>
            <a:off x="958680" y="1413000"/>
            <a:ext cx="2676600" cy="43210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50000">
              <a:srgbClr val="ccff99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211640" y="1268280"/>
            <a:ext cx="449568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унеев Р.Н.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унеева Е.В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традь по литературному чтению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1-й класс. - М.: 2001. - 64 с. (Серия «Свободный ум»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бочая тетрадь является приложением к учебнику «Литературное чтение» («Капельки солнца»), 1-й класс, и используется для работы с первоклассниками параллельно с учебником. Предназначена для совершенствования техники чтения, для развития умения понимать прочитанное, а также для выполнения творческих задани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 Тетрадь по литературному чтению к учебнику &quot;Капельки солнца&quot; "/>
          <p:cNvPicPr/>
          <p:nvPr/>
        </p:nvPicPr>
        <p:blipFill>
          <a:blip r:embed="rId1"/>
          <a:stretch/>
        </p:blipFill>
        <p:spPr>
          <a:xfrm>
            <a:off x="900000" y="1197000"/>
            <a:ext cx="2957760" cy="37447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50000">
              <a:srgbClr val="ccff99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УССКИЙ ЯЗЫ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5-85939-103-X"/>
          <p:cNvPicPr/>
          <p:nvPr/>
        </p:nvPicPr>
        <p:blipFill>
          <a:blip r:embed="rId1"/>
          <a:stretch/>
        </p:blipFill>
        <p:spPr>
          <a:xfrm>
            <a:off x="588960" y="1197000"/>
            <a:ext cx="3367080" cy="4680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427640" y="1341360"/>
            <a:ext cx="418608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унеев Р.Н.,Бунеева Е.В , Пронина О.В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усский язык (первые уроки)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Учебное пособие для 1-го класса (1-4). Изд. 2-е, перераб. - М.: 2000. - 64 с., илл. (Серия «Свободный ум»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едназначено для работы с первоклассниками (1-4) в конце учебного года, после завершения курса обучения грамоте по учебнику «Букварь» и прописям «Мои волшебные пальчики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собие в комплекте с рабочей тетрадью по русскому языку позволяет: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– повторить и обобщить знания и умения по русскому языку из курса обучения грамоте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– сформировать навыки работы с учебной книг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50000">
              <a:srgbClr val="ccff99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5-85939-236-2"/>
          <p:cNvPicPr/>
          <p:nvPr/>
        </p:nvPicPr>
        <p:blipFill>
          <a:blip r:embed="rId1"/>
          <a:stretch/>
        </p:blipFill>
        <p:spPr>
          <a:xfrm>
            <a:off x="601560" y="692280"/>
            <a:ext cx="3749760" cy="50418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5-85939-215-X"/>
          <p:cNvPicPr/>
          <p:nvPr/>
        </p:nvPicPr>
        <p:blipFill>
          <a:blip r:embed="rId2"/>
          <a:stretch/>
        </p:blipFill>
        <p:spPr>
          <a:xfrm>
            <a:off x="4859280" y="692280"/>
            <a:ext cx="3770280" cy="50338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50000">
              <a:srgbClr val="ccff99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ИТОР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48320" y="1268280"/>
            <a:ext cx="403848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адыженская Т.А. и др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етская риторика в рисунках и рассказах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Учебная тетрадь для первоклассника. В 2-х ч. Изд. 2-е, перераб. - М.:, «Ювента», 1998. - Ч. 1 - 64 с., илл., ч. 2 - 64 с., ил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расочное, занимательное учебное пособие для первоклассников позволяет учителю (родителям) ввести учеников в мир общения; показать значение речи в жизни человека; познакомить с некоторыми правилами вежливого общения и т.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учебные пособия включены интересные задания, на основе которых формируются коммуникативные умения; рисунки и дидактический материал способствуют развитию творческих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способностей учени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5-85429-083-9/5-85429-084-7/5-85939-113-7/5-85939-114-5"/>
          <p:cNvPicPr/>
          <p:nvPr/>
        </p:nvPicPr>
        <p:blipFill>
          <a:blip r:embed="rId1"/>
          <a:stretch/>
        </p:blipFill>
        <p:spPr>
          <a:xfrm>
            <a:off x="912960" y="692280"/>
            <a:ext cx="2025360" cy="2592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5-85429-086-3"/>
          <p:cNvPicPr/>
          <p:nvPr/>
        </p:nvPicPr>
        <p:blipFill>
          <a:blip r:embed="rId2"/>
          <a:stretch/>
        </p:blipFill>
        <p:spPr>
          <a:xfrm>
            <a:off x="1042920" y="3789360"/>
            <a:ext cx="2005200" cy="28083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0:39:06Z</dcterms:created>
  <dc:creator>Вера</dc:creator>
  <dc:description/>
  <dc:language>en-US</dc:language>
  <cp:lastModifiedBy>Вера</cp:lastModifiedBy>
  <dcterms:modified xsi:type="dcterms:W3CDTF">2009-03-14T10:41:51Z</dcterms:modified>
  <cp:revision>4</cp:revision>
  <dc:subject/>
  <dc:title>Программа  «Школа 2100»</dc:title>
</cp:coreProperties>
</file>