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7.wmf" ContentType="image/x-wmf"/>
  <Override PartName="/ppt/media/image8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791-1923-42F5-BB20-99ED57EC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201-3BB9-4D17-A8C6-82A2F35F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E19-48FC-48EB-B790-A789F108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8C8-6CA5-4F95-8858-BB8557A0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D64D-105C-4D9A-8FB1-5FEBBBE9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D1B9-B878-4FD1-8850-276EA862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CB6A-BA56-4739-AD84-EA701CB4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607E-F920-4EF6-BAF3-2B9CFDD7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F543-47B7-43C9-B10D-644355CD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B45F-DE5D-443D-B75C-E818BDAF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A834-B96E-44B2-BF6A-C9B5BBBF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0C5-7DA0-4D62-B5E9-501331E8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496C-9650-4993-B9D2-06CA8B1C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B70D-7642-4BD1-B9B6-578CCF02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2397-3236-4891-828B-19A29567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64F-D295-4EFC-8E2F-4F4AE199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AA22-177C-4AD3-9546-89BFEF3F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471-436A-41EC-A4CA-85ECA12B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BE1-CC9F-4DC8-9475-287DB85A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D3D-75A1-4924-8B28-1997D217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A7F-6A2F-4E03-BB27-11D7E06F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CC9-1E39-4DA7-A01B-C16C7F30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48E-D1D3-4EF5-A946-2BB67C71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915-C407-40FD-AD15-91624442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E393B6-FEE7-4248-A369-D4D20905958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F6C7F2-95BC-4403-8800-519F3AFE8B8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75;&#1083;&#1072;&#1074;&#1085;&#1072;&#1103;_&#1089;&#1090;&#1088;&#1072;&#1085;&#1080;&#1094;&#1072;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3-tub-ru.yandex.net/i?id=137705034-59-72&amp;n=21" TargetMode="External"/><Relationship Id="rId2" Type="http://schemas.openxmlformats.org/officeDocument/2006/relationships/hyperlink" Target="http://im8-tub-ru.yandex.net/i?id=85532614-70-72&amp;n=21" TargetMode="External"/><Relationship Id="rId3" Type="http://schemas.openxmlformats.org/officeDocument/2006/relationships/hyperlink" Target="http://im7-tub-ru.yandex.net/i?id=112346542-39-72&amp;n=21" TargetMode="External"/><Relationship Id="rId4" Type="http://schemas.openxmlformats.org/officeDocument/2006/relationships/hyperlink" Target="http://im3-tub-ru.yandex.net/i?id=34016531-47-72&amp;n=21" TargetMode="External"/><Relationship Id="rId5" Type="http://schemas.openxmlformats.org/officeDocument/2006/relationships/hyperlink" Target="http://im0-tub-ru.yandex.net/i?id=22695982-57-72&amp;n=21" TargetMode="External"/><Relationship Id="rId6" Type="http://schemas.openxmlformats.org/officeDocument/2006/relationships/hyperlink" Target="http://im3-tub-ru.yandex.net/i?id=346497765-58-72&amp;n=21" TargetMode="External"/><Relationship Id="rId7" Type="http://schemas.openxmlformats.org/officeDocument/2006/relationships/hyperlink" Target="http://im3-tub-ru.yandex.net/i?id=578285935-01-72&amp;n=21" TargetMode="External"/><Relationship Id="rId8" Type="http://schemas.openxmlformats.org/officeDocument/2006/relationships/hyperlink" Target="http://s.rpod.ru/data/pictures/00/00/04/63/81/795dd434cd91cb65e6ae9f98b8c2cfc8.jpg" TargetMode="External"/><Relationship Id="rId9" Type="http://schemas.openxmlformats.org/officeDocument/2006/relationships/hyperlink" Target="http://im0-tub-ru.yandex.net/i?id=67905264-40-72&amp;n=21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одительское собрание на тему: «Адаптация пятиклассников               в средней школе»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360" y="45799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авинова Галина Анатольевна Воспитатель ГПД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НОУ СОШ «Кристалл» г.о.Сызрань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414360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803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2386080"/>
            <a:ext cx="475308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11970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Список использованных печатных источников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.П.Краковский. - Москва : Педагогика,   1970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Ф.Б. Березин. - Психическая и психофизиологическая адаптация человека - Л., 1988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26920" y="1185840"/>
            <a:ext cx="7780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Активные ссылки на страницы материалов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нтернете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даптаци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ru.wikipedia.org/wiki/%D0%97%D0%B0%D0%B3%D0%BB%D0%B0%D0%B2%D0%BD%D0%B0%D1%8F_%D1%81%D1%82%D1%80%D0%B0%D0%BD%D0%B8%D1%86%D0%B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Активные ссылки на использованные изображ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00000" y="2339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ятиклассники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im3-tub-ru.yandex.net/i?id=137705034-59-72&amp;n=2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омендации для родителей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m8-tub-ru.yandex.net/i?id=85532614-70-72&amp;n=2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влечь к себе сверстников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im7-tub-ru.yandex.net/i?id=112346542-39-72&amp;n=21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ля Вас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3-tub-ru.yandex.net/i?id=34016531-47-72&amp;n=21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Успешная  адаптация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im0-tub-ru.yandex.net/i?id=22695982-57-72&amp;n=2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езадаптация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im3-tub-ru.yandex.net/i?id=346497765-58-72&amp;n=2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Золотые правила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im3-tub-ru.yandex.net/i?id=578285935-01-72&amp;n=21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даптация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s.rpod.ru/data/pictures/00/00/04/63/81/795dd434cd91cb65e6ae9f98b8c2cfc8.jp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пасибо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im0-tub-ru.yandex.net/i?id=67905264-40-72&amp;n=2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60400" y="80172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6440" y="2339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комить родительский коллектив с особенностями адаптации детей к обучению в пятом классе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ложить практические  советы по адаптации ребенка к школ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2133360" cy="25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зрастные особенности младшего подрост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50403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требность в достойном положении в коллективе сверстников, в семь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ная утомляемост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емление обзавестись верным друг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емление избежать изоляции, как в классе, так и в малом коллектив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ный интерес к вопросу о “соотношении сил” в класс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330660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зрастные особенности младшего подрост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24360" y="2349360"/>
            <a:ext cx="496728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оценка своих возможностей, реализация которых предполагается в отдаленном будущ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адаптации к неудача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адаптации к положению “худшего”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нденция предаваться мечтания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оязнь осквернения мечт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3366"/>
              </a:solidFill>
              <a:latin typeface="Arial"/>
              <a:ea typeface="Arial Unicode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3645000"/>
            <a:ext cx="2930760" cy="29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зрастные особенности младшего подрост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411360"/>
            <a:ext cx="5219640" cy="301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61000" y="2362320"/>
            <a:ext cx="43830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рко выраженная эмоциональност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ебовательность к соответствию слова дел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ный интерес к спорт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влечение коллекционированием, увлечение музыкой и киноискусств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00720" y="179280"/>
            <a:ext cx="2667240" cy="33433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803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даптаци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70240" y="3100320"/>
            <a:ext cx="851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96760" y="2340000"/>
            <a:ext cx="774252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знаки успешной адапта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34000" y="3573360"/>
            <a:ext cx="4410000" cy="2857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60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бенок легко справляется с программо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епень самостоятельности ребенка при выполнении им учебных заданий, готовност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бегнуть к помощи взрослог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шь ПОСЛЕ попыт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полнить задание самом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довлетворенност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личностными отношениями –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классниками и учителе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0" r="5888" b="0"/>
          <a:stretch/>
        </p:blipFill>
        <p:spPr>
          <a:xfrm>
            <a:off x="5508720" y="0"/>
            <a:ext cx="3635280" cy="2492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26920" y="692280"/>
            <a:ext cx="51055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знаки дезадапта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349000"/>
            <a:ext cx="86043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олотые правила воспит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1392" b="5076"/>
          <a:stretch/>
        </p:blipFill>
        <p:spPr>
          <a:xfrm>
            <a:off x="3851280" y="3092400"/>
            <a:ext cx="4968720" cy="3576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792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лько добрый пример отца и матери может  дать добрые всходы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9:13:15Z</dcterms:created>
  <dc:creator>User</dc:creator>
  <dc:description/>
  <dc:language>en-US</dc:language>
  <cp:lastModifiedBy>User</cp:lastModifiedBy>
  <dcterms:modified xsi:type="dcterms:W3CDTF">2013-03-09T20:32:00Z</dcterms:modified>
  <cp:revision>2</cp:revision>
  <dc:subject/>
  <dc:title>Родительское собрание на тему: «Адаптация пятиклассников               в средней школе».</dc:title>
</cp:coreProperties>
</file>