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7.wmf" ContentType="image/x-wmf"/>
  <Override PartName="/ppt/media/image8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53B-5C9C-4280-9B4E-F93834B1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C0A-F782-4FDC-857A-B226FF40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FCD-340E-481E-BC3E-95BF3449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950-8395-40B7-9924-4E7761CC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861F-18EF-4D3B-BA76-8656BA79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4F47-8D75-4A71-B755-6199AE94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253A-F41B-4F29-9106-8948CFEC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E0B7-BA2E-408E-A448-4A59A55F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F5A3-E12A-4219-BDB9-C0B3E725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9B61-B5E5-4365-A8D2-B06134CE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6947-DF28-4E8B-AD62-060A3721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E5A-B608-431D-B1FD-FD44CE52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57E2-900C-4FA7-B087-D669A005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6C1B-37F8-40DE-BF5A-E625DEA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497B-AD28-47E5-9161-3A35A50F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C87E-A680-4552-8E5B-286AEB61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ED77-F0B1-4A4D-989A-672570C9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397-8CB0-453D-ABF6-5039401A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E6F-0094-49E9-A8D9-5DA6E219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2FB-9391-45BB-A239-A04AE46B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DAD-68F2-40B8-9D79-A6D8F3F5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4A0-D822-4F1D-8F98-5D8FAD97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84F-1A7B-45F6-B0E1-CCFD87D1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F4F-7030-42D0-83AF-DF0116ED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2C3A58-F88C-4FE7-83DF-850873C7914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A6E26A-3E05-4D93-8B35-51AEB3197BF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75;&#1083;&#1072;&#1074;&#1085;&#1072;&#1103;_&#1089;&#1090;&#1088;&#1072;&#1085;&#1080;&#1094;&#1072;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3-tub-ru.yandex.net/i?id=137705034-59-72&amp;n=21" TargetMode="External"/><Relationship Id="rId2" Type="http://schemas.openxmlformats.org/officeDocument/2006/relationships/hyperlink" Target="http://im8-tub-ru.yandex.net/i?id=85532614-70-72&amp;n=21" TargetMode="External"/><Relationship Id="rId3" Type="http://schemas.openxmlformats.org/officeDocument/2006/relationships/hyperlink" Target="http://im7-tub-ru.yandex.net/i?id=112346542-39-72&amp;n=21" TargetMode="External"/><Relationship Id="rId4" Type="http://schemas.openxmlformats.org/officeDocument/2006/relationships/hyperlink" Target="http://im3-tub-ru.yandex.net/i?id=34016531-47-72&amp;n=21" TargetMode="External"/><Relationship Id="rId5" Type="http://schemas.openxmlformats.org/officeDocument/2006/relationships/hyperlink" Target="http://im0-tub-ru.yandex.net/i?id=22695982-57-72&amp;n=21" TargetMode="External"/><Relationship Id="rId6" Type="http://schemas.openxmlformats.org/officeDocument/2006/relationships/hyperlink" Target="http://im3-tub-ru.yandex.net/i?id=346497765-58-72&amp;n=21" TargetMode="External"/><Relationship Id="rId7" Type="http://schemas.openxmlformats.org/officeDocument/2006/relationships/hyperlink" Target="http://im3-tub-ru.yandex.net/i?id=578285935-01-72&amp;n=21" TargetMode="External"/><Relationship Id="rId8" Type="http://schemas.openxmlformats.org/officeDocument/2006/relationships/hyperlink" Target="http://s.rpod.ru/data/pictures/00/00/04/63/81/795dd434cd91cb65e6ae9f98b8c2cfc8.jpg" TargetMode="External"/><Relationship Id="rId9" Type="http://schemas.openxmlformats.org/officeDocument/2006/relationships/hyperlink" Target="http://im0-tub-ru.yandex.net/i?id=67905264-40-72&amp;n=21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одительское собрание на тему: «Адаптация пятиклассников               в средней школе»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16360" y="45799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авинова Галина Анатольевна Воспитатель ГПД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НОУ СОШ «Кристалл» г.о.Сызрань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414360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803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2386080"/>
            <a:ext cx="475308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11970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Список использованных печатных источников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.П.Краковский. - Москва : Педагогика,   1970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Ф.Б. Березин. - Психическая и психофизиологическая адаптация человека - Л., 1988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26920" y="1185840"/>
            <a:ext cx="7780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Активные ссылки на страницы материалов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нтернете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даптаци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ru.wikipedia.org/wiki/%D0%97%D0%B0%D0%B3%D0%BB%D0%B0%D0%B2%D0%BD%D0%B0%D1%8F_%D1%81%D1%82%D1%80%D0%B0%D0%BD%D0%B8%D1%86%D0%B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Активные ссылки на использованные изображ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00000" y="2339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ятиклассники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im3-tub-ru.yandex.net/i?id=137705034-59-72&amp;n=2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омендации для родителей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im8-tub-ru.yandex.net/i?id=85532614-70-72&amp;n=2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ивлечь к себе сверстников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im7-tub-ru.yandex.net/i?id=112346542-39-72&amp;n=21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ля Вас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3-tub-ru.yandex.net/i?id=34016531-47-72&amp;n=21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Успешная  адаптация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im0-tub-ru.yandex.net/i?id=22695982-57-72&amp;n=2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езадаптация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im3-tub-ru.yandex.net/i?id=346497765-58-72&amp;n=2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Золотые правила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im3-tub-ru.yandex.net/i?id=578285935-01-72&amp;n=21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даптация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s.rpod.ru/data/pictures/00/00/04/63/81/795dd434cd91cb65e6ae9f98b8c2cfc8.jp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пасибо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im0-tub-ru.yandex.net/i?id=67905264-40-72&amp;n=2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60400" y="80172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6440" y="2339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комить родительский коллектив с особенностями адаптации детей к обучению в пятом классе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ложить практические  советы по адаптации ребенка к школ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2133360" cy="25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зрастные особенности младшего подрост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50403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требность в достойном положении в коллективе сверстников, в семь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ышенная утомляемост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емление обзавестись верным друг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емление избежать изоляции, как в классе, так и в малом коллектив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ышенный интерес к вопросу о “соотношении сил” в класс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330660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зрастные особенности младшего подрост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24360" y="2349360"/>
            <a:ext cx="496728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оценка своих возможностей, реализация которых предполагается в отдаленном будуще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адаптации к неудача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адаптации к положению “худшего”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нденция предаваться мечтания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оязнь осквернения мечт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3366"/>
              </a:solidFill>
              <a:latin typeface="Arial"/>
              <a:ea typeface="Arial Unicode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3645000"/>
            <a:ext cx="2930760" cy="29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зрастные особенности младшего подрост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411360"/>
            <a:ext cx="5219640" cy="3017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61000" y="2362320"/>
            <a:ext cx="43830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рко выраженная эмоциональност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ебовательность к соответствию слова дел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ышенный интерес к спорт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влечение коллекционированием, увлечение музыкой и киноискусств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00720" y="179280"/>
            <a:ext cx="2667240" cy="33433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3400" y="750600"/>
            <a:ext cx="77803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даптаци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70240" y="3100320"/>
            <a:ext cx="851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96760" y="2340000"/>
            <a:ext cx="774252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знаки успешной адапта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34000" y="3573360"/>
            <a:ext cx="4410000" cy="2857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60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бенок легко справляется с программо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епень самостоятельности ребенка при выполнении им учебных заданий, готовност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бегнуть к помощи взрослог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шь ПОСЛЕ попыт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полнить задание самом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довлетворенност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личностными отношениями –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одноклассниками и учителе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0" r="5888" b="0"/>
          <a:stretch/>
        </p:blipFill>
        <p:spPr>
          <a:xfrm>
            <a:off x="5508720" y="0"/>
            <a:ext cx="3635280" cy="2492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26920" y="692280"/>
            <a:ext cx="51055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знаки дезадапта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349000"/>
            <a:ext cx="86043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олотые правила воспит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1392" b="5076"/>
          <a:stretch/>
        </p:blipFill>
        <p:spPr>
          <a:xfrm>
            <a:off x="3851280" y="3092400"/>
            <a:ext cx="4968720" cy="3576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2361960"/>
            <a:ext cx="7920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лько добрый пример отца и матери может  дать добрые всходы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9:13:15Z</dcterms:created>
  <dc:creator>User</dc:creator>
  <dc:description/>
  <dc:language>en-US</dc:language>
  <cp:lastModifiedBy>User</cp:lastModifiedBy>
  <dcterms:modified xsi:type="dcterms:W3CDTF">2013-03-09T20:32:00Z</dcterms:modified>
  <cp:revision>2</cp:revision>
  <dc:subject/>
  <dc:title>Родительское собрание на тему: «Адаптация пятиклассников               в средней школе».</dc:title>
</cp:coreProperties>
</file>