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62A-E412-4F41-88D2-451D9084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353-5A24-4B18-8A2C-9827FC27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58E-6A71-41E3-AE14-79220915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8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6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7F1-A5A0-4EDA-90AD-37AFB082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804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661-5414-490D-9034-66B4C986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98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86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81F-C6B4-4918-920F-DFECDAF8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EF1-2223-4DB3-8682-B5663DAC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6D9-6488-4F8F-B252-B976ECED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804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FFB-171F-4499-A34C-7ECFC47E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02E-C1D1-4439-ABF6-F44A9F5C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3D5-FDF1-4884-9C87-37D7C66D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9F0-0ADC-4809-9D9C-B48F5316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44430-40CF-4430-B2B1-3406ECADF8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 истории числ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ла: ученица 3 «Б» класса Рязанова Ди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ководитель: Борисова С.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04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Тегульдет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60000" y="197964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языках слова "два" и "десять" созвучны. Может быть это объясняется тем, что когда-то слово "десять" означало" две руки". И сейчас есть племена, которые говорят "две руки" вместо "десять" и "руки и ноги" вместо "двадцать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Англии первые десять чисел называют общим именем "пальцы" Значит и англичане когда-то считали по пальц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78560" y="1800360"/>
            <a:ext cx="2162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Число 60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954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были народы, у которых в самой глубокой древности шёл счёт до шести. Когда они перешли на счёт  десятками, то особое имя у них получили  шесть деся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самое удивительное то, что следы счета шестидесятками сохранились до наших дней. Ведь до сих пор мы делим час на 60 минут, а минуту - на 60 секу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37320" y="2666880"/>
            <a:ext cx="185904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Используемая литератур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2120" y="1889280"/>
            <a:ext cx="7788240" cy="42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.Волина «Праздник числ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433440"/>
            <a:ext cx="7809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Как люди научились считать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40360" y="2519280"/>
            <a:ext cx="3181320" cy="3009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0720" y="1936800"/>
            <a:ext cx="37800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ным-давно, многие тысячи лет назад, наши далёкие предки или небольшими племенами. Они бродили по полям и лесам, по долинам рек и ручьёв, разыскивая себе пищу. Питались листьями, плодами и корнями различных растений. Иногда ловили рыбу, собирали ракушки или охотились. Одевались в шкуры убитых зве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539280"/>
            <a:ext cx="78091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2160720"/>
            <a:ext cx="68407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я окружающую природу, от которой полностью зависела его жизнь, наш далёкий предок из множества различных предметов сначала научился выделять отдельные предметы. Из стаи волков — вожака стаи, из стада оленей — одного оленя, из выводка плавающих уток — одну птицу, из колоса с зёрнами, — одно зер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ачалу они определяли это соотношение как «один» и «мно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39280"/>
            <a:ext cx="78091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2519280"/>
            <a:ext cx="77407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ые наблюдения множеств, состоявших из пары предметов (глаза, уши, рога, крылья, руки), привели человека к представлению о числе. Наш далёкий предок, рассказывая о том, что видел двух уток, сравнивал их с парой глаз. А если он видел их больше, то говорил: «Много». Лишь постепенно человек научился выделять три предмета,  а затем четыре, пять, шесть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39280"/>
            <a:ext cx="78091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1800360"/>
            <a:ext cx="79200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ся считать требовала жизнь. Добывая пищу, людям приходилось охотиться на крупных зверей: лося, медведя, зубра. Охотились наши предки большими группами, иногда всем племенем. Чтобы охота была удачной, нужно было уметь окружить зверя. Обычно старший ставил двух охотников за берлогой медведя, четырёх с рогатинами — против берлоги, трёх — с одной стороны и трёх — с другой стороны берлоги. Для этого он должен был уметь считать, а так как названий чисел тогда ещё не было, он показывал число на пальц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00360" y="4680000"/>
            <a:ext cx="511164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оявление числа «три»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0000" y="1619280"/>
            <a:ext cx="625644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днее другие племена дали особое имя числительному, которое мы называем "три". А так как до того они считали "один", "два", "много", то это новое числительное стали применять вместо слова «мног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пословица говорит: "Обещанного три года ждут", а в сказках злой царь посылает героя "за тридевять земель, в тридесятое царство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4500720"/>
            <a:ext cx="5759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усских сказках особую роль играет число т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из них участвует три бр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сказках герой сражается с трехглавым змеем, в других сказках три царства - медное, серебряное и золот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92960" y="2155680"/>
            <a:ext cx="232704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4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Число «семь»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0360" y="195408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, что число семь особое, люди считали очень давно. Ведь еще древние охотники, а потом и древние  земледельцы, и скотоводы наблюдали за не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внимание издавна привлекало созвездие Большой Медведицы - изображение семи звезд этого созвездия часто встречаются на древнейших изделиях. И может быть, один из первых результатов арифметики "три да два дает семь" люди получили, заметив, ковш Большой Медведицы складывается из трех звёзд ручки и четырех остальных звёз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580000" y="2619360"/>
            <a:ext cx="334656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чёт при помощи пальцев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00720" y="2073240"/>
            <a:ext cx="1901880" cy="3506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300800" y="1800360"/>
            <a:ext cx="1519200" cy="1593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380360" y="3780000"/>
            <a:ext cx="1328760" cy="1611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0360" y="1800360"/>
            <a:ext cx="4859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стати сказать, пальцы сыграли немалую роль в истории счета, особенно когда люди начали обмениваться друг с другом предметами своего труда. Так, например, желая обменять сделанное им копье с каменным наконечником на пять шкурок для одежды, человек клал на землю свою руку и показывал, что против каждого пальца его руки нужно положить шкурку.  Одна пятерня означала 5, две — 10. Когда рук не хватало, в ход шли и ноги. Две руки и одна нога — 15, две руки и две ноги — 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чёт десяткам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аучившись считать по пальцам до десяти, люди сделали следующий шаг вперёд и стали считать десятками. И если одни папуасские племена умели считать лишь до шести, то другие доходили в счёте до нескольких десятков. Только для этого приходилось приглашать сразу много счетч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83400" y="1900080"/>
            <a:ext cx="2496960" cy="439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3:19:49Z</dcterms:created>
  <dc:creator>www.PHILka.RU</dc:creator>
  <dc:description/>
  <dc:language>en-US</dc:language>
  <cp:lastModifiedBy>www.PHILka.RU</cp:lastModifiedBy>
  <dcterms:modified xsi:type="dcterms:W3CDTF">2011-11-30T03:53:45Z</dcterms:modified>
  <cp:revision>2</cp:revision>
  <dc:subject/>
  <dc:title>Из истории числа</dc:title>
</cp:coreProperties>
</file>