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DA1-4E23-4C08-BEF2-011F1CE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5B5-58B1-40A1-9B1E-80880E1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DE9-E8FB-427C-A9BB-BA829A0A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556-566C-4420-B57C-4ED1EA22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418-87FB-4ED7-9504-88DB8C0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65D-C61A-4949-B43B-0C51138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B92-D9B8-42F5-81A4-AEEAD3A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229-26F0-4930-A143-7503319F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F2B-DD53-4587-9181-14DB9837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AF3-9710-4A27-BAFB-CE4F574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226-CE91-4D7D-9958-D6F55CE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CD7-F0E2-4EFE-BBC4-3D9BEAA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EEDC4-DE7C-426B-B4B0-8C18479C6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истории числ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ла: ученица 3 «Б» класса Рязанова Ди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Борисова С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04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Тегульдет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60000" y="197964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языках слова "два" и "десять" созвучны. Может быть это объясняется тем, что когда-то слово "десять" означало" две руки". И сейчас есть племена, которые говорят "две руки" вместо "десять" и "руки и ноги" вместо "двадцать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Англии первые десять чисел называют общим именем "пальцы" Значит и англичане когда-то считали по пальц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78560" y="1800360"/>
            <a:ext cx="216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исло 60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954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были народы, у которых в самой глубокой древности шёл счёт до шести. Когда они перешли на счёт  десятками, то особое имя у них получили  шесть деся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амое удивительное то, что следы счета шестидесятками сохранились до наших дней. Ведь до сих пор мы делим час на 60 минут, а минуту - на 60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37320" y="2666880"/>
            <a:ext cx="185904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спользуемая литератур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2120" y="1889280"/>
            <a:ext cx="778824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Волина «Праздник числ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433440"/>
            <a:ext cx="7809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ак люди научились считать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40360" y="2519280"/>
            <a:ext cx="3181320" cy="3009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0720" y="1936800"/>
            <a:ext cx="37800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ным-давно, многие тысячи лет назад, наши далёкие предки или небольшими племенами. Они бродили по полям и лесам, по долинам рек и ручьёв, разыскивая себе пищу. Питались листьями, плодами и корнями различных растений. Иногда ловили рыбу, собирали ракушки или охотились. Одевались в шкуры убитых зв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160720"/>
            <a:ext cx="68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окружающую природу, от которой полностью зависела его жизнь, наш далёкий предок из множества различных предметов сначала научился выделять отдельные предметы. Из стаи волков — вожака стаи, из стада оленей — одного оленя, из выводка плавающих уток — одну птицу, из колоса с зёрнами, — одно зе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ачалу они определяли это соотношение как «один» и «мн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2519280"/>
            <a:ext cx="77407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ые наблюдения множеств, состоявших из пары предметов (глаза, уши, рога, крылья, руки), привели человека к представлению о числе. Наш далёкий предок, рассказывая о том, что видел двух уток, сравнивал их с парой глаз. А если он видел их больше, то говорил: «Много». Лишь постепенно человек научился выделять три предмета,  а затем четыре, пять, шесть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1800360"/>
            <a:ext cx="792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ся считать требовала жизнь. Добывая пищу, людям приходилось охотиться на крупных зверей: лося, медведя, зубра. Охотились наши предки большими группами, иногда всем племенем. Чтобы охота была удачной, нужно было уметь окружить зверя. Обычно старший ставил двух охотников за берлогой медведя, четырёх с рогатинами — против берлоги, трёх — с одной стороны и трёх — с другой стороны берлоги. Для этого он должен был уметь считать, а так как названий чисел тогда ещё не было, он показывал число на паль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00360" y="4680000"/>
            <a:ext cx="5111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явление числа «три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1619280"/>
            <a:ext cx="62564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ее другие племена дали особое имя числительному, которое мы называем "три". А так как до того они считали "один", "два", "много", то это новое числительное стали применять вместо слова «мн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пословица говорит: "Обещанного три года ждут", а в сказках злой царь посылает героя "за тридевять земель, в тридесятое царство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4500720"/>
            <a:ext cx="5759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усских сказках особую роль играет число т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из них участвует три б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казках герой сражается с трехглавым змеем, в других сказках три царства - медное, серебряное и золо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92960" y="2155680"/>
            <a:ext cx="232704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исло «семь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360" y="195408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число семь особое, люди считали очень давно. Ведь еще древние охотники, а потом и древние  земледельцы, и скотоводы наблюдали за не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внимание издавна привлекало созвездие Большой Медведицы - изображение семи звезд этого созвездия часто встречаются на древнейших изделиях. И может быть, один из первых результатов арифметики "три да два дает семь" люди получили, заметив, ковш Большой Медведицы складывается из трех звёзд ручки и четырех остальных звёз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0000" y="2619360"/>
            <a:ext cx="33465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чёт при помощи пальцев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00720" y="2073240"/>
            <a:ext cx="1901880" cy="350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00800" y="1800360"/>
            <a:ext cx="151920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80360" y="3780000"/>
            <a:ext cx="1328760" cy="161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360" y="1800360"/>
            <a:ext cx="4859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стати сказать, пальцы сыграли немалую роль в истории счета, особенно когда люди начали обмениваться друг с другом предметами своего труда. Так, например, желая обменять сделанное им копье с каменным наконечником на пять шкурок для одежды, человек клал на землю свою руку и показывал, что против каждого пальца его руки нужно положить шкурку.  Одна пятерня означала 5, две — 10. Когда рук не хватало, в ход шли и ноги. Две руки и одна нога — 15, две руки и две ноги —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чёт десяткам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учившись считать по пальцам до десяти, люди сделали следующий шаг вперёд и стали считать десятками. И если одни папуасские племена умели считать лишь до шести, то другие доходили в счёте до нескольких десятков. Только для этого приходилось приглашать сразу много счет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83400" y="1900080"/>
            <a:ext cx="2496960" cy="439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3:19:49Z</dcterms:created>
  <dc:creator>www.PHILka.RU</dc:creator>
  <dc:description/>
  <dc:language>en-US</dc:language>
  <cp:lastModifiedBy>www.PHILka.RU</cp:lastModifiedBy>
  <dcterms:modified xsi:type="dcterms:W3CDTF">2011-11-30T03:53:45Z</dcterms:modified>
  <cp:revision>2</cp:revision>
  <dc:subject/>
  <dc:title>Из истории числа</dc:title>
</cp:coreProperties>
</file>