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gif" ContentType="image/gif"/>
  <Override PartName="/ppt/media/image13.wmf" ContentType="image/x-wmf"/>
  <Override PartName="/ppt/media/image6.wmf" ContentType="image/x-wmf"/>
  <Override PartName="/ppt/media/image11.wmf" ContentType="image/x-wmf"/>
  <Override PartName="/ppt/media/image7.gif" ContentType="image/gif"/>
  <Override PartName="/ppt/media/image8.gif" ContentType="image/gif"/>
  <Override PartName="/ppt/media/image9.wmf" ContentType="image/x-wmf"/>
  <Override PartName="/ppt/media/image10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9B95-4193-4C3A-8DA8-EFA5768CC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9E7D-60EC-4663-83E4-7D9E3A54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B84A-476C-49F8-93B4-38EC61163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B006-8D26-4B23-A7EC-FD88046E6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22AF-852B-4296-8D46-A5E6D829C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5027-AD4B-49A4-A42F-88EE703B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3DAEB-280A-4C5B-87D2-E95A65DF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D33E-3900-4F95-8FCF-066118B1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935C-FF92-471C-98B4-A07CB4F4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F720-12AC-4F41-A709-51E07AE7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EC558-F147-4EEA-8CB1-07F7E036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26AF-92E9-4CB1-A440-EBD145EF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7544-B15B-4B8F-8337-B2DC9CDE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BADAF-8F60-4243-9FCA-55130B3F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C87A-D629-4358-9F2E-D7096CD1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69F3-771F-4E4C-8ACF-656AB982F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C513-507D-4D2F-BBDD-FC0DA50BE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11F6-3AA3-414D-86C2-F0D1A383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3B70-9B95-4156-94D2-2488697D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FA31-6A77-4EDD-B352-5567AB26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58C5-E77E-4387-A845-C277F370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FA70-39B9-4ABE-A45A-1CA23B30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63A3-FD57-4AD2-AA69-20096DCD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638F-10BC-4AA4-8613-EB113664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F0FA-653C-4A1A-AA1C-5F577698D1B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080D-B267-443B-A79D-6CF61E10F85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6.xml"/><Relationship Id="rId10" Type="http://schemas.openxmlformats.org/officeDocument/2006/relationships/slide" Target="slide1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34000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660066"/>
            </a:outerShdw>
          </a:effectLst>
        </p:spPr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онное пособие по здоровьесбереж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.В.Панас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екреты Истинного Здоровья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00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ила окружающей среды – восьмой секрет Истинного Здоровья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094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тинное Здоровье невозможно без здоровой окружающей ср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жий воздух и солнечный свет – вот краеугольный камень здоровой окружающей ср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ы не можете вынести свою работу на Природу, принесите Природу на рабо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ботьтесь о своем ближайшем окружении и о мировой сре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j0150023"/>
          <p:cNvPicPr/>
          <p:nvPr/>
        </p:nvPicPr>
        <p:blipFill>
          <a:blip r:embed="rId1"/>
          <a:stretch/>
        </p:blipFill>
        <p:spPr>
          <a:xfrm>
            <a:off x="5853240" y="2781360"/>
            <a:ext cx="2847960" cy="213372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6"/>
          <p:cNvSpPr/>
          <p:nvPr/>
        </p:nvSpPr>
        <p:spPr>
          <a:xfrm>
            <a:off x="8604360" y="6308640"/>
            <a:ext cx="288720" cy="2890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00" y="20227"/>
                </a:lnTo>
                <a:lnTo>
                  <a:pt x="20200" y="140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400" y="20227"/>
                </a:lnTo>
                <a:lnTo>
                  <a:pt x="20200" y="2022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7"/>
                </a:lnTo>
                <a:close/>
              </a:path>
              <a:path fill="darken" w="21600" h="21627">
                <a:moveTo>
                  <a:pt x="3794" y="7506"/>
                </a:moveTo>
                <a:lnTo>
                  <a:pt x="7301" y="7506"/>
                </a:lnTo>
                <a:lnTo>
                  <a:pt x="7301" y="12841"/>
                </a:lnTo>
                <a:cubicBezTo>
                  <a:pt x="7301" y="13764"/>
                  <a:pt x="8102" y="14495"/>
                  <a:pt x="9138" y="14495"/>
                </a:cubicBezTo>
                <a:lnTo>
                  <a:pt x="10800" y="14495"/>
                </a:lnTo>
                <a:cubicBezTo>
                  <a:pt x="11836" y="14495"/>
                  <a:pt x="12636" y="13764"/>
                  <a:pt x="12636" y="12841"/>
                </a:cubicBezTo>
                <a:lnTo>
                  <a:pt x="12636" y="7506"/>
                </a:lnTo>
                <a:lnTo>
                  <a:pt x="10800" y="7506"/>
                </a:lnTo>
                <a:lnTo>
                  <a:pt x="14308" y="3998"/>
                </a:lnTo>
                <a:lnTo>
                  <a:pt x="17981" y="7506"/>
                </a:lnTo>
                <a:lnTo>
                  <a:pt x="16144" y="7506"/>
                </a:lnTo>
                <a:lnTo>
                  <a:pt x="16144" y="12841"/>
                </a:lnTo>
                <a:cubicBezTo>
                  <a:pt x="16144" y="15609"/>
                  <a:pt x="13568" y="18168"/>
                  <a:pt x="10800" y="18168"/>
                </a:cubicBezTo>
                <a:lnTo>
                  <a:pt x="9138" y="18168"/>
                </a:lnTo>
                <a:cubicBezTo>
                  <a:pt x="6370" y="18168"/>
                  <a:pt x="3794" y="15609"/>
                  <a:pt x="3794" y="12841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4000"/>
                            </p:stCondLst>
                            <p:childTnLst>
                              <p:par>
                                <p:cTn id="3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00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ила веры – девятый секрет Истинного Здоровь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544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ра – это духовная сила, благодаря которой невозможное становится возмож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а соединяет человеческий дух с Высшей Сил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прийти к Истинному Здоровью, мы нуждаемся не только в физической пище, но и в духов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а открывает путь силам, способным производить чуде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е противостоят страх, беспокойство и сомн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а ничего не стоит без дейст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j0084506"/>
          <p:cNvPicPr/>
          <p:nvPr/>
        </p:nvPicPr>
        <p:blipFill>
          <a:blip r:embed="rId1"/>
          <a:stretch/>
        </p:blipFill>
        <p:spPr>
          <a:xfrm>
            <a:off x="5759280" y="1600200"/>
            <a:ext cx="3035520" cy="449568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4"/>
          <p:cNvSpPr/>
          <p:nvPr/>
        </p:nvSpPr>
        <p:spPr>
          <a:xfrm>
            <a:off x="853272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7493"/>
                </a:moveTo>
                <a:lnTo>
                  <a:pt x="10859" y="7493"/>
                </a:lnTo>
                <a:lnTo>
                  <a:pt x="10859" y="12828"/>
                </a:lnTo>
                <a:cubicBezTo>
                  <a:pt x="10859" y="13751"/>
                  <a:pt x="11660" y="14482"/>
                  <a:pt x="12696" y="14482"/>
                </a:cubicBezTo>
                <a:lnTo>
                  <a:pt x="14358" y="14482"/>
                </a:lnTo>
                <a:cubicBezTo>
                  <a:pt x="15394" y="14482"/>
                  <a:pt x="16195" y="13751"/>
                  <a:pt x="16195" y="12828"/>
                </a:cubicBezTo>
                <a:lnTo>
                  <a:pt x="16195" y="7493"/>
                </a:lnTo>
                <a:lnTo>
                  <a:pt x="14358" y="7493"/>
                </a:lnTo>
                <a:lnTo>
                  <a:pt x="17866" y="3985"/>
                </a:lnTo>
                <a:lnTo>
                  <a:pt x="21539" y="7493"/>
                </a:lnTo>
                <a:lnTo>
                  <a:pt x="19702" y="7493"/>
                </a:lnTo>
                <a:lnTo>
                  <a:pt x="19702" y="12828"/>
                </a:lnTo>
                <a:cubicBezTo>
                  <a:pt x="19702" y="15596"/>
                  <a:pt x="17126" y="18155"/>
                  <a:pt x="14358" y="18155"/>
                </a:cubicBezTo>
                <a:lnTo>
                  <a:pt x="12696" y="18155"/>
                </a:lnTo>
                <a:cubicBezTo>
                  <a:pt x="9928" y="18155"/>
                  <a:pt x="7352" y="15596"/>
                  <a:pt x="7352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2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4000"/>
                            </p:stCondLst>
                            <p:childTnLst>
                              <p:par>
                                <p:cTn id="3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6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6000"/>
                            </p:stCondLst>
                            <p:childTnLst>
                              <p:par>
                                <p:cTn id="3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0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8000"/>
                            </p:stCondLst>
                            <p:childTnLst>
                              <p:par>
                                <p:cTn id="3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8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2" dur="2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ила любви – десятый секрет Истинного Здоровь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381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овь – это всеисцеляющая си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добиться любви, нужно дарить любов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j0232891"/>
          <p:cNvPicPr/>
          <p:nvPr/>
        </p:nvPicPr>
        <p:blipFill>
          <a:blip r:embed="rId1"/>
          <a:stretch/>
        </p:blipFill>
        <p:spPr>
          <a:xfrm>
            <a:off x="6332400" y="2989440"/>
            <a:ext cx="1889280" cy="171756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6"/>
          <p:cNvSpPr/>
          <p:nvPr/>
        </p:nvSpPr>
        <p:spPr>
          <a:xfrm flipH="1" flipV="1">
            <a:off x="8458920" y="630792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7493"/>
                </a:moveTo>
                <a:lnTo>
                  <a:pt x="9961" y="7493"/>
                </a:lnTo>
                <a:lnTo>
                  <a:pt x="9961" y="12828"/>
                </a:lnTo>
                <a:cubicBezTo>
                  <a:pt x="9961" y="13751"/>
                  <a:pt x="10762" y="14482"/>
                  <a:pt x="11797" y="14482"/>
                </a:cubicBezTo>
                <a:lnTo>
                  <a:pt x="13460" y="14482"/>
                </a:lnTo>
                <a:cubicBezTo>
                  <a:pt x="14495" y="14482"/>
                  <a:pt x="15296" y="13751"/>
                  <a:pt x="15296" y="12828"/>
                </a:cubicBezTo>
                <a:lnTo>
                  <a:pt x="15296" y="7493"/>
                </a:lnTo>
                <a:lnTo>
                  <a:pt x="13460" y="7493"/>
                </a:lnTo>
                <a:lnTo>
                  <a:pt x="16967" y="3985"/>
                </a:lnTo>
                <a:lnTo>
                  <a:pt x="20640" y="7493"/>
                </a:lnTo>
                <a:lnTo>
                  <a:pt x="18804" y="7493"/>
                </a:lnTo>
                <a:lnTo>
                  <a:pt x="18804" y="12828"/>
                </a:lnTo>
                <a:cubicBezTo>
                  <a:pt x="18804" y="15596"/>
                  <a:pt x="16227" y="18155"/>
                  <a:pt x="13460" y="18155"/>
                </a:cubicBezTo>
                <a:lnTo>
                  <a:pt x="11797" y="18155"/>
                </a:lnTo>
                <a:cubicBezTo>
                  <a:pt x="9030" y="18155"/>
                  <a:pt x="6453" y="15596"/>
                  <a:pt x="6453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  <a:effectLst>
            <a:outerShdw dist="107932" dir="2700000" blurRad="0" rotWithShape="0">
              <a:srgbClr val="66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768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0" dur="768" fill="hold"/>
                                        <p:tgtEl>
                                          <p:spTgt spid="1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2" dur="76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4" dur="76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998"/>
                            </p:stCondLst>
                            <p:childTnLst>
                              <p:par>
                                <p:cTn id="4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498"/>
                            </p:stCondLst>
                            <p:childTnLst>
                              <p:par>
                                <p:cTn id="4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548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00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       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Оглавление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5158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а разума. (4 ча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а дыхания. (з ча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а физических упражнений. (4 ча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а правильного питания. (3 ча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а смеха. (3 ча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а отдыха. (3 ча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а правильной осанки. (4 ча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а окружающей среды. (3 ча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а веры. (3 ча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а любви. (3 ча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j0343293"/>
          <p:cNvPicPr/>
          <p:nvPr/>
        </p:nvPicPr>
        <p:blipFill>
          <a:blip r:embed="rId1"/>
          <a:stretch/>
        </p:blipFill>
        <p:spPr>
          <a:xfrm>
            <a:off x="6388200" y="2917800"/>
            <a:ext cx="1778040" cy="186048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6">
            <a:hlinkClick r:id="rId2" action="ppaction://hlinksldjump"/>
          </p:cNvPr>
          <p:cNvSpPr/>
          <p:nvPr/>
        </p:nvSpPr>
        <p:spPr>
          <a:xfrm>
            <a:off x="2195640" y="1700280"/>
            <a:ext cx="214200" cy="217440"/>
          </a:xfrm>
          <a:custGeom>
            <a:avLst/>
            <a:gdLst>
              <a:gd name="textAreaLeft" fmla="*/ 13680 w 214200"/>
              <a:gd name="textAreaRight" fmla="*/ 200520 w 214200"/>
              <a:gd name="textAreaTop" fmla="*/ 13680 h 217440"/>
              <a:gd name="textAreaBottom" fmla="*/ 203760 h 217440"/>
            </a:gdLst>
            <a:ahLst/>
            <a:rect l="textAreaLeft" t="textAreaTop" r="textAreaRight" b="textAreaBottom"/>
            <a:pathLst>
              <a:path w="21600" h="21926">
                <a:moveTo>
                  <a:pt x="0" y="0"/>
                </a:moveTo>
                <a:lnTo>
                  <a:pt x="21600" y="0"/>
                </a:lnTo>
                <a:lnTo>
                  <a:pt x="21600" y="21926"/>
                </a:lnTo>
                <a:lnTo>
                  <a:pt x="0" y="21926"/>
                </a:lnTo>
                <a:close/>
              </a:path>
              <a:path fill="lightenLess" w="21600" h="219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26">
                <a:moveTo>
                  <a:pt x="21600" y="0"/>
                </a:moveTo>
                <a:lnTo>
                  <a:pt x="21600" y="21926"/>
                </a:lnTo>
                <a:lnTo>
                  <a:pt x="20200" y="20526"/>
                </a:lnTo>
                <a:lnTo>
                  <a:pt x="20200" y="1400"/>
                </a:lnTo>
                <a:close/>
              </a:path>
              <a:path fill="darkenLess" w="21600" h="21926">
                <a:moveTo>
                  <a:pt x="21600" y="21926"/>
                </a:moveTo>
                <a:lnTo>
                  <a:pt x="0" y="21926"/>
                </a:lnTo>
                <a:lnTo>
                  <a:pt x="1400" y="20526"/>
                </a:lnTo>
                <a:lnTo>
                  <a:pt x="20200" y="20526"/>
                </a:lnTo>
                <a:close/>
              </a:path>
              <a:path fill="lighten" w="21600" h="21926">
                <a:moveTo>
                  <a:pt x="0" y="219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2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  <a:effectLst>
            <a:outerShdw dist="17819" dir="2700000" blurRad="0" rotWithShape="0">
              <a:srgbClr val="76539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>
            <a:hlinkClick r:id="rId3" action="ppaction://hlinksldjump"/>
          </p:cNvPr>
          <p:cNvSpPr/>
          <p:nvPr/>
        </p:nvSpPr>
        <p:spPr>
          <a:xfrm>
            <a:off x="2195640" y="1989000"/>
            <a:ext cx="215640" cy="21600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36">
                <a:moveTo>
                  <a:pt x="0" y="0"/>
                </a:moveTo>
                <a:lnTo>
                  <a:pt x="21600" y="0"/>
                </a:lnTo>
                <a:lnTo>
                  <a:pt x="21600" y="21636"/>
                </a:lnTo>
                <a:lnTo>
                  <a:pt x="0" y="21636"/>
                </a:lnTo>
                <a:close/>
              </a:path>
              <a:path fill="lightenLess" w="21600" h="21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6">
                <a:moveTo>
                  <a:pt x="21600" y="0"/>
                </a:moveTo>
                <a:lnTo>
                  <a:pt x="21600" y="21636"/>
                </a:lnTo>
                <a:lnTo>
                  <a:pt x="20200" y="20236"/>
                </a:lnTo>
                <a:lnTo>
                  <a:pt x="20200" y="1400"/>
                </a:lnTo>
                <a:close/>
              </a:path>
              <a:path fill="darkenLess" w="21600" h="21636">
                <a:moveTo>
                  <a:pt x="21600" y="21636"/>
                </a:moveTo>
                <a:lnTo>
                  <a:pt x="0" y="21636"/>
                </a:lnTo>
                <a:lnTo>
                  <a:pt x="1400" y="20236"/>
                </a:lnTo>
                <a:lnTo>
                  <a:pt x="20200" y="20236"/>
                </a:lnTo>
                <a:close/>
              </a:path>
              <a:path fill="lighten" w="21600" h="21636">
                <a:moveTo>
                  <a:pt x="0" y="21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  <a:effectLst>
            <a:outerShdw dist="17819" dir="2700000" blurRad="0" rotWithShape="0">
              <a:srgbClr val="76539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">
            <a:hlinkClick r:id="rId4" action="ppaction://hlinksldjump"/>
          </p:cNvPr>
          <p:cNvSpPr/>
          <p:nvPr/>
        </p:nvSpPr>
        <p:spPr>
          <a:xfrm>
            <a:off x="2195640" y="2349360"/>
            <a:ext cx="215640" cy="21600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36">
                <a:moveTo>
                  <a:pt x="0" y="0"/>
                </a:moveTo>
                <a:lnTo>
                  <a:pt x="21600" y="0"/>
                </a:lnTo>
                <a:lnTo>
                  <a:pt x="21600" y="21636"/>
                </a:lnTo>
                <a:lnTo>
                  <a:pt x="0" y="21636"/>
                </a:lnTo>
                <a:close/>
              </a:path>
              <a:path fill="lightenLess" w="21600" h="21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6">
                <a:moveTo>
                  <a:pt x="21600" y="0"/>
                </a:moveTo>
                <a:lnTo>
                  <a:pt x="21600" y="21636"/>
                </a:lnTo>
                <a:lnTo>
                  <a:pt x="20200" y="20236"/>
                </a:lnTo>
                <a:lnTo>
                  <a:pt x="20200" y="1400"/>
                </a:lnTo>
                <a:close/>
              </a:path>
              <a:path fill="darkenLess" w="21600" h="21636">
                <a:moveTo>
                  <a:pt x="21600" y="21636"/>
                </a:moveTo>
                <a:lnTo>
                  <a:pt x="0" y="21636"/>
                </a:lnTo>
                <a:lnTo>
                  <a:pt x="1400" y="20236"/>
                </a:lnTo>
                <a:lnTo>
                  <a:pt x="20200" y="20236"/>
                </a:lnTo>
                <a:close/>
              </a:path>
              <a:path fill="lighten" w="21600" h="21636">
                <a:moveTo>
                  <a:pt x="0" y="21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  <a:effectLst>
            <a:outerShdw dist="17819" dir="2700000" blurRad="0" rotWithShape="0">
              <a:srgbClr val="76539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2">
            <a:hlinkClick r:id="rId5" action="ppaction://hlinksldjump"/>
          </p:cNvPr>
          <p:cNvSpPr/>
          <p:nvPr/>
        </p:nvSpPr>
        <p:spPr>
          <a:xfrm flipH="1">
            <a:off x="2194920" y="2997360"/>
            <a:ext cx="215640" cy="21564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  <a:effectLst>
            <a:outerShdw dist="17819" dir="2700000" blurRad="0" rotWithShape="0">
              <a:srgbClr val="76539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3">
            <a:hlinkClick r:id="rId6" action="ppaction://hlinksldjump"/>
          </p:cNvPr>
          <p:cNvSpPr/>
          <p:nvPr/>
        </p:nvSpPr>
        <p:spPr>
          <a:xfrm>
            <a:off x="2195640" y="3284640"/>
            <a:ext cx="215640" cy="21744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7440"/>
              <a:gd name="textAreaBottom" fmla="*/ 203760 h 217440"/>
            </a:gdLst>
            <a:ahLst/>
            <a:rect l="textAreaLeft" t="textAreaTop" r="textAreaRight" b="textAreaBottom"/>
            <a:pathLst>
              <a:path w="21600" h="21780">
                <a:moveTo>
                  <a:pt x="0" y="0"/>
                </a:moveTo>
                <a:lnTo>
                  <a:pt x="21600" y="0"/>
                </a:lnTo>
                <a:lnTo>
                  <a:pt x="21600" y="21780"/>
                </a:lnTo>
                <a:lnTo>
                  <a:pt x="0" y="21780"/>
                </a:lnTo>
                <a:close/>
              </a:path>
              <a:path fill="lightenLess" w="21600" h="217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80">
                <a:moveTo>
                  <a:pt x="21600" y="0"/>
                </a:moveTo>
                <a:lnTo>
                  <a:pt x="21600" y="21780"/>
                </a:lnTo>
                <a:lnTo>
                  <a:pt x="20200" y="20380"/>
                </a:lnTo>
                <a:lnTo>
                  <a:pt x="20200" y="1400"/>
                </a:lnTo>
                <a:close/>
              </a:path>
              <a:path fill="darkenLess" w="21600" h="21780">
                <a:moveTo>
                  <a:pt x="21600" y="21780"/>
                </a:moveTo>
                <a:lnTo>
                  <a:pt x="0" y="21780"/>
                </a:lnTo>
                <a:lnTo>
                  <a:pt x="1400" y="20380"/>
                </a:lnTo>
                <a:lnTo>
                  <a:pt x="20200" y="20380"/>
                </a:lnTo>
                <a:close/>
              </a:path>
              <a:path fill="lighten" w="21600" h="21780">
                <a:moveTo>
                  <a:pt x="0" y="217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80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  <a:effectLst>
            <a:outerShdw dist="17819" dir="2700000" blurRad="0" rotWithShape="0">
              <a:srgbClr val="76539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4">
            <a:hlinkClick r:id="rId7" action="ppaction://hlinksldjump"/>
          </p:cNvPr>
          <p:cNvSpPr/>
          <p:nvPr/>
        </p:nvSpPr>
        <p:spPr>
          <a:xfrm>
            <a:off x="2195640" y="3645000"/>
            <a:ext cx="215640" cy="21564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  <a:effectLst>
            <a:outerShdw dist="17819" dir="2700000" blurRad="0" rotWithShape="0">
              <a:srgbClr val="76539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6">
            <a:hlinkClick r:id="rId8" action="ppaction://hlinksldjump"/>
          </p:cNvPr>
          <p:cNvSpPr/>
          <p:nvPr/>
        </p:nvSpPr>
        <p:spPr>
          <a:xfrm flipV="1">
            <a:off x="2195640" y="4004640"/>
            <a:ext cx="215640" cy="21564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  <a:effectLst>
            <a:outerShdw dist="17819" dir="2700000" blurRad="0" rotWithShape="0">
              <a:srgbClr val="76539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9">
            <a:hlinkClick r:id="rId9" action="ppaction://hlinksldjump"/>
          </p:cNvPr>
          <p:cNvSpPr/>
          <p:nvPr/>
        </p:nvSpPr>
        <p:spPr>
          <a:xfrm>
            <a:off x="2195640" y="2637000"/>
            <a:ext cx="215640" cy="21564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  <a:effectLst>
            <a:outerShdw dist="17819" dir="2700000" blurRad="0" rotWithShape="0">
              <a:srgbClr val="76539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20">
            <a:hlinkClick r:id="rId10" action="ppaction://hlinksldjump"/>
          </p:cNvPr>
          <p:cNvSpPr/>
          <p:nvPr/>
        </p:nvSpPr>
        <p:spPr>
          <a:xfrm flipV="1">
            <a:off x="2195640" y="4292640"/>
            <a:ext cx="215640" cy="21744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7440"/>
              <a:gd name="textAreaBottom" fmla="*/ 203760 h 217440"/>
            </a:gdLst>
            <a:ahLst/>
            <a:rect l="textAreaLeft" t="textAreaTop" r="textAreaRight" b="textAreaBottom"/>
            <a:pathLst>
              <a:path w="21600" h="21780">
                <a:moveTo>
                  <a:pt x="0" y="0"/>
                </a:moveTo>
                <a:lnTo>
                  <a:pt x="21600" y="0"/>
                </a:lnTo>
                <a:lnTo>
                  <a:pt x="21600" y="21780"/>
                </a:lnTo>
                <a:lnTo>
                  <a:pt x="0" y="21780"/>
                </a:lnTo>
                <a:close/>
              </a:path>
              <a:path fill="lightenLess" w="21600" h="217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80">
                <a:moveTo>
                  <a:pt x="21600" y="0"/>
                </a:moveTo>
                <a:lnTo>
                  <a:pt x="21600" y="21780"/>
                </a:lnTo>
                <a:lnTo>
                  <a:pt x="20200" y="20380"/>
                </a:lnTo>
                <a:lnTo>
                  <a:pt x="20200" y="1400"/>
                </a:lnTo>
                <a:close/>
              </a:path>
              <a:path fill="darkenLess" w="21600" h="21780">
                <a:moveTo>
                  <a:pt x="21600" y="21780"/>
                </a:moveTo>
                <a:lnTo>
                  <a:pt x="0" y="21780"/>
                </a:lnTo>
                <a:lnTo>
                  <a:pt x="1400" y="20380"/>
                </a:lnTo>
                <a:lnTo>
                  <a:pt x="20200" y="20380"/>
                </a:lnTo>
                <a:close/>
              </a:path>
              <a:path fill="lighten" w="21600" h="21780">
                <a:moveTo>
                  <a:pt x="0" y="217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80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  <a:effectLst>
            <a:outerShdw dist="17819" dir="2700000" blurRad="0" rotWithShape="0">
              <a:srgbClr val="76539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3"/>
          <p:cNvSpPr/>
          <p:nvPr/>
        </p:nvSpPr>
        <p:spPr>
          <a:xfrm>
            <a:off x="2195640" y="4653000"/>
            <a:ext cx="215640" cy="21600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36">
                <a:moveTo>
                  <a:pt x="0" y="0"/>
                </a:moveTo>
                <a:lnTo>
                  <a:pt x="21600" y="0"/>
                </a:lnTo>
                <a:lnTo>
                  <a:pt x="21600" y="21636"/>
                </a:lnTo>
                <a:lnTo>
                  <a:pt x="0" y="21636"/>
                </a:lnTo>
                <a:close/>
              </a:path>
              <a:path fill="lightenLess" w="21600" h="21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6">
                <a:moveTo>
                  <a:pt x="21600" y="0"/>
                </a:moveTo>
                <a:lnTo>
                  <a:pt x="21600" y="21636"/>
                </a:lnTo>
                <a:lnTo>
                  <a:pt x="20200" y="20236"/>
                </a:lnTo>
                <a:lnTo>
                  <a:pt x="20200" y="1400"/>
                </a:lnTo>
                <a:close/>
              </a:path>
              <a:path fill="darkenLess" w="21600" h="21636">
                <a:moveTo>
                  <a:pt x="21600" y="21636"/>
                </a:moveTo>
                <a:lnTo>
                  <a:pt x="0" y="21636"/>
                </a:lnTo>
                <a:lnTo>
                  <a:pt x="1400" y="20236"/>
                </a:lnTo>
                <a:lnTo>
                  <a:pt x="20200" y="20236"/>
                </a:lnTo>
                <a:close/>
              </a:path>
              <a:path fill="lighten" w="21600" h="21636">
                <a:moveTo>
                  <a:pt x="0" y="21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  <a:effectLst>
            <a:outerShdw dist="17819" dir="2700000" blurRad="0" rotWithShape="0">
              <a:srgbClr val="76539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98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98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98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98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98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98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98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98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98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98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00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ила разума – первый секрет Истинного Здоровь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56000" y="3789360"/>
            <a:ext cx="3124080" cy="18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ла разума способна преодолеть любую боль, излечить от болезни и привести к Истинному Здоров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95" descr="AN00790_"/>
          <p:cNvPicPr/>
          <p:nvPr/>
        </p:nvPicPr>
        <p:blipFill>
          <a:blip r:embed="rId1"/>
          <a:stretch/>
        </p:blipFill>
        <p:spPr>
          <a:xfrm>
            <a:off x="5715000" y="2219400"/>
            <a:ext cx="3124080" cy="32576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1"/>
          <p:cNvSpPr/>
          <p:nvPr/>
        </p:nvSpPr>
        <p:spPr>
          <a:xfrm>
            <a:off x="2700360" y="4437000"/>
            <a:ext cx="54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97"/>
          <p:cNvSpPr/>
          <p:nvPr/>
        </p:nvSpPr>
        <p:spPr>
          <a:xfrm>
            <a:off x="2627280" y="1989000"/>
            <a:ext cx="597708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а здоровья и болезни находится в вашем разу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98"/>
          <p:cNvSpPr/>
          <p:nvPr/>
        </p:nvSpPr>
        <p:spPr>
          <a:xfrm>
            <a:off x="8459640" y="6237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7493"/>
                </a:moveTo>
                <a:lnTo>
                  <a:pt x="8031" y="7493"/>
                </a:lnTo>
                <a:lnTo>
                  <a:pt x="8031" y="12828"/>
                </a:lnTo>
                <a:cubicBezTo>
                  <a:pt x="8031" y="13751"/>
                  <a:pt x="8831" y="14482"/>
                  <a:pt x="9867" y="14482"/>
                </a:cubicBezTo>
                <a:lnTo>
                  <a:pt x="11530" y="14482"/>
                </a:lnTo>
                <a:cubicBezTo>
                  <a:pt x="12565" y="14482"/>
                  <a:pt x="13366" y="13751"/>
                  <a:pt x="13366" y="12828"/>
                </a:cubicBezTo>
                <a:lnTo>
                  <a:pt x="13366" y="7493"/>
                </a:lnTo>
                <a:lnTo>
                  <a:pt x="11530" y="7493"/>
                </a:lnTo>
                <a:lnTo>
                  <a:pt x="15037" y="3985"/>
                </a:lnTo>
                <a:lnTo>
                  <a:pt x="18710" y="7493"/>
                </a:lnTo>
                <a:lnTo>
                  <a:pt x="16874" y="7493"/>
                </a:lnTo>
                <a:lnTo>
                  <a:pt x="16874" y="12828"/>
                </a:lnTo>
                <a:cubicBezTo>
                  <a:pt x="16874" y="15596"/>
                  <a:pt x="14297" y="18155"/>
                  <a:pt x="11530" y="18155"/>
                </a:cubicBezTo>
                <a:lnTo>
                  <a:pt x="9867" y="18155"/>
                </a:lnTo>
                <a:cubicBezTo>
                  <a:pt x="7099" y="18155"/>
                  <a:pt x="4523" y="15596"/>
                  <a:pt x="4523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64008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00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ила дыхания – второй секрет Истинного Здоровь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56000" y="2924280"/>
            <a:ext cx="612144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убокое дыха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жно для того, чтобы преодолеть болезни и поддержать здоровь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лучшает циркуляцию крови и лимф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слабляет и успокаивает нервную систем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могает накоплению энерги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нимает психические и нервные стресс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итает, очищает тело и успокаивает разу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j0254471"/>
          <p:cNvPicPr/>
          <p:nvPr/>
        </p:nvPicPr>
        <p:blipFill>
          <a:blip r:embed="rId1"/>
          <a:stretch/>
        </p:blipFill>
        <p:spPr>
          <a:xfrm>
            <a:off x="6676920" y="3319560"/>
            <a:ext cx="1200240" cy="10573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2700360" y="1628640"/>
            <a:ext cx="61927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ница между жизнью и смертью лежит в нашем дых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8388360" y="6308640"/>
            <a:ext cx="287280" cy="289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9080"/>
              <a:gd name="textAreaBottom" fmla="*/ 270720 h 289080"/>
            </a:gdLst>
            <a:ahLst/>
            <a:rect l="textAreaLeft" t="textAreaTop" r="textAreaRight" b="textAreaBottom"/>
            <a:pathLst>
              <a:path w="21600" h="21735">
                <a:moveTo>
                  <a:pt x="0" y="0"/>
                </a:moveTo>
                <a:lnTo>
                  <a:pt x="21600" y="0"/>
                </a:lnTo>
                <a:lnTo>
                  <a:pt x="21600" y="21735"/>
                </a:lnTo>
                <a:lnTo>
                  <a:pt x="0" y="21735"/>
                </a:lnTo>
                <a:close/>
              </a:path>
              <a:path fill="lightenLess" w="21600" h="217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35">
                <a:moveTo>
                  <a:pt x="21600" y="0"/>
                </a:moveTo>
                <a:lnTo>
                  <a:pt x="21600" y="21735"/>
                </a:lnTo>
                <a:lnTo>
                  <a:pt x="20200" y="20335"/>
                </a:lnTo>
                <a:lnTo>
                  <a:pt x="20200" y="1400"/>
                </a:lnTo>
                <a:close/>
              </a:path>
              <a:path fill="darkenLess" w="21600" h="21735">
                <a:moveTo>
                  <a:pt x="21600" y="21735"/>
                </a:moveTo>
                <a:lnTo>
                  <a:pt x="0" y="21735"/>
                </a:lnTo>
                <a:lnTo>
                  <a:pt x="1400" y="20335"/>
                </a:lnTo>
                <a:lnTo>
                  <a:pt x="20200" y="20335"/>
                </a:lnTo>
                <a:close/>
              </a:path>
              <a:path fill="lighten" w="21600" h="21735">
                <a:moveTo>
                  <a:pt x="0" y="217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35"/>
                </a:lnTo>
                <a:close/>
              </a:path>
              <a:path fill="darken" w="21600" h="21735">
                <a:moveTo>
                  <a:pt x="3794" y="7560"/>
                </a:moveTo>
                <a:lnTo>
                  <a:pt x="7301" y="7560"/>
                </a:lnTo>
                <a:lnTo>
                  <a:pt x="7301" y="12896"/>
                </a:lnTo>
                <a:cubicBezTo>
                  <a:pt x="7301" y="13818"/>
                  <a:pt x="8102" y="14549"/>
                  <a:pt x="9138" y="14549"/>
                </a:cubicBezTo>
                <a:lnTo>
                  <a:pt x="10800" y="14549"/>
                </a:lnTo>
                <a:cubicBezTo>
                  <a:pt x="11836" y="14549"/>
                  <a:pt x="12636" y="13818"/>
                  <a:pt x="12636" y="12896"/>
                </a:cubicBezTo>
                <a:lnTo>
                  <a:pt x="12636" y="7560"/>
                </a:lnTo>
                <a:lnTo>
                  <a:pt x="10800" y="7560"/>
                </a:lnTo>
                <a:lnTo>
                  <a:pt x="14308" y="4053"/>
                </a:lnTo>
                <a:lnTo>
                  <a:pt x="17981" y="7560"/>
                </a:lnTo>
                <a:lnTo>
                  <a:pt x="16144" y="7560"/>
                </a:lnTo>
                <a:lnTo>
                  <a:pt x="16144" y="12896"/>
                </a:lnTo>
                <a:cubicBezTo>
                  <a:pt x="16144" y="15663"/>
                  <a:pt x="13568" y="18222"/>
                  <a:pt x="10800" y="18222"/>
                </a:cubicBezTo>
                <a:lnTo>
                  <a:pt x="9138" y="18222"/>
                </a:lnTo>
                <a:cubicBezTo>
                  <a:pt x="6370" y="18222"/>
                  <a:pt x="3794" y="15663"/>
                  <a:pt x="3794" y="12896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8000"/>
                            </p:stCondLst>
                            <p:childTnLst>
                              <p:par>
                                <p:cTn id="1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00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ила физических упражнений – третий секрет Истинного Здоровь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55640" y="2133720"/>
            <a:ext cx="6337080" cy="384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гулярные физические упражн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лучшают кровообращен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крепляют легкие и сердц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ют преодолеть многие физические и ментальные расстро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j0215497"/>
          <p:cNvPicPr/>
          <p:nvPr/>
        </p:nvPicPr>
        <p:blipFill>
          <a:blip r:embed="rId1"/>
          <a:stretch/>
        </p:blipFill>
        <p:spPr>
          <a:xfrm>
            <a:off x="5883120" y="2776680"/>
            <a:ext cx="2787840" cy="214308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8"/>
          <p:cNvSpPr/>
          <p:nvPr/>
        </p:nvSpPr>
        <p:spPr>
          <a:xfrm>
            <a:off x="8317080" y="6165720"/>
            <a:ext cx="431640" cy="405000"/>
          </a:xfrm>
          <a:custGeom>
            <a:avLst/>
            <a:gdLst>
              <a:gd name="textAreaLeft" fmla="*/ 25920 w 431640"/>
              <a:gd name="textAreaRight" fmla="*/ 405720 w 43164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3020" h="21600">
                <a:moveTo>
                  <a:pt x="0" y="0"/>
                </a:moveTo>
                <a:lnTo>
                  <a:pt x="23020" y="0"/>
                </a:lnTo>
                <a:lnTo>
                  <a:pt x="23020" y="21600"/>
                </a:lnTo>
                <a:lnTo>
                  <a:pt x="0" y="21600"/>
                </a:lnTo>
                <a:close/>
              </a:path>
              <a:path fill="lightenLess" w="23020" h="21600">
                <a:moveTo>
                  <a:pt x="0" y="0"/>
                </a:moveTo>
                <a:lnTo>
                  <a:pt x="23020" y="0"/>
                </a:lnTo>
                <a:lnTo>
                  <a:pt x="21620" y="1400"/>
                </a:lnTo>
                <a:lnTo>
                  <a:pt x="1400" y="1400"/>
                </a:lnTo>
                <a:close/>
              </a:path>
              <a:path fill="darken" w="23020" h="21600">
                <a:moveTo>
                  <a:pt x="23020" y="0"/>
                </a:moveTo>
                <a:lnTo>
                  <a:pt x="23020" y="21600"/>
                </a:lnTo>
                <a:lnTo>
                  <a:pt x="21620" y="20200"/>
                </a:lnTo>
                <a:lnTo>
                  <a:pt x="21620" y="1400"/>
                </a:lnTo>
                <a:close/>
              </a:path>
              <a:path fill="darkenLess" w="23020" h="21600">
                <a:moveTo>
                  <a:pt x="23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20" y="20200"/>
                </a:lnTo>
                <a:close/>
              </a:path>
              <a:path fill="lighten" w="23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20" h="21600">
                <a:moveTo>
                  <a:pt x="4503" y="7493"/>
                </a:moveTo>
                <a:lnTo>
                  <a:pt x="8011" y="7493"/>
                </a:lnTo>
                <a:lnTo>
                  <a:pt x="8011" y="12828"/>
                </a:lnTo>
                <a:cubicBezTo>
                  <a:pt x="8011" y="13751"/>
                  <a:pt x="8812" y="14482"/>
                  <a:pt x="9847" y="14482"/>
                </a:cubicBezTo>
                <a:lnTo>
                  <a:pt x="11510" y="14482"/>
                </a:lnTo>
                <a:cubicBezTo>
                  <a:pt x="12546" y="14482"/>
                  <a:pt x="13346" y="13751"/>
                  <a:pt x="13346" y="12828"/>
                </a:cubicBezTo>
                <a:lnTo>
                  <a:pt x="13346" y="7493"/>
                </a:lnTo>
                <a:lnTo>
                  <a:pt x="11510" y="7493"/>
                </a:lnTo>
                <a:lnTo>
                  <a:pt x="15017" y="3985"/>
                </a:lnTo>
                <a:lnTo>
                  <a:pt x="18690" y="7493"/>
                </a:lnTo>
                <a:lnTo>
                  <a:pt x="16854" y="7493"/>
                </a:lnTo>
                <a:lnTo>
                  <a:pt x="16854" y="12828"/>
                </a:lnTo>
                <a:cubicBezTo>
                  <a:pt x="16854" y="15596"/>
                  <a:pt x="14278" y="18155"/>
                  <a:pt x="11510" y="18155"/>
                </a:cubicBezTo>
                <a:lnTo>
                  <a:pt x="9847" y="18155"/>
                </a:lnTo>
                <a:cubicBezTo>
                  <a:pt x="7080" y="18155"/>
                  <a:pt x="4503" y="15596"/>
                  <a:pt x="4503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9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3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1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00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ила правильного питания – четвертый секрет Истинного здоровья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16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тинное Здоровье не может существовать без Полноценного Пи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ять правил Полноценного П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ильное питание подобно строительству дома. Всегда выбирайте цельную, нерафинированную, естественную пищ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орошее питание невозможно без нормального пищеварения. Поэтому тщательно пережевывайте пищу, принимайте пищу только в спокойном состоянии и не ешьте в промежутках между основным приемам пищ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учше меньше, чем больше! Не переедай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мьдесят процентов продуктов должны в основном состоять из во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бегайте разрушителей клеток – сахара, мяса, рыбы, молочных продуктов, соли, чая, кофе и алкого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j0223774"/>
          <p:cNvPicPr/>
          <p:nvPr/>
        </p:nvPicPr>
        <p:blipFill>
          <a:blip r:embed="rId1"/>
          <a:stretch/>
        </p:blipFill>
        <p:spPr>
          <a:xfrm>
            <a:off x="6657840" y="3395520"/>
            <a:ext cx="1238400" cy="90504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6"/>
          <p:cNvSpPr/>
          <p:nvPr/>
        </p:nvSpPr>
        <p:spPr>
          <a:xfrm>
            <a:off x="8532720" y="6165720"/>
            <a:ext cx="360360" cy="358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87" h="21600">
                <a:moveTo>
                  <a:pt x="0" y="0"/>
                </a:moveTo>
                <a:lnTo>
                  <a:pt x="21687" y="0"/>
                </a:lnTo>
                <a:lnTo>
                  <a:pt x="21687" y="21600"/>
                </a:lnTo>
                <a:lnTo>
                  <a:pt x="0" y="21600"/>
                </a:lnTo>
                <a:close/>
              </a:path>
              <a:path fill="lightenLess" w="21687" h="21600">
                <a:moveTo>
                  <a:pt x="0" y="0"/>
                </a:moveTo>
                <a:lnTo>
                  <a:pt x="21687" y="0"/>
                </a:lnTo>
                <a:lnTo>
                  <a:pt x="20287" y="1400"/>
                </a:lnTo>
                <a:lnTo>
                  <a:pt x="1400" y="1400"/>
                </a:lnTo>
                <a:close/>
              </a:path>
              <a:path fill="darken" w="21687" h="21600">
                <a:moveTo>
                  <a:pt x="21687" y="0"/>
                </a:moveTo>
                <a:lnTo>
                  <a:pt x="21687" y="21600"/>
                </a:lnTo>
                <a:lnTo>
                  <a:pt x="20287" y="20200"/>
                </a:lnTo>
                <a:lnTo>
                  <a:pt x="20287" y="1400"/>
                </a:lnTo>
                <a:close/>
              </a:path>
              <a:path fill="darkenLess" w="21687" h="21600">
                <a:moveTo>
                  <a:pt x="21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87" y="20200"/>
                </a:lnTo>
                <a:close/>
              </a:path>
              <a:path fill="lighten" w="21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87" h="21600">
                <a:moveTo>
                  <a:pt x="3837" y="7493"/>
                </a:moveTo>
                <a:lnTo>
                  <a:pt x="7344" y="7493"/>
                </a:lnTo>
                <a:lnTo>
                  <a:pt x="7344" y="12828"/>
                </a:lnTo>
                <a:cubicBezTo>
                  <a:pt x="7344" y="13751"/>
                  <a:pt x="8145" y="14482"/>
                  <a:pt x="9181" y="14482"/>
                </a:cubicBezTo>
                <a:lnTo>
                  <a:pt x="10843" y="14482"/>
                </a:lnTo>
                <a:cubicBezTo>
                  <a:pt x="11879" y="14482"/>
                  <a:pt x="12680" y="13751"/>
                  <a:pt x="12680" y="12828"/>
                </a:cubicBezTo>
                <a:lnTo>
                  <a:pt x="12680" y="7493"/>
                </a:lnTo>
                <a:lnTo>
                  <a:pt x="10843" y="7493"/>
                </a:lnTo>
                <a:lnTo>
                  <a:pt x="14351" y="3985"/>
                </a:lnTo>
                <a:lnTo>
                  <a:pt x="18024" y="7493"/>
                </a:lnTo>
                <a:lnTo>
                  <a:pt x="16187" y="7493"/>
                </a:lnTo>
                <a:lnTo>
                  <a:pt x="16187" y="12828"/>
                </a:lnTo>
                <a:cubicBezTo>
                  <a:pt x="16187" y="15596"/>
                  <a:pt x="13611" y="18155"/>
                  <a:pt x="10843" y="18155"/>
                </a:cubicBezTo>
                <a:lnTo>
                  <a:pt x="9181" y="18155"/>
                </a:lnTo>
                <a:cubicBezTo>
                  <a:pt x="6413" y="18155"/>
                  <a:pt x="3837" y="15596"/>
                  <a:pt x="3837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00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ила смеха – пятый секрет Истинного Здоровь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16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мех – это вечный целите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мех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сильнодействующее лекарство, помогающее снять боль и исцелиться от многих болез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мех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лучшает дыхание, является прекрасным упражнением для легких и сердца, производит массаж органов живота и способствует работе кишеч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мех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имулирует иммунную сист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мех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лучшает способность к концентрации и снимает психический стрес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j0283636"/>
          <p:cNvPicPr/>
          <p:nvPr/>
        </p:nvPicPr>
        <p:blipFill>
          <a:blip r:embed="rId1"/>
          <a:stretch/>
        </p:blipFill>
        <p:spPr>
          <a:xfrm>
            <a:off x="7010280" y="3395520"/>
            <a:ext cx="533520" cy="90504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6"/>
          <p:cNvSpPr/>
          <p:nvPr/>
        </p:nvSpPr>
        <p:spPr>
          <a:xfrm>
            <a:off x="8388360" y="60930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500"/>
                            </p:stCondLst>
                            <p:childTnLst>
                              <p:par>
                                <p:cTn id="2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00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ила отдыха – шестой секрет Истинного Здоровь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11280" y="1628280"/>
            <a:ext cx="5446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инное Здоровье невозможно, если мозг и тело не отдыха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тды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молаживает тело, разум и ду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жен для физического и психического здоровь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нижает на 50% потребность нашего организма в кислород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ьшает сердечную нагрузку на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нижает повышенное кровяное давление, улучшает кратковременную и долговременную памя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j0229801"/>
          <p:cNvPicPr/>
          <p:nvPr/>
        </p:nvPicPr>
        <p:blipFill>
          <a:blip r:embed="rId1"/>
          <a:stretch/>
        </p:blipFill>
        <p:spPr>
          <a:xfrm>
            <a:off x="6389640" y="3032280"/>
            <a:ext cx="1774800" cy="163188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6"/>
          <p:cNvSpPr/>
          <p:nvPr/>
        </p:nvSpPr>
        <p:spPr>
          <a:xfrm>
            <a:off x="8388360" y="6308640"/>
            <a:ext cx="287280" cy="289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9080"/>
              <a:gd name="textAreaBottom" fmla="*/ 270720 h 289080"/>
            </a:gdLst>
            <a:ahLst/>
            <a:rect l="textAreaLeft" t="textAreaTop" r="textAreaRight" b="textAreaBottom"/>
            <a:pathLst>
              <a:path w="21600" h="21735">
                <a:moveTo>
                  <a:pt x="0" y="0"/>
                </a:moveTo>
                <a:lnTo>
                  <a:pt x="21600" y="0"/>
                </a:lnTo>
                <a:lnTo>
                  <a:pt x="21600" y="21735"/>
                </a:lnTo>
                <a:lnTo>
                  <a:pt x="0" y="21735"/>
                </a:lnTo>
                <a:close/>
              </a:path>
              <a:path fill="lightenLess" w="21600" h="217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35">
                <a:moveTo>
                  <a:pt x="21600" y="0"/>
                </a:moveTo>
                <a:lnTo>
                  <a:pt x="21600" y="21735"/>
                </a:lnTo>
                <a:lnTo>
                  <a:pt x="20200" y="20335"/>
                </a:lnTo>
                <a:lnTo>
                  <a:pt x="20200" y="1400"/>
                </a:lnTo>
                <a:close/>
              </a:path>
              <a:path fill="darkenLess" w="21600" h="21735">
                <a:moveTo>
                  <a:pt x="21600" y="21735"/>
                </a:moveTo>
                <a:lnTo>
                  <a:pt x="0" y="21735"/>
                </a:lnTo>
                <a:lnTo>
                  <a:pt x="1400" y="20335"/>
                </a:lnTo>
                <a:lnTo>
                  <a:pt x="20200" y="20335"/>
                </a:lnTo>
                <a:close/>
              </a:path>
              <a:path fill="lighten" w="21600" h="21735">
                <a:moveTo>
                  <a:pt x="0" y="217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35"/>
                </a:lnTo>
                <a:close/>
              </a:path>
              <a:path fill="darken" w="21600" h="21735">
                <a:moveTo>
                  <a:pt x="3794" y="7560"/>
                </a:moveTo>
                <a:lnTo>
                  <a:pt x="7301" y="7560"/>
                </a:lnTo>
                <a:lnTo>
                  <a:pt x="7301" y="12896"/>
                </a:lnTo>
                <a:cubicBezTo>
                  <a:pt x="7301" y="13818"/>
                  <a:pt x="8102" y="14549"/>
                  <a:pt x="9138" y="14549"/>
                </a:cubicBezTo>
                <a:lnTo>
                  <a:pt x="10800" y="14549"/>
                </a:lnTo>
                <a:cubicBezTo>
                  <a:pt x="11836" y="14549"/>
                  <a:pt x="12636" y="13818"/>
                  <a:pt x="12636" y="12896"/>
                </a:cubicBezTo>
                <a:lnTo>
                  <a:pt x="12636" y="7560"/>
                </a:lnTo>
                <a:lnTo>
                  <a:pt x="10800" y="7560"/>
                </a:lnTo>
                <a:lnTo>
                  <a:pt x="14308" y="4053"/>
                </a:lnTo>
                <a:lnTo>
                  <a:pt x="17981" y="7560"/>
                </a:lnTo>
                <a:lnTo>
                  <a:pt x="16144" y="7560"/>
                </a:lnTo>
                <a:lnTo>
                  <a:pt x="16144" y="12896"/>
                </a:lnTo>
                <a:cubicBezTo>
                  <a:pt x="16144" y="15663"/>
                  <a:pt x="13568" y="18222"/>
                  <a:pt x="10800" y="18222"/>
                </a:cubicBezTo>
                <a:lnTo>
                  <a:pt x="9138" y="18222"/>
                </a:lnTo>
                <a:cubicBezTo>
                  <a:pt x="6370" y="18222"/>
                  <a:pt x="3794" y="15663"/>
                  <a:pt x="3794" y="12896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500"/>
                            </p:stCondLst>
                            <p:childTnLst>
                              <p:par>
                                <p:cTn id="2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006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ила правильной осанки – седьмой секрет истинного здоровья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094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льная осанка необходима для здоров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хая осанка мешает свободной циркуляции крови, сдавливает нервные пути и приводит к боле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ша осанка влияет на наше настроение и эмоции так же как и на физическое состоя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рошая осанка приходит благодаря осознанию. Ежедневно уделяйте время для того, чтобы следить за своей осанкой, замечать и исправлять дурные привы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убоко дышите и представляйте при этом, как некая сила осторожно вытягивает вас ввер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крет хорошей осанки – равновес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j0310178"/>
          <p:cNvPicPr/>
          <p:nvPr/>
        </p:nvPicPr>
        <p:blipFill>
          <a:blip r:embed="rId1"/>
          <a:stretch/>
        </p:blipFill>
        <p:spPr>
          <a:xfrm>
            <a:off x="6362640" y="2959200"/>
            <a:ext cx="1828800" cy="177804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6"/>
          <p:cNvSpPr/>
          <p:nvPr/>
        </p:nvSpPr>
        <p:spPr>
          <a:xfrm>
            <a:off x="8459640" y="6308640"/>
            <a:ext cx="289080" cy="28908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000"/>
                            </p:stCondLst>
                            <p:childTnLst>
                              <p:par>
                                <p:cTn id="3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3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4T08:30:50Z</dcterms:created>
  <dc:creator>user</dc:creator>
  <dc:description/>
  <dc:language>en-US</dc:language>
  <cp:lastModifiedBy>user</cp:lastModifiedBy>
  <dcterms:modified xsi:type="dcterms:W3CDTF">2012-04-07T13:43:45Z</dcterms:modified>
  <cp:revision>20</cp:revision>
  <dc:subject/>
  <dc:title>Секреты истинного здоровья</dc:title>
</cp:coreProperties>
</file>