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gif" ContentType="image/gif"/>
  <Override PartName="/ppt/media/image13.wmf" ContentType="image/x-wmf"/>
  <Override PartName="/ppt/media/image6.wmf" ContentType="image/x-wmf"/>
  <Override PartName="/ppt/media/image11.wmf" ContentType="image/x-wmf"/>
  <Override PartName="/ppt/media/image7.gif" ContentType="image/gif"/>
  <Override PartName="/ppt/media/image8.gif" ContentType="image/gif"/>
  <Override PartName="/ppt/media/image9.wmf" ContentType="image/x-wmf"/>
  <Override PartName="/ppt/media/image10.wmf" ContentType="image/x-wmf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71C3C-19A8-4778-83EA-7F5C12F98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53A95-73A2-472B-AC6C-C5AF42B88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B1DEF-E9AD-4D35-B435-C9575A7DB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8E02A-27A6-4BEF-9E0F-BB6DEA1F8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95A26-56D0-4BDD-A883-A3CE56D0E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3A978-94B8-498D-8DF1-54329D7AD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4E4DB-9B19-4842-B8EB-5572F5953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5A6D4-CF3A-4B0B-BD51-44ADCA109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08972-6DCF-49CE-AF92-38FC387D3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F6EE9-C5E6-4972-A7DD-0D500F233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F71EB-B98D-408D-B1A0-C1E09F37C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54E2D-961D-4358-9F01-3CE968942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290B4-E607-41D6-88B8-F071D034B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BF69B-C789-42C2-981B-D15F5D7A5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705A7-A38E-4421-8BAA-8F4F3A1B4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A5E04-FA98-4524-AD04-A3EBB5983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2B0AA-B68A-4CB5-BDA3-800AE51C3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6FA0D-F459-49C4-947B-1DC0AF4A8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02290-EB06-448E-A621-CCA5A7A48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B35EB-F242-445D-8B82-085EB6888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07360-A660-4664-B50D-06008E391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D9B1D-346D-4895-A5A4-59D3B8217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FDD41-8735-43D8-A315-94BFD9F63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417FC-7008-49AB-BD23-098329E58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2AD7E-C95E-4922-BCD5-46971B6B8AB9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titlemaster_med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5EF56-9D49-4EA2-8286-F10AB7FF7F43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7.xml"/><Relationship Id="rId6" Type="http://schemas.openxmlformats.org/officeDocument/2006/relationships/slide" Target="slide8.xml"/><Relationship Id="rId7" Type="http://schemas.openxmlformats.org/officeDocument/2006/relationships/slide" Target="slide9.xml"/><Relationship Id="rId8" Type="http://schemas.openxmlformats.org/officeDocument/2006/relationships/slide" Target="slide10.xml"/><Relationship Id="rId9" Type="http://schemas.openxmlformats.org/officeDocument/2006/relationships/slide" Target="slide6.xml"/><Relationship Id="rId10" Type="http://schemas.openxmlformats.org/officeDocument/2006/relationships/slide" Target="slide11.xml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2340000" y="3429000"/>
            <a:ext cx="6400800" cy="14479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  <a:effectLst>
            <a:outerShdw dist="36147" dir="2700000" blurRad="0" rotWithShape="0">
              <a:srgbClr val="660066"/>
            </a:outerShdw>
          </a:effectLst>
        </p:spPr>
        <p:txBody>
          <a:bodyPr anchor="ctr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лектронное пособие по здоровьесбережени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.В.Панасо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Секреты Истинного Здоровья</a:t>
            </a:r>
            <a:endParaRPr b="0" lang="en-US" sz="5400" spc="-1" strike="noStrike">
              <a:solidFill>
                <a:srgbClr val="8c0039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660066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c0039"/>
                </a:solidFill>
                <a:latin typeface="Arial"/>
              </a:rPr>
              <a:t>Сила окружающей среды – восьмой секрет Истинного Здоровья</a:t>
            </a: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437920" y="1600200"/>
            <a:ext cx="60944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стинное Здоровье невозможно без здоровой окружающей сред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вежий воздух и солнечный свет – вот краеугольный камень здоровой окружающей сред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вы не можете вынести свою работу на Природу, принесите Природу на работ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ботьтесь о своем ближайшем окружении и о мировой сред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4" descr="j0150023"/>
          <p:cNvPicPr/>
          <p:nvPr/>
        </p:nvPicPr>
        <p:blipFill>
          <a:blip r:embed="rId1"/>
          <a:stretch/>
        </p:blipFill>
        <p:spPr>
          <a:xfrm>
            <a:off x="5853240" y="2781360"/>
            <a:ext cx="2847960" cy="2133720"/>
          </a:xfrm>
          <a:prstGeom prst="rect">
            <a:avLst/>
          </a:prstGeom>
          <a:ln w="0">
            <a:noFill/>
          </a:ln>
        </p:spPr>
      </p:pic>
      <p:sp>
        <p:nvSpPr>
          <p:cNvPr id="135" name="AutoShape 6"/>
          <p:cNvSpPr/>
          <p:nvPr/>
        </p:nvSpPr>
        <p:spPr>
          <a:xfrm>
            <a:off x="8604360" y="6308640"/>
            <a:ext cx="288720" cy="289080"/>
          </a:xfrm>
          <a:custGeom>
            <a:avLst/>
            <a:gdLst>
              <a:gd name="textAreaLeft" fmla="*/ 18720 w 288720"/>
              <a:gd name="textAreaRight" fmla="*/ 270000 w 28872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1600" h="21627">
                <a:moveTo>
                  <a:pt x="0" y="0"/>
                </a:moveTo>
                <a:lnTo>
                  <a:pt x="21600" y="0"/>
                </a:lnTo>
                <a:lnTo>
                  <a:pt x="21600" y="21627"/>
                </a:lnTo>
                <a:lnTo>
                  <a:pt x="0" y="21627"/>
                </a:lnTo>
                <a:close/>
              </a:path>
              <a:path fill="lightenLess" w="21600" h="2162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7">
                <a:moveTo>
                  <a:pt x="21600" y="0"/>
                </a:moveTo>
                <a:lnTo>
                  <a:pt x="21600" y="21627"/>
                </a:lnTo>
                <a:lnTo>
                  <a:pt x="20200" y="20227"/>
                </a:lnTo>
                <a:lnTo>
                  <a:pt x="20200" y="1400"/>
                </a:lnTo>
                <a:close/>
              </a:path>
              <a:path fill="darkenLess" w="21600" h="21627">
                <a:moveTo>
                  <a:pt x="21600" y="21627"/>
                </a:moveTo>
                <a:lnTo>
                  <a:pt x="0" y="21627"/>
                </a:lnTo>
                <a:lnTo>
                  <a:pt x="1400" y="20227"/>
                </a:lnTo>
                <a:lnTo>
                  <a:pt x="20200" y="20227"/>
                </a:lnTo>
                <a:close/>
              </a:path>
              <a:path fill="lighten" w="21600" h="21627">
                <a:moveTo>
                  <a:pt x="0" y="2162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7"/>
                </a:lnTo>
                <a:close/>
              </a:path>
              <a:path fill="darken" w="21600" h="21627">
                <a:moveTo>
                  <a:pt x="3794" y="7506"/>
                </a:moveTo>
                <a:lnTo>
                  <a:pt x="7301" y="7506"/>
                </a:lnTo>
                <a:lnTo>
                  <a:pt x="7301" y="12841"/>
                </a:lnTo>
                <a:cubicBezTo>
                  <a:pt x="7301" y="13764"/>
                  <a:pt x="8102" y="14495"/>
                  <a:pt x="9138" y="14495"/>
                </a:cubicBezTo>
                <a:lnTo>
                  <a:pt x="10800" y="14495"/>
                </a:lnTo>
                <a:cubicBezTo>
                  <a:pt x="11836" y="14495"/>
                  <a:pt x="12636" y="13764"/>
                  <a:pt x="12636" y="12841"/>
                </a:cubicBezTo>
                <a:lnTo>
                  <a:pt x="12636" y="7506"/>
                </a:lnTo>
                <a:lnTo>
                  <a:pt x="10800" y="7506"/>
                </a:lnTo>
                <a:lnTo>
                  <a:pt x="14308" y="3998"/>
                </a:lnTo>
                <a:lnTo>
                  <a:pt x="17981" y="7506"/>
                </a:lnTo>
                <a:lnTo>
                  <a:pt x="16144" y="7506"/>
                </a:lnTo>
                <a:lnTo>
                  <a:pt x="16144" y="12841"/>
                </a:lnTo>
                <a:cubicBezTo>
                  <a:pt x="16144" y="15609"/>
                  <a:pt x="13568" y="18168"/>
                  <a:pt x="10800" y="18168"/>
                </a:cubicBezTo>
                <a:lnTo>
                  <a:pt x="9138" y="18168"/>
                </a:lnTo>
                <a:cubicBezTo>
                  <a:pt x="6370" y="18168"/>
                  <a:pt x="3794" y="15609"/>
                  <a:pt x="3794" y="12841"/>
                </a:cubicBezTo>
                <a:close/>
              </a:path>
            </a:pathLst>
          </a:custGeom>
          <a:solidFill>
            <a:srgbClr val="c58b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0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8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1000"/>
                            </p:stCondLst>
                            <p:childTnLst>
                              <p:par>
                                <p:cTn id="35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2" dur="1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2000"/>
                            </p:stCondLst>
                            <p:childTnLst>
                              <p:par>
                                <p:cTn id="3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6" dur="10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3000"/>
                            </p:stCondLst>
                            <p:childTnLst>
                              <p:par>
                                <p:cTn id="35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0" dur="10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4000"/>
                            </p:stCondLst>
                            <p:childTnLst>
                              <p:par>
                                <p:cTn id="36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4" dur="10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660066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Сила веры – девятый секрет Истинного Здоровья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5446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ера – это духовная сила, благодаря которой невозможное становится возможны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ра соединяет человеческий дух с Высшей Сил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тобы прийти к Истинному Здоровью, мы нуждаемся не только в физической пище, но и в духовн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ра открывает путь силам, способным производить чудес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ре противостоят страх, беспокойство и сомн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ра ничего не стоит без действ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5" descr="j0084506"/>
          <p:cNvPicPr/>
          <p:nvPr/>
        </p:nvPicPr>
        <p:blipFill>
          <a:blip r:embed="rId1"/>
          <a:stretch/>
        </p:blipFill>
        <p:spPr>
          <a:xfrm>
            <a:off x="5759280" y="1600200"/>
            <a:ext cx="3035520" cy="4495680"/>
          </a:xfrm>
          <a:prstGeom prst="rect">
            <a:avLst/>
          </a:prstGeom>
          <a:ln w="0">
            <a:noFill/>
          </a:ln>
        </p:spPr>
      </p:pic>
      <p:sp>
        <p:nvSpPr>
          <p:cNvPr id="139" name="AutoShape 4"/>
          <p:cNvSpPr/>
          <p:nvPr/>
        </p:nvSpPr>
        <p:spPr>
          <a:xfrm>
            <a:off x="8532720" y="6381720"/>
            <a:ext cx="287280" cy="216000"/>
          </a:xfrm>
          <a:custGeom>
            <a:avLst/>
            <a:gdLst>
              <a:gd name="textAreaLeft" fmla="*/ 13680 w 287280"/>
              <a:gd name="textAreaRight" fmla="*/ 273600 w 2872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8716" h="21600">
                <a:moveTo>
                  <a:pt x="0" y="0"/>
                </a:moveTo>
                <a:lnTo>
                  <a:pt x="28716" y="0"/>
                </a:lnTo>
                <a:lnTo>
                  <a:pt x="28716" y="21600"/>
                </a:lnTo>
                <a:lnTo>
                  <a:pt x="0" y="21600"/>
                </a:lnTo>
                <a:close/>
              </a:path>
              <a:path fill="lightenLess" w="28716" h="21600">
                <a:moveTo>
                  <a:pt x="0" y="0"/>
                </a:moveTo>
                <a:lnTo>
                  <a:pt x="28716" y="0"/>
                </a:lnTo>
                <a:lnTo>
                  <a:pt x="27316" y="1400"/>
                </a:lnTo>
                <a:lnTo>
                  <a:pt x="1400" y="1400"/>
                </a:lnTo>
                <a:close/>
              </a:path>
              <a:path fill="darken" w="28716" h="21600">
                <a:moveTo>
                  <a:pt x="28716" y="0"/>
                </a:moveTo>
                <a:lnTo>
                  <a:pt x="28716" y="21600"/>
                </a:lnTo>
                <a:lnTo>
                  <a:pt x="27316" y="20200"/>
                </a:lnTo>
                <a:lnTo>
                  <a:pt x="27316" y="1400"/>
                </a:lnTo>
                <a:close/>
              </a:path>
              <a:path fill="darkenLess" w="28716" h="21600">
                <a:moveTo>
                  <a:pt x="287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16" y="20200"/>
                </a:lnTo>
                <a:close/>
              </a:path>
              <a:path fill="lighten" w="287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16" h="21600">
                <a:moveTo>
                  <a:pt x="7352" y="7493"/>
                </a:moveTo>
                <a:lnTo>
                  <a:pt x="10859" y="7493"/>
                </a:lnTo>
                <a:lnTo>
                  <a:pt x="10859" y="12828"/>
                </a:lnTo>
                <a:cubicBezTo>
                  <a:pt x="10859" y="13751"/>
                  <a:pt x="11660" y="14482"/>
                  <a:pt x="12696" y="14482"/>
                </a:cubicBezTo>
                <a:lnTo>
                  <a:pt x="14358" y="14482"/>
                </a:lnTo>
                <a:cubicBezTo>
                  <a:pt x="15394" y="14482"/>
                  <a:pt x="16195" y="13751"/>
                  <a:pt x="16195" y="12828"/>
                </a:cubicBezTo>
                <a:lnTo>
                  <a:pt x="16195" y="7493"/>
                </a:lnTo>
                <a:lnTo>
                  <a:pt x="14358" y="7493"/>
                </a:lnTo>
                <a:lnTo>
                  <a:pt x="17866" y="3985"/>
                </a:lnTo>
                <a:lnTo>
                  <a:pt x="21539" y="7493"/>
                </a:lnTo>
                <a:lnTo>
                  <a:pt x="19702" y="7493"/>
                </a:lnTo>
                <a:lnTo>
                  <a:pt x="19702" y="12828"/>
                </a:lnTo>
                <a:cubicBezTo>
                  <a:pt x="19702" y="15596"/>
                  <a:pt x="17126" y="18155"/>
                  <a:pt x="14358" y="18155"/>
                </a:cubicBezTo>
                <a:lnTo>
                  <a:pt x="12696" y="18155"/>
                </a:lnTo>
                <a:cubicBezTo>
                  <a:pt x="9928" y="18155"/>
                  <a:pt x="7352" y="15596"/>
                  <a:pt x="7352" y="12828"/>
                </a:cubicBezTo>
                <a:close/>
              </a:path>
            </a:pathLst>
          </a:custGeom>
          <a:solidFill>
            <a:srgbClr val="c58b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0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1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2000"/>
                            </p:stCondLst>
                            <p:childTnLst>
                              <p:par>
                                <p:cTn id="37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5" dur="2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4000"/>
                            </p:stCondLst>
                            <p:childTnLst>
                              <p:par>
                                <p:cTn id="37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9" dur="20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6000"/>
                            </p:stCondLst>
                            <p:childTnLst>
                              <p:par>
                                <p:cTn id="38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3" dur="20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8000"/>
                            </p:stCondLst>
                            <p:childTnLst>
                              <p:par>
                                <p:cTn id="38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7" dur="20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10000"/>
                            </p:stCondLst>
                            <p:childTnLst>
                              <p:par>
                                <p:cTn id="38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1" dur="200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12000"/>
                            </p:stCondLst>
                            <p:childTnLst>
                              <p:par>
                                <p:cTn id="39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5" dur="2000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Сила любви – десятый секрет Истинного Здоровья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437920" y="1600200"/>
            <a:ext cx="63817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юбовь – это всеисцеляющая си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тобы добиться любви, нужно дарить любов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4" descr="j0232891"/>
          <p:cNvPicPr/>
          <p:nvPr/>
        </p:nvPicPr>
        <p:blipFill>
          <a:blip r:embed="rId1"/>
          <a:stretch/>
        </p:blipFill>
        <p:spPr>
          <a:xfrm>
            <a:off x="6332400" y="2989440"/>
            <a:ext cx="1889280" cy="1717560"/>
          </a:xfrm>
          <a:prstGeom prst="rect">
            <a:avLst/>
          </a:prstGeom>
          <a:ln w="0">
            <a:noFill/>
          </a:ln>
        </p:spPr>
      </p:pic>
      <p:sp>
        <p:nvSpPr>
          <p:cNvPr id="143" name="AutoShape 6"/>
          <p:cNvSpPr/>
          <p:nvPr/>
        </p:nvSpPr>
        <p:spPr>
          <a:xfrm flipH="1" flipV="1">
            <a:off x="8458920" y="6307920"/>
            <a:ext cx="360360" cy="289080"/>
          </a:xfrm>
          <a:custGeom>
            <a:avLst/>
            <a:gdLst>
              <a:gd name="textAreaLeft" fmla="*/ 18720 w 360360"/>
              <a:gd name="textAreaRight" fmla="*/ 341640 w 36036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6919" h="21600">
                <a:moveTo>
                  <a:pt x="0" y="0"/>
                </a:moveTo>
                <a:lnTo>
                  <a:pt x="26919" y="0"/>
                </a:lnTo>
                <a:lnTo>
                  <a:pt x="26919" y="21600"/>
                </a:lnTo>
                <a:lnTo>
                  <a:pt x="0" y="21600"/>
                </a:lnTo>
                <a:close/>
              </a:path>
              <a:path fill="lightenLess" w="26919" h="21600">
                <a:moveTo>
                  <a:pt x="0" y="0"/>
                </a:moveTo>
                <a:lnTo>
                  <a:pt x="26919" y="0"/>
                </a:lnTo>
                <a:lnTo>
                  <a:pt x="25519" y="1400"/>
                </a:lnTo>
                <a:lnTo>
                  <a:pt x="1400" y="1400"/>
                </a:lnTo>
                <a:close/>
              </a:path>
              <a:path fill="darken" w="26919" h="21600">
                <a:moveTo>
                  <a:pt x="26919" y="0"/>
                </a:moveTo>
                <a:lnTo>
                  <a:pt x="26919" y="21600"/>
                </a:lnTo>
                <a:lnTo>
                  <a:pt x="25519" y="20200"/>
                </a:lnTo>
                <a:lnTo>
                  <a:pt x="25519" y="1400"/>
                </a:lnTo>
                <a:close/>
              </a:path>
              <a:path fill="darkenLess" w="26919" h="21600">
                <a:moveTo>
                  <a:pt x="26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19" y="20200"/>
                </a:lnTo>
                <a:close/>
              </a:path>
              <a:path fill="lighten" w="26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19" h="21600">
                <a:moveTo>
                  <a:pt x="6453" y="7493"/>
                </a:moveTo>
                <a:lnTo>
                  <a:pt x="9961" y="7493"/>
                </a:lnTo>
                <a:lnTo>
                  <a:pt x="9961" y="12828"/>
                </a:lnTo>
                <a:cubicBezTo>
                  <a:pt x="9961" y="13751"/>
                  <a:pt x="10762" y="14482"/>
                  <a:pt x="11797" y="14482"/>
                </a:cubicBezTo>
                <a:lnTo>
                  <a:pt x="13460" y="14482"/>
                </a:lnTo>
                <a:cubicBezTo>
                  <a:pt x="14495" y="14482"/>
                  <a:pt x="15296" y="13751"/>
                  <a:pt x="15296" y="12828"/>
                </a:cubicBezTo>
                <a:lnTo>
                  <a:pt x="15296" y="7493"/>
                </a:lnTo>
                <a:lnTo>
                  <a:pt x="13460" y="7493"/>
                </a:lnTo>
                <a:lnTo>
                  <a:pt x="16967" y="3985"/>
                </a:lnTo>
                <a:lnTo>
                  <a:pt x="20640" y="7493"/>
                </a:lnTo>
                <a:lnTo>
                  <a:pt x="18804" y="7493"/>
                </a:lnTo>
                <a:lnTo>
                  <a:pt x="18804" y="12828"/>
                </a:lnTo>
                <a:cubicBezTo>
                  <a:pt x="18804" y="15596"/>
                  <a:pt x="16227" y="18155"/>
                  <a:pt x="13460" y="18155"/>
                </a:cubicBezTo>
                <a:lnTo>
                  <a:pt x="11797" y="18155"/>
                </a:lnTo>
                <a:cubicBezTo>
                  <a:pt x="9030" y="18155"/>
                  <a:pt x="6453" y="15596"/>
                  <a:pt x="6453" y="12828"/>
                </a:cubicBezTo>
                <a:close/>
              </a:path>
            </a:pathLst>
          </a:custGeom>
          <a:solidFill>
            <a:srgbClr val="c58bf9"/>
          </a:solidFill>
          <a:ln w="0">
            <a:noFill/>
          </a:ln>
          <a:effectLst>
            <a:outerShdw dist="107932" dir="2700000" blurRad="0" rotWithShape="0">
              <a:srgbClr val="6600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0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768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03" dur="768" fill="hold"/>
                                        <p:tgtEl>
                                          <p:spTgt spid="14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0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05" dur="768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0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07" dur="768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0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1998"/>
                            </p:stCondLst>
                            <p:childTnLst>
                              <p:par>
                                <p:cTn id="41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4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2498"/>
                            </p:stCondLst>
                            <p:childTnLst>
                              <p:par>
                                <p:cTn id="41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0" dur="10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54800" cy="12193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660066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        </a:t>
            </a: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Оглавление 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51580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51"/>
              </a:spcBef>
              <a:buClr>
                <a:srgbClr val="e4005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ила разума. (4 час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e4005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ила дыхания. (з час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e4005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ила физических упражнений. (4 час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e4005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ила правильного питания. (3 час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e4005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ила смеха. (3 час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e4005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ила отдыха. (3 час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e4005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ила правильной осанки. (4 час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e4005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ила окружающей среды. (3 час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e4005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ила веры. (3 час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e4005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ила любви. (3 час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" descr="j0343293"/>
          <p:cNvPicPr/>
          <p:nvPr/>
        </p:nvPicPr>
        <p:blipFill>
          <a:blip r:embed="rId1"/>
          <a:stretch/>
        </p:blipFill>
        <p:spPr>
          <a:xfrm>
            <a:off x="6388200" y="2917800"/>
            <a:ext cx="1778040" cy="1860480"/>
          </a:xfrm>
          <a:prstGeom prst="rect">
            <a:avLst/>
          </a:prstGeom>
          <a:ln w="0">
            <a:noFill/>
          </a:ln>
        </p:spPr>
      </p:pic>
      <p:sp>
        <p:nvSpPr>
          <p:cNvPr id="91" name="AutoShape 6">
            <a:hlinkClick r:id="rId2" action="ppaction://hlinksldjump"/>
          </p:cNvPr>
          <p:cNvSpPr/>
          <p:nvPr/>
        </p:nvSpPr>
        <p:spPr>
          <a:xfrm>
            <a:off x="2195640" y="1700280"/>
            <a:ext cx="214200" cy="217440"/>
          </a:xfrm>
          <a:custGeom>
            <a:avLst/>
            <a:gdLst>
              <a:gd name="textAreaLeft" fmla="*/ 13680 w 214200"/>
              <a:gd name="textAreaRight" fmla="*/ 200520 w 214200"/>
              <a:gd name="textAreaTop" fmla="*/ 13680 h 217440"/>
              <a:gd name="textAreaBottom" fmla="*/ 203760 h 217440"/>
            </a:gdLst>
            <a:ahLst/>
            <a:rect l="textAreaLeft" t="textAreaTop" r="textAreaRight" b="textAreaBottom"/>
            <a:pathLst>
              <a:path w="21600" h="21926">
                <a:moveTo>
                  <a:pt x="0" y="0"/>
                </a:moveTo>
                <a:lnTo>
                  <a:pt x="21600" y="0"/>
                </a:lnTo>
                <a:lnTo>
                  <a:pt x="21600" y="21926"/>
                </a:lnTo>
                <a:lnTo>
                  <a:pt x="0" y="21926"/>
                </a:lnTo>
                <a:close/>
              </a:path>
              <a:path fill="lightenLess" w="21600" h="2192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26">
                <a:moveTo>
                  <a:pt x="21600" y="0"/>
                </a:moveTo>
                <a:lnTo>
                  <a:pt x="21600" y="21926"/>
                </a:lnTo>
                <a:lnTo>
                  <a:pt x="20200" y="20526"/>
                </a:lnTo>
                <a:lnTo>
                  <a:pt x="20200" y="1400"/>
                </a:lnTo>
                <a:close/>
              </a:path>
              <a:path fill="darkenLess" w="21600" h="21926">
                <a:moveTo>
                  <a:pt x="21600" y="21926"/>
                </a:moveTo>
                <a:lnTo>
                  <a:pt x="0" y="21926"/>
                </a:lnTo>
                <a:lnTo>
                  <a:pt x="1400" y="20526"/>
                </a:lnTo>
                <a:lnTo>
                  <a:pt x="20200" y="20526"/>
                </a:lnTo>
                <a:close/>
              </a:path>
              <a:path fill="lighten" w="21600" h="21926">
                <a:moveTo>
                  <a:pt x="0" y="2192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26"/>
                </a:lnTo>
                <a:close/>
              </a:path>
            </a:pathLst>
          </a:custGeom>
          <a:solidFill>
            <a:srgbClr val="c58bf9"/>
          </a:solidFill>
          <a:ln w="0">
            <a:noFill/>
          </a:ln>
          <a:effectLst>
            <a:outerShdw dist="17819" dir="2700000" blurRad="0" rotWithShape="0">
              <a:srgbClr val="76539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7">
            <a:hlinkClick r:id="rId3" action="ppaction://hlinksldjump"/>
          </p:cNvPr>
          <p:cNvSpPr/>
          <p:nvPr/>
        </p:nvSpPr>
        <p:spPr>
          <a:xfrm>
            <a:off x="2195640" y="1989000"/>
            <a:ext cx="215640" cy="216000"/>
          </a:xfrm>
          <a:custGeom>
            <a:avLst/>
            <a:gdLst>
              <a:gd name="textAreaLeft" fmla="*/ 13680 w 215640"/>
              <a:gd name="textAreaRight" fmla="*/ 201960 w 2156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1600" h="21636">
                <a:moveTo>
                  <a:pt x="0" y="0"/>
                </a:moveTo>
                <a:lnTo>
                  <a:pt x="21600" y="0"/>
                </a:lnTo>
                <a:lnTo>
                  <a:pt x="21600" y="21636"/>
                </a:lnTo>
                <a:lnTo>
                  <a:pt x="0" y="21636"/>
                </a:lnTo>
                <a:close/>
              </a:path>
              <a:path fill="lightenLess" w="21600" h="216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36">
                <a:moveTo>
                  <a:pt x="21600" y="0"/>
                </a:moveTo>
                <a:lnTo>
                  <a:pt x="21600" y="21636"/>
                </a:lnTo>
                <a:lnTo>
                  <a:pt x="20200" y="20236"/>
                </a:lnTo>
                <a:lnTo>
                  <a:pt x="20200" y="1400"/>
                </a:lnTo>
                <a:close/>
              </a:path>
              <a:path fill="darkenLess" w="21600" h="21636">
                <a:moveTo>
                  <a:pt x="21600" y="21636"/>
                </a:moveTo>
                <a:lnTo>
                  <a:pt x="0" y="21636"/>
                </a:lnTo>
                <a:lnTo>
                  <a:pt x="1400" y="20236"/>
                </a:lnTo>
                <a:lnTo>
                  <a:pt x="20200" y="20236"/>
                </a:lnTo>
                <a:close/>
              </a:path>
              <a:path fill="lighten" w="21600" h="21636">
                <a:moveTo>
                  <a:pt x="0" y="216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36"/>
                </a:lnTo>
                <a:close/>
              </a:path>
            </a:pathLst>
          </a:custGeom>
          <a:solidFill>
            <a:srgbClr val="c58bf9"/>
          </a:solidFill>
          <a:ln w="0">
            <a:noFill/>
          </a:ln>
          <a:effectLst>
            <a:outerShdw dist="17819" dir="2700000" blurRad="0" rotWithShape="0">
              <a:srgbClr val="76539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8">
            <a:hlinkClick r:id="rId4" action="ppaction://hlinksldjump"/>
          </p:cNvPr>
          <p:cNvSpPr/>
          <p:nvPr/>
        </p:nvSpPr>
        <p:spPr>
          <a:xfrm>
            <a:off x="2195640" y="2349360"/>
            <a:ext cx="215640" cy="216000"/>
          </a:xfrm>
          <a:custGeom>
            <a:avLst/>
            <a:gdLst>
              <a:gd name="textAreaLeft" fmla="*/ 13680 w 215640"/>
              <a:gd name="textAreaRight" fmla="*/ 201960 w 2156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1600" h="21636">
                <a:moveTo>
                  <a:pt x="0" y="0"/>
                </a:moveTo>
                <a:lnTo>
                  <a:pt x="21600" y="0"/>
                </a:lnTo>
                <a:lnTo>
                  <a:pt x="21600" y="21636"/>
                </a:lnTo>
                <a:lnTo>
                  <a:pt x="0" y="21636"/>
                </a:lnTo>
                <a:close/>
              </a:path>
              <a:path fill="lightenLess" w="21600" h="216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36">
                <a:moveTo>
                  <a:pt x="21600" y="0"/>
                </a:moveTo>
                <a:lnTo>
                  <a:pt x="21600" y="21636"/>
                </a:lnTo>
                <a:lnTo>
                  <a:pt x="20200" y="20236"/>
                </a:lnTo>
                <a:lnTo>
                  <a:pt x="20200" y="1400"/>
                </a:lnTo>
                <a:close/>
              </a:path>
              <a:path fill="darkenLess" w="21600" h="21636">
                <a:moveTo>
                  <a:pt x="21600" y="21636"/>
                </a:moveTo>
                <a:lnTo>
                  <a:pt x="0" y="21636"/>
                </a:lnTo>
                <a:lnTo>
                  <a:pt x="1400" y="20236"/>
                </a:lnTo>
                <a:lnTo>
                  <a:pt x="20200" y="20236"/>
                </a:lnTo>
                <a:close/>
              </a:path>
              <a:path fill="lighten" w="21600" h="21636">
                <a:moveTo>
                  <a:pt x="0" y="216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36"/>
                </a:lnTo>
                <a:close/>
              </a:path>
            </a:pathLst>
          </a:custGeom>
          <a:solidFill>
            <a:srgbClr val="c58bf9"/>
          </a:solidFill>
          <a:ln w="0">
            <a:noFill/>
          </a:ln>
          <a:effectLst>
            <a:outerShdw dist="17819" dir="2700000" blurRad="0" rotWithShape="0">
              <a:srgbClr val="76539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12">
            <a:hlinkClick r:id="rId5" action="ppaction://hlinksldjump"/>
          </p:cNvPr>
          <p:cNvSpPr/>
          <p:nvPr/>
        </p:nvSpPr>
        <p:spPr>
          <a:xfrm flipH="1">
            <a:off x="2194920" y="2997360"/>
            <a:ext cx="215640" cy="215640"/>
          </a:xfrm>
          <a:custGeom>
            <a:avLst/>
            <a:gdLst>
              <a:gd name="textAreaLeft" fmla="*/ 13680 w 215640"/>
              <a:gd name="textAreaRight" fmla="*/ 201960 w 21564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58bf9"/>
          </a:solidFill>
          <a:ln w="0">
            <a:noFill/>
          </a:ln>
          <a:effectLst>
            <a:outerShdw dist="17819" dir="2700000" blurRad="0" rotWithShape="0">
              <a:srgbClr val="76539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13">
            <a:hlinkClick r:id="rId6" action="ppaction://hlinksldjump"/>
          </p:cNvPr>
          <p:cNvSpPr/>
          <p:nvPr/>
        </p:nvSpPr>
        <p:spPr>
          <a:xfrm>
            <a:off x="2195640" y="3284640"/>
            <a:ext cx="215640" cy="217440"/>
          </a:xfrm>
          <a:custGeom>
            <a:avLst/>
            <a:gdLst>
              <a:gd name="textAreaLeft" fmla="*/ 13680 w 215640"/>
              <a:gd name="textAreaRight" fmla="*/ 201960 w 215640"/>
              <a:gd name="textAreaTop" fmla="*/ 13680 h 217440"/>
              <a:gd name="textAreaBottom" fmla="*/ 203760 h 217440"/>
            </a:gdLst>
            <a:ahLst/>
            <a:rect l="textAreaLeft" t="textAreaTop" r="textAreaRight" b="textAreaBottom"/>
            <a:pathLst>
              <a:path w="21600" h="21780">
                <a:moveTo>
                  <a:pt x="0" y="0"/>
                </a:moveTo>
                <a:lnTo>
                  <a:pt x="21600" y="0"/>
                </a:lnTo>
                <a:lnTo>
                  <a:pt x="21600" y="21780"/>
                </a:lnTo>
                <a:lnTo>
                  <a:pt x="0" y="21780"/>
                </a:lnTo>
                <a:close/>
              </a:path>
              <a:path fill="lightenLess" w="21600" h="2178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780">
                <a:moveTo>
                  <a:pt x="21600" y="0"/>
                </a:moveTo>
                <a:lnTo>
                  <a:pt x="21600" y="21780"/>
                </a:lnTo>
                <a:lnTo>
                  <a:pt x="20200" y="20380"/>
                </a:lnTo>
                <a:lnTo>
                  <a:pt x="20200" y="1400"/>
                </a:lnTo>
                <a:close/>
              </a:path>
              <a:path fill="darkenLess" w="21600" h="21780">
                <a:moveTo>
                  <a:pt x="21600" y="21780"/>
                </a:moveTo>
                <a:lnTo>
                  <a:pt x="0" y="21780"/>
                </a:lnTo>
                <a:lnTo>
                  <a:pt x="1400" y="20380"/>
                </a:lnTo>
                <a:lnTo>
                  <a:pt x="20200" y="20380"/>
                </a:lnTo>
                <a:close/>
              </a:path>
              <a:path fill="lighten" w="21600" h="21780">
                <a:moveTo>
                  <a:pt x="0" y="2178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380"/>
                </a:lnTo>
                <a:close/>
              </a:path>
            </a:pathLst>
          </a:custGeom>
          <a:solidFill>
            <a:srgbClr val="c58bf9"/>
          </a:solidFill>
          <a:ln w="0">
            <a:noFill/>
          </a:ln>
          <a:effectLst>
            <a:outerShdw dist="17819" dir="2700000" blurRad="0" rotWithShape="0">
              <a:srgbClr val="76539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14">
            <a:hlinkClick r:id="rId7" action="ppaction://hlinksldjump"/>
          </p:cNvPr>
          <p:cNvSpPr/>
          <p:nvPr/>
        </p:nvSpPr>
        <p:spPr>
          <a:xfrm>
            <a:off x="2195640" y="3645000"/>
            <a:ext cx="215640" cy="215640"/>
          </a:xfrm>
          <a:custGeom>
            <a:avLst/>
            <a:gdLst>
              <a:gd name="textAreaLeft" fmla="*/ 13680 w 215640"/>
              <a:gd name="textAreaRight" fmla="*/ 201960 w 21564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58bf9"/>
          </a:solidFill>
          <a:ln w="0">
            <a:noFill/>
          </a:ln>
          <a:effectLst>
            <a:outerShdw dist="17819" dir="2700000" blurRad="0" rotWithShape="0">
              <a:srgbClr val="76539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16">
            <a:hlinkClick r:id="rId8" action="ppaction://hlinksldjump"/>
          </p:cNvPr>
          <p:cNvSpPr/>
          <p:nvPr/>
        </p:nvSpPr>
        <p:spPr>
          <a:xfrm flipV="1">
            <a:off x="2195640" y="4004640"/>
            <a:ext cx="215640" cy="215640"/>
          </a:xfrm>
          <a:custGeom>
            <a:avLst/>
            <a:gdLst>
              <a:gd name="textAreaLeft" fmla="*/ 13680 w 215640"/>
              <a:gd name="textAreaRight" fmla="*/ 201960 w 21564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58bf9"/>
          </a:solidFill>
          <a:ln w="0">
            <a:noFill/>
          </a:ln>
          <a:effectLst>
            <a:outerShdw dist="17819" dir="2700000" blurRad="0" rotWithShape="0">
              <a:srgbClr val="76539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19">
            <a:hlinkClick r:id="rId9" action="ppaction://hlinksldjump"/>
          </p:cNvPr>
          <p:cNvSpPr/>
          <p:nvPr/>
        </p:nvSpPr>
        <p:spPr>
          <a:xfrm>
            <a:off x="2195640" y="2637000"/>
            <a:ext cx="215640" cy="215640"/>
          </a:xfrm>
          <a:custGeom>
            <a:avLst/>
            <a:gdLst>
              <a:gd name="textAreaLeft" fmla="*/ 13680 w 215640"/>
              <a:gd name="textAreaRight" fmla="*/ 201960 w 21564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58bf9"/>
          </a:solidFill>
          <a:ln w="0">
            <a:noFill/>
          </a:ln>
          <a:effectLst>
            <a:outerShdw dist="17819" dir="2700000" blurRad="0" rotWithShape="0">
              <a:srgbClr val="76539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20">
            <a:hlinkClick r:id="rId10" action="ppaction://hlinksldjump"/>
          </p:cNvPr>
          <p:cNvSpPr/>
          <p:nvPr/>
        </p:nvSpPr>
        <p:spPr>
          <a:xfrm flipV="1">
            <a:off x="2195640" y="4292640"/>
            <a:ext cx="215640" cy="217440"/>
          </a:xfrm>
          <a:custGeom>
            <a:avLst/>
            <a:gdLst>
              <a:gd name="textAreaLeft" fmla="*/ 13680 w 215640"/>
              <a:gd name="textAreaRight" fmla="*/ 201960 w 215640"/>
              <a:gd name="textAreaTop" fmla="*/ 13680 h 217440"/>
              <a:gd name="textAreaBottom" fmla="*/ 203760 h 217440"/>
            </a:gdLst>
            <a:ahLst/>
            <a:rect l="textAreaLeft" t="textAreaTop" r="textAreaRight" b="textAreaBottom"/>
            <a:pathLst>
              <a:path w="21600" h="21780">
                <a:moveTo>
                  <a:pt x="0" y="0"/>
                </a:moveTo>
                <a:lnTo>
                  <a:pt x="21600" y="0"/>
                </a:lnTo>
                <a:lnTo>
                  <a:pt x="21600" y="21780"/>
                </a:lnTo>
                <a:lnTo>
                  <a:pt x="0" y="21780"/>
                </a:lnTo>
                <a:close/>
              </a:path>
              <a:path fill="lightenLess" w="21600" h="2178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780">
                <a:moveTo>
                  <a:pt x="21600" y="0"/>
                </a:moveTo>
                <a:lnTo>
                  <a:pt x="21600" y="21780"/>
                </a:lnTo>
                <a:lnTo>
                  <a:pt x="20200" y="20380"/>
                </a:lnTo>
                <a:lnTo>
                  <a:pt x="20200" y="1400"/>
                </a:lnTo>
                <a:close/>
              </a:path>
              <a:path fill="darkenLess" w="21600" h="21780">
                <a:moveTo>
                  <a:pt x="21600" y="21780"/>
                </a:moveTo>
                <a:lnTo>
                  <a:pt x="0" y="21780"/>
                </a:lnTo>
                <a:lnTo>
                  <a:pt x="1400" y="20380"/>
                </a:lnTo>
                <a:lnTo>
                  <a:pt x="20200" y="20380"/>
                </a:lnTo>
                <a:close/>
              </a:path>
              <a:path fill="lighten" w="21600" h="21780">
                <a:moveTo>
                  <a:pt x="0" y="2178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380"/>
                </a:lnTo>
                <a:close/>
              </a:path>
            </a:pathLst>
          </a:custGeom>
          <a:solidFill>
            <a:srgbClr val="c58bf9"/>
          </a:solidFill>
          <a:ln w="0">
            <a:noFill/>
          </a:ln>
          <a:effectLst>
            <a:outerShdw dist="17819" dir="2700000" blurRad="0" rotWithShape="0">
              <a:srgbClr val="76539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23"/>
          <p:cNvSpPr/>
          <p:nvPr/>
        </p:nvSpPr>
        <p:spPr>
          <a:xfrm>
            <a:off x="2195640" y="4653000"/>
            <a:ext cx="215640" cy="216000"/>
          </a:xfrm>
          <a:custGeom>
            <a:avLst/>
            <a:gdLst>
              <a:gd name="textAreaLeft" fmla="*/ 13680 w 215640"/>
              <a:gd name="textAreaRight" fmla="*/ 201960 w 2156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1600" h="21636">
                <a:moveTo>
                  <a:pt x="0" y="0"/>
                </a:moveTo>
                <a:lnTo>
                  <a:pt x="21600" y="0"/>
                </a:lnTo>
                <a:lnTo>
                  <a:pt x="21600" y="21636"/>
                </a:lnTo>
                <a:lnTo>
                  <a:pt x="0" y="21636"/>
                </a:lnTo>
                <a:close/>
              </a:path>
              <a:path fill="lightenLess" w="21600" h="216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36">
                <a:moveTo>
                  <a:pt x="21600" y="0"/>
                </a:moveTo>
                <a:lnTo>
                  <a:pt x="21600" y="21636"/>
                </a:lnTo>
                <a:lnTo>
                  <a:pt x="20200" y="20236"/>
                </a:lnTo>
                <a:lnTo>
                  <a:pt x="20200" y="1400"/>
                </a:lnTo>
                <a:close/>
              </a:path>
              <a:path fill="darkenLess" w="21600" h="21636">
                <a:moveTo>
                  <a:pt x="21600" y="21636"/>
                </a:moveTo>
                <a:lnTo>
                  <a:pt x="0" y="21636"/>
                </a:lnTo>
                <a:lnTo>
                  <a:pt x="1400" y="20236"/>
                </a:lnTo>
                <a:lnTo>
                  <a:pt x="20200" y="20236"/>
                </a:lnTo>
                <a:close/>
              </a:path>
              <a:path fill="lighten" w="21600" h="21636">
                <a:moveTo>
                  <a:pt x="0" y="216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36"/>
                </a:lnTo>
                <a:close/>
              </a:path>
            </a:pathLst>
          </a:custGeom>
          <a:solidFill>
            <a:srgbClr val="c58bf9"/>
          </a:solidFill>
          <a:ln w="0">
            <a:noFill/>
          </a:ln>
          <a:effectLst>
            <a:outerShdw dist="17819" dir="2700000" blurRad="0" rotWithShape="0">
              <a:srgbClr val="76539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898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898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898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898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898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898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898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898" fill="hold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898" fill="hold"/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898" fill="hold"/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898" fill="hold"/>
                                        <p:tgtEl>
                                          <p:spTgt spid="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660066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Сила разума – первый секрет Истинного Здоровья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556000" y="3789360"/>
            <a:ext cx="3124080" cy="187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ила разума способна преодолеть любую боль, излечить от болезни и привести к Истинному Здоровь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195" descr="AN00790_"/>
          <p:cNvPicPr/>
          <p:nvPr/>
        </p:nvPicPr>
        <p:blipFill>
          <a:blip r:embed="rId1"/>
          <a:stretch/>
        </p:blipFill>
        <p:spPr>
          <a:xfrm>
            <a:off x="5715000" y="2219400"/>
            <a:ext cx="3124080" cy="325764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131"/>
          <p:cNvSpPr/>
          <p:nvPr/>
        </p:nvSpPr>
        <p:spPr>
          <a:xfrm>
            <a:off x="2700360" y="4437000"/>
            <a:ext cx="54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97"/>
          <p:cNvSpPr/>
          <p:nvPr/>
        </p:nvSpPr>
        <p:spPr>
          <a:xfrm>
            <a:off x="2627280" y="1989000"/>
            <a:ext cx="5977080" cy="70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6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снова здоровья и болезни находится в вашем разум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198"/>
          <p:cNvSpPr/>
          <p:nvPr/>
        </p:nvSpPr>
        <p:spPr>
          <a:xfrm>
            <a:off x="8459640" y="6237360"/>
            <a:ext cx="432000" cy="404640"/>
          </a:xfrm>
          <a:custGeom>
            <a:avLst/>
            <a:gdLst>
              <a:gd name="textAreaLeft" fmla="*/ 25920 w 432000"/>
              <a:gd name="textAreaRight" fmla="*/ 406080 w 43200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3059" h="21600">
                <a:moveTo>
                  <a:pt x="0" y="0"/>
                </a:moveTo>
                <a:lnTo>
                  <a:pt x="23059" y="0"/>
                </a:lnTo>
                <a:lnTo>
                  <a:pt x="23059" y="21600"/>
                </a:lnTo>
                <a:lnTo>
                  <a:pt x="0" y="21600"/>
                </a:lnTo>
                <a:close/>
              </a:path>
              <a:path fill="lightenLess" w="23059" h="21600">
                <a:moveTo>
                  <a:pt x="0" y="0"/>
                </a:moveTo>
                <a:lnTo>
                  <a:pt x="23059" y="0"/>
                </a:lnTo>
                <a:lnTo>
                  <a:pt x="21659" y="1400"/>
                </a:lnTo>
                <a:lnTo>
                  <a:pt x="1400" y="1400"/>
                </a:lnTo>
                <a:close/>
              </a:path>
              <a:path fill="darken" w="23059" h="21600">
                <a:moveTo>
                  <a:pt x="23059" y="0"/>
                </a:moveTo>
                <a:lnTo>
                  <a:pt x="23059" y="21600"/>
                </a:lnTo>
                <a:lnTo>
                  <a:pt x="21659" y="20200"/>
                </a:lnTo>
                <a:lnTo>
                  <a:pt x="21659" y="1400"/>
                </a:lnTo>
                <a:close/>
              </a:path>
              <a:path fill="darkenLess" w="23059" h="21600">
                <a:moveTo>
                  <a:pt x="230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59" y="20200"/>
                </a:lnTo>
                <a:close/>
              </a:path>
              <a:path fill="lighten" w="230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59" h="21600">
                <a:moveTo>
                  <a:pt x="4523" y="7493"/>
                </a:moveTo>
                <a:lnTo>
                  <a:pt x="8031" y="7493"/>
                </a:lnTo>
                <a:lnTo>
                  <a:pt x="8031" y="12828"/>
                </a:lnTo>
                <a:cubicBezTo>
                  <a:pt x="8031" y="13751"/>
                  <a:pt x="8831" y="14482"/>
                  <a:pt x="9867" y="14482"/>
                </a:cubicBezTo>
                <a:lnTo>
                  <a:pt x="11530" y="14482"/>
                </a:lnTo>
                <a:cubicBezTo>
                  <a:pt x="12565" y="14482"/>
                  <a:pt x="13366" y="13751"/>
                  <a:pt x="13366" y="12828"/>
                </a:cubicBezTo>
                <a:lnTo>
                  <a:pt x="13366" y="7493"/>
                </a:lnTo>
                <a:lnTo>
                  <a:pt x="11530" y="7493"/>
                </a:lnTo>
                <a:lnTo>
                  <a:pt x="15037" y="3985"/>
                </a:lnTo>
                <a:lnTo>
                  <a:pt x="18710" y="7493"/>
                </a:lnTo>
                <a:lnTo>
                  <a:pt x="16874" y="7493"/>
                </a:lnTo>
                <a:lnTo>
                  <a:pt x="16874" y="12828"/>
                </a:lnTo>
                <a:cubicBezTo>
                  <a:pt x="16874" y="15596"/>
                  <a:pt x="14297" y="18155"/>
                  <a:pt x="11530" y="18155"/>
                </a:cubicBezTo>
                <a:lnTo>
                  <a:pt x="9867" y="18155"/>
                </a:lnTo>
                <a:cubicBezTo>
                  <a:pt x="7099" y="18155"/>
                  <a:pt x="4523" y="15596"/>
                  <a:pt x="4523" y="12828"/>
                </a:cubicBezTo>
                <a:close/>
              </a:path>
            </a:pathLst>
          </a:custGeom>
          <a:solidFill>
            <a:srgbClr val="c58b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11280" y="259920"/>
            <a:ext cx="6400800" cy="12193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660066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Сила дыхания – второй секрет Истинного Здоровья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556000" y="2924280"/>
            <a:ext cx="6121440" cy="25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лубокое дыхани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ажно для того, чтобы преодолеть болезни и поддержать здоровье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лучшает циркуляцию крови и лимфы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сслабляет и успокаивает нервную систему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могает накоплению энергии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нимает психические и нервные стрессы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итает, очищает тело и успокаивает разу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" descr="j0254471"/>
          <p:cNvPicPr/>
          <p:nvPr/>
        </p:nvPicPr>
        <p:blipFill>
          <a:blip r:embed="rId1"/>
          <a:stretch/>
        </p:blipFill>
        <p:spPr>
          <a:xfrm>
            <a:off x="6676920" y="3319560"/>
            <a:ext cx="1200240" cy="105732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6"/>
          <p:cNvSpPr/>
          <p:nvPr/>
        </p:nvSpPr>
        <p:spPr>
          <a:xfrm>
            <a:off x="2700360" y="1628640"/>
            <a:ext cx="6192720" cy="70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6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зница между жизнью и смертью лежит в нашем дыхан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7"/>
          <p:cNvSpPr/>
          <p:nvPr/>
        </p:nvSpPr>
        <p:spPr>
          <a:xfrm>
            <a:off x="8388360" y="6308640"/>
            <a:ext cx="287280" cy="28908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289080"/>
              <a:gd name="textAreaBottom" fmla="*/ 270720 h 289080"/>
            </a:gdLst>
            <a:ahLst/>
            <a:rect l="textAreaLeft" t="textAreaTop" r="textAreaRight" b="textAreaBottom"/>
            <a:pathLst>
              <a:path w="21600" h="21735">
                <a:moveTo>
                  <a:pt x="0" y="0"/>
                </a:moveTo>
                <a:lnTo>
                  <a:pt x="21600" y="0"/>
                </a:lnTo>
                <a:lnTo>
                  <a:pt x="21600" y="21735"/>
                </a:lnTo>
                <a:lnTo>
                  <a:pt x="0" y="21735"/>
                </a:lnTo>
                <a:close/>
              </a:path>
              <a:path fill="lightenLess" w="21600" h="2173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735">
                <a:moveTo>
                  <a:pt x="21600" y="0"/>
                </a:moveTo>
                <a:lnTo>
                  <a:pt x="21600" y="21735"/>
                </a:lnTo>
                <a:lnTo>
                  <a:pt x="20200" y="20335"/>
                </a:lnTo>
                <a:lnTo>
                  <a:pt x="20200" y="1400"/>
                </a:lnTo>
                <a:close/>
              </a:path>
              <a:path fill="darkenLess" w="21600" h="21735">
                <a:moveTo>
                  <a:pt x="21600" y="21735"/>
                </a:moveTo>
                <a:lnTo>
                  <a:pt x="0" y="21735"/>
                </a:lnTo>
                <a:lnTo>
                  <a:pt x="1400" y="20335"/>
                </a:lnTo>
                <a:lnTo>
                  <a:pt x="20200" y="20335"/>
                </a:lnTo>
                <a:close/>
              </a:path>
              <a:path fill="lighten" w="21600" h="21735">
                <a:moveTo>
                  <a:pt x="0" y="2173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335"/>
                </a:lnTo>
                <a:close/>
              </a:path>
              <a:path fill="darken" w="21600" h="21735">
                <a:moveTo>
                  <a:pt x="3794" y="7560"/>
                </a:moveTo>
                <a:lnTo>
                  <a:pt x="7301" y="7560"/>
                </a:lnTo>
                <a:lnTo>
                  <a:pt x="7301" y="12896"/>
                </a:lnTo>
                <a:cubicBezTo>
                  <a:pt x="7301" y="13818"/>
                  <a:pt x="8102" y="14549"/>
                  <a:pt x="9138" y="14549"/>
                </a:cubicBezTo>
                <a:lnTo>
                  <a:pt x="10800" y="14549"/>
                </a:lnTo>
                <a:cubicBezTo>
                  <a:pt x="11836" y="14549"/>
                  <a:pt x="12636" y="13818"/>
                  <a:pt x="12636" y="12896"/>
                </a:cubicBezTo>
                <a:lnTo>
                  <a:pt x="12636" y="7560"/>
                </a:lnTo>
                <a:lnTo>
                  <a:pt x="10800" y="7560"/>
                </a:lnTo>
                <a:lnTo>
                  <a:pt x="14308" y="4053"/>
                </a:lnTo>
                <a:lnTo>
                  <a:pt x="17981" y="7560"/>
                </a:lnTo>
                <a:lnTo>
                  <a:pt x="16144" y="7560"/>
                </a:lnTo>
                <a:lnTo>
                  <a:pt x="16144" y="12896"/>
                </a:lnTo>
                <a:cubicBezTo>
                  <a:pt x="16144" y="15663"/>
                  <a:pt x="13568" y="18222"/>
                  <a:pt x="10800" y="18222"/>
                </a:cubicBezTo>
                <a:lnTo>
                  <a:pt x="9138" y="18222"/>
                </a:lnTo>
                <a:cubicBezTo>
                  <a:pt x="6370" y="18222"/>
                  <a:pt x="3794" y="15663"/>
                  <a:pt x="3794" y="12896"/>
                </a:cubicBezTo>
                <a:close/>
              </a:path>
            </a:pathLst>
          </a:custGeom>
          <a:solidFill>
            <a:srgbClr val="c58b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0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2000"/>
                            </p:stCondLst>
                            <p:childTnLst>
                              <p:par>
                                <p:cTn id="1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2000"/>
                            </p:stCondLst>
                            <p:childTnLst>
                              <p:par>
                                <p:cTn id="13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4000"/>
                            </p:stCondLst>
                            <p:childTnLst>
                              <p:par>
                                <p:cTn id="14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6000"/>
                            </p:stCondLst>
                            <p:childTnLst>
                              <p:par>
                                <p:cTn id="14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8000"/>
                            </p:stCondLst>
                            <p:childTnLst>
                              <p:par>
                                <p:cTn id="15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15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4000"/>
                            </p:stCondLst>
                            <p:childTnLst>
                              <p:par>
                                <p:cTn id="16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660066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Сила физических упражнений – третий секрет Истинного Здоровья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555640" y="2133720"/>
            <a:ext cx="6337080" cy="384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егулярные физические упражнен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лучшают кровообращение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крепляют легкие и сердце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могают преодолеть многие физические и ментальные расстрой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j0215497"/>
          <p:cNvPicPr/>
          <p:nvPr/>
        </p:nvPicPr>
        <p:blipFill>
          <a:blip r:embed="rId1"/>
          <a:stretch/>
        </p:blipFill>
        <p:spPr>
          <a:xfrm>
            <a:off x="5883120" y="2776680"/>
            <a:ext cx="2787840" cy="2143080"/>
          </a:xfrm>
          <a:prstGeom prst="rect">
            <a:avLst/>
          </a:prstGeom>
          <a:ln w="0">
            <a:noFill/>
          </a:ln>
        </p:spPr>
      </p:pic>
      <p:sp>
        <p:nvSpPr>
          <p:cNvPr id="115" name="AutoShape 8"/>
          <p:cNvSpPr/>
          <p:nvPr/>
        </p:nvSpPr>
        <p:spPr>
          <a:xfrm>
            <a:off x="8317080" y="6165720"/>
            <a:ext cx="431640" cy="405000"/>
          </a:xfrm>
          <a:custGeom>
            <a:avLst/>
            <a:gdLst>
              <a:gd name="textAreaLeft" fmla="*/ 25920 w 431640"/>
              <a:gd name="textAreaRight" fmla="*/ 405720 w 43164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23020" h="21600">
                <a:moveTo>
                  <a:pt x="0" y="0"/>
                </a:moveTo>
                <a:lnTo>
                  <a:pt x="23020" y="0"/>
                </a:lnTo>
                <a:lnTo>
                  <a:pt x="23020" y="21600"/>
                </a:lnTo>
                <a:lnTo>
                  <a:pt x="0" y="21600"/>
                </a:lnTo>
                <a:close/>
              </a:path>
              <a:path fill="lightenLess" w="23020" h="21600">
                <a:moveTo>
                  <a:pt x="0" y="0"/>
                </a:moveTo>
                <a:lnTo>
                  <a:pt x="23020" y="0"/>
                </a:lnTo>
                <a:lnTo>
                  <a:pt x="21620" y="1400"/>
                </a:lnTo>
                <a:lnTo>
                  <a:pt x="1400" y="1400"/>
                </a:lnTo>
                <a:close/>
              </a:path>
              <a:path fill="darken" w="23020" h="21600">
                <a:moveTo>
                  <a:pt x="23020" y="0"/>
                </a:moveTo>
                <a:lnTo>
                  <a:pt x="23020" y="21600"/>
                </a:lnTo>
                <a:lnTo>
                  <a:pt x="21620" y="20200"/>
                </a:lnTo>
                <a:lnTo>
                  <a:pt x="21620" y="1400"/>
                </a:lnTo>
                <a:close/>
              </a:path>
              <a:path fill="darkenLess" w="23020" h="21600">
                <a:moveTo>
                  <a:pt x="230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20" y="20200"/>
                </a:lnTo>
                <a:close/>
              </a:path>
              <a:path fill="lighten" w="230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20" h="21600">
                <a:moveTo>
                  <a:pt x="4503" y="7493"/>
                </a:moveTo>
                <a:lnTo>
                  <a:pt x="8011" y="7493"/>
                </a:lnTo>
                <a:lnTo>
                  <a:pt x="8011" y="12828"/>
                </a:lnTo>
                <a:cubicBezTo>
                  <a:pt x="8011" y="13751"/>
                  <a:pt x="8812" y="14482"/>
                  <a:pt x="9847" y="14482"/>
                </a:cubicBezTo>
                <a:lnTo>
                  <a:pt x="11510" y="14482"/>
                </a:lnTo>
                <a:cubicBezTo>
                  <a:pt x="12546" y="14482"/>
                  <a:pt x="13346" y="13751"/>
                  <a:pt x="13346" y="12828"/>
                </a:cubicBezTo>
                <a:lnTo>
                  <a:pt x="13346" y="7493"/>
                </a:lnTo>
                <a:lnTo>
                  <a:pt x="11510" y="7493"/>
                </a:lnTo>
                <a:lnTo>
                  <a:pt x="15017" y="3985"/>
                </a:lnTo>
                <a:lnTo>
                  <a:pt x="18690" y="7493"/>
                </a:lnTo>
                <a:lnTo>
                  <a:pt x="16854" y="7493"/>
                </a:lnTo>
                <a:lnTo>
                  <a:pt x="16854" y="12828"/>
                </a:lnTo>
                <a:cubicBezTo>
                  <a:pt x="16854" y="15596"/>
                  <a:pt x="14278" y="18155"/>
                  <a:pt x="11510" y="18155"/>
                </a:cubicBezTo>
                <a:lnTo>
                  <a:pt x="9847" y="18155"/>
                </a:lnTo>
                <a:cubicBezTo>
                  <a:pt x="7080" y="18155"/>
                  <a:pt x="4503" y="15596"/>
                  <a:pt x="4503" y="12828"/>
                </a:cubicBezTo>
                <a:close/>
              </a:path>
            </a:pathLst>
          </a:custGeom>
          <a:solidFill>
            <a:srgbClr val="c58b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5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9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2000"/>
                            </p:stCondLst>
                            <p:childTnLst>
                              <p:par>
                                <p:cTn id="18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3" dur="1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3000"/>
                            </p:stCondLst>
                            <p:childTnLst>
                              <p:par>
                                <p:cTn id="18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7" dur="10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4000"/>
                            </p:stCondLst>
                            <p:childTnLst>
                              <p:par>
                                <p:cTn id="18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1" dur="10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660066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c0039"/>
                </a:solidFill>
                <a:latin typeface="Arial"/>
              </a:rPr>
              <a:t>Сила правильного питания – четвертый секрет Истинного здоровья</a:t>
            </a: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1660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стинное Здоровье не может существовать без Полноценного Пит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Пять правил Полноценного Пит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авильное питание подобно строительству дома. Всегда выбирайте цельную, нерафинированную, естественную пищ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Хорошее питание невозможно без нормального пищеварения. Поэтому тщательно пережевывайте пищу, принимайте пищу только в спокойном состоянии и не ешьте в промежутках между основным приемам пищ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Лучше меньше, чем больше! Не переедайт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емьдесят процентов продуктов должны в основном состоять из вод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збегайте разрушителей клеток – сахара, мяса, рыбы, молочных продуктов, соли, чая, кофе и алкогол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4" descr="j0223774"/>
          <p:cNvPicPr/>
          <p:nvPr/>
        </p:nvPicPr>
        <p:blipFill>
          <a:blip r:embed="rId1"/>
          <a:stretch/>
        </p:blipFill>
        <p:spPr>
          <a:xfrm>
            <a:off x="6657840" y="3395520"/>
            <a:ext cx="1238400" cy="905040"/>
          </a:xfrm>
          <a:prstGeom prst="rect">
            <a:avLst/>
          </a:prstGeom>
          <a:ln w="0">
            <a:noFill/>
          </a:ln>
        </p:spPr>
      </p:pic>
      <p:sp>
        <p:nvSpPr>
          <p:cNvPr id="119" name="AutoShape 6"/>
          <p:cNvSpPr/>
          <p:nvPr/>
        </p:nvSpPr>
        <p:spPr>
          <a:xfrm>
            <a:off x="8532720" y="6165720"/>
            <a:ext cx="360360" cy="35892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21687" h="21600">
                <a:moveTo>
                  <a:pt x="0" y="0"/>
                </a:moveTo>
                <a:lnTo>
                  <a:pt x="21687" y="0"/>
                </a:lnTo>
                <a:lnTo>
                  <a:pt x="21687" y="21600"/>
                </a:lnTo>
                <a:lnTo>
                  <a:pt x="0" y="21600"/>
                </a:lnTo>
                <a:close/>
              </a:path>
              <a:path fill="lightenLess" w="21687" h="21600">
                <a:moveTo>
                  <a:pt x="0" y="0"/>
                </a:moveTo>
                <a:lnTo>
                  <a:pt x="21687" y="0"/>
                </a:lnTo>
                <a:lnTo>
                  <a:pt x="20287" y="1400"/>
                </a:lnTo>
                <a:lnTo>
                  <a:pt x="1400" y="1400"/>
                </a:lnTo>
                <a:close/>
              </a:path>
              <a:path fill="darken" w="21687" h="21600">
                <a:moveTo>
                  <a:pt x="21687" y="0"/>
                </a:moveTo>
                <a:lnTo>
                  <a:pt x="21687" y="21600"/>
                </a:lnTo>
                <a:lnTo>
                  <a:pt x="20287" y="20200"/>
                </a:lnTo>
                <a:lnTo>
                  <a:pt x="20287" y="1400"/>
                </a:lnTo>
                <a:close/>
              </a:path>
              <a:path fill="darkenLess" w="21687" h="21600">
                <a:moveTo>
                  <a:pt x="216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87" y="20200"/>
                </a:lnTo>
                <a:close/>
              </a:path>
              <a:path fill="lighten" w="216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87" h="21600">
                <a:moveTo>
                  <a:pt x="3837" y="7493"/>
                </a:moveTo>
                <a:lnTo>
                  <a:pt x="7344" y="7493"/>
                </a:lnTo>
                <a:lnTo>
                  <a:pt x="7344" y="12828"/>
                </a:lnTo>
                <a:cubicBezTo>
                  <a:pt x="7344" y="13751"/>
                  <a:pt x="8145" y="14482"/>
                  <a:pt x="9181" y="14482"/>
                </a:cubicBezTo>
                <a:lnTo>
                  <a:pt x="10843" y="14482"/>
                </a:lnTo>
                <a:cubicBezTo>
                  <a:pt x="11879" y="14482"/>
                  <a:pt x="12680" y="13751"/>
                  <a:pt x="12680" y="12828"/>
                </a:cubicBezTo>
                <a:lnTo>
                  <a:pt x="12680" y="7493"/>
                </a:lnTo>
                <a:lnTo>
                  <a:pt x="10843" y="7493"/>
                </a:lnTo>
                <a:lnTo>
                  <a:pt x="14351" y="3985"/>
                </a:lnTo>
                <a:lnTo>
                  <a:pt x="18024" y="7493"/>
                </a:lnTo>
                <a:lnTo>
                  <a:pt x="16187" y="7493"/>
                </a:lnTo>
                <a:lnTo>
                  <a:pt x="16187" y="12828"/>
                </a:lnTo>
                <a:cubicBezTo>
                  <a:pt x="16187" y="15596"/>
                  <a:pt x="13611" y="18155"/>
                  <a:pt x="10843" y="18155"/>
                </a:cubicBezTo>
                <a:lnTo>
                  <a:pt x="9181" y="18155"/>
                </a:lnTo>
                <a:cubicBezTo>
                  <a:pt x="6413" y="18155"/>
                  <a:pt x="3837" y="15596"/>
                  <a:pt x="3837" y="12828"/>
                </a:cubicBezTo>
                <a:close/>
              </a:path>
            </a:pathLst>
          </a:custGeom>
          <a:solidFill>
            <a:srgbClr val="c58b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0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8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8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8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8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7" dur="20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34" dur="2000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660066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Сила смеха – пятый секрет Истинного Здоровья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1660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мех – это вечный целител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Смех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 сильнодействующее лекарство, помогающее снять боль и исцелиться от многих болезн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Смех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лучшает дыхание, является прекрасным упражнением для легких и сердца, производит массаж органов живота и способствует работе кишечни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Смех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имулирует иммунную систем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Смех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лучшает способность к концентрации и снимает психический стрес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4" descr="j0283636"/>
          <p:cNvPicPr/>
          <p:nvPr/>
        </p:nvPicPr>
        <p:blipFill>
          <a:blip r:embed="rId1"/>
          <a:stretch/>
        </p:blipFill>
        <p:spPr>
          <a:xfrm>
            <a:off x="7010280" y="3395520"/>
            <a:ext cx="533520" cy="905040"/>
          </a:xfrm>
          <a:prstGeom prst="rect">
            <a:avLst/>
          </a:prstGeom>
          <a:ln w="0">
            <a:noFill/>
          </a:ln>
        </p:spPr>
      </p:pic>
      <p:sp>
        <p:nvSpPr>
          <p:cNvPr id="123" name="AutoShape 6"/>
          <p:cNvSpPr/>
          <p:nvPr/>
        </p:nvSpPr>
        <p:spPr>
          <a:xfrm>
            <a:off x="8388360" y="609300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c58b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0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2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1000"/>
                            </p:stCondLst>
                            <p:childTnLst>
                              <p:par>
                                <p:cTn id="25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6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1500"/>
                            </p:stCondLst>
                            <p:childTnLst>
                              <p:par>
                                <p:cTn id="25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0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2000"/>
                            </p:stCondLst>
                            <p:childTnLst>
                              <p:par>
                                <p:cTn id="26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4" dur="5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2500"/>
                            </p:stCondLst>
                            <p:childTnLst>
                              <p:par>
                                <p:cTn id="26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8" dur="5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660066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Сила отдыха – шестой секрет Истинного Здоровья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411280" y="1628280"/>
            <a:ext cx="54468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стинное Здоровье невозможно, если мозг и тело не отдыхаю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Отдых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молаживает тело, разум и дух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ажен для физического и психического здоровья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нижает на 50% потребность нашего организма в кислород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меньшает сердечную нагрузку на 3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нижает повышенное кровяное давление, улучшает кратковременную и долговременную памя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4" descr="j0229801"/>
          <p:cNvPicPr/>
          <p:nvPr/>
        </p:nvPicPr>
        <p:blipFill>
          <a:blip r:embed="rId1"/>
          <a:stretch/>
        </p:blipFill>
        <p:spPr>
          <a:xfrm>
            <a:off x="6389640" y="3032280"/>
            <a:ext cx="1774800" cy="1631880"/>
          </a:xfrm>
          <a:prstGeom prst="rect">
            <a:avLst/>
          </a:prstGeom>
          <a:ln w="0">
            <a:noFill/>
          </a:ln>
        </p:spPr>
      </p:pic>
      <p:sp>
        <p:nvSpPr>
          <p:cNvPr id="127" name="AutoShape 6"/>
          <p:cNvSpPr/>
          <p:nvPr/>
        </p:nvSpPr>
        <p:spPr>
          <a:xfrm>
            <a:off x="8388360" y="6308640"/>
            <a:ext cx="287280" cy="28908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289080"/>
              <a:gd name="textAreaBottom" fmla="*/ 270720 h 289080"/>
            </a:gdLst>
            <a:ahLst/>
            <a:rect l="textAreaLeft" t="textAreaTop" r="textAreaRight" b="textAreaBottom"/>
            <a:pathLst>
              <a:path w="21600" h="21735">
                <a:moveTo>
                  <a:pt x="0" y="0"/>
                </a:moveTo>
                <a:lnTo>
                  <a:pt x="21600" y="0"/>
                </a:lnTo>
                <a:lnTo>
                  <a:pt x="21600" y="21735"/>
                </a:lnTo>
                <a:lnTo>
                  <a:pt x="0" y="21735"/>
                </a:lnTo>
                <a:close/>
              </a:path>
              <a:path fill="lightenLess" w="21600" h="2173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735">
                <a:moveTo>
                  <a:pt x="21600" y="0"/>
                </a:moveTo>
                <a:lnTo>
                  <a:pt x="21600" y="21735"/>
                </a:lnTo>
                <a:lnTo>
                  <a:pt x="20200" y="20335"/>
                </a:lnTo>
                <a:lnTo>
                  <a:pt x="20200" y="1400"/>
                </a:lnTo>
                <a:close/>
              </a:path>
              <a:path fill="darkenLess" w="21600" h="21735">
                <a:moveTo>
                  <a:pt x="21600" y="21735"/>
                </a:moveTo>
                <a:lnTo>
                  <a:pt x="0" y="21735"/>
                </a:lnTo>
                <a:lnTo>
                  <a:pt x="1400" y="20335"/>
                </a:lnTo>
                <a:lnTo>
                  <a:pt x="20200" y="20335"/>
                </a:lnTo>
                <a:close/>
              </a:path>
              <a:path fill="lighten" w="21600" h="21735">
                <a:moveTo>
                  <a:pt x="0" y="2173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335"/>
                </a:lnTo>
                <a:close/>
              </a:path>
              <a:path fill="darken" w="21600" h="21735">
                <a:moveTo>
                  <a:pt x="3794" y="7560"/>
                </a:moveTo>
                <a:lnTo>
                  <a:pt x="7301" y="7560"/>
                </a:lnTo>
                <a:lnTo>
                  <a:pt x="7301" y="12896"/>
                </a:lnTo>
                <a:cubicBezTo>
                  <a:pt x="7301" y="13818"/>
                  <a:pt x="8102" y="14549"/>
                  <a:pt x="9138" y="14549"/>
                </a:cubicBezTo>
                <a:lnTo>
                  <a:pt x="10800" y="14549"/>
                </a:lnTo>
                <a:cubicBezTo>
                  <a:pt x="11836" y="14549"/>
                  <a:pt x="12636" y="13818"/>
                  <a:pt x="12636" y="12896"/>
                </a:cubicBezTo>
                <a:lnTo>
                  <a:pt x="12636" y="7560"/>
                </a:lnTo>
                <a:lnTo>
                  <a:pt x="10800" y="7560"/>
                </a:lnTo>
                <a:lnTo>
                  <a:pt x="14308" y="4053"/>
                </a:lnTo>
                <a:lnTo>
                  <a:pt x="17981" y="7560"/>
                </a:lnTo>
                <a:lnTo>
                  <a:pt x="16144" y="7560"/>
                </a:lnTo>
                <a:lnTo>
                  <a:pt x="16144" y="12896"/>
                </a:lnTo>
                <a:cubicBezTo>
                  <a:pt x="16144" y="15663"/>
                  <a:pt x="13568" y="18222"/>
                  <a:pt x="10800" y="18222"/>
                </a:cubicBezTo>
                <a:lnTo>
                  <a:pt x="9138" y="18222"/>
                </a:lnTo>
                <a:cubicBezTo>
                  <a:pt x="6370" y="18222"/>
                  <a:pt x="3794" y="15663"/>
                  <a:pt x="3794" y="12896"/>
                </a:cubicBezTo>
                <a:close/>
              </a:path>
            </a:pathLst>
          </a:custGeom>
          <a:solidFill>
            <a:srgbClr val="c58b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1500"/>
                            </p:stCondLst>
                            <p:childTnLst>
                              <p:par>
                                <p:cTn id="28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2000"/>
                            </p:stCondLst>
                            <p:childTnLst>
                              <p:par>
                                <p:cTn id="28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1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2500"/>
                            </p:stCondLst>
                            <p:childTnLst>
                              <p:par>
                                <p:cTn id="2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5" dur="5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3000"/>
                            </p:stCondLst>
                            <p:childTnLst>
                              <p:par>
                                <p:cTn id="29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35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500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660066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c0039"/>
                </a:solidFill>
                <a:latin typeface="Arial"/>
              </a:rPr>
              <a:t>Сила правильной осанки – седьмой секрет истинного здоровья</a:t>
            </a: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437920" y="1600200"/>
            <a:ext cx="60944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авильная осанка необходима для здоровь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лохая осанка мешает свободной циркуляции крови, сдавливает нервные пути и приводит к болезн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ша осанка влияет на наше настроение и эмоции так же как и на физическое состоя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орошая осанка приходит благодаря осознанию. Ежедневно уделяйте время для того, чтобы следить за своей осанкой, замечать и исправлять дурные привыч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лубоко дышите и представляйте при этом, как некая сила осторожно вытягивает вас ввер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екрет хорошей осанки – равновес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4" descr="j0310178"/>
          <p:cNvPicPr/>
          <p:nvPr/>
        </p:nvPicPr>
        <p:blipFill>
          <a:blip r:embed="rId1"/>
          <a:stretch/>
        </p:blipFill>
        <p:spPr>
          <a:xfrm>
            <a:off x="6362640" y="2959200"/>
            <a:ext cx="1828800" cy="1778040"/>
          </a:xfrm>
          <a:prstGeom prst="rect">
            <a:avLst/>
          </a:prstGeom>
          <a:ln w="0">
            <a:noFill/>
          </a:ln>
        </p:spPr>
      </p:pic>
      <p:sp>
        <p:nvSpPr>
          <p:cNvPr id="131" name="AutoShape 6"/>
          <p:cNvSpPr/>
          <p:nvPr/>
        </p:nvSpPr>
        <p:spPr>
          <a:xfrm>
            <a:off x="8459640" y="6308640"/>
            <a:ext cx="289080" cy="289080"/>
          </a:xfrm>
          <a:custGeom>
            <a:avLst/>
            <a:gdLst>
              <a:gd name="textAreaLeft" fmla="*/ 18720 w 289080"/>
              <a:gd name="textAreaRight" fmla="*/ 270360 w 28908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c58b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1000"/>
                            </p:stCondLst>
                            <p:childTnLst>
                              <p:par>
                                <p:cTn id="31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2000"/>
                            </p:stCondLst>
                            <p:childTnLst>
                              <p:par>
                                <p:cTn id="31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1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3000"/>
                            </p:stCondLst>
                            <p:childTnLst>
                              <p:par>
                                <p:cTn id="32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10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10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10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10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6000"/>
                            </p:stCondLst>
                            <p:childTnLst>
                              <p:par>
                                <p:cTn id="33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10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10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24T08:30:50Z</dcterms:created>
  <dc:creator>user</dc:creator>
  <dc:description/>
  <dc:language>en-US</dc:language>
  <cp:lastModifiedBy>user</cp:lastModifiedBy>
  <dcterms:modified xsi:type="dcterms:W3CDTF">2012-04-07T13:43:45Z</dcterms:modified>
  <cp:revision>20</cp:revision>
  <dc:subject/>
  <dc:title>Секреты истинного здоровья</dc:title>
</cp:coreProperties>
</file>